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2.png" ContentType="image/png"/>
  <Override PartName="/ppt/media/image3.gif" ContentType="image/gif"/>
  <Override PartName="/ppt/media/image11.wmf" ContentType="image/x-wmf"/>
  <Override PartName="/ppt/media/image4.gif" ContentType="image/gif"/>
  <Override PartName="/ppt/media/image12.wmf" ContentType="image/x-wm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744-0AE1-4D1C-B473-06DEF178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0A0-4EBB-4845-9568-0A323537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BDC-66C5-4E5F-89BC-9B49D2F1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406-B0BA-41EC-AF32-2926825E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F2A4-DBB6-4070-80BF-979C6310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FA82-DC2F-40AD-8FDC-31ED9496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C045-37A7-49E6-A221-323DD618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BA8F-20CA-4023-8896-3A7B1785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9475-22D8-4CE1-9F6B-94E1C6A5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FFE7-B826-40BF-8853-E9942EC2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B0B7-2A76-4B78-A931-F74A9D1D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D07-8E01-4FB6-89B4-0FA44112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4FDC-E8FD-4E5B-8819-BE3E37A7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4DF9-601D-4018-B851-26A5052C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EE63-FD63-4F99-BBF2-8A6A7266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5BC2-4772-447F-9936-0F905E37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8BB6-C398-4F3A-95E5-A0815E45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170-9867-4623-9541-28973901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743-6158-44AB-A67F-439C27BE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958-C3EB-47CB-B899-32FBE13B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0F1-1D0C-4BFB-9B50-20D7A8B9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7F6-538F-4044-9BC8-46859C9D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A58-432D-49CC-8551-D7E67DBD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4CC-989D-4125-B2F3-82BB85C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C665-0B19-45CF-B6A1-122D16AB19B5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3ABE-7C1F-46A0-8E0A-46A6B2470FB0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56944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Arial"/>
              </a:rPr>
              <a:t>Опыт работы учителя МОУ СОШ №2 Тимашевского района</a:t>
            </a:r>
            <a:br>
              <a:rPr sz="3200"/>
            </a:br>
            <a:r>
              <a:rPr b="1" i="1" lang="ru-RU" sz="3200" spc="-1" strike="noStrike">
                <a:solidFill>
                  <a:srgbClr val="996600"/>
                </a:solidFill>
                <a:latin typeface="Arial"/>
              </a:rPr>
              <a:t> Шабельник Наталии Анатольевны.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63588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Моделирование  языковой среды  при  обучении английскому языку 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 начальной школе»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 Black"/>
              </a:rPr>
              <a:t>Актуальность темы: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grpSp>
        <p:nvGrpSpPr>
          <p:cNvPr id="85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86" name="Picture 11" descr="baby01"/>
          <p:cNvPicPr/>
          <p:nvPr/>
        </p:nvPicPr>
        <p:blipFill>
          <a:blip r:embed="rId1"/>
          <a:stretch/>
        </p:blipFill>
        <p:spPr>
          <a:xfrm>
            <a:off x="3635280" y="3141720"/>
            <a:ext cx="1400400" cy="1663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2"/>
          <p:cNvSpPr/>
          <p:nvPr/>
        </p:nvSpPr>
        <p:spPr>
          <a:xfrm>
            <a:off x="4896000" y="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Моделирование  языковой среды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при  обучении английскому языку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 начальной школе»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213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Знание языка –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обязательное требование жизни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в современном обществе.</a:t>
            </a: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364000" y="2133720"/>
            <a:ext cx="39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Продуктивнее начинат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обучение иностранному языку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в начальной школе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2484360" y="5013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Учитель начальных классов,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преподающий иностранный язык,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имеет возможность увеличить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эффективность обучения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за счет создания языковой среды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1" name="Picture 17" descr="AG00041_"/>
          <p:cNvPicPr/>
          <p:nvPr/>
        </p:nvPicPr>
        <p:blipFill>
          <a:blip r:embed="rId2"/>
          <a:stretch/>
        </p:blipFill>
        <p:spPr>
          <a:xfrm>
            <a:off x="3924360" y="2205000"/>
            <a:ext cx="1368360" cy="77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AG00041_"/>
          <p:cNvPicPr/>
          <p:nvPr/>
        </p:nvPicPr>
        <p:blipFill>
          <a:blip r:embed="rId3"/>
          <a:stretch/>
        </p:blipFill>
        <p:spPr>
          <a:xfrm rot="8107800">
            <a:off x="5705640" y="3631680"/>
            <a:ext cx="1404720" cy="82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AG00041_"/>
          <p:cNvPicPr/>
          <p:nvPr/>
        </p:nvPicPr>
        <p:blipFill>
          <a:blip r:embed="rId4"/>
          <a:stretch/>
        </p:blipFill>
        <p:spPr>
          <a:xfrm rot="14232600">
            <a:off x="1579680" y="3444480"/>
            <a:ext cx="13730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Моделирование  языковой среды </a:t>
            </a:r>
            <a:br>
              <a:rPr sz="2400"/>
            </a:b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 при  обучении английскому языку </a:t>
            </a:r>
            <a:br>
              <a:rPr sz="2400"/>
            </a:b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в начальной школе позволяет: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209680"/>
            <a:ext cx="842472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развивать интеллектуальные и эмоционально-волевые способности ребенка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увеличить восприятие иностранного языка на 35 %, что в два раза выше, чем при обучении в среднем звене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усваивать внеязыковую информацию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работая с компьютером, научиться правильному произношению  по специальным программам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приобщать  и готовить  к современной жизни каждого ребенка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использовать игрушки в обучающих играх, импровизировать.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6" name="Picture 5" descr="baby06"/>
          <p:cNvPicPr/>
          <p:nvPr/>
        </p:nvPicPr>
        <p:blipFill>
          <a:blip r:embed="rId1"/>
          <a:stretch/>
        </p:blipFill>
        <p:spPr>
          <a:xfrm>
            <a:off x="6659640" y="5356080"/>
            <a:ext cx="2241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34800" y="0"/>
            <a:ext cx="880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хема системы моделирования  языковой среды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при  обучении английскому языку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 начальной школе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grpSp>
        <p:nvGrpSpPr>
          <p:cNvPr id="98" name="Diagram 7"/>
          <p:cNvGrpSpPr/>
          <p:nvPr/>
        </p:nvGrpSpPr>
        <p:grpSpPr>
          <a:xfrm>
            <a:off x="828720" y="1553400"/>
            <a:ext cx="7264440" cy="4701600"/>
            <a:chOff x="828720" y="1553400"/>
            <a:chExt cx="7264440" cy="4701600"/>
          </a:xfrm>
        </p:grpSpPr>
        <p:sp>
          <p:nvSpPr>
            <p:cNvPr id="99" name="_s2052"/>
            <p:cNvSpPr/>
            <p:nvPr/>
          </p:nvSpPr>
          <p:spPr>
            <a:xfrm>
              <a:off x="3502080" y="2275920"/>
              <a:ext cx="1917720" cy="2068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0" name="_s2053"/>
            <p:cNvSpPr/>
            <p:nvPr/>
          </p:nvSpPr>
          <p:spPr>
            <a:xfrm>
              <a:off x="3538440" y="1553400"/>
              <a:ext cx="1844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Урок</a:t>
              </a:r>
              <a:endParaRPr b="0" lang="en-US" sz="2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английского языка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с использованием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игровых  технологий,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информационно – коммуникационных технологий,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проектной деятельности.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1" name="_s2054"/>
            <p:cNvSpPr/>
            <p:nvPr/>
          </p:nvSpPr>
          <p:spPr>
            <a:xfrm>
              <a:off x="4195800" y="2819160"/>
              <a:ext cx="1917720" cy="20689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2" name="_s2055"/>
            <p:cNvSpPr/>
            <p:nvPr/>
          </p:nvSpPr>
          <p:spPr>
            <a:xfrm>
              <a:off x="6248520" y="2954520"/>
              <a:ext cx="184464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Элективный курс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для подготовки </a:t>
              </a:r>
              <a:r>
                <a:rPr b="1" lang="en-US" sz="1600" spc="-1" strike="noStrike">
                  <a:solidFill>
                    <a:srgbClr val="fff9cf"/>
                  </a:solidFill>
                  <a:latin typeface="Arial"/>
                </a:rPr>
                <a:t>Game</a:t>
              </a:r>
              <a:r>
                <a:rPr b="1" lang="ru-RU" sz="1600" spc="-1" strike="noStrike">
                  <a:solidFill>
                    <a:srgbClr val="fff9cf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fff9cf"/>
                  </a:solidFill>
                  <a:latin typeface="Arial"/>
                </a:rPr>
                <a:t>sitter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из числа старшеклассников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3" name="_s2056"/>
            <p:cNvSpPr/>
            <p:nvPr/>
          </p:nvSpPr>
          <p:spPr>
            <a:xfrm>
              <a:off x="3932280" y="3699720"/>
              <a:ext cx="1917720" cy="20689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4" name="_s2057"/>
            <p:cNvSpPr/>
            <p:nvPr/>
          </p:nvSpPr>
          <p:spPr>
            <a:xfrm>
              <a:off x="5565600" y="5737680"/>
              <a:ext cx="1845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Кружок </a:t>
              </a:r>
              <a:endParaRPr b="0" lang="en-US" sz="2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«Веселый английский»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5" name="_s2058"/>
            <p:cNvSpPr/>
            <p:nvPr/>
          </p:nvSpPr>
          <p:spPr>
            <a:xfrm>
              <a:off x="3073320" y="3701160"/>
              <a:ext cx="1917720" cy="20689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6" name="_s2059"/>
            <p:cNvSpPr/>
            <p:nvPr/>
          </p:nvSpPr>
          <p:spPr>
            <a:xfrm>
              <a:off x="1511280" y="5737680"/>
              <a:ext cx="1844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Внеклассная работа:</a:t>
              </a:r>
              <a:endParaRPr b="0" lang="en-US" sz="2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праздники,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театрализованные представления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7" name="_s2060"/>
            <p:cNvSpPr/>
            <p:nvPr/>
          </p:nvSpPr>
          <p:spPr>
            <a:xfrm>
              <a:off x="2806560" y="2820960"/>
              <a:ext cx="1917720" cy="2068920"/>
            </a:xfrm>
            <a:prstGeom prst="ellipse">
              <a:avLst/>
            </a:prstGeom>
            <a:solidFill>
              <a:srgbClr val="669900">
                <a:alpha val="50000"/>
              </a:srgbClr>
            </a:solidFill>
            <a:ln w="46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8" name="_s2061"/>
            <p:cNvSpPr/>
            <p:nvPr/>
          </p:nvSpPr>
          <p:spPr>
            <a:xfrm>
              <a:off x="828720" y="2952720"/>
              <a:ext cx="1844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Интеграция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английского языка с 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изобразительным искусством,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трудовым обучением,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музыкой,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физической культурой.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</p:txBody>
        </p:sp>
      </p:grpSp>
      <p:pic>
        <p:nvPicPr>
          <p:cNvPr id="109" name="Picture 18" descr="baby18"/>
          <p:cNvPicPr/>
          <p:nvPr/>
        </p:nvPicPr>
        <p:blipFill>
          <a:blip r:embed="rId1"/>
          <a:stretch/>
        </p:blipFill>
        <p:spPr>
          <a:xfrm>
            <a:off x="7812000" y="5013360"/>
            <a:ext cx="103680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1125000"/>
            <a:ext cx="792468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9cf"/>
                </a:solidFill>
                <a:latin typeface="Arial Black"/>
              </a:rPr>
              <a:t>Проектная деятельность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Проблема –      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поиск -        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41480" y="0"/>
            <a:ext cx="7202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Проект – это деятельность, мотивом которой является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разрешение какой-либо проблемной ситуации, 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требующей творческого, исследовательского подхода,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инициативы ребенка, коллективного взаимодействия.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13" name="Picture 5" descr="8479201b1d6943d19166b9b5849d461a"/>
          <p:cNvPicPr/>
          <p:nvPr/>
        </p:nvPicPr>
        <p:blipFill>
          <a:blip r:embed="rId1"/>
          <a:stretch/>
        </p:blipFill>
        <p:spPr>
          <a:xfrm>
            <a:off x="755640" y="3213000"/>
            <a:ext cx="1246320" cy="117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018ebdb7752f3778a523ffc88e74c8c8"/>
          <p:cNvPicPr/>
          <p:nvPr/>
        </p:nvPicPr>
        <p:blipFill>
          <a:blip r:embed="rId2"/>
          <a:stretch/>
        </p:blipFill>
        <p:spPr>
          <a:xfrm>
            <a:off x="7020000" y="2637000"/>
            <a:ext cx="1954080" cy="177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076212"/>
          <p:cNvPicPr/>
          <p:nvPr/>
        </p:nvPicPr>
        <p:blipFill>
          <a:blip r:embed="rId3"/>
          <a:stretch/>
        </p:blipFill>
        <p:spPr>
          <a:xfrm>
            <a:off x="2124000" y="3213000"/>
            <a:ext cx="48578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ружковая работа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3595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Кружок «Веселый английский» позволяет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отработать изученный материал,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готовить классные утренники, праздники на английском языке,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мероприятия «Недели английского языка».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18" name="Picture 4" descr="baby06"/>
          <p:cNvPicPr/>
          <p:nvPr/>
        </p:nvPicPr>
        <p:blipFill>
          <a:blip r:embed="rId1"/>
          <a:stretch/>
        </p:blipFill>
        <p:spPr>
          <a:xfrm>
            <a:off x="7164360" y="5589720"/>
            <a:ext cx="1736640" cy="105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P1010002"/>
          <p:cNvPicPr/>
          <p:nvPr/>
        </p:nvPicPr>
        <p:blipFill>
          <a:blip r:embed="rId2"/>
          <a:stretch/>
        </p:blipFill>
        <p:spPr>
          <a:xfrm>
            <a:off x="198360" y="149400"/>
            <a:ext cx="894564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246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Результативность </a:t>
            </a:r>
            <a:br>
              <a:rPr sz="2400"/>
            </a:b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системы моделирования языковой среды  при  обучении английскому языку в начальной школе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79246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Учащиеся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ладеют лексико – грамматическим материалом,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умеют  читать, использовать изученный материал в устной монологической и диалогической речи,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знают соответствующий их возрасту страноведческий материал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0" y="1413000"/>
          <a:ext cx="4452840" cy="56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445284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6"/>
          <p:cNvGraphicFramePr/>
          <p:nvPr/>
        </p:nvGraphicFramePr>
        <p:xfrm>
          <a:off x="4483080" y="1341360"/>
          <a:ext cx="4660920" cy="551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3080" y="1341360"/>
                    <a:ext cx="46609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fff9cf"/>
                </a:solidFill>
                <a:latin typeface="Arial"/>
              </a:rPr>
              <a:t>Красота – первая ступень в воспитании чувств, эмоциональной отзывчивости. </a:t>
            </a:r>
            <a:endParaRPr b="0" lang="en-US" sz="40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9c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9cf"/>
                </a:solidFill>
                <a:latin typeface="Arial"/>
              </a:rPr>
              <a:t>Нашим детям - единство радости, добра и красоты.</a:t>
            </a:r>
            <a:endParaRPr b="0" lang="en-US" sz="40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27" name="Picture 4" descr="В"/>
          <p:cNvPicPr/>
          <p:nvPr/>
        </p:nvPicPr>
        <p:blipFill>
          <a:blip r:embed="rId1"/>
          <a:stretch/>
        </p:blipFill>
        <p:spPr>
          <a:xfrm>
            <a:off x="10333080" y="-8093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щаб баб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8:40:28Z</dcterms:created>
  <dc:creator>ВХОД</dc:creator>
  <dc:description/>
  <dc:language>en-US</dc:language>
  <cp:lastModifiedBy>Коля</cp:lastModifiedBy>
  <dcterms:modified xsi:type="dcterms:W3CDTF">2013-05-12T22:10:47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