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5.gif" ContentType="image/gif"/>
  <Override PartName="/ppt/media/image1.png" ContentType="image/png"/>
  <Override PartName="/ppt/media/image2.png" ContentType="image/png"/>
  <Override PartName="/ppt/media/image3.gif" ContentType="image/gif"/>
  <Override PartName="/ppt/media/image11.wmf" ContentType="image/x-wmf"/>
  <Override PartName="/ppt/media/image4.gif" ContentType="image/gif"/>
  <Override PartName="/ppt/media/image12.wmf" ContentType="image/x-wmf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65AA-90BC-4185-B26D-1233A120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F28-9F2B-4F16-A506-5C276C37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467-F307-4042-BE82-53F3D19C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C98-3933-4F7B-801A-D77AA4C7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4244-CC11-4E75-A099-07B5E8B6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9E09-FAAC-44C7-8291-6AEC1C28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DEE7-7B23-4D54-BDA4-A844C8DB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F6F3-00FE-4222-81F9-F2A81095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2BC0-F93B-4B6C-B65D-EC4A4456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25D6-A61E-4299-B846-954A5CED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5AA2-7E13-4A88-B02A-ABC1AAC3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A4C-19FA-43CE-94C9-D108AB8B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35BA-1AB0-48C6-AE2F-F941E754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AEE4-0091-4C62-89AC-152FCC39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372C-C259-4E5B-B825-257ACC28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86CF-7E30-4409-8929-0E89C2B8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5685-6EAA-4C49-A818-1C67065F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D4B-F40A-4B73-9C51-417D2FDB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904-A65B-4341-AB52-659EDA95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197-0DD7-4B82-9C2D-F91B77E1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5855-D01F-461D-8BB6-2C19F2D5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95E-6AF7-4183-A249-AE491C12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D2C-93D0-4D2D-8A5C-0BA1AC1D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E2D5-AFDD-4B8E-86FD-8619BBC0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8D91-0CEA-415F-928D-616E15DF5A05}" type="slidenum">
              <a:rPr b="0" lang="ru-RU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09D0-C761-4317-8A02-76AD819A736A}" type="slidenum"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380880"/>
            <a:ext cx="856944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Arial"/>
              </a:rPr>
              <a:t>Опыт работы учителя МОУ СОШ №2 Тимашевского района</a:t>
            </a:r>
            <a:br>
              <a:rPr sz="3200"/>
            </a:br>
            <a:r>
              <a:rPr b="1" i="1" lang="ru-RU" sz="3200" spc="-1" strike="noStrike">
                <a:solidFill>
                  <a:srgbClr val="996600"/>
                </a:solidFill>
                <a:latin typeface="Arial"/>
              </a:rPr>
              <a:t> Шабельник Наталии Анатольевны.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663588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«Моделирование  языковой среды  при  обучении английскому языку 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 начальной школе»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66"/>
                </a:solidFill>
                <a:latin typeface="Arial Black"/>
              </a:rPr>
              <a:t>Актуальность темы:</a:t>
            </a:r>
            <a:endParaRPr b="0" lang="en-US" sz="2000" spc="-1" strike="noStrike">
              <a:solidFill>
                <a:srgbClr val="996600"/>
              </a:solidFill>
              <a:latin typeface="Arial Black"/>
            </a:endParaRPr>
          </a:p>
        </p:txBody>
      </p:sp>
      <p:grpSp>
        <p:nvGrpSpPr>
          <p:cNvPr id="85" name="Diagram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86" name="Picture 11" descr="baby01"/>
          <p:cNvPicPr/>
          <p:nvPr/>
        </p:nvPicPr>
        <p:blipFill>
          <a:blip r:embed="rId1"/>
          <a:stretch/>
        </p:blipFill>
        <p:spPr>
          <a:xfrm>
            <a:off x="3635280" y="3141720"/>
            <a:ext cx="1400400" cy="1663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2"/>
          <p:cNvSpPr/>
          <p:nvPr/>
        </p:nvSpPr>
        <p:spPr>
          <a:xfrm>
            <a:off x="4896000" y="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Моделирование  языковой среды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при  обучении английскому языку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 начальной школе»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0" y="213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Знание языка –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обязательное требование жизни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в современном обществе.</a:t>
            </a:r>
            <a:r>
              <a:rPr b="0" lang="ru-RU" sz="18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5364000" y="2133720"/>
            <a:ext cx="39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Продуктивнее начинать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обучение иностранному языку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в начальной школе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2484360" y="5013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Учитель начальных классов,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преподающий иностранный язык,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имеет возможность увеличить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эффективность обучения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d410"/>
                </a:solidFill>
                <a:latin typeface="Arial"/>
              </a:rPr>
              <a:t>за счет создания языковой среды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91" name="Picture 17" descr="AG00041_"/>
          <p:cNvPicPr/>
          <p:nvPr/>
        </p:nvPicPr>
        <p:blipFill>
          <a:blip r:embed="rId2"/>
          <a:stretch/>
        </p:blipFill>
        <p:spPr>
          <a:xfrm>
            <a:off x="3924360" y="2205000"/>
            <a:ext cx="1368360" cy="771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AG00041_"/>
          <p:cNvPicPr/>
          <p:nvPr/>
        </p:nvPicPr>
        <p:blipFill>
          <a:blip r:embed="rId3"/>
          <a:stretch/>
        </p:blipFill>
        <p:spPr>
          <a:xfrm rot="8107800">
            <a:off x="5705640" y="3631680"/>
            <a:ext cx="1404720" cy="825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AG00041_"/>
          <p:cNvPicPr/>
          <p:nvPr/>
        </p:nvPicPr>
        <p:blipFill>
          <a:blip r:embed="rId4"/>
          <a:stretch/>
        </p:blipFill>
        <p:spPr>
          <a:xfrm rot="14232600">
            <a:off x="1579680" y="3444480"/>
            <a:ext cx="137304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 Black"/>
              </a:rPr>
              <a:t>Моделирование  языковой среды </a:t>
            </a:r>
            <a:br>
              <a:rPr sz="2400"/>
            </a:br>
            <a:r>
              <a:rPr b="1" i="1" lang="ru-RU" sz="2400" spc="-1" strike="noStrike">
                <a:solidFill>
                  <a:srgbClr val="ffff66"/>
                </a:solidFill>
                <a:latin typeface="Arial Black"/>
              </a:rPr>
              <a:t> при  обучении английскому языку </a:t>
            </a:r>
            <a:br>
              <a:rPr sz="2400"/>
            </a:br>
            <a:r>
              <a:rPr b="1" i="1" lang="ru-RU" sz="2400" spc="-1" strike="noStrike">
                <a:solidFill>
                  <a:srgbClr val="ffff66"/>
                </a:solidFill>
                <a:latin typeface="Arial Black"/>
              </a:rPr>
              <a:t>в начальной школе позволяет: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2209680"/>
            <a:ext cx="842472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9cf"/>
                </a:solidFill>
                <a:latin typeface="Arial"/>
              </a:rPr>
              <a:t>развивать интеллектуальные и эмоционально-волевые способности ребенка;</a:t>
            </a:r>
            <a:endParaRPr b="0" lang="en-US" sz="25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9cf"/>
                </a:solidFill>
                <a:latin typeface="Arial"/>
              </a:rPr>
              <a:t>увеличить восприятие иностранного языка на 35 %, что в два раза выше, чем при обучении в среднем звене;</a:t>
            </a:r>
            <a:endParaRPr b="0" lang="en-US" sz="25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9cf"/>
                </a:solidFill>
                <a:latin typeface="Arial"/>
              </a:rPr>
              <a:t>усваивать внеязыковую информацию;</a:t>
            </a:r>
            <a:endParaRPr b="0" lang="en-US" sz="25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9cf"/>
                </a:solidFill>
                <a:latin typeface="Arial"/>
              </a:rPr>
              <a:t>работая с компьютером, научиться правильному произношению  по специальным программам;</a:t>
            </a:r>
            <a:endParaRPr b="0" lang="en-US" sz="25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9cf"/>
                </a:solidFill>
                <a:latin typeface="Arial"/>
              </a:rPr>
              <a:t>приобщать  и готовить  к современной жизни каждого ребенка;</a:t>
            </a:r>
            <a:endParaRPr b="0" lang="en-US" sz="25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9cf"/>
                </a:solidFill>
                <a:latin typeface="Arial"/>
              </a:rPr>
              <a:t>использовать игрушки в обучающих играх, импровизировать.</a:t>
            </a:r>
            <a:endParaRPr b="0" lang="en-US" sz="25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96" name="Picture 5" descr="baby06"/>
          <p:cNvPicPr/>
          <p:nvPr/>
        </p:nvPicPr>
        <p:blipFill>
          <a:blip r:embed="rId1"/>
          <a:stretch/>
        </p:blipFill>
        <p:spPr>
          <a:xfrm>
            <a:off x="6659640" y="5356080"/>
            <a:ext cx="22413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334800" y="0"/>
            <a:ext cx="880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хема системы моделирования  языковой среды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при  обучении английскому языку </a:t>
            </a:r>
            <a:br>
              <a:rPr sz="1800"/>
            </a:b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 начальной школе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grpSp>
        <p:nvGrpSpPr>
          <p:cNvPr id="98" name="Diagram 7"/>
          <p:cNvGrpSpPr/>
          <p:nvPr/>
        </p:nvGrpSpPr>
        <p:grpSpPr>
          <a:xfrm>
            <a:off x="828720" y="1553400"/>
            <a:ext cx="7264440" cy="4701600"/>
            <a:chOff x="828720" y="1553400"/>
            <a:chExt cx="7264440" cy="4701600"/>
          </a:xfrm>
        </p:grpSpPr>
        <p:sp>
          <p:nvSpPr>
            <p:cNvPr id="99" name="_s2052"/>
            <p:cNvSpPr/>
            <p:nvPr/>
          </p:nvSpPr>
          <p:spPr>
            <a:xfrm>
              <a:off x="3502080" y="2275920"/>
              <a:ext cx="1917720" cy="20689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0" name="_s2053"/>
            <p:cNvSpPr/>
            <p:nvPr/>
          </p:nvSpPr>
          <p:spPr>
            <a:xfrm>
              <a:off x="3538440" y="1553400"/>
              <a:ext cx="18446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9cf"/>
                  </a:solidFill>
                  <a:latin typeface="Arial"/>
                </a:rPr>
                <a:t>Урок</a:t>
              </a:r>
              <a:endParaRPr b="0" lang="en-US" sz="2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английского языка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с использованием 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игровых  технологий, 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информационно – коммуникационных технологий, 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проектной деятельности.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1" name="_s2054"/>
            <p:cNvSpPr/>
            <p:nvPr/>
          </p:nvSpPr>
          <p:spPr>
            <a:xfrm>
              <a:off x="4195800" y="2819160"/>
              <a:ext cx="1917720" cy="206892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2" name="_s2055"/>
            <p:cNvSpPr/>
            <p:nvPr/>
          </p:nvSpPr>
          <p:spPr>
            <a:xfrm>
              <a:off x="6248520" y="2954520"/>
              <a:ext cx="184464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9cf"/>
                  </a:solidFill>
                  <a:latin typeface="Arial"/>
                </a:rPr>
                <a:t>Элективный курс</a:t>
              </a: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для подготовки </a:t>
              </a:r>
              <a:r>
                <a:rPr b="1" lang="en-US" sz="1600" spc="-1" strike="noStrike">
                  <a:solidFill>
                    <a:srgbClr val="fff9cf"/>
                  </a:solidFill>
                  <a:latin typeface="Arial"/>
                </a:rPr>
                <a:t>Game</a:t>
              </a:r>
              <a:r>
                <a:rPr b="1" lang="ru-RU" sz="1600" spc="-1" strike="noStrike">
                  <a:solidFill>
                    <a:srgbClr val="fff9cf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fff9cf"/>
                  </a:solidFill>
                  <a:latin typeface="Arial"/>
                </a:rPr>
                <a:t>sitter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из числа старшеклассников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3" name="_s2056"/>
            <p:cNvSpPr/>
            <p:nvPr/>
          </p:nvSpPr>
          <p:spPr>
            <a:xfrm>
              <a:off x="3932280" y="3699720"/>
              <a:ext cx="1917720" cy="206892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4" name="_s2057"/>
            <p:cNvSpPr/>
            <p:nvPr/>
          </p:nvSpPr>
          <p:spPr>
            <a:xfrm>
              <a:off x="5565600" y="5737680"/>
              <a:ext cx="1845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9cf"/>
                  </a:solidFill>
                  <a:latin typeface="Arial"/>
                </a:rPr>
                <a:t>Кружок </a:t>
              </a:r>
              <a:endParaRPr b="0" lang="en-US" sz="2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«Веселый английский»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5" name="_s2058"/>
            <p:cNvSpPr/>
            <p:nvPr/>
          </p:nvSpPr>
          <p:spPr>
            <a:xfrm>
              <a:off x="3073320" y="3701160"/>
              <a:ext cx="1917720" cy="20689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6" name="_s2059"/>
            <p:cNvSpPr/>
            <p:nvPr/>
          </p:nvSpPr>
          <p:spPr>
            <a:xfrm>
              <a:off x="1511280" y="5737680"/>
              <a:ext cx="18446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9cf"/>
                  </a:solidFill>
                  <a:latin typeface="Arial"/>
                </a:rPr>
                <a:t>Внеклассная работа:</a:t>
              </a:r>
              <a:endParaRPr b="0" lang="en-US" sz="2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праздники, 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театрализованные представления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7" name="_s2060"/>
            <p:cNvSpPr/>
            <p:nvPr/>
          </p:nvSpPr>
          <p:spPr>
            <a:xfrm>
              <a:off x="2806560" y="2820960"/>
              <a:ext cx="1917720" cy="2068920"/>
            </a:xfrm>
            <a:prstGeom prst="ellipse">
              <a:avLst/>
            </a:prstGeom>
            <a:solidFill>
              <a:srgbClr val="669900">
                <a:alpha val="50000"/>
              </a:srgbClr>
            </a:solidFill>
            <a:ln w="46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08" name="_s2061"/>
            <p:cNvSpPr/>
            <p:nvPr/>
          </p:nvSpPr>
          <p:spPr>
            <a:xfrm>
              <a:off x="828720" y="2952720"/>
              <a:ext cx="18446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9cf"/>
                  </a:solidFill>
                  <a:latin typeface="Arial"/>
                </a:rPr>
                <a:t>Интеграция</a:t>
              </a:r>
              <a:r>
                <a:rPr b="0" lang="ru-RU" sz="1600" spc="-1" strike="noStrike">
                  <a:solidFill>
                    <a:srgbClr val="fff9c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9cf"/>
                  </a:solidFill>
                  <a:latin typeface="Arial"/>
                </a:rPr>
                <a:t>английского языка с  </a:t>
              </a:r>
              <a:endParaRPr b="0" lang="en-US" sz="1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9cf"/>
                  </a:solidFill>
                  <a:latin typeface="Arial"/>
                </a:rPr>
                <a:t>изобразительным искусством, </a:t>
              </a:r>
              <a:endParaRPr b="0" lang="en-US" sz="1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9cf"/>
                  </a:solidFill>
                  <a:latin typeface="Arial"/>
                </a:rPr>
                <a:t>трудовым обучением, </a:t>
              </a:r>
              <a:endParaRPr b="0" lang="en-US" sz="1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9cf"/>
                  </a:solidFill>
                  <a:latin typeface="Arial"/>
                </a:rPr>
                <a:t>музыкой, </a:t>
              </a:r>
              <a:endParaRPr b="0" lang="en-US" sz="1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9cf"/>
                  </a:solidFill>
                  <a:latin typeface="Arial"/>
                </a:rPr>
                <a:t>физической культурой.</a:t>
              </a:r>
              <a:endParaRPr b="0" lang="en-US" sz="14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cc9900"/>
                </a:solidFill>
                <a:latin typeface="Arial"/>
              </a:endParaRPr>
            </a:p>
          </p:txBody>
        </p:sp>
      </p:grpSp>
      <p:pic>
        <p:nvPicPr>
          <p:cNvPr id="109" name="Picture 18" descr="baby18"/>
          <p:cNvPicPr/>
          <p:nvPr/>
        </p:nvPicPr>
        <p:blipFill>
          <a:blip r:embed="rId1"/>
          <a:stretch/>
        </p:blipFill>
        <p:spPr>
          <a:xfrm>
            <a:off x="7812000" y="5013360"/>
            <a:ext cx="103680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1125000"/>
            <a:ext cx="7924680" cy="10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9cf"/>
                </a:solidFill>
                <a:latin typeface="Arial Black"/>
              </a:rPr>
              <a:t>Проектная деятельность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9cf"/>
                </a:solidFill>
                <a:latin typeface="Arial"/>
              </a:rPr>
              <a:t>Проблема –      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9c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9cf"/>
                </a:solidFill>
                <a:latin typeface="Arial"/>
              </a:rPr>
              <a:t>поиск -        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9cf"/>
                </a:solidFill>
                <a:latin typeface="Arial"/>
              </a:rPr>
              <a:t>                                                                 </a:t>
            </a:r>
            <a:r>
              <a:rPr b="0" lang="ru-RU" sz="2400" spc="-1" strike="noStrike">
                <a:solidFill>
                  <a:srgbClr val="fff9cf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941480" y="0"/>
            <a:ext cx="7202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Проект – это деятельность, мотивом которой является</a:t>
            </a:r>
            <a:endParaRPr b="0" lang="en-US" sz="1500" spc="-1" strike="noStrike">
              <a:solidFill>
                <a:srgbClr val="cc99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разрешение какой-либо проблемной ситуации, </a:t>
            </a:r>
            <a:endParaRPr b="0" lang="en-US" sz="1500" spc="-1" strike="noStrike">
              <a:solidFill>
                <a:srgbClr val="cc99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требующей творческого, исследовательского подхода,</a:t>
            </a:r>
            <a:endParaRPr b="0" lang="en-US" sz="1500" spc="-1" strike="noStrike">
              <a:solidFill>
                <a:srgbClr val="cc99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инициативы ребенка, коллективного взаимодействия.</a:t>
            </a:r>
            <a:endParaRPr b="0" lang="en-US" sz="15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13" name="Picture 5" descr="8479201b1d6943d19166b9b5849d461a"/>
          <p:cNvPicPr/>
          <p:nvPr/>
        </p:nvPicPr>
        <p:blipFill>
          <a:blip r:embed="rId1"/>
          <a:stretch/>
        </p:blipFill>
        <p:spPr>
          <a:xfrm>
            <a:off x="755640" y="3213000"/>
            <a:ext cx="1246320" cy="1177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018ebdb7752f3778a523ffc88e74c8c8"/>
          <p:cNvPicPr/>
          <p:nvPr/>
        </p:nvPicPr>
        <p:blipFill>
          <a:blip r:embed="rId2"/>
          <a:stretch/>
        </p:blipFill>
        <p:spPr>
          <a:xfrm>
            <a:off x="7020000" y="2637000"/>
            <a:ext cx="1954080" cy="1771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076212"/>
          <p:cNvPicPr/>
          <p:nvPr/>
        </p:nvPicPr>
        <p:blipFill>
          <a:blip r:embed="rId3"/>
          <a:stretch/>
        </p:blipFill>
        <p:spPr>
          <a:xfrm>
            <a:off x="2124000" y="3213000"/>
            <a:ext cx="48578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ружковая работа</a:t>
            </a:r>
            <a:endParaRPr b="0" lang="en-US" sz="32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557360"/>
            <a:ext cx="83595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Arial"/>
              </a:rPr>
              <a:t>Кружок «Веселый английский» позволяет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Arial"/>
              </a:rPr>
              <a:t>отработать изученный материал,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Arial"/>
              </a:rPr>
              <a:t>готовить классные утренники, праздники на английском языке,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cc9900"/>
                </a:solidFill>
                <a:latin typeface="Arial"/>
              </a:rPr>
              <a:t>мероприятия «Недели английского языка».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18" name="Picture 4" descr="baby06"/>
          <p:cNvPicPr/>
          <p:nvPr/>
        </p:nvPicPr>
        <p:blipFill>
          <a:blip r:embed="rId1"/>
          <a:stretch/>
        </p:blipFill>
        <p:spPr>
          <a:xfrm>
            <a:off x="7164360" y="5589720"/>
            <a:ext cx="1736640" cy="1050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P1010002"/>
          <p:cNvPicPr/>
          <p:nvPr/>
        </p:nvPicPr>
        <p:blipFill>
          <a:blip r:embed="rId2"/>
          <a:stretch/>
        </p:blipFill>
        <p:spPr>
          <a:xfrm>
            <a:off x="198360" y="149400"/>
            <a:ext cx="894564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246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2139e"/>
                </a:solidFill>
                <a:latin typeface="Arial"/>
              </a:rPr>
              <a:t>Результативность </a:t>
            </a:r>
            <a:br>
              <a:rPr sz="2400"/>
            </a:br>
            <a:r>
              <a:rPr b="1" lang="ru-RU" sz="2400" spc="-1" strike="noStrike">
                <a:solidFill>
                  <a:srgbClr val="62139e"/>
                </a:solidFill>
                <a:latin typeface="Arial"/>
              </a:rPr>
              <a:t>системы моделирования языковой среды  при  обучении английскому языку в начальной школе</a:t>
            </a:r>
            <a:endParaRPr b="0" lang="en-US" sz="24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341360"/>
            <a:ext cx="79246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Учащиеся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ладеют лексико – грамматическим материалом,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умеют  читать, использовать изученный материал в устной монологической и диалогической речи,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знают соответствующий их возрасту страноведческий материал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0" y="1413000"/>
          <a:ext cx="4452840" cy="563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4452840" cy="56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6"/>
          <p:cNvGraphicFramePr/>
          <p:nvPr/>
        </p:nvGraphicFramePr>
        <p:xfrm>
          <a:off x="4483080" y="1341360"/>
          <a:ext cx="4660920" cy="551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83080" y="1341360"/>
                    <a:ext cx="466092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fff9cf"/>
                </a:solidFill>
                <a:latin typeface="Arial"/>
              </a:rPr>
              <a:t>Красота – первая ступень в воспитании чувств, эмоциональной отзывчивости. </a:t>
            </a:r>
            <a:endParaRPr b="0" lang="en-US" sz="40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9c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f9cf"/>
                </a:solidFill>
                <a:latin typeface="Arial"/>
              </a:rPr>
              <a:t>Нашим детям - единство радости, добра и красоты.</a:t>
            </a:r>
            <a:endParaRPr b="0" lang="en-US" sz="40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127" name="Picture 4" descr="В"/>
          <p:cNvPicPr/>
          <p:nvPr/>
        </p:nvPicPr>
        <p:blipFill>
          <a:blip r:embed="rId1"/>
          <a:stretch/>
        </p:blipFill>
        <p:spPr>
          <a:xfrm>
            <a:off x="10333080" y="-8093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щаб баб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08:40:28Z</dcterms:created>
  <dc:creator>ВХОД</dc:creator>
  <dc:description/>
  <dc:language>en-US</dc:language>
  <cp:lastModifiedBy>Коля</cp:lastModifiedBy>
  <dcterms:modified xsi:type="dcterms:W3CDTF">2013-05-12T22:10:47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