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D4C-C0C0-4940-939F-FDFB9DBB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CF1-66C1-42E9-AD2C-5CAC29E3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7C1D9F-3378-4DE6-9581-2986677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A4D1F-0BD8-4E49-A573-241D6AAC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CA1E7-6FD1-4DA8-A9A0-05E6A48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91980-6CDE-4413-BCB5-50F38E2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F5781-83FB-4F7F-9634-D17D612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DD7B3-989C-40E1-9174-3E3F619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8D2E2-06A2-4A25-88D6-A7755E9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C1D14-36F7-4CCA-A2BD-9D50754B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3F523-C728-4A4D-9621-16FAD1B3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BEED2-0FDA-427F-819C-4C65563A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37D-B92F-4A7A-A0DE-A2688DB5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4C8F-A91E-4098-8838-B94171E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227C-67B9-4794-AE50-8A37C13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9348-2DFA-4539-87F9-6BFE171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8DC42-4B31-4BC7-8314-540A6F0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7D6F7-DF1B-43B7-B5E6-CFA9929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B8A6-7CBC-4BE0-ABBB-482E525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CCB12-339D-48AD-B5E5-F28496B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BC716-39F0-4920-91DC-7D71807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FE39E-F600-47CF-8DC4-F50673C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431A-F26A-4F31-A5E4-6F8B9D6D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885-1FBB-48F5-A13D-DA6DBED8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A5B1-CCB1-4F87-8922-E075CE11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C684C-C7CD-451F-8456-EF299B98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D2F39-EA03-41B0-87D6-325D4BF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8902-724D-4C52-AE39-D7DAFDE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0FE2-E8FE-4C7A-8615-EEDB0300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487A-04BE-4985-A4D4-F909713E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FE9F-E45E-488A-860E-79A18A4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5A38-8408-43FD-A92E-F2EA338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5098F-88EE-4F46-AB39-7CD78DF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83E10-72CC-493C-80EA-E526145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0FA-7FB7-425B-8CB9-A6C2B671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BA7E-5AA1-43E0-BD0E-9D4B020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B07C0-0401-41D1-A9E1-D7BE8B3A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CF02D-B242-415B-BF5A-6881C060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BBAB-FA73-4A40-8018-57306C2F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648DB-D09B-4AE1-AB25-317D669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B5E2E-8841-4434-BDB0-3E5170B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4DE2A-42B0-4ABB-8E5A-8775C78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4027C-DEFA-406D-A738-EDBAFDF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E325A-0C31-4CE2-A206-66D5CBA7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5DC1F-ACEF-48B6-9F19-49FAAF0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9FAD-FD08-4D04-BC8B-99C72B6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AF045-0111-4F98-AAAF-FFD64941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8A0D8-888E-4DC7-931F-7CC2D24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1E563-F821-48EE-9913-27B892C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284DE-325B-4437-90A1-F21299B2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65DEA-31EA-49AC-98FE-806FFB00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C01-A9FD-4FD1-9701-140E56AA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E5C7-8879-43EA-B44B-D1A38FC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07B-8B16-4F49-A38D-CE0269E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994-1867-4264-9584-E78E0B9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E24D-416F-4898-BA8D-010C95C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2A1-B581-4A53-9948-8820423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007E-6B96-4E3A-BADE-EB0D558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DED7-A286-4AED-B4C6-27DD821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34CE-D29B-4267-9ADB-110D3F0E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3A0-4C46-481C-911A-6C8B7CCE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8E4-3CCA-428F-8CA5-7CA583B5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CBA6-744F-41B7-9EF4-78A076C2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7856-1272-4B8E-B9F7-C50038AF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B161-CA99-4106-AD02-5C6FFE7B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7A18-1760-47E0-B478-5EDC0007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9749-ECF1-4D44-B617-5314B1C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EBF-153C-4F90-B755-95D62ACD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04B3-553A-472A-9435-69D9BE6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77B3-A460-4675-B1B7-93A4C15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F4DA-DCDF-41C5-AFE1-F36DD3C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6FE6-7F24-41D4-B409-B893FCE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62BC-845D-4CE3-AFF8-5279120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EF23-6708-4A6D-BDDB-3CDF4132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20F5-8965-46F7-B2D9-62EA33BA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2DDC-3D4B-4E83-8673-4CE2BA33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629D-1AE7-46C0-9C52-B685361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950E-AE9E-4E24-BB09-69DD6001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DEB-34B1-4ECE-9133-EFFB2D6D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F5A1-D4B6-4909-B1C5-7C9187C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BDD2-E10C-4791-BF84-561EF37E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E9CBA-FEBF-43F4-AC7D-611ADA0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36C5-6B5D-4B33-9C36-C184DAE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A58C-06F6-416B-99DC-A0A5E4D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AE1F-70A4-47C8-8AB7-A84B0C5A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8B00-1953-4478-AFBB-53705E8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AE23-322D-4AC2-87D6-1B6AB4C8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B5AE-D344-49F9-8701-CFE7E274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EA97-A3EC-4A03-BDC8-BC7B9A52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BFD-2D20-4AD8-91EF-3E055A1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7B32-7FD4-4904-8850-D698637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1741-77B7-4090-A3C9-8E34EAF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6CE0-4C5F-4518-9D6D-70300112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7863-7137-44B8-A5E4-868DD0B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2E1D-C5D9-4FF1-8E5B-6412D74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FDF1-1493-467C-8C01-7853F60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7164-2317-47D2-AFEF-AC60083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4C5D-4B44-49B9-A74A-42DA375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1AAE-F023-4792-A171-06554CE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9486-6871-4797-915A-F238BAEE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D3A-65B2-4ACE-B0D2-752C77C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9F86-1A85-40CC-8AE8-439E85A2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3C2A-B415-4A5C-8913-3FE624C4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4BC0-8A72-4F73-81DA-CE9A5B0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5EB9-0ED9-4267-8AC0-E148F4CD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6BBB-4EF3-4D3E-8B92-16662DF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4B8AF-E871-4A53-BD9F-151A214D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D3EB-6EF6-47E0-9498-220B8B42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B62B-1084-4F27-9AFB-506FBFE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4D7B-233F-47E9-AD74-D384B04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6A02-A195-4D89-9C7D-65CB2B2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5A-B37A-4005-9FDC-0CFE62C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7D0B-B6A9-494D-A6B0-2541FE21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4290-D9E4-4DBB-8618-5E125D84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8827-78A5-4535-9BE1-838EE7AD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C345-A8D8-4143-8DA4-A18BB95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CCC7-130A-43E9-812C-4A38EA89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C0D5-F08E-4DB4-9A1E-E657D7C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D038-B4C1-486F-80BF-09DCFA1B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8181-9475-44E0-9E7C-F7D9BBF1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C0A7D-5B49-46F6-A715-DB3F95F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0A47-0DD0-457B-908D-0ACB34A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CAA-73E9-48D9-B18B-3EA6909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8CB67-4E48-4009-83A1-C2DE99D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1C2FF-A819-42F6-843B-6C490B8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CF03-ED1D-40B0-9040-478CB38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02074-9F81-4B47-98CA-B8DBCFCA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3B93D-D79E-4D8E-9769-8ACE2584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3002-2A33-4C83-B622-2AA44A31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62E1-7CA6-46A6-8F20-2AC89D8A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5012-DCA1-43F0-89B6-9B3DF50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9D99-DD59-4F20-86D3-CE247C6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C697-9565-46E5-A4A0-E20FE23C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99B-B264-46D8-96A5-6B34391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646A3-6AAF-4F2E-B7D3-B3F266E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1E03C-7711-43D3-A293-6AEE9CE3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8122-A32C-4780-AF26-E5619EB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BD49F-FD45-4130-B18B-653FC96E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4B06-6011-4B8D-94F1-8673F41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86C9-6556-470E-B015-74C26005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BC749-EBD3-46B6-8A43-54AFADBC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53DE3-6627-4677-85C7-93DAEEEC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F48E8-6C19-44C3-A840-5E513D5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6BC15-1453-423F-8764-0D8BD25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Автофигура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Автофигура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Линия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E10-F7A5-4C7D-BC38-F1B4A380F6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Группа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36" name="Прямоуг.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Полилиния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Полилиния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Полилиния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Полилиния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Полилиния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Полилиния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Полилиния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Полилиния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Полилиния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Полилиния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Полилиния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Полилиния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Полилиния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Полилиния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B86-18E7-4562-A5CB-65237A3E61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Группа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93" name="Автофигура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Прямоуг.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Автофигура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Линия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C0D6-27E5-4DE2-88FF-36BE3494AB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3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4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AFC-5D4D-45D6-99A2-79DD40B117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" name="Полилиния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" name="Группа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" name="Полилиния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Полилиния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Полилиния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Полилиния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Полилиния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Полилиния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Полилиния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Полилиния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Полилиния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Полилиния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Полилиния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Полилиния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Полилиния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Полилиния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Полилиния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Полилиния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Полилиния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Полилиния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Полилиния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Полилиния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Полилиния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Полилиния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Полилиния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Полилиния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Полилиния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" name="Группа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" name="Полилиния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Полилиния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" name="Полилиния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" name="Полилиния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" name="Полилиния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" name="Полилиния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" name="Полилиния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" name="Полилиния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" name="Полилиния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" name="Полилиния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" name="Полилиния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" name="Полилиния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Полилиния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Полилиния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Полилиния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9" name="Группа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" name="Полилиния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Полилиния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" name="Группа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" name="Полилиния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" name="Полилиния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" name="Полилиния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" name="Полилиния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" name="Полилиния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Полилиния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Полилиния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Полилиния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Полилиния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" name="Полилиния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Полилиния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Полилиния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Полилиния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Полилиния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Полилиния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Полилиния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Полилиния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667-6BA1-443A-998A-3D7CBEEC90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222-6211-4029-BA9C-77968C651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Группа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3" name="Прямоуг.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Полилиния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Полилиния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Полилиния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Полилиния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Полилиния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Полилиния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Полилиния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Полилиния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Полилиния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Полилиния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Полилиния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Полилиния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Полилиния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Полилиния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8AF-EA82-4F28-9423-31683AF5FC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50" name="Автофигура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Автофигура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Линия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714-0A33-4AEE-8200-D173FEEBDB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5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6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8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9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271-89F6-48F8-96A7-B240510998F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43" name="Линия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Автофигура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Автофигура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EE3-73CE-45D2-8F6B-9001C3C38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Группа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88" name="Полилиния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9" name="Группа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90" name="Полилиния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Полилиния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Полилиния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Полилиния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Полилиния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Полилиния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Полилиния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Полилиния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Полилиния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Полилиния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Полилиния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Полилиния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Полилиния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Полилиния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Полилиния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Полилиния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Полилиния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Полилиния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Полилиния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Полилиния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Полилиния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Полилиния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Полилиния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Полилиния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Полилиния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5" name="Группа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16" name="Полилиния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7" name="Полилиния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8" name="Полилиния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9" name="Полилиния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0" name="Полилиния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1" name="Полилиния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Полилиния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3" name="Полилиния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Полилиния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Полилиния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Полилиния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Полилиния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Полилиния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Полилиния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0" name="Полилиния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1" name="Группа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32" name="Полилиния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3" name="Полилиния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4" name="Группа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35" name="Полилиния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Полилиния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Полилиния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Полилиния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Полилиния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Полилиния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Полилиния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2" name="Полилиния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3" name="Полилиния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4" name="Полилиния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5" name="Полилиния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6" name="Полилиния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7" name="Полилиния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8" name="Полилиния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9" name="Полилиния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Полилиния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Полилиния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E58-052B-4586-A8F8-0FB43C9563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Полилиния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26E-FA4C-4D35-9DCD-C88605B27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72388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Объект WordArt 3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Прямоуг. 4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Объект WordArt 5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Прямоуг. 6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Объект WordArt 7"/>
          <p:cNvSpPr txBox="1"/>
          <p:nvPr/>
        </p:nvSpPr>
        <p:spPr>
          <a:xfrm>
            <a:off x="1908000" y="981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Прямоуг. 8"/>
          <p:cNvSpPr/>
          <p:nvPr/>
        </p:nvSpPr>
        <p:spPr>
          <a:xfrm>
            <a:off x="1476360" y="3141720"/>
            <a:ext cx="7238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Verdana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повторить , обобщить и систематизировать знания учащихся о модуле и его свойствах, умения решать различные уравнения , содержащие модуль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итель МОУ СОШ №6 г.Марк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ышова Л. 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Объект WordArt 9"/>
          <p:cNvSpPr txBox="1"/>
          <p:nvPr/>
        </p:nvSpPr>
        <p:spPr>
          <a:xfrm>
            <a:off x="1979640" y="90792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уль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остейшие уравнения вид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         ,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&gt;0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определению моду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вет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9;2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Прямоуг.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Объект 4"/>
              <p:cNvSpPr txBox="1"/>
              <p:nvPr/>
            </p:nvSpPr>
            <p:spPr>
              <a:xfrm>
                <a:off x="1841400" y="2276640"/>
                <a:ext cx="5461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Прямоуг. 7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Прямоуг. 9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Рисунок 13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767" name="Прямоуг.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Объект 14"/>
              <p:cNvSpPr txBox="1"/>
              <p:nvPr/>
            </p:nvSpPr>
            <p:spPr>
              <a:xfrm>
                <a:off x="1476360" y="3860640"/>
                <a:ext cx="6049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Прямоуг.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Прямоуг.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Объект 18"/>
              <p:cNvSpPr txBox="1"/>
              <p:nvPr/>
            </p:nvSpPr>
            <p:spPr>
              <a:xfrm>
                <a:off x="1476360" y="4724280"/>
                <a:ext cx="51116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2" name="Рисунок 20" descr="MCj03519650000[1]"/>
          <p:cNvPicPr/>
          <p:nvPr/>
        </p:nvPicPr>
        <p:blipFill>
          <a:blip r:embed="rId2"/>
          <a:stretch/>
        </p:blipFill>
        <p:spPr>
          <a:xfrm>
            <a:off x="6851520" y="5157720"/>
            <a:ext cx="1814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равнения более общего вид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ов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Объект 4"/>
              <p:cNvSpPr txBox="1"/>
              <p:nvPr/>
            </p:nvSpPr>
            <p:spPr>
              <a:xfrm>
                <a:off x="103320" y="4365720"/>
                <a:ext cx="89373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7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Объект 8"/>
              <p:cNvSpPr txBox="1"/>
              <p:nvPr/>
            </p:nvSpPr>
            <p:spPr>
              <a:xfrm>
                <a:off x="361800" y="2637000"/>
                <a:ext cx="84902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9" name="Рисунок 10" descr=""/>
          <p:cNvPicPr/>
          <p:nvPr/>
        </p:nvPicPr>
        <p:blipFill>
          <a:blip r:embed="rId1"/>
          <a:stretch/>
        </p:blipFill>
        <p:spPr>
          <a:xfrm>
            <a:off x="7093080" y="907920"/>
            <a:ext cx="1584360" cy="576360"/>
          </a:xfrm>
          <a:prstGeom prst="rect">
            <a:avLst/>
          </a:prstGeom>
          <a:ln w="0">
            <a:noFill/>
          </a:ln>
        </p:spPr>
      </p:pic>
      <p:pic>
        <p:nvPicPr>
          <p:cNvPr id="780" name="Рисунок 11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1223640" cy="433080"/>
          </a:xfrm>
          <a:prstGeom prst="rect">
            <a:avLst/>
          </a:prstGeom>
          <a:ln w="0">
            <a:noFill/>
          </a:ln>
        </p:spPr>
      </p:pic>
      <p:pic>
        <p:nvPicPr>
          <p:cNvPr id="781" name="Рисунок 12" descr="MCj04326650000[1]"/>
          <p:cNvPicPr/>
          <p:nvPr/>
        </p:nvPicPr>
        <p:blipFill>
          <a:blip r:embed="rId3"/>
          <a:stretch/>
        </p:blipFill>
        <p:spPr>
          <a:xfrm>
            <a:off x="7236000" y="141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 вида </a:t>
            </a:r>
            <a:br>
              <a:rPr sz="2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5" name="Рисунок 6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2089080" cy="648000"/>
          </a:xfrm>
          <a:prstGeom prst="rect">
            <a:avLst/>
          </a:prstGeom>
          <a:ln w="0">
            <a:noFill/>
          </a:ln>
        </p:spPr>
      </p:pic>
      <p:sp>
        <p:nvSpPr>
          <p:cNvPr id="786" name="Прямоуг.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Объект 7"/>
              <p:cNvSpPr txBox="1"/>
              <p:nvPr/>
            </p:nvSpPr>
            <p:spPr>
              <a:xfrm>
                <a:off x="87480" y="2637000"/>
                <a:ext cx="8967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⇔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Прямоуг. 10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Прямоуг. 12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Объект 11"/>
              <p:cNvSpPr txBox="1"/>
              <p:nvPr/>
            </p:nvSpPr>
            <p:spPr>
              <a:xfrm>
                <a:off x="1055520" y="3860640"/>
                <a:ext cx="667080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eqArr>
                        <m:r>
                          <m:t xml:space="preserve">[</m:t>
                        </m:r>
                        <m:r>
                          <m:t xml:space="preserve">⇔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1" name="Рисунок 13" descr="MCj03519650000[1]"/>
          <p:cNvPicPr/>
          <p:nvPr/>
        </p:nvPicPr>
        <p:blipFill>
          <a:blip r:embed="rId2"/>
          <a:stretch/>
        </p:blipFill>
        <p:spPr>
          <a:xfrm>
            <a:off x="7066080" y="5214960"/>
            <a:ext cx="1814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, приводимые к уравнениям, содержащим модуль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ррациональное урав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Объект 4"/>
              <p:cNvSpPr txBox="1"/>
              <p:nvPr/>
            </p:nvSpPr>
            <p:spPr>
              <a:xfrm>
                <a:off x="369720" y="2781360"/>
                <a:ext cx="840456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96" name="Рисунок 6" descr="MCj03519650000[1]"/>
          <p:cNvPicPr/>
          <p:nvPr/>
        </p:nvPicPr>
        <p:blipFill>
          <a:blip r:embed="rId1"/>
          <a:stretch/>
        </p:blipFill>
        <p:spPr>
          <a:xfrm>
            <a:off x="7165800" y="5200560"/>
            <a:ext cx="1814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я, приводимые к уравнениям, содержащим модул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гарифмическое уравн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Объект 4"/>
              <p:cNvSpPr txBox="1"/>
              <p:nvPr/>
            </p:nvSpPr>
            <p:spPr>
              <a:xfrm>
                <a:off x="795240" y="1844640"/>
                <a:ext cx="7912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⇔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Прямоуг. 7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Объект 6"/>
              <p:cNvSpPr txBox="1"/>
              <p:nvPr/>
            </p:nvSpPr>
            <p:spPr>
              <a:xfrm>
                <a:off x="399960" y="2924280"/>
                <a:ext cx="859320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03" name="Рисунок 8" descr="MCj03519650000[1]"/>
          <p:cNvPicPr/>
          <p:nvPr/>
        </p:nvPicPr>
        <p:blipFill>
          <a:blip r:embed="rId1"/>
          <a:stretch/>
        </p:blipFill>
        <p:spPr>
          <a:xfrm>
            <a:off x="6516720" y="5300640"/>
            <a:ext cx="1814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ррациональные уравнения, содержащие модуль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лу того, ч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одул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скрывается однозначно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Прямоуг. 4"/>
          <p:cNvSpPr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Прямоуг.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8" name="Объект 5"/>
          <p:cNvGraphicFramePr/>
          <p:nvPr/>
        </p:nvGraphicFramePr>
        <p:xfrm>
          <a:off x="250920" y="2852640"/>
          <a:ext cx="889308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893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Прямоуг. 7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2" name="Объект 8"/>
          <p:cNvGraphicFramePr/>
          <p:nvPr/>
        </p:nvGraphicFramePr>
        <p:xfrm>
          <a:off x="3780000" y="1773360"/>
          <a:ext cx="9363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773360"/>
                    <a:ext cx="93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Прямоуг. 10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Прямоуг.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6" name="Объект 11"/>
          <p:cNvGraphicFramePr/>
          <p:nvPr/>
        </p:nvGraphicFramePr>
        <p:xfrm>
          <a:off x="5724360" y="1773360"/>
          <a:ext cx="64800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7" name="Объект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773360"/>
                    <a:ext cx="648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Прямоуг. 13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1" name="Объект 4"/>
          <p:cNvGraphicFramePr/>
          <p:nvPr/>
        </p:nvGraphicFramePr>
        <p:xfrm>
          <a:off x="0" y="517680"/>
          <a:ext cx="914400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7680"/>
                    <a:ext cx="91440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Прямоуг. 6"/>
          <p:cNvSpPr/>
          <p:nvPr/>
        </p:nvSpPr>
        <p:spPr>
          <a:xfrm>
            <a:off x="0" y="42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Рисунок 8" descr="MCj03519650000[1]"/>
          <p:cNvPicPr/>
          <p:nvPr/>
        </p:nvPicPr>
        <p:blipFill>
          <a:blip r:embed="rId3"/>
          <a:stretch/>
        </p:blipFill>
        <p:spPr>
          <a:xfrm>
            <a:off x="6908760" y="5129280"/>
            <a:ext cx="18144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ррациональные уравнения, содержащие модуль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илу того, что           модуль          раскрывается двузнач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: -4,5; -0,75;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Объект 4"/>
              <p:cNvSpPr txBox="1"/>
              <p:nvPr/>
            </p:nvSpPr>
            <p:spPr>
              <a:xfrm>
                <a:off x="3995640" y="1844640"/>
                <a:ext cx="7365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Объект 6"/>
              <p:cNvSpPr txBox="1"/>
              <p:nvPr/>
            </p:nvSpPr>
            <p:spPr>
              <a:xfrm>
                <a:off x="5940360" y="1773360"/>
                <a:ext cx="719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31" name="Рисунок 13" descr="MCj04379900000[1]"/>
          <p:cNvPicPr/>
          <p:nvPr/>
        </p:nvPicPr>
        <p:blipFill>
          <a:blip r:embed="rId1"/>
          <a:stretch/>
        </p:blipFill>
        <p:spPr>
          <a:xfrm>
            <a:off x="5435640" y="3860640"/>
            <a:ext cx="1816200" cy="173052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14" descr="MCj04355460000[1]"/>
          <p:cNvPicPr/>
          <p:nvPr/>
        </p:nvPicPr>
        <p:blipFill>
          <a:blip r:embed="rId2"/>
          <a:stretch/>
        </p:blipFill>
        <p:spPr>
          <a:xfrm>
            <a:off x="2050920" y="4508640"/>
            <a:ext cx="1771920" cy="106668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16" descr="MCj04355460000[1]"/>
          <p:cNvPicPr/>
          <p:nvPr/>
        </p:nvPicPr>
        <p:blipFill>
          <a:blip r:embed="rId3"/>
          <a:stretch/>
        </p:blipFill>
        <p:spPr>
          <a:xfrm>
            <a:off x="2050920" y="4508640"/>
            <a:ext cx="1771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мена модул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Объект 4"/>
              <p:cNvSpPr txBox="1"/>
              <p:nvPr/>
            </p:nvSpPr>
            <p:spPr>
              <a:xfrm>
                <a:off x="276120" y="1944720"/>
                <a:ext cx="8778960" cy="386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37" name="Рисунок 6" descr="MCj04348100000[1]"/>
          <p:cNvPicPr/>
          <p:nvPr/>
        </p:nvPicPr>
        <p:blipFill>
          <a:blip r:embed="rId1"/>
          <a:stretch/>
        </p:blipFill>
        <p:spPr>
          <a:xfrm>
            <a:off x="6772320" y="48290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равнения, содержащие несколько модулей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( Решаемые с помощью метода интервалов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Найдём значения х, при которых значения выражений, стоящих под знаком модуля, равны 0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 -1 = 0 при х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 – 2=0 при х =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Эти значения разбивают ОДЗ на промежутк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Запишем на каждом из промежутков данное уравнение без знаков моду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им совокупность сист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Объект 4"/>
              <p:cNvSpPr txBox="1"/>
              <p:nvPr/>
            </p:nvSpPr>
            <p:spPr>
              <a:xfrm>
                <a:off x="1908000" y="4149720"/>
                <a:ext cx="4969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Объект 6"/>
              <p:cNvSpPr txBox="1"/>
              <p:nvPr/>
            </p:nvSpPr>
            <p:spPr>
              <a:xfrm>
                <a:off x="3203640" y="1773360"/>
                <a:ext cx="309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4" name="Рисунок 8" descr="MCj04326450000[1]"/>
          <p:cNvPicPr/>
          <p:nvPr/>
        </p:nvPicPr>
        <p:blipFill>
          <a:blip r:embed="rId1"/>
          <a:stretch/>
        </p:blipFill>
        <p:spPr>
          <a:xfrm>
            <a:off x="6729480" y="51004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Вид урока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: урок – проект.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       Тип урока: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обобщение и систематизация знаний с элементами исследования и организации проектной деятельности.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8172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Цели  урока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разовательны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бобщить и систематизировать знания учащихся о модуле и его свойствах; умения решать различные уравнения, содержащие модуль и уравнения, приводимые к уравнениям, содержащим модул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звивать творческую и мыслительную деятельность учащихся, навыки проектно-исследовательской деятельности, способствовать формированию навыков коллективной работы, развивать умение чётко и ясно излагать свои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формирование интереса к предмету посредством вовлечения их в проектную деятельность, способствовать формированию навыков взаимодействия в малых групп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авнение, содержащее несколько модулей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 интерва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Объект 4"/>
              <p:cNvSpPr txBox="1"/>
              <p:nvPr/>
            </p:nvSpPr>
            <p:spPr>
              <a:xfrm>
                <a:off x="304920" y="2205000"/>
                <a:ext cx="88390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</m:e>
                          <m:e/>
                        </m:eqAr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49" name="Рисунок 6" descr="MCj04326650000[1]"/>
          <p:cNvPicPr/>
          <p:nvPr/>
        </p:nvPicPr>
        <p:blipFill>
          <a:blip r:embed="rId1"/>
          <a:stretch/>
        </p:blipFill>
        <p:spPr>
          <a:xfrm>
            <a:off x="3564000" y="49417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Объект WordArt 4"/>
          <p:cNvSpPr txBox="1"/>
          <p:nvPr/>
        </p:nvSpPr>
        <p:spPr>
          <a:xfrm>
            <a:off x="1116000" y="242100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айды    из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ащих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1" name="Рисунок 9" descr="MCj04379900000[1]"/>
          <p:cNvPicPr/>
          <p:nvPr/>
        </p:nvPicPr>
        <p:blipFill>
          <a:blip r:embed="rId1"/>
          <a:stretch/>
        </p:blipFill>
        <p:spPr>
          <a:xfrm>
            <a:off x="4124160" y="189000"/>
            <a:ext cx="2032200" cy="158436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12" descr="MCj04355460000[1]"/>
          <p:cNvPicPr/>
          <p:nvPr/>
        </p:nvPicPr>
        <p:blipFill>
          <a:blip r:embed="rId2"/>
          <a:stretch/>
        </p:blipFill>
        <p:spPr>
          <a:xfrm>
            <a:off x="7093080" y="476280"/>
            <a:ext cx="1771560" cy="1066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1.Простейшее уравнение,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содержащее модуль, где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b&gt;0: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.Уравнение более общего вида, 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                               </a:t>
            </a:r>
            <a:r>
              <a:rPr b="1" lang="ru-RU" sz="2700" spc="-1" strike="noStrike">
                <a:solidFill>
                  <a:srgbClr val="eaeaea"/>
                </a:solidFill>
                <a:latin typeface="Arial"/>
              </a:rPr>
              <a:t>содержащее модуль</a:t>
            </a: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4" name="Прямоуг.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Прямоуг.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Объект 7"/>
              <p:cNvSpPr txBox="1"/>
              <p:nvPr/>
            </p:nvSpPr>
            <p:spPr>
              <a:xfrm>
                <a:off x="2484360" y="4149720"/>
                <a:ext cx="597708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Прямоуг.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Объект 9"/>
              <p:cNvSpPr txBox="1"/>
              <p:nvPr/>
            </p:nvSpPr>
            <p:spPr>
              <a:xfrm>
                <a:off x="1835280" y="1628640"/>
                <a:ext cx="5832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9" name="Рисунок 14" descr="MCj04134600000[1]"/>
          <p:cNvPicPr/>
          <p:nvPr/>
        </p:nvPicPr>
        <p:blipFill>
          <a:blip r:embed="rId1"/>
          <a:stretch/>
        </p:blipFill>
        <p:spPr>
          <a:xfrm>
            <a:off x="0" y="4503600"/>
            <a:ext cx="2219400" cy="2354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авнение ви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По определению модуля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Объект 4"/>
              <p:cNvSpPr txBox="1"/>
              <p:nvPr/>
            </p:nvSpPr>
            <p:spPr>
              <a:xfrm>
                <a:off x="1979640" y="2565360"/>
                <a:ext cx="590544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4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Объект 6"/>
              <p:cNvSpPr txBox="1"/>
              <p:nvPr/>
            </p:nvSpPr>
            <p:spPr>
              <a:xfrm>
                <a:off x="5364000" y="549360"/>
                <a:ext cx="2448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6" name="Рисунок 8" descr="MCj03701400000[1]"/>
          <p:cNvPicPr/>
          <p:nvPr/>
        </p:nvPicPr>
        <p:blipFill>
          <a:blip r:embed="rId1"/>
          <a:stretch/>
        </p:blipFill>
        <p:spPr>
          <a:xfrm>
            <a:off x="324000" y="4581360"/>
            <a:ext cx="1739880" cy="18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   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Уравнения, приводимые к уравнениям, содержащим модуль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Прямоуг.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Объект 4"/>
              <p:cNvSpPr txBox="1"/>
              <p:nvPr/>
            </p:nvSpPr>
            <p:spPr>
              <a:xfrm>
                <a:off x="2195640" y="2349360"/>
                <a:ext cx="5329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Прямоуг.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Прямоуг.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Объект 8"/>
              <p:cNvSpPr txBox="1"/>
              <p:nvPr/>
            </p:nvSpPr>
            <p:spPr>
              <a:xfrm>
                <a:off x="324000" y="4292640"/>
                <a:ext cx="8569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4" name="Рисунок 11" descr="MCj03701260000[1]"/>
          <p:cNvPicPr/>
          <p:nvPr/>
        </p:nvPicPr>
        <p:blipFill>
          <a:blip r:embed="rId1"/>
          <a:stretch/>
        </p:blipFill>
        <p:spPr>
          <a:xfrm>
            <a:off x="684360" y="2349360"/>
            <a:ext cx="1430280" cy="1965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3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Поле 4"/>
          <p:cNvSpPr/>
          <p:nvPr/>
        </p:nvSpPr>
        <p:spPr>
          <a:xfrm>
            <a:off x="2824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Прямоуг. 8"/>
          <p:cNvSpPr/>
          <p:nvPr/>
        </p:nvSpPr>
        <p:spPr>
          <a:xfrm>
            <a:off x="755640" y="1477080"/>
            <a:ext cx="8137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авнения, содержащие несколько модул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е, которые не сводятся к виду 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│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 решаются с помощью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тода интервал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Найдём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 которых значение выражений, стоящих под знаком модуля, равны ну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Найденные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бивают ОДЗ на промеж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Запишем на каждом из промежутков уравнение без знаков модуля. Получим совокупность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Прямоуг. 9"/>
          <p:cNvSpPr/>
          <p:nvPr/>
        </p:nvSpPr>
        <p:spPr>
          <a:xfrm>
            <a:off x="1042920" y="4329720"/>
            <a:ext cx="57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8" name="Рисунок 14" descr="MCj04376990000[1]"/>
          <p:cNvPicPr/>
          <p:nvPr/>
        </p:nvPicPr>
        <p:blipFill>
          <a:blip r:embed="rId1"/>
          <a:stretch/>
        </p:blipFill>
        <p:spPr>
          <a:xfrm>
            <a:off x="7524720" y="4724280"/>
            <a:ext cx="1454040" cy="19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сего доброго, Вам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Объект WordArt 4"/>
          <p:cNvSpPr txBox="1"/>
          <p:nvPr/>
        </p:nvSpPr>
        <p:spPr>
          <a:xfrm>
            <a:off x="539640" y="150336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1" name="Рисунок 5" descr="MCj02341600000[1]"/>
          <p:cNvPicPr/>
          <p:nvPr/>
        </p:nvPicPr>
        <p:blipFill>
          <a:blip r:embed="rId1"/>
          <a:stretch/>
        </p:blipFill>
        <p:spPr>
          <a:xfrm>
            <a:off x="2484360" y="3716280"/>
            <a:ext cx="2035080" cy="1922400"/>
          </a:xfrm>
          <a:prstGeom prst="rect">
            <a:avLst/>
          </a:prstGeom>
          <a:ln w="0">
            <a:noFill/>
          </a:ln>
        </p:spPr>
      </p:pic>
      <p:sp>
        <p:nvSpPr>
          <p:cNvPr id="882" name="Объект WordArt 6"/>
          <p:cNvSpPr txBox="1"/>
          <p:nvPr/>
        </p:nvSpPr>
        <p:spPr>
          <a:xfrm>
            <a:off x="539640" y="148428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Объект WordArt 7"/>
          <p:cNvSpPr txBox="1"/>
          <p:nvPr/>
        </p:nvSpPr>
        <p:spPr>
          <a:xfrm>
            <a:off x="539640" y="1484280"/>
            <a:ext cx="7272360" cy="48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8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Объект WordArt 2"/>
          <p:cNvSpPr txBox="1"/>
          <p:nvPr/>
        </p:nvSpPr>
        <p:spPr>
          <a:xfrm>
            <a:off x="1908000" y="9079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Объект WordArt 3"/>
          <p:cNvSpPr txBox="1"/>
          <p:nvPr/>
        </p:nvSpPr>
        <p:spPr>
          <a:xfrm>
            <a:off x="684360" y="1773360"/>
            <a:ext cx="79200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специальн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ованный учител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самостоятельно выполняемы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мис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лекс действий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ершающихся создан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ого продукт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3137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ение модул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Объект 7"/>
              <p:cNvSpPr txBox="1"/>
              <p:nvPr/>
            </p:nvSpPr>
            <p:spPr>
              <a:xfrm>
                <a:off x="6261120" y="2692440"/>
                <a:ext cx="126360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Объект 13"/>
              <p:cNvSpPr txBox="1"/>
              <p:nvPr/>
            </p:nvSpPr>
            <p:spPr>
              <a:xfrm>
                <a:off x="0" y="0"/>
                <a:ext cx="914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Объект 10"/>
              <p:cNvSpPr txBox="1"/>
              <p:nvPr/>
            </p:nvSpPr>
            <p:spPr>
              <a:xfrm>
                <a:off x="0" y="10857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1" name="Прямоуг.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Прямоуг. 15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Прямоуг. 16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. 17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Объект 21"/>
              <p:cNvSpPr txBox="1"/>
              <p:nvPr/>
            </p:nvSpPr>
            <p:spPr>
              <a:xfrm>
                <a:off x="0" y="277668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Объект 18"/>
              <p:cNvSpPr txBox="1"/>
              <p:nvPr/>
            </p:nvSpPr>
            <p:spPr>
              <a:xfrm>
                <a:off x="0" y="386244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7" name="Прямоуг. 22"/>
          <p:cNvSpPr/>
          <p:nvPr/>
        </p:nvSpPr>
        <p:spPr>
          <a:xfrm flipV="1">
            <a:off x="971640" y="25650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Прямоуг. 23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Прямоуг. 24"/>
          <p:cNvSpPr/>
          <p:nvPr/>
        </p:nvSpPr>
        <p:spPr>
          <a:xfrm>
            <a:off x="0" y="34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Прямоуг. 25"/>
          <p:cNvSpPr/>
          <p:nvPr/>
        </p:nvSpPr>
        <p:spPr>
          <a:xfrm>
            <a:off x="0" y="38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Прямоуг. 27"/>
          <p:cNvSpPr/>
          <p:nvPr/>
        </p:nvSpPr>
        <p:spPr>
          <a:xfrm>
            <a:off x="0" y="3944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оуг.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Прямоуг.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Прямоуг. 3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Объект 32"/>
              <p:cNvSpPr txBox="1"/>
              <p:nvPr/>
            </p:nvSpPr>
            <p:spPr>
              <a:xfrm>
                <a:off x="4859280" y="1484280"/>
                <a:ext cx="331308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6" name="Прямоуг. 3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Объект 34"/>
              <p:cNvSpPr txBox="1"/>
              <p:nvPr/>
            </p:nvSpPr>
            <p:spPr>
              <a:xfrm>
                <a:off x="4898880" y="0"/>
                <a:ext cx="39546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а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18" name="Рисунок 36" descr="j0299125"/>
          <p:cNvPicPr/>
          <p:nvPr/>
        </p:nvPicPr>
        <p:blipFill>
          <a:blip r:embed="rId1"/>
          <a:stretch/>
        </p:blipFill>
        <p:spPr>
          <a:xfrm>
            <a:off x="1979640" y="371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еометрический смысл моду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еометрически      есть расстояние от точки х числовой оси до начала отсчёта – точки 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ть расстояние между  точками х и а числовой ос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Объект 4"/>
              <p:cNvSpPr txBox="1"/>
              <p:nvPr/>
            </p:nvSpPr>
            <p:spPr>
              <a:xfrm>
                <a:off x="4716360" y="1628640"/>
                <a:ext cx="647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3" name="Прямоуг.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Объект 6"/>
              <p:cNvSpPr txBox="1"/>
              <p:nvPr/>
            </p:nvSpPr>
            <p:spPr>
              <a:xfrm>
                <a:off x="1692360" y="4221000"/>
                <a:ext cx="1150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5" name="Прямоуг.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Прямоуг.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Прямоуг.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Прямоуг.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Объект 14"/>
              <p:cNvSpPr txBox="1"/>
              <p:nvPr/>
            </p:nvSpPr>
            <p:spPr>
              <a:xfrm>
                <a:off x="3059280" y="5516640"/>
                <a:ext cx="273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Прямоуг.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Объект 16"/>
              <p:cNvSpPr txBox="1"/>
              <p:nvPr/>
            </p:nvSpPr>
            <p:spPr>
              <a:xfrm>
                <a:off x="5867280" y="3068640"/>
                <a:ext cx="19447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Прямоуг.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Прямоуг.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Объект 20"/>
              <p:cNvSpPr txBox="1"/>
              <p:nvPr/>
            </p:nvSpPr>
            <p:spPr>
              <a:xfrm>
                <a:off x="6156360" y="5445000"/>
                <a:ext cx="237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Прямоуг.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Объект 22"/>
              <p:cNvSpPr txBox="1"/>
              <p:nvPr/>
            </p:nvSpPr>
            <p:spPr>
              <a:xfrm>
                <a:off x="2268360" y="3141720"/>
                <a:ext cx="24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Прямоуг.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Прямоуг.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Прямоуг.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Прямоуг.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Объект 30"/>
              <p:cNvSpPr txBox="1"/>
              <p:nvPr/>
            </p:nvSpPr>
            <p:spPr>
              <a:xfrm>
                <a:off x="468360" y="5516640"/>
                <a:ext cx="2374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2" name="Рисунок 36" descr="MCj02979470000[1]"/>
          <p:cNvPicPr/>
          <p:nvPr/>
        </p:nvPicPr>
        <p:blipFill>
          <a:blip r:embed="rId1"/>
          <a:stretch/>
        </p:blipFill>
        <p:spPr>
          <a:xfrm>
            <a:off x="7410600" y="4149720"/>
            <a:ext cx="1733400" cy="12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Объект 4"/>
              <p:cNvSpPr txBox="1"/>
              <p:nvPr/>
            </p:nvSpPr>
            <p:spPr>
              <a:xfrm>
                <a:off x="611280" y="1844640"/>
                <a:ext cx="379080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Прямоуг.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Объект 7"/>
              <p:cNvSpPr txBox="1"/>
              <p:nvPr/>
            </p:nvSpPr>
            <p:spPr>
              <a:xfrm>
                <a:off x="4859280" y="1628640"/>
                <a:ext cx="337500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7" name="Рисунок 9" descr="j0301252"/>
          <p:cNvPicPr/>
          <p:nvPr/>
        </p:nvPicPr>
        <p:blipFill>
          <a:blip r:embed="rId1"/>
          <a:stretch/>
        </p:blipFill>
        <p:spPr>
          <a:xfrm>
            <a:off x="6443640" y="1890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313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Решите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равнени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Объект 4"/>
              <p:cNvSpPr txBox="1"/>
              <p:nvPr/>
            </p:nvSpPr>
            <p:spPr>
              <a:xfrm>
                <a:off x="1403280" y="476280"/>
                <a:ext cx="4469040" cy="638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rad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1" name="Рисунок 6" descr="j0217698"/>
          <p:cNvPicPr/>
          <p:nvPr/>
        </p:nvPicPr>
        <p:blipFill>
          <a:blip r:embed="rId1"/>
          <a:stretch/>
        </p:blipFill>
        <p:spPr>
          <a:xfrm>
            <a:off x="6516720" y="260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7" descr="MCj04326650000[1]"/>
          <p:cNvPicPr/>
          <p:nvPr/>
        </p:nvPicPr>
        <p:blipFill>
          <a:blip r:embed="rId2"/>
          <a:stretch/>
        </p:blipFill>
        <p:spPr>
          <a:xfrm>
            <a:off x="7020000" y="486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струкция по работе над проектом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Решить уравн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Проанализировать способы решени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Провести классификацию данных уравнений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)  сгруппировать примеры по способам реш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)  определить, в  чём заключается общий вид уравнений в каждой групп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)  дать название каждой группе уравн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Создать проект таблицы: « Решение уравнений, содержащих модуль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Подготовить защиту проек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5" name="Рисунок 4" descr="j0299125"/>
          <p:cNvPicPr/>
          <p:nvPr/>
        </p:nvPicPr>
        <p:blipFill>
          <a:blip r:embed="rId1"/>
          <a:stretch/>
        </p:blipFill>
        <p:spPr>
          <a:xfrm>
            <a:off x="7651800" y="46562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щита проектов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Оценочный лис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-баль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ет докладчик терминологией, которую использует в своём проек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ог докладчик проекта доказать, что разработанная группой структура самая оптимальная для решения поставленной за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ли группа все поставленные перед ней зада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ворческие способности докладч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формление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Рисунок 4" descr="j0292020"/>
          <p:cNvPicPr/>
          <p:nvPr/>
        </p:nvPicPr>
        <p:blipFill>
          <a:blip r:embed="rId1"/>
          <a:stretch/>
        </p:blipFill>
        <p:spPr>
          <a:xfrm>
            <a:off x="6372360" y="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759" name="Рисунок 6" descr="MCj04303700000[1]"/>
          <p:cNvPicPr/>
          <p:nvPr/>
        </p:nvPicPr>
        <p:blipFill>
          <a:blip r:embed="rId2"/>
          <a:stretch/>
        </p:blipFill>
        <p:spPr>
          <a:xfrm>
            <a:off x="6516720" y="4941720"/>
            <a:ext cx="17780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09:44Z</dcterms:created>
  <dc:creator>Sam</dc:creator>
  <dc:description/>
  <dc:language>en-US</dc:language>
  <cp:lastModifiedBy>Admin</cp:lastModifiedBy>
  <dcterms:modified xsi:type="dcterms:W3CDTF">2010-02-20T07:30:57Z</dcterms:modified>
  <cp:revision>62</cp:revision>
  <dc:subject/>
  <dc:title>Слайд 1</dc:title>
</cp:coreProperties>
</file>