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637-5781-43A8-B079-5F875994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4E5-50CF-4C91-A666-6E0D7CC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B16384-EA45-44D1-ABF1-D8897C0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167C3-1F93-49F7-84C7-746F900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70E1C-C829-4863-9F2B-8B590871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A1215-1BF9-47F9-A73E-1AD9992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2800F-9C9E-42A2-B219-2C77F12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7EBFB-D3B9-4698-ACC4-694CF45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82ACC-ABDB-4734-9053-DAB2790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FF999-123D-44BA-BC34-311CC287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1AD26-8393-4DA2-A021-3F28D373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7300-4EBD-4ED2-A07E-5CD78A3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587-187E-4B86-B386-E8298131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829C9-BB45-444A-B98A-B5BB704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F04D7-F5D7-4343-87CD-4F341379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1D8F5-E4AA-4A6B-A895-45124D2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23454-2780-4DC6-85AE-DC94262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2F40-6871-4755-9C1F-ABA121D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285E1-7F40-4829-B71A-03F7F6C9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457F2-D6CE-46DF-8799-09D4BF2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A4603-AF69-4627-9EC5-6ADA8E4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0A0F-3AF7-4942-A099-9CD7BA15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3857A-4195-48A6-9AB7-F0CF97F2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16D-AC5F-4791-9547-ED91EF81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0007-5DB0-46F2-89FB-736A48C4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E69D-EC99-4C6F-B02C-C3BAD75A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6D9CA-A03D-4317-8920-A1684A6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6194-DF8D-43CC-A0E0-C547C9F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4FA3-B5AC-457D-9C46-28B98C6E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68F2C-DA00-4DBC-8780-F91E37A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C5A00-1043-455F-9C16-396511D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BF462-B483-4502-9848-50AE0C9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C44E-7C4A-4D50-9B5A-637C018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BCEE6-F381-4DD6-A058-35A4B54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FA19-2001-4B2E-9BF6-809B3598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D2AC-06E5-42CD-86B5-F6167F0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C7526-79BA-4098-B05E-85BE9A21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06D7D-7BDE-4464-B7AA-AC78D811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DCA8A-870E-49CC-B2E5-AEBA5F7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0AA22-5254-4618-B607-B1E814E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3E971-888C-4642-8038-DA12D26C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28828-7625-4D15-9FC6-BBC40B01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73EFD-ED11-4958-A655-A390E0A4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D8C8A-E8A7-4185-AC68-60400E4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435BB-83AB-493A-8DB8-C0B6642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3F3-D464-404B-95F1-998CF048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192E-D248-47B6-B10D-3F27224A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540FF-454C-43EF-AF3A-8018389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74FFE-1861-411F-A1EA-71B09FF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8DDD-E759-4278-906A-B63A5CF5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A8682-64B7-4078-AB01-764F5008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988-37E9-48D8-BE0C-49A2382C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BCF-2C94-41F9-9613-FD37CC79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2B9-7F23-4A95-88AE-2A85B2CF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3FF4-3A29-4278-AD8A-0995C64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D43E-D73E-4ADA-9550-F3D4652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686-76A5-4140-A131-329CF92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DF0B-A2FA-4B5D-9B50-389B930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C7F-96D1-4A74-B0E3-0E260F0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6A9-5672-4B8E-BFCC-121EEBE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C7BD-CB3A-4CC8-8E6D-6EFE95D7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6E8-0F97-4228-8D9A-0450E6B2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DAC5-188D-45E0-895D-0AB3A755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9E93-D2FA-46A6-ACAD-F47753A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76DB-E028-4F66-B80F-31B79B1F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4637-D114-4603-A03F-F839C066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6C61-29E7-41CC-B747-94533C3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45F-130C-4574-AB49-97C5310A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00B6-3A46-41D7-A494-EC46844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330B-DA89-4443-A30E-07FAF81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E224-D427-415E-8322-9EB137F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C499-EEEF-413C-A4DA-9E95AE0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77D3-B0EB-4D26-91FF-CE1C1F8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DCA9-B83B-48CA-A0D8-6F07E887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3A6C-C063-4463-90E3-4CCA8D52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2F30-F8D5-457F-B3B3-F04BA418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493C-999B-4A59-9448-593834ED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02B8-4DB7-467E-A408-7144228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595-25C2-4E94-B206-8DA68DB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FD21-C74A-4C65-B918-C531780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6221-438E-4F19-8B9D-EFC372C3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C84E-A4F8-4C88-9BBF-4618D698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D5BB-E3BF-4AFB-B459-A349836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576E-0ECA-4DA3-B63D-CE541AE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ED83-D6F3-4B00-89F3-36BB6E9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FE0E-641B-4A19-BE51-A186C5AE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E5D4-87FC-4579-8198-76DC809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2687-479D-4CF0-AE10-448BC236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16E52-EA2F-481C-8812-A3F0A5F5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502-6E37-42EC-B27F-BD53C4A9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05F1-44E8-4A0D-BA22-A467AC9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B059-27B3-4C31-8655-37D1452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AED6-A91F-46B6-96CF-C022CACD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FB83-D608-4E22-87A2-F1FDC50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51E3-EAC5-4611-B472-64F92B1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D64D-7C9B-4A71-950B-A300924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4C41-9169-41D1-9B59-AFD2248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D8F8-0947-4366-A774-DD4ADAB4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BE652-5802-41A1-8959-E706157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D5A3-032F-43B5-A789-302BB708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7FE-CEE1-43E8-AD7D-EC76903E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92B4-5C4E-4D22-BAE2-9E9A0C45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95C1-F988-42CF-97AB-36139904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9403-167E-497E-A5A6-B8A6A3E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BA4AD-C8B6-47E1-90F7-AD6F4BE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02E5-9C5D-4530-9A00-5174A20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E8D7-6F15-43BE-912B-17420B0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D332-6758-4D06-A971-CFBE32D3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B223-341B-4293-8EC3-5B1C2E1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3135-A9B2-4BEF-A476-BA9F6E0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48BD6-9113-49D6-A56D-99075DC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012-7ACE-4696-8ADD-09C8ECE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7A2E-7772-439E-AD66-FDA86541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6A16-43FB-40D9-A12D-71725C16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74D7-7FA6-428B-8A8E-AB1FC559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7C55-9A0C-4AB6-9AFC-F60A4B16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5607D-ACE7-4D68-856E-0245EBF0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67531-D244-4760-AD3A-E880449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A135-A27F-492A-8575-C407E8EA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444E5-CBE4-4D59-A70D-C49EEA7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53036-B6DB-45A2-90B4-D63FE23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BE7A2-96FD-4C3D-90D1-495A189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DF8-36FD-48BF-89D0-D80F417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2196-344B-49F9-9B3C-8291219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CC19-45B7-4169-B4A0-2567BA5A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DD0D-C17F-415B-A99B-D0699CB5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A850-86B9-4820-9A54-672F6306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36CB-0007-4815-A559-4C4640F6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1F77-3A6B-47C9-86A7-BAD92E83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F5E0-1100-4266-8668-7ACBF6FF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C089-429C-476F-9410-DE229FF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1A46-5061-4453-A0D7-E88120D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27B8-08C1-410C-B68D-6380732B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87A-A278-42F0-BF1B-B86B604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563B-D92D-4999-8E51-F8F12EDC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FCF6-D965-40E0-B554-15ACE51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11643-444A-4DEF-AA22-64731799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7207E-55EE-4B63-91C5-5737F913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AFE75-8770-4F4C-A18D-DB11BBC6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61A7-A971-4D08-A05B-459177A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C8A2-4383-4107-B442-8BF45BD5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99C90-BFC0-4E56-BB08-8844F0CF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1C33F-613D-49EC-B7DF-831F977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F3C04-E2E2-425B-89A3-31C77DD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Автофигура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Автофигура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Линия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628-567E-4552-9661-F46D5A793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Группа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36" name="Прямоуг.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Полилиния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Полилиния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Полилиния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Полилиния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Полилиния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Полилиния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Полилиния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Полилиния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Полилиния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Полилиния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Полилиния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Полилиния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Полилиния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Полилиния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F2F-AC65-42F0-8091-BA411AF14E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Группа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93" name="Автофигура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Прямоуг.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Автофигура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Линия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32C-7DD5-44E0-A1C4-02CE4BEBD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3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4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DBFF-266C-43A0-B32A-2A02D1973D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" name="Полилиния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" name="Группа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" name="Полилиния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Полилиния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Полилиния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Полилиния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Полилиния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Полилиния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Полилиния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Полилиния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Полилиния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Полилиния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Полилиния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Полилиния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Полилиния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Полилиния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Полилиния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Полилиния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Полилиния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Полилиния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Полилиния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Полилиния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Полилиния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Полилиния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Полилиния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Полилиния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Полилиния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" name="Группа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" name="Полилиния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Полилиния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" name="Полилиния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" name="Полилиния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" name="Полилиния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" name="Полилиния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" name="Полилиния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" name="Полилиния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" name="Полилиния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" name="Полилиния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" name="Полилиния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" name="Полилиния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Полилиния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Полилиния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Полилиния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9" name="Группа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" name="Полилиния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Полилиния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" name="Группа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" name="Полилиния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" name="Полилиния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" name="Полилиния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" name="Полилиния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" name="Полилиния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Полилиния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Полилиния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Полилиния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Полилиния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" name="Полилиния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Полилиния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Полилиния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Полилиния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Полилиния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Полилиния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Полилиния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Полилиния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7E30-01DA-47F8-BEA3-2E259243AA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FE0-5F24-4C48-94AA-4440A7920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Группа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3" name="Прямоуг.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Полилиния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Полилиния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Полилиния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Полилиния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Полилиния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Полилиния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Полилиния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Полилиния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Полилиния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Полилиния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Полилиния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Полилиния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Полилиния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Полилиния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C49-2210-4D2F-9085-7AEC7EB2B5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50" name="Автофигура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Автофигура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Линия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984C-28A6-4B76-A1E1-8C8FDB7B0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5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6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8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9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C67E-ADED-4D9C-9004-E6F2DF3D18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43" name="Линия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Автофигура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Автофигура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785-0047-464E-B0C0-3DB0B779F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Группа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88" name="Полилиния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9" name="Группа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90" name="Полилиния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Полилиния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Полилиния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Полилиния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Полилиния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Полилиния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Полилиния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Полилиния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Полилиния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Полилиния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Полилиния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Полилиния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Полилиния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Полилиния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Полилиния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Полилиния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Полилиния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Полилиния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Полилиния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Полилиния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Полилиния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Полилиния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Полилиния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Полилиния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Полилиния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5" name="Группа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16" name="Полилиния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7" name="Полилиния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8" name="Полилиния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9" name="Полилиния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0" name="Полилиния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1" name="Полилиния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Полилиния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3" name="Полилиния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Полилиния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Полилиния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Полилиния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Полилиния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Полилиния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Полилиния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0" name="Полилиния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1" name="Группа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32" name="Полилиния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3" name="Полилиния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4" name="Группа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35" name="Полилиния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Полилиния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Полилиния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Полилиния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Полилиния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Полилиния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Полилиния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2" name="Полилиния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3" name="Полилиния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4" name="Полилиния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5" name="Полилиния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6" name="Полилиния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7" name="Полилиния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8" name="Полилиния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9" name="Полилиния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Полилиния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Полилиния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C3A-936F-457F-876C-801E41CB2A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олилиния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6FEF-1429-4917-8FD5-BE323E9C3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72388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Объект WordArt 3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Прямоуг. 4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Объект WordArt 5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Прямоуг. 6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Объект WordArt 7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Прямоуг. 8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Объект WordArt 9"/>
          <p:cNvSpPr txBox="1"/>
          <p:nvPr/>
        </p:nvSpPr>
        <p:spPr>
          <a:xfrm>
            <a:off x="1979640" y="90792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остейшие уравнения вид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         ,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&gt;0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определению моду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вет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9;2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Прямоуг.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Объект 4"/>
              <p:cNvSpPr txBox="1"/>
              <p:nvPr/>
            </p:nvSpPr>
            <p:spPr>
              <a:xfrm>
                <a:off x="1841400" y="2276640"/>
                <a:ext cx="5461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Прямоуг. 7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Прямоуг. 9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Рисунок 13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767" name="Прямоуг.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Объект 14"/>
              <p:cNvSpPr txBox="1"/>
              <p:nvPr/>
            </p:nvSpPr>
            <p:spPr>
              <a:xfrm>
                <a:off x="1476360" y="3860640"/>
                <a:ext cx="6049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Прямоуг.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Прямоуг.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Объект 18"/>
              <p:cNvSpPr txBox="1"/>
              <p:nvPr/>
            </p:nvSpPr>
            <p:spPr>
              <a:xfrm>
                <a:off x="1476360" y="4724280"/>
                <a:ext cx="51116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2" name="Рисунок 20" descr="MCj03519650000[1]"/>
          <p:cNvPicPr/>
          <p:nvPr/>
        </p:nvPicPr>
        <p:blipFill>
          <a:blip r:embed="rId2"/>
          <a:stretch/>
        </p:blipFill>
        <p:spPr>
          <a:xfrm>
            <a:off x="6851520" y="5157720"/>
            <a:ext cx="1814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равнения более общего вид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ов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Объект 4"/>
              <p:cNvSpPr txBox="1"/>
              <p:nvPr/>
            </p:nvSpPr>
            <p:spPr>
              <a:xfrm>
                <a:off x="103320" y="4365720"/>
                <a:ext cx="89373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7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Объект 8"/>
              <p:cNvSpPr txBox="1"/>
              <p:nvPr/>
            </p:nvSpPr>
            <p:spPr>
              <a:xfrm>
                <a:off x="361800" y="2637000"/>
                <a:ext cx="84902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9" name="Рисунок 10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576360"/>
          </a:xfrm>
          <a:prstGeom prst="rect">
            <a:avLst/>
          </a:prstGeom>
          <a:ln w="0">
            <a:noFill/>
          </a:ln>
        </p:spPr>
      </p:pic>
      <p:pic>
        <p:nvPicPr>
          <p:cNvPr id="780" name="Рисунок 11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1223640" cy="433080"/>
          </a:xfrm>
          <a:prstGeom prst="rect">
            <a:avLst/>
          </a:prstGeom>
          <a:ln w="0">
            <a:noFill/>
          </a:ln>
        </p:spPr>
      </p:pic>
      <p:pic>
        <p:nvPicPr>
          <p:cNvPr id="781" name="Рисунок 12" descr="MCj04326650000[1]"/>
          <p:cNvPicPr/>
          <p:nvPr/>
        </p:nvPicPr>
        <p:blipFill>
          <a:blip r:embed="rId3"/>
          <a:stretch/>
        </p:blipFill>
        <p:spPr>
          <a:xfrm>
            <a:off x="7236000" y="141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 вида </a:t>
            </a:r>
            <a:br>
              <a:rPr sz="2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5" name="Рисунок 6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2089080" cy="648000"/>
          </a:xfrm>
          <a:prstGeom prst="rect">
            <a:avLst/>
          </a:prstGeom>
          <a:ln w="0">
            <a:noFill/>
          </a:ln>
        </p:spPr>
      </p:pic>
      <p:sp>
        <p:nvSpPr>
          <p:cNvPr id="786" name="Прямоуг.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Объект 7"/>
              <p:cNvSpPr txBox="1"/>
              <p:nvPr/>
            </p:nvSpPr>
            <p:spPr>
              <a:xfrm>
                <a:off x="87480" y="2637000"/>
                <a:ext cx="8967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⇔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Прямоуг. 10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Прямоуг. 12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Объект 11"/>
              <p:cNvSpPr txBox="1"/>
              <p:nvPr/>
            </p:nvSpPr>
            <p:spPr>
              <a:xfrm>
                <a:off x="1055520" y="3860640"/>
                <a:ext cx="667080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1" name="Рисунок 13" descr="MCj03519650000[1]"/>
          <p:cNvPicPr/>
          <p:nvPr/>
        </p:nvPicPr>
        <p:blipFill>
          <a:blip r:embed="rId2"/>
          <a:stretch/>
        </p:blipFill>
        <p:spPr>
          <a:xfrm>
            <a:off x="7066080" y="5214960"/>
            <a:ext cx="1814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, приводимые к уравнениям, содержащим модуль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ррациональное урав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Объект 4"/>
              <p:cNvSpPr txBox="1"/>
              <p:nvPr/>
            </p:nvSpPr>
            <p:spPr>
              <a:xfrm>
                <a:off x="369720" y="2781360"/>
                <a:ext cx="840456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96" name="Рисунок 6" descr="MCj03519650000[1]"/>
          <p:cNvPicPr/>
          <p:nvPr/>
        </p:nvPicPr>
        <p:blipFill>
          <a:blip r:embed="rId1"/>
          <a:stretch/>
        </p:blipFill>
        <p:spPr>
          <a:xfrm>
            <a:off x="7165800" y="5200560"/>
            <a:ext cx="1814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, приводимые к уравнениям, содержащим модул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гарифмическое уравн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Объект 4"/>
              <p:cNvSpPr txBox="1"/>
              <p:nvPr/>
            </p:nvSpPr>
            <p:spPr>
              <a:xfrm>
                <a:off x="795240" y="1844640"/>
                <a:ext cx="7912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⇔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Прямоуг. 7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Объект 6"/>
              <p:cNvSpPr txBox="1"/>
              <p:nvPr/>
            </p:nvSpPr>
            <p:spPr>
              <a:xfrm>
                <a:off x="399960" y="2924280"/>
                <a:ext cx="859320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03" name="Рисунок 8" descr="MCj03519650000[1]"/>
          <p:cNvPicPr/>
          <p:nvPr/>
        </p:nvPicPr>
        <p:blipFill>
          <a:blip r:embed="rId1"/>
          <a:stretch/>
        </p:blipFill>
        <p:spPr>
          <a:xfrm>
            <a:off x="6516720" y="5300640"/>
            <a:ext cx="1814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ррациональные уравнения, содержащие модуль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лу того, ч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одул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скрывается однозначно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Прямоуг. 4"/>
          <p:cNvSpPr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Прямоуг.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8" name="Объект 5"/>
          <p:cNvGraphicFramePr/>
          <p:nvPr/>
        </p:nvGraphicFramePr>
        <p:xfrm>
          <a:off x="250920" y="2852640"/>
          <a:ext cx="889308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893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Прямоуг. 7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2" name="Объект 8"/>
          <p:cNvGraphicFramePr/>
          <p:nvPr/>
        </p:nvGraphicFramePr>
        <p:xfrm>
          <a:off x="3780000" y="1773360"/>
          <a:ext cx="9363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773360"/>
                    <a:ext cx="93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Прямоуг. 10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Прямоуг.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6" name="Объект 11"/>
          <p:cNvGraphicFramePr/>
          <p:nvPr/>
        </p:nvGraphicFramePr>
        <p:xfrm>
          <a:off x="5724360" y="1773360"/>
          <a:ext cx="64800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7" name="Объект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773360"/>
                    <a:ext cx="648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Прямоуг. 13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1" name="Объект 4"/>
          <p:cNvGraphicFramePr/>
          <p:nvPr/>
        </p:nvGraphicFramePr>
        <p:xfrm>
          <a:off x="0" y="517680"/>
          <a:ext cx="914400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7680"/>
                    <a:ext cx="91440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Прямоуг. 6"/>
          <p:cNvSpPr/>
          <p:nvPr/>
        </p:nvSpPr>
        <p:spPr>
          <a:xfrm>
            <a:off x="0" y="42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Рисунок 8" descr="MCj03519650000[1]"/>
          <p:cNvPicPr/>
          <p:nvPr/>
        </p:nvPicPr>
        <p:blipFill>
          <a:blip r:embed="rId3"/>
          <a:stretch/>
        </p:blipFill>
        <p:spPr>
          <a:xfrm>
            <a:off x="6908760" y="5129280"/>
            <a:ext cx="18144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ррациональные уравнения, содержащие модуль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илу того, что           модуль          раскрывается двузнач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: -4,5; -0,75;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Объект 4"/>
              <p:cNvSpPr txBox="1"/>
              <p:nvPr/>
            </p:nvSpPr>
            <p:spPr>
              <a:xfrm>
                <a:off x="3995640" y="1844640"/>
                <a:ext cx="7365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Объект 6"/>
              <p:cNvSpPr txBox="1"/>
              <p:nvPr/>
            </p:nvSpPr>
            <p:spPr>
              <a:xfrm>
                <a:off x="5940360" y="1773360"/>
                <a:ext cx="719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31" name="Рисунок 13" descr="MCj04379900000[1]"/>
          <p:cNvPicPr/>
          <p:nvPr/>
        </p:nvPicPr>
        <p:blipFill>
          <a:blip r:embed="rId1"/>
          <a:stretch/>
        </p:blipFill>
        <p:spPr>
          <a:xfrm>
            <a:off x="5435640" y="3860640"/>
            <a:ext cx="1816200" cy="173052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14" descr="MCj04355460000[1]"/>
          <p:cNvPicPr/>
          <p:nvPr/>
        </p:nvPicPr>
        <p:blipFill>
          <a:blip r:embed="rId2"/>
          <a:stretch/>
        </p:blipFill>
        <p:spPr>
          <a:xfrm>
            <a:off x="2050920" y="4508640"/>
            <a:ext cx="1771920" cy="106668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16" descr="MCj04355460000[1]"/>
          <p:cNvPicPr/>
          <p:nvPr/>
        </p:nvPicPr>
        <p:blipFill>
          <a:blip r:embed="rId3"/>
          <a:stretch/>
        </p:blipFill>
        <p:spPr>
          <a:xfrm>
            <a:off x="2050920" y="4508640"/>
            <a:ext cx="1771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мена модул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Объект 4"/>
              <p:cNvSpPr txBox="1"/>
              <p:nvPr/>
            </p:nvSpPr>
            <p:spPr>
              <a:xfrm>
                <a:off x="276120" y="1944720"/>
                <a:ext cx="8778960" cy="386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37" name="Рисунок 6" descr="MCj04348100000[1]"/>
          <p:cNvPicPr/>
          <p:nvPr/>
        </p:nvPicPr>
        <p:blipFill>
          <a:blip r:embed="rId1"/>
          <a:stretch/>
        </p:blipFill>
        <p:spPr>
          <a:xfrm>
            <a:off x="6772320" y="4829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равнения, содержащие несколько модулей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( Решаемые с помощью метода интервалов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Найдём значения х, при которых значения выражений, стоящих под знаком модуля, равны 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 -1 = 0 при х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 – 2=0 при х =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Эти значения разбивают ОДЗ на промежутк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Запишем на каждом из промежутков данное уравнение без знаков моду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им совокупность сист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Объект 4"/>
              <p:cNvSpPr txBox="1"/>
              <p:nvPr/>
            </p:nvSpPr>
            <p:spPr>
              <a:xfrm>
                <a:off x="1908000" y="4149720"/>
                <a:ext cx="4969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Объект 6"/>
              <p:cNvSpPr txBox="1"/>
              <p:nvPr/>
            </p:nvSpPr>
            <p:spPr>
              <a:xfrm>
                <a:off x="3203640" y="1773360"/>
                <a:ext cx="309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4" name="Рисунок 8" descr="MCj04326450000[1]"/>
          <p:cNvPicPr/>
          <p:nvPr/>
        </p:nvPicPr>
        <p:blipFill>
          <a:blip r:embed="rId1"/>
          <a:stretch/>
        </p:blipFill>
        <p:spPr>
          <a:xfrm>
            <a:off x="6729480" y="51004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Вид урока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: урок – проект.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       Тип урока: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обобщение и систематизация знаний с элементами исследования и организации проектной деятельности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8172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Цели  урока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разовательны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бобщить и систематизировать знания учащихся о модуле и его свойствах; умения решать различные уравнения, содержащие модуль и уравнения, приводимые к уравнениям, содержащим модул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звивать творческую и мыслительную деятельность учащихся, навыки проектно-исследовательской деятельности, способствовать формированию навыков коллективной работы, развивать умение чётко и ясно излагать свои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формирование интереса к предмету посредством вовлечения их в проектную деятельность, способствовать формированию навыков взаимодействия в малых групп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е, содержащее несколько модулей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 интерва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Объект 4"/>
              <p:cNvSpPr txBox="1"/>
              <p:nvPr/>
            </p:nvSpPr>
            <p:spPr>
              <a:xfrm>
                <a:off x="304920" y="2205000"/>
                <a:ext cx="88390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</m:e>
                          <m:e/>
                        </m:eqAr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49" name="Рисунок 6" descr="MCj04326650000[1]"/>
          <p:cNvPicPr/>
          <p:nvPr/>
        </p:nvPicPr>
        <p:blipFill>
          <a:blip r:embed="rId1"/>
          <a:stretch/>
        </p:blipFill>
        <p:spPr>
          <a:xfrm>
            <a:off x="3564000" y="49417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Объект WordArt 4"/>
          <p:cNvSpPr txBox="1"/>
          <p:nvPr/>
        </p:nvSpPr>
        <p:spPr>
          <a:xfrm>
            <a:off x="1116000" y="242100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айды    из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ащих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1" name="Рисунок 9" descr="MCj04379900000[1]"/>
          <p:cNvPicPr/>
          <p:nvPr/>
        </p:nvPicPr>
        <p:blipFill>
          <a:blip r:embed="rId1"/>
          <a:stretch/>
        </p:blipFill>
        <p:spPr>
          <a:xfrm>
            <a:off x="4124160" y="189000"/>
            <a:ext cx="2032200" cy="158436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12" descr="MCj04355460000[1]"/>
          <p:cNvPicPr/>
          <p:nvPr/>
        </p:nvPicPr>
        <p:blipFill>
          <a:blip r:embed="rId2"/>
          <a:stretch/>
        </p:blipFill>
        <p:spPr>
          <a:xfrm>
            <a:off x="7093080" y="476280"/>
            <a:ext cx="1771560" cy="1066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1.Простейшее уравнение,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содержащее модуль, где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b&gt;0: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.Уравнение более общего вида,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                               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содержащее модуль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4" name="Прямоуг.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Прямоуг.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Объект 7"/>
              <p:cNvSpPr txBox="1"/>
              <p:nvPr/>
            </p:nvSpPr>
            <p:spPr>
              <a:xfrm>
                <a:off x="2484360" y="4149720"/>
                <a:ext cx="597708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Прямоуг.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Объект 9"/>
              <p:cNvSpPr txBox="1"/>
              <p:nvPr/>
            </p:nvSpPr>
            <p:spPr>
              <a:xfrm>
                <a:off x="1835280" y="1628640"/>
                <a:ext cx="5832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9" name="Рисунок 14" descr="MCj04134600000[1]"/>
          <p:cNvPicPr/>
          <p:nvPr/>
        </p:nvPicPr>
        <p:blipFill>
          <a:blip r:embed="rId1"/>
          <a:stretch/>
        </p:blipFill>
        <p:spPr>
          <a:xfrm>
            <a:off x="0" y="4503600"/>
            <a:ext cx="2219400" cy="2354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авнение ви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По определению модуля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Объект 4"/>
              <p:cNvSpPr txBox="1"/>
              <p:nvPr/>
            </p:nvSpPr>
            <p:spPr>
              <a:xfrm>
                <a:off x="1979640" y="2565360"/>
                <a:ext cx="590544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4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Объект 6"/>
              <p:cNvSpPr txBox="1"/>
              <p:nvPr/>
            </p:nvSpPr>
            <p:spPr>
              <a:xfrm>
                <a:off x="5364000" y="549360"/>
                <a:ext cx="2448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6" name="Рисунок 8" descr="MCj03701400000[1]"/>
          <p:cNvPicPr/>
          <p:nvPr/>
        </p:nvPicPr>
        <p:blipFill>
          <a:blip r:embed="rId1"/>
          <a:stretch/>
        </p:blipFill>
        <p:spPr>
          <a:xfrm>
            <a:off x="324000" y="4581360"/>
            <a:ext cx="1739880" cy="18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   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Уравнения, приводимые к уравнениям, содержащим модуль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Прямоуг.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Объект 4"/>
              <p:cNvSpPr txBox="1"/>
              <p:nvPr/>
            </p:nvSpPr>
            <p:spPr>
              <a:xfrm>
                <a:off x="2195640" y="2349360"/>
                <a:ext cx="5329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Прямоуг.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Прямоуг.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Объект 8"/>
              <p:cNvSpPr txBox="1"/>
              <p:nvPr/>
            </p:nvSpPr>
            <p:spPr>
              <a:xfrm>
                <a:off x="324000" y="4292640"/>
                <a:ext cx="8569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4" name="Рисунок 11" descr="MCj03701260000[1]"/>
          <p:cNvPicPr/>
          <p:nvPr/>
        </p:nvPicPr>
        <p:blipFill>
          <a:blip r:embed="rId1"/>
          <a:stretch/>
        </p:blipFill>
        <p:spPr>
          <a:xfrm>
            <a:off x="684360" y="2349360"/>
            <a:ext cx="1430280" cy="1965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3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Поле 4"/>
          <p:cNvSpPr/>
          <p:nvPr/>
        </p:nvSpPr>
        <p:spPr>
          <a:xfrm>
            <a:off x="2824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Прямоуг. 8"/>
          <p:cNvSpPr/>
          <p:nvPr/>
        </p:nvSpPr>
        <p:spPr>
          <a:xfrm>
            <a:off x="755640" y="1477080"/>
            <a:ext cx="8137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авнения, содержащие несколько модул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е, которые не сводятся к виду 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│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 решаются с помощью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тода интервал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Найдём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 которых значение выражений, стоящих под знаком модуля, равны ну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Найденные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бивают ОДЗ на промеж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Запишем на каждом из промежутков уравнение без знаков модуля. Получим совокупность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Прямоуг. 9"/>
          <p:cNvSpPr/>
          <p:nvPr/>
        </p:nvSpPr>
        <p:spPr>
          <a:xfrm>
            <a:off x="1042920" y="4329720"/>
            <a:ext cx="57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8" name="Рисунок 14" descr="MCj04376990000[1]"/>
          <p:cNvPicPr/>
          <p:nvPr/>
        </p:nvPicPr>
        <p:blipFill>
          <a:blip r:embed="rId1"/>
          <a:stretch/>
        </p:blipFill>
        <p:spPr>
          <a:xfrm>
            <a:off x="7524720" y="4724280"/>
            <a:ext cx="1454040" cy="19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сего доброго, Вам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Объект WordArt 4"/>
          <p:cNvSpPr txBox="1"/>
          <p:nvPr/>
        </p:nvSpPr>
        <p:spPr>
          <a:xfrm>
            <a:off x="539640" y="150336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1" name="Рисунок 5" descr="MCj02341600000[1]"/>
          <p:cNvPicPr/>
          <p:nvPr/>
        </p:nvPicPr>
        <p:blipFill>
          <a:blip r:embed="rId1"/>
          <a:stretch/>
        </p:blipFill>
        <p:spPr>
          <a:xfrm>
            <a:off x="2484360" y="3716280"/>
            <a:ext cx="2035080" cy="1922400"/>
          </a:xfrm>
          <a:prstGeom prst="rect">
            <a:avLst/>
          </a:prstGeom>
          <a:ln w="0">
            <a:noFill/>
          </a:ln>
        </p:spPr>
      </p:pic>
      <p:sp>
        <p:nvSpPr>
          <p:cNvPr id="882" name="Объект WordArt 6"/>
          <p:cNvSpPr txBox="1"/>
          <p:nvPr/>
        </p:nvSpPr>
        <p:spPr>
          <a:xfrm>
            <a:off x="539640" y="148428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Объект WordArt 7"/>
          <p:cNvSpPr txBox="1"/>
          <p:nvPr/>
        </p:nvSpPr>
        <p:spPr>
          <a:xfrm>
            <a:off x="539640" y="148428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8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Объект WordArt 2"/>
          <p:cNvSpPr txBox="1"/>
          <p:nvPr/>
        </p:nvSpPr>
        <p:spPr>
          <a:xfrm>
            <a:off x="1908000" y="9079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Объект WordArt 3"/>
          <p:cNvSpPr txBox="1"/>
          <p:nvPr/>
        </p:nvSpPr>
        <p:spPr>
          <a:xfrm>
            <a:off x="684360" y="1773360"/>
            <a:ext cx="79200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специальн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ованный учител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самостоятельно выполняемы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мис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лекс действий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ершающихся создан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ого продукт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3137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ение модул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Объект 7"/>
              <p:cNvSpPr txBox="1"/>
              <p:nvPr/>
            </p:nvSpPr>
            <p:spPr>
              <a:xfrm>
                <a:off x="6261120" y="2692440"/>
                <a:ext cx="126360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Объект 13"/>
              <p:cNvSpPr txBox="1"/>
              <p:nvPr/>
            </p:nvSpPr>
            <p:spPr>
              <a:xfrm>
                <a:off x="0" y="0"/>
                <a:ext cx="914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Объект 10"/>
              <p:cNvSpPr txBox="1"/>
              <p:nvPr/>
            </p:nvSpPr>
            <p:spPr>
              <a:xfrm>
                <a:off x="0" y="10857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1" name="Прямоуг.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Прямоуг. 15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Прямоуг. 16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. 17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Объект 21"/>
              <p:cNvSpPr txBox="1"/>
              <p:nvPr/>
            </p:nvSpPr>
            <p:spPr>
              <a:xfrm>
                <a:off x="0" y="277668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Объект 18"/>
              <p:cNvSpPr txBox="1"/>
              <p:nvPr/>
            </p:nvSpPr>
            <p:spPr>
              <a:xfrm>
                <a:off x="0" y="386244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7" name="Прямоуг. 22"/>
          <p:cNvSpPr/>
          <p:nvPr/>
        </p:nvSpPr>
        <p:spPr>
          <a:xfrm flipV="1">
            <a:off x="971640" y="25650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Прямоуг. 23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Прямоуг. 24"/>
          <p:cNvSpPr/>
          <p:nvPr/>
        </p:nvSpPr>
        <p:spPr>
          <a:xfrm>
            <a:off x="0" y="34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Прямоуг. 25"/>
          <p:cNvSpPr/>
          <p:nvPr/>
        </p:nvSpPr>
        <p:spPr>
          <a:xfrm>
            <a:off x="0" y="38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Прямоуг. 27"/>
          <p:cNvSpPr/>
          <p:nvPr/>
        </p:nvSpPr>
        <p:spPr>
          <a:xfrm>
            <a:off x="0" y="3944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оуг.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Прямоуг.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Прямоуг. 3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Объект 32"/>
              <p:cNvSpPr txBox="1"/>
              <p:nvPr/>
            </p:nvSpPr>
            <p:spPr>
              <a:xfrm>
                <a:off x="4859280" y="1484280"/>
                <a:ext cx="331308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6" name="Прямоуг. 3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Объект 34"/>
              <p:cNvSpPr txBox="1"/>
              <p:nvPr/>
            </p:nvSpPr>
            <p:spPr>
              <a:xfrm>
                <a:off x="4898880" y="0"/>
                <a:ext cx="39546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а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18" name="Рисунок 36" descr="j0299125"/>
          <p:cNvPicPr/>
          <p:nvPr/>
        </p:nvPicPr>
        <p:blipFill>
          <a:blip r:embed="rId1"/>
          <a:stretch/>
        </p:blipFill>
        <p:spPr>
          <a:xfrm>
            <a:off x="1979640" y="371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еометрический смысл моду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еометрически      есть расстояние от точки х числовой оси до начала отсчёта – точки 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ть расстояние между  точками х и а числовой ос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Объект 4"/>
              <p:cNvSpPr txBox="1"/>
              <p:nvPr/>
            </p:nvSpPr>
            <p:spPr>
              <a:xfrm>
                <a:off x="4716360" y="1628640"/>
                <a:ext cx="647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3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Объект 6"/>
              <p:cNvSpPr txBox="1"/>
              <p:nvPr/>
            </p:nvSpPr>
            <p:spPr>
              <a:xfrm>
                <a:off x="1692360" y="4221000"/>
                <a:ext cx="1150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5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Прямоуг.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Прямоуг.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Прямоуг.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Объект 14"/>
              <p:cNvSpPr txBox="1"/>
              <p:nvPr/>
            </p:nvSpPr>
            <p:spPr>
              <a:xfrm>
                <a:off x="3059280" y="5516640"/>
                <a:ext cx="273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Прямоуг.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Объект 16"/>
              <p:cNvSpPr txBox="1"/>
              <p:nvPr/>
            </p:nvSpPr>
            <p:spPr>
              <a:xfrm>
                <a:off x="5867280" y="3068640"/>
                <a:ext cx="19447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Прямоуг.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Прямоуг.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Объект 20"/>
              <p:cNvSpPr txBox="1"/>
              <p:nvPr/>
            </p:nvSpPr>
            <p:spPr>
              <a:xfrm>
                <a:off x="6156360" y="5445000"/>
                <a:ext cx="237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Прямоуг.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Объект 22"/>
              <p:cNvSpPr txBox="1"/>
              <p:nvPr/>
            </p:nvSpPr>
            <p:spPr>
              <a:xfrm>
                <a:off x="2268360" y="3141720"/>
                <a:ext cx="24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Прямоуг.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Прямоуг.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Прямоуг.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Прямоуг.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Объект 30"/>
              <p:cNvSpPr txBox="1"/>
              <p:nvPr/>
            </p:nvSpPr>
            <p:spPr>
              <a:xfrm>
                <a:off x="468360" y="5516640"/>
                <a:ext cx="2374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2" name="Рисунок 36" descr="MCj02979470000[1]"/>
          <p:cNvPicPr/>
          <p:nvPr/>
        </p:nvPicPr>
        <p:blipFill>
          <a:blip r:embed="rId1"/>
          <a:stretch/>
        </p:blipFill>
        <p:spPr>
          <a:xfrm>
            <a:off x="7410600" y="4149720"/>
            <a:ext cx="1733400" cy="12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Объект 4"/>
              <p:cNvSpPr txBox="1"/>
              <p:nvPr/>
            </p:nvSpPr>
            <p:spPr>
              <a:xfrm>
                <a:off x="611280" y="1844640"/>
                <a:ext cx="379080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Прямоуг.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Объект 7"/>
              <p:cNvSpPr txBox="1"/>
              <p:nvPr/>
            </p:nvSpPr>
            <p:spPr>
              <a:xfrm>
                <a:off x="4859280" y="1628640"/>
                <a:ext cx="337500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7" name="Рисунок 9" descr="j0301252"/>
          <p:cNvPicPr/>
          <p:nvPr/>
        </p:nvPicPr>
        <p:blipFill>
          <a:blip r:embed="rId1"/>
          <a:stretch/>
        </p:blipFill>
        <p:spPr>
          <a:xfrm>
            <a:off x="6443640" y="1890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313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Решите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равнени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Объект 4"/>
              <p:cNvSpPr txBox="1"/>
              <p:nvPr/>
            </p:nvSpPr>
            <p:spPr>
              <a:xfrm>
                <a:off x="1403280" y="476280"/>
                <a:ext cx="4469040" cy="638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rad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1" name="Рисунок 6" descr="j0217698"/>
          <p:cNvPicPr/>
          <p:nvPr/>
        </p:nvPicPr>
        <p:blipFill>
          <a:blip r:embed="rId1"/>
          <a:stretch/>
        </p:blipFill>
        <p:spPr>
          <a:xfrm>
            <a:off x="6516720" y="260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7" descr="MCj04326650000[1]"/>
          <p:cNvPicPr/>
          <p:nvPr/>
        </p:nvPicPr>
        <p:blipFill>
          <a:blip r:embed="rId2"/>
          <a:stretch/>
        </p:blipFill>
        <p:spPr>
          <a:xfrm>
            <a:off x="7020000" y="486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струкция по работе над проектом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Решить уравн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Проанализировать способы решени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Провести классификацию данных уравнений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)  сгруппировать примеры по способам реш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)  определить, в  чём заключается общий вид уравнений в каждой групп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)  дать название каждой группе уравн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Создать проект таблицы: « Решение уравнений, содержащих модуль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Подготовить защиту проек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Рисунок 4" descr="j0299125"/>
          <p:cNvPicPr/>
          <p:nvPr/>
        </p:nvPicPr>
        <p:blipFill>
          <a:blip r:embed="rId1"/>
          <a:stretch/>
        </p:blipFill>
        <p:spPr>
          <a:xfrm>
            <a:off x="7651800" y="46562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щита проектов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Оценочный лис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-баль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ет докладчик терминологией, которую использует в своём проек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ог докладчик проекта доказать, что разработанная группой структура самая оптимальная для решения поставленной за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ли группа все поставленные перед ней за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ворческие способности доклад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формление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Рисунок 4" descr="j0292020"/>
          <p:cNvPicPr/>
          <p:nvPr/>
        </p:nvPicPr>
        <p:blipFill>
          <a:blip r:embed="rId1"/>
          <a:stretch/>
        </p:blipFill>
        <p:spPr>
          <a:xfrm>
            <a:off x="6372360" y="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759" name="Рисунок 6" descr="MCj04303700000[1]"/>
          <p:cNvPicPr/>
          <p:nvPr/>
        </p:nvPicPr>
        <p:blipFill>
          <a:blip r:embed="rId2"/>
          <a:stretch/>
        </p:blipFill>
        <p:spPr>
          <a:xfrm>
            <a:off x="6516720" y="4941720"/>
            <a:ext cx="17780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09:44Z</dcterms:created>
  <dc:creator>Sam</dc:creator>
  <dc:description/>
  <dc:language>en-US</dc:language>
  <cp:lastModifiedBy>Admin</cp:lastModifiedBy>
  <dcterms:modified xsi:type="dcterms:W3CDTF">2010-02-20T07:30:57Z</dcterms:modified>
  <cp:revision>62</cp:revision>
  <dc:subject/>
  <dc:title>Слайд 1</dc:title>
</cp:coreProperties>
</file>