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5.png" ContentType="image/png"/>
  <Override PartName="/ppt/media/image14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CD58-3A9D-482C-BB25-E0674335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13FD-CD01-41E3-96B7-7A1242C4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C2BE-C672-4C0B-959A-37DBC189D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A093-7DC0-47E5-AA3D-A1BA538A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5703-A7FC-4D58-BE92-6D008CC1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13C6-47DC-403E-8BA1-CA7619FC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5DC7-0BD4-4C23-9B3F-54E8D73A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A0FC-ADCB-4A4E-AD14-70552F58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FEDE-4BE5-458D-9164-979B097A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DC5B-DCEB-4BCF-BA46-8B2C339F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1A83-0354-471A-A169-4B259545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BBF3-919A-4D40-B1CC-F92F114A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8F3E-5393-4DE0-8B31-251C715D9A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следовательская работа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Парабола и параболические антенн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2920" y="1700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и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нералов Сте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к 10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сногородской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: Минен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алья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1"/>
          <a:stretch/>
        </p:blipFill>
        <p:spPr>
          <a:xfrm>
            <a:off x="324000" y="2637000"/>
            <a:ext cx="352872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4"/>
          <p:cNvGraphicFramePr/>
          <p:nvPr/>
        </p:nvGraphicFramePr>
        <p:xfrm>
          <a:off x="60480" y="54000"/>
          <a:ext cx="9059760" cy="674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" y="54000"/>
                    <a:ext cx="9059760" cy="67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5"/>
          <p:cNvGraphicFramePr/>
          <p:nvPr/>
        </p:nvGraphicFramePr>
        <p:xfrm>
          <a:off x="0" y="648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8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250920" y="620640"/>
          <a:ext cx="871380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620640"/>
                    <a:ext cx="87138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476360" y="404640"/>
            <a:ext cx="591516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EtudesRu_radio_small (03).wmv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669600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132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30" descr=""/>
          <p:cNvPicPr/>
          <p:nvPr/>
        </p:nvPicPr>
        <p:blipFill>
          <a:blip r:embed="rId1"/>
          <a:stretch/>
        </p:blipFill>
        <p:spPr>
          <a:xfrm>
            <a:off x="1116000" y="39600"/>
            <a:ext cx="684072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029" descr="full"/>
          <p:cNvPicPr/>
          <p:nvPr/>
        </p:nvPicPr>
        <p:blipFill>
          <a:blip r:embed="rId1"/>
          <a:stretch/>
        </p:blipFill>
        <p:spPr>
          <a:xfrm>
            <a:off x="204948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4"/>
          <p:cNvGraphicFramePr/>
          <p:nvPr/>
        </p:nvGraphicFramePr>
        <p:xfrm>
          <a:off x="0" y="476280"/>
          <a:ext cx="9144000" cy="582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76280"/>
                    <a:ext cx="914400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prt64"/>
          <p:cNvPicPr/>
          <p:nvPr/>
        </p:nvPicPr>
        <p:blipFill>
          <a:blip r:embed="rId1"/>
          <a:stretch/>
        </p:blipFill>
        <p:spPr>
          <a:xfrm>
            <a:off x="1835280" y="0"/>
            <a:ext cx="564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ast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82000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picture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1666800" y="0"/>
          <a:ext cx="60134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0" y="0"/>
                    <a:ext cx="60134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EtudesRu_radio_small (02).wmv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69120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88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5"/>
          <p:cNvGraphicFramePr/>
          <p:nvPr/>
        </p:nvGraphicFramePr>
        <p:xfrm>
          <a:off x="971640" y="404640"/>
          <a:ext cx="7200720" cy="604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404640"/>
                    <a:ext cx="7200720" cy="604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3" descr=""/>
          <p:cNvPicPr/>
          <p:nvPr/>
        </p:nvPicPr>
        <p:blipFill>
          <a:blip r:embed="rId1"/>
          <a:stretch/>
        </p:blipFill>
        <p:spPr>
          <a:xfrm>
            <a:off x="7093080" y="1916280"/>
            <a:ext cx="1666800" cy="809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6566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705636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5"/>
          <p:cNvGraphicFramePr/>
          <p:nvPr/>
        </p:nvGraphicFramePr>
        <p:xfrm>
          <a:off x="1258920" y="476280"/>
          <a:ext cx="6697800" cy="56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76280"/>
                    <a:ext cx="66978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5"/>
          <p:cNvGraphicFramePr/>
          <p:nvPr/>
        </p:nvGraphicFramePr>
        <p:xfrm>
          <a:off x="611280" y="549360"/>
          <a:ext cx="7705800" cy="561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549360"/>
                    <a:ext cx="7705800" cy="56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25:42Z</dcterms:created>
  <dc:creator>Степан</dc:creator>
  <dc:description/>
  <dc:language>en-US</dc:language>
  <cp:lastModifiedBy>Пользователь</cp:lastModifiedBy>
  <dcterms:modified xsi:type="dcterms:W3CDTF">2013-07-18T21:14:24Z</dcterms:modified>
  <cp:revision>28</cp:revision>
  <dc:subject/>
  <dc:title>Парабола y=ax2+bx+c</dc:title>
</cp:coreProperties>
</file>