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4D0-9146-4425-8F27-E57B068A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5F7-8E97-42F7-B4C2-2A54058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8A7-FC21-46D5-87EA-C29CB7EE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E70-4F48-46BC-957E-85C01461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432-7FB2-4E1F-8F55-A9A4ECFC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0E8-54C9-44A1-8408-70205EC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AC7-70BB-449F-9AE9-AAD43EAA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90D-FE69-40E6-A8F1-0B92C6C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D5B-3FA9-474B-87F2-2E04EE6D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6C9-9CA7-4734-ACA0-44BBDB3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081-6E61-42F7-89FB-70141793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B10-EC67-4EBC-976A-6B94567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817E-1CC2-4829-9F9F-59D307FBF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арабола и параболические антен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ралов Сте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10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огородск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Минен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аль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352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60480" y="54000"/>
          <a:ext cx="9059760" cy="67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54000"/>
                    <a:ext cx="905976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5"/>
          <p:cNvGraphicFramePr/>
          <p:nvPr/>
        </p:nvGraphicFramePr>
        <p:xfrm>
          <a:off x="0" y="648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250920" y="620640"/>
          <a:ext cx="87138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8713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9151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EtudesRu_radio_small (03).wmv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3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30" descr=""/>
          <p:cNvPicPr/>
          <p:nvPr/>
        </p:nvPicPr>
        <p:blipFill>
          <a:blip r:embed="rId1"/>
          <a:stretch/>
        </p:blipFill>
        <p:spPr>
          <a:xfrm>
            <a:off x="1116000" y="39600"/>
            <a:ext cx="68407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9" descr="full"/>
          <p:cNvPicPr/>
          <p:nvPr/>
        </p:nvPicPr>
        <p:blipFill>
          <a:blip r:embed="rId1"/>
          <a:stretch/>
        </p:blipFill>
        <p:spPr>
          <a:xfrm>
            <a:off x="20494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0" y="476280"/>
          <a:ext cx="914400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rt64"/>
          <p:cNvPicPr/>
          <p:nvPr/>
        </p:nvPicPr>
        <p:blipFill>
          <a:blip r:embed="rId1"/>
          <a:stretch/>
        </p:blipFill>
        <p:spPr>
          <a:xfrm>
            <a:off x="1835280" y="0"/>
            <a:ext cx="56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ast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icture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666800" y="0"/>
          <a:ext cx="6013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0"/>
                    <a:ext cx="6013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tudesRu_radio_small (02).wmv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5"/>
          <p:cNvGraphicFramePr/>
          <p:nvPr/>
        </p:nvGraphicFramePr>
        <p:xfrm>
          <a:off x="971640" y="404640"/>
          <a:ext cx="7200720" cy="604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04640"/>
                    <a:ext cx="7200720" cy="604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666800" cy="80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656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056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5"/>
          <p:cNvGraphicFramePr/>
          <p:nvPr/>
        </p:nvGraphicFramePr>
        <p:xfrm>
          <a:off x="1258920" y="476280"/>
          <a:ext cx="669780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76280"/>
                    <a:ext cx="66978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5"/>
          <p:cNvGraphicFramePr/>
          <p:nvPr/>
        </p:nvGraphicFramePr>
        <p:xfrm>
          <a:off x="611280" y="549360"/>
          <a:ext cx="770580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770580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25:42Z</dcterms:created>
  <dc:creator>Степан</dc:creator>
  <dc:description/>
  <dc:language>en-US</dc:language>
  <cp:lastModifiedBy>Пользователь</cp:lastModifiedBy>
  <dcterms:modified xsi:type="dcterms:W3CDTF">2013-07-18T21:14:24Z</dcterms:modified>
  <cp:revision>28</cp:revision>
  <dc:subject/>
  <dc:title>Парабола y=ax2+bx+c</dc:title>
</cp:coreProperties>
</file>