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01CC-F729-4389-9D6A-963CD4CDC5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s://www.google.ru/url?sa=i&amp;rct=j&amp;q=&amp;esrc=s&amp;source=images&amp;cd=&amp;cad=rja&amp;docid=qLoOApS7cXJCcM&amp;tbnid=ocZkhGtIblDBWM:&amp;ved=0CAQQjB0&amp;url=http://work-biz.ru/category/internet-biznes&amp;ei=zfNeUZOfKNDCswacpYGQAw&amp;bvm=bv.44770516,d.Yms&amp;psig=AFQjCNGmJr4MPEhkfVghHmnTQMcj30m7iQ&amp;ust=1365263332692141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my-chrome.ru/2013/03/adblock-i-adblock-plus-dlya-google-chrome-kakoj-vybrat-i-skachat/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docs.google.com/presentation/d/17zshMLyfGyZzLeweADXHdIhH9gGri_b0spNyIGZrdLM/edit#slide=id.p49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maxwmz.ru/samye-populyarnye-brauzery/" TargetMode="External"/><Relationship Id="rId2" Type="http://schemas.openxmlformats.org/officeDocument/2006/relationships/hyperlink" Target="http://browser.yandex.ru/?from=prov_all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картинки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-bi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B69-48B0-4130-BA60-1F79F7FF8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я – это небольшие программы, позволяющие вам добавлять к браузеру новые функции и настраивать его по своему вкусу, например, добавить кнопку погоды, пробок, расширение, позволяющее скачивать ролик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кручивать страницу вверх и вниз одним щелчком и многие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расшир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bloc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Чтобы не видеть бесконечные машины, животы, гадалок или еще чего непотребного на открытом вами са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по функциям и настройкам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y-chrome.ru/2013/03/adblock-i-adblock-plus-dlya-google-chrome-kakoj-vybrat-i-skachat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CD0-7E4C-41AE-A525-AFE2F37E3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6936-47E8-4D58-AECD-3B0E8D509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ocs.google.com/presentation/d/17zshMLyfGyZzLeweADXHdIhH9gGri_b0spNyIGZrdLM/edit#slide=id.p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FC2A-FA45-4041-9AA9-4E1C8B383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фиксировать режим можно, только если у вас есть аккаунт Гугл и вы в этот аккаунт вош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BBD-844E-4ED5-BA8D-92580C694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популярный в мире поиск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8FB1-3914-4F78-ACBC-7CEB531D6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ем второй столбец. Аноним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82DB-A310-4FA5-B3C4-4EC0D23F4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ем первый столбец на листочках. Аноним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9472-0DB0-400A-B79B-DBBA02F7A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и с блог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axwmz.ru/samye-populyarnye-brauzery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rowser.yandex.ru/?from=prov_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0CBC-EF9F-4DD9-A0F8-20DE8DAAF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ваших от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C9F6-CD7B-4939-BFB7-D4FDEB962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7B85-8BB0-4C5F-A179-F0D6570B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4A12-95E8-4044-AF33-B3A6A440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9C89-8A14-4AF5-AFC2-87BF9D4E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43BD-7D86-415B-8BC0-943428FD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E140-77F1-4970-8FF4-3C7C0644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1423-AC58-49CF-98FF-2A6913D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E561-0D22-4168-8EFD-6DB485B0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9CE0-3E1C-43E6-838F-9D80AF5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36B8-98F0-49F9-A47B-52E98915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AA31-215E-41CD-8798-6E21EB50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7EAD-ADF4-4CE7-8C32-D87040AF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56F6-E4B6-47BF-A671-9664D99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3569-19F7-4AFE-AD37-482A8594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D252-4760-4AC4-B2D7-B61DD4F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E833-C6EC-4889-AF72-87D1ABC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00C9-228D-4574-83E0-4380FDFF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8CDA-9D7C-4DFB-B37C-7634933B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8EC6-B9D7-4136-BF98-96516EA8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AE04-8A11-4179-B563-8304F63C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96C4-003A-495C-B24A-6FA3798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EFD9-52F7-43BF-B065-CAF48D57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619B-9366-4461-93F4-5D9AAA6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BCF4-53B3-42E8-A199-08264742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14D8-3D94-4B75-A11C-AD9F3FF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d83f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B0C-63A8-40FB-8207-076A1E8C357A}" type="slidenum">
              <a:rPr b="0" lang="ru-RU" sz="1200" spc="-1" strike="noStrike">
                <a:solidFill>
                  <a:srgbClr val="2d83f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2d8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d83f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5049-AD11-443F-B961-8E44C9CE5544}" type="slidenum">
              <a:rPr b="0" lang="ru-RU" sz="1400" spc="-1" strike="noStrike">
                <a:solidFill>
                  <a:srgbClr val="2d83f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preferences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hyperlink" Target="http://support.google.com/websearch/answer/510?hl=ru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docs.google.com/presentation/d/17zshMLyfGyZzLeweADXHdIhH9gGri_b0spNyIGZrdLM/edit#slide=id.p49" TargetMode="External"/><Relationship Id="rId2" Type="http://schemas.openxmlformats.org/officeDocument/2006/relationships/hyperlink" Target="https://docs.google.com/presentation/d/17zshMLyfGyZzLeweADXHdIhH9gGri_b0spNyIGZrdLM/edit#slide=id.p49" TargetMode="External"/><Relationship Id="rId3" Type="http://schemas.openxmlformats.org/officeDocument/2006/relationships/hyperlink" Target="https://docs.google.com/presentation/d/17zshMLyfGyZzLeweADXHdIhH9gGri_b0spNyIGZrdLM/edit#slide=id.p49" TargetMode="External"/><Relationship Id="rId4" Type="http://schemas.openxmlformats.org/officeDocument/2006/relationships/hyperlink" Target="http://my-chrome.ru/2013/03/adblock-i-adblock-plus-dlya-google-chrome-kakoj-vybrat-i-skachat" TargetMode="External"/><Relationship Id="rId5" Type="http://schemas.openxmlformats.org/officeDocument/2006/relationships/hyperlink" Target="http://my-chrome.ru/2013/03/adblock-i-adblock-plus-dlya-google-chrome-kakoj-vybrat-i-skachat" TargetMode="External"/><Relationship Id="rId6" Type="http://schemas.openxmlformats.org/officeDocument/2006/relationships/hyperlink" Target="http://maxwmz.ru/samye-populyarnye-brauzery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762120" y="993600"/>
            <a:ext cx="8381880" cy="1694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477120" y="464832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Гамаюн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27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990720" y="28065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способ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я доступа ребен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ежелатель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92436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143000" y="126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3414600"/>
            <a:ext cx="85010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Один из вариантов – установка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на свой браузер расширения </a:t>
            </a:r>
            <a:r>
              <a:rPr b="0" lang="en-US" sz="2000" spc="-1" strike="noStrike">
                <a:solidFill>
                  <a:srgbClr val="073e87"/>
                </a:solidFill>
                <a:latin typeface="Calibri"/>
              </a:rPr>
              <a:t>Adblock</a:t>
            </a: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1" name="Объект 2"/>
          <p:cNvSpPr/>
          <p:nvPr/>
        </p:nvSpPr>
        <p:spPr>
          <a:xfrm>
            <a:off x="609480" y="1522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Как обезопасить детей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от нежелательной информации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во время работы в Интернете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libri"/>
              </a:rPr>
              <a:t>(например, от всплывающей рекламы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3419640" y="5105520"/>
            <a:ext cx="2304720" cy="723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98440" y="220320"/>
            <a:ext cx="8632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Как установить расширение </a:t>
            </a:r>
            <a:r>
              <a:rPr b="0" lang="en-US" sz="3700" spc="-1" strike="noStrike">
                <a:solidFill>
                  <a:srgbClr val="073e87"/>
                </a:solidFill>
                <a:latin typeface="Calibri"/>
              </a:rPr>
              <a:t>Adblock</a:t>
            </a: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?</a:t>
            </a:r>
            <a:endParaRPr b="0" lang="en-US" sz="37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4" name="Объект 2"/>
          <p:cNvSpPr/>
          <p:nvPr/>
        </p:nvSpPr>
        <p:spPr>
          <a:xfrm>
            <a:off x="419040" y="1216080"/>
            <a:ext cx="83059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уз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gle Chro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стройки (кнопка слева вверху)  – инструменты – расширения – еще расширения – вводим название в строке поис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b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устанавли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уз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zilla Firefo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струменты (в меню вверху) – дополнения – получить дополнения – вводим название в строке поис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b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устанавли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уз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 «Опера» (слева вверху) – расширения – выбрать расширения - вводим наз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оке поис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bl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устанавли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аналогии – в других брауз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3"/>
          <p:cNvGrpSpPr/>
          <p:nvPr/>
        </p:nvGrpSpPr>
        <p:grpSpPr>
          <a:xfrm>
            <a:off x="8186760" y="830160"/>
            <a:ext cx="765000" cy="436680"/>
            <a:chOff x="8186760" y="830160"/>
            <a:chExt cx="765000" cy="436680"/>
          </a:xfrm>
        </p:grpSpPr>
        <p:pic>
          <p:nvPicPr>
            <p:cNvPr id="136" name="Picture 6" descr=""/>
            <p:cNvPicPr/>
            <p:nvPr/>
          </p:nvPicPr>
          <p:blipFill>
            <a:blip r:embed="rId1"/>
            <a:stretch/>
          </p:blipFill>
          <p:spPr>
            <a:xfrm>
              <a:off x="8186760" y="830160"/>
              <a:ext cx="76500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Овал 2"/>
            <p:cNvSpPr/>
            <p:nvPr/>
          </p:nvSpPr>
          <p:spPr>
            <a:xfrm>
              <a:off x="8736120" y="1001520"/>
              <a:ext cx="195120" cy="16200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0360" y="7596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Безопасный̆ режим в </a:t>
            </a:r>
            <a:r>
              <a:rPr b="0" lang="en-US" sz="3700" spc="-1" strike="noStrike">
                <a:solidFill>
                  <a:srgbClr val="073e87"/>
                </a:solidFill>
                <a:latin typeface="Calibri"/>
              </a:rPr>
              <a:t>YouTube</a:t>
            </a:r>
            <a:endParaRPr b="0" lang="en-US" sz="37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81160" y="91440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Безопасного режима можно отключить показ содержания, которое предназначено для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ключении этой опции материалы не удаляю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ай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просто позволяет скрыть неприемлемое содержание (контент) из результатов поиска видео, похожих видео, списков воспроизведения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ый режим нужно включить вручную в браузере, после чего он будет использоваться по умолчанию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0360" y="7596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libri"/>
              </a:rPr>
              <a:t>Безопасный̆ режим в </a:t>
            </a:r>
            <a:r>
              <a:rPr b="0" lang="en-US" sz="3700" spc="-1" strike="noStrike">
                <a:solidFill>
                  <a:srgbClr val="073e87"/>
                </a:solidFill>
                <a:latin typeface="Calibri"/>
              </a:rPr>
              <a:t>YouTube</a:t>
            </a:r>
            <a:endParaRPr b="0" lang="en-US" sz="3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90400" y="1773360"/>
            <a:ext cx="8390160" cy="15793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685800" y="8175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Tub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ручиваем страницу вн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410080" y="1905120"/>
            <a:ext cx="175284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74560" y="3718080"/>
            <a:ext cx="8406000" cy="2911320"/>
          </a:xfrm>
          <a:prstGeom prst="rect">
            <a:avLst/>
          </a:prstGeom>
          <a:ln w="0">
            <a:noFill/>
          </a:ln>
        </p:spPr>
      </p:pic>
      <p:sp>
        <p:nvSpPr>
          <p:cNvPr id="145" name="Скругленный прямоугольник 15"/>
          <p:cNvSpPr/>
          <p:nvPr/>
        </p:nvSpPr>
        <p:spPr>
          <a:xfrm>
            <a:off x="703440" y="4343400"/>
            <a:ext cx="1752480" cy="23623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15">
                <a:moveTo>
                  <a:pt x="3600" y="0"/>
                </a:moveTo>
                <a:arcTo wR="3600" hR="3600" stAng="16200000" swAng="-5400000"/>
                <a:lnTo>
                  <a:pt x="0" y="25515"/>
                </a:lnTo>
                <a:arcTo wR="3600" hR="3600" stAng="10800000" swAng="-5400000"/>
                <a:lnTo>
                  <a:pt x="18000" y="29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82560" y="177336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722160" y="335268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0360" y="75960"/>
            <a:ext cx="8425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Безопасный̆ поиск в </a:t>
            </a: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Google</a:t>
            </a: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 (браузер </a:t>
            </a: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Google Chrome)</a:t>
            </a: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1981080" y="11858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м на страницу настроек: </a:t>
            </a:r>
            <a:r>
              <a:rPr b="0" lang="en-US" sz="2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http://www.google.com/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2"/>
          <a:stretch/>
        </p:blipFill>
        <p:spPr>
          <a:xfrm>
            <a:off x="100188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9"/>
          <p:cNvSpPr/>
          <p:nvPr/>
        </p:nvSpPr>
        <p:spPr>
          <a:xfrm>
            <a:off x="803160" y="213984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2" descr=""/>
          <p:cNvPicPr/>
          <p:nvPr/>
        </p:nvPicPr>
        <p:blipFill>
          <a:blip r:embed="rId3"/>
          <a:stretch/>
        </p:blipFill>
        <p:spPr>
          <a:xfrm>
            <a:off x="409680" y="2600280"/>
            <a:ext cx="8584920" cy="22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3" name="Рисунок 3" descr=""/>
          <p:cNvPicPr/>
          <p:nvPr/>
        </p:nvPicPr>
        <p:blipFill>
          <a:blip r:embed="rId4"/>
          <a:stretch/>
        </p:blipFill>
        <p:spPr>
          <a:xfrm>
            <a:off x="1459080" y="5143680"/>
            <a:ext cx="971280" cy="61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2"/>
          <p:cNvSpPr/>
          <p:nvPr/>
        </p:nvSpPr>
        <p:spPr>
          <a:xfrm>
            <a:off x="803160" y="514368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409680" y="5762520"/>
            <a:ext cx="78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бнее: 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Arial"/>
                <a:hlinkClick r:id="rId5"/>
              </a:rPr>
              <a:t>http://support.google.com/websearch/answer/510?hl=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38080" y="2362320"/>
          <a:ext cx="7467840" cy="4343400"/>
        </p:xfrm>
        <a:graphic>
          <a:graphicData uri="http://schemas.openxmlformats.org/drawingml/2006/table">
            <a:tbl>
              <a:tblPr/>
              <a:tblGrid>
                <a:gridCol w="3733920"/>
                <a:gridCol w="373392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157" name="Объект 2"/>
          <p:cNvSpPr/>
          <p:nvPr/>
        </p:nvSpPr>
        <p:spPr>
          <a:xfrm>
            <a:off x="495360" y="838080"/>
            <a:ext cx="8153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Какие способы «настройки Интернета» Вам знакомы, чтобы ограничить доступ ребенка к нежелательной информ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бъект 2"/>
          <p:cNvSpPr/>
          <p:nvPr/>
        </p:nvSpPr>
        <p:spPr>
          <a:xfrm>
            <a:off x="358920" y="95400"/>
            <a:ext cx="8424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Calibri"/>
              </a:rPr>
              <a:t>Давайте подведем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19320" y="83808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Источники: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s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3"/>
              </a:rPr>
              <a:t>docs.google.com/presentation/d/17zshMLyfGyZzLeweADXHdIhH9gGri_b0spNyIGZrdLM/edit#slide=id.p49</a:t>
            </a:r>
            <a:r>
              <a:rPr b="0" lang="ru-RU" sz="1200" spc="-1" strike="noStrike">
                <a:solidFill>
                  <a:srgbClr val="0b87d6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87d6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5"/>
              </a:rPr>
              <a:t>my-chrome.ru/2013/03/adblock-i-adblock-plus-dlya-google-chrome-kakoj-vybrat-i-skachat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ff"/>
                </a:solidFill>
                <a:uFillTx/>
                <a:latin typeface="Calibri"/>
                <a:hlinkClick r:id="rId6"/>
              </a:rPr>
              <a:t>http://maxwmz.ru/samye-populyarnye-brauzery/</a:t>
            </a:r>
            <a:r>
              <a:rPr b="0" lang="ru-RU" sz="1200" spc="-1" strike="noStrike">
                <a:solidFill>
                  <a:srgbClr val="0b87d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b87d6"/>
                </a:solidFill>
                <a:latin typeface="Calibri"/>
              </a:rPr>
              <a:t>work-biz.ru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b87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87d6"/>
                </a:solidFill>
                <a:latin typeface="Calibri"/>
              </a:rPr>
              <a:t>http://browser.yandex.ru/?from=prov_allwork-biz.ru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38080" y="1981080"/>
          <a:ext cx="7467840" cy="4343400"/>
        </p:xfrm>
        <a:graphic>
          <a:graphicData uri="http://schemas.openxmlformats.org/drawingml/2006/table">
            <a:tbl>
              <a:tblPr/>
              <a:tblGrid>
                <a:gridCol w="3733920"/>
                <a:gridCol w="373392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107" name="Объект 2"/>
          <p:cNvSpPr/>
          <p:nvPr/>
        </p:nvSpPr>
        <p:spPr>
          <a:xfrm>
            <a:off x="609480" y="76320"/>
            <a:ext cx="8153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libri"/>
              </a:rPr>
              <a:t>Какие способы «настройки Интернета» Вам знакомы, чтобы ограничить доступ ребенка к нежелательной информ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90720" y="1447920"/>
          <a:ext cx="6972120" cy="5279760"/>
        </p:xfrm>
        <a:graphic>
          <a:graphicData uri="http://schemas.openxmlformats.org/drawingml/2006/table">
            <a:tbl>
              <a:tblPr/>
              <a:tblGrid>
                <a:gridCol w="1218960"/>
                <a:gridCol w="2697120"/>
                <a:gridCol w="3056040"/>
              </a:tblGrid>
              <a:tr h="57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оготи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Explor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zilla Firef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le 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9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nde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ауз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162240" y="20113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3171960" y="2773440"/>
            <a:ext cx="66996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3"/>
          <a:stretch/>
        </p:blipFill>
        <p:spPr>
          <a:xfrm>
            <a:off x="3171960" y="3456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4"/>
          <a:stretch/>
        </p:blipFill>
        <p:spPr>
          <a:xfrm>
            <a:off x="3162240" y="41292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5"/>
          <a:stretch/>
        </p:blipFill>
        <p:spPr>
          <a:xfrm>
            <a:off x="3162240" y="4795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6"/>
          <a:stretch/>
        </p:blipFill>
        <p:spPr>
          <a:xfrm>
            <a:off x="3171960" y="5545080"/>
            <a:ext cx="668160" cy="55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609120" y="759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libri"/>
              </a:rPr>
              <a:t>В Интернет люди выходят через браузер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libri"/>
              </a:rPr>
              <a:t>Какой браузер установлен на Вашем компьютере?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84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Ответьте на вопрос анкеты: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libri"/>
              </a:rPr>
              <a:t>Какой у Вас браузер</a:t>
            </a:r>
            <a:r>
              <a:rPr b="0" lang="en-US" sz="2800" spc="-1" strike="noStrike">
                <a:solidFill>
                  <a:srgbClr val="073e87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857160"/>
          <a:ext cx="5791320" cy="5985000"/>
        </p:xfrm>
        <a:graphic>
          <a:graphicData uri="http://schemas.openxmlformats.org/drawingml/2006/table">
            <a:tbl>
              <a:tblPr/>
              <a:tblGrid>
                <a:gridCol w="3571920"/>
                <a:gridCol w="2219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брау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Mozilla Firef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Google Ch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Internet Explo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Safar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Ya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Друг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73e87"/>
                          </a:solidFill>
                          <a:latin typeface="Calibri"/>
                        </a:rPr>
                        <a:t>Не 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8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00280" y="137160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901800" y="1371600"/>
            <a:ext cx="7251480" cy="4606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4" name="Скругленный прямоугольник 3"/>
          <p:cNvSpPr/>
          <p:nvPr/>
        </p:nvSpPr>
        <p:spPr>
          <a:xfrm>
            <a:off x="990720" y="1523880"/>
            <a:ext cx="75960" cy="4608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901800" y="1447920"/>
            <a:ext cx="1841400" cy="533160"/>
          </a:xfrm>
          <a:prstGeom prst="roundRect">
            <a:avLst>
              <a:gd name="adj" fmla="val 16667"/>
            </a:avLst>
          </a:prstGeom>
          <a:solidFill>
            <a:srgbClr val="73a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У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1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Одна и та же страница сайта.</a:t>
            </a:r>
            <a:br>
              <a:rPr sz="2700"/>
            </a:br>
            <a:r>
              <a:rPr b="0" lang="ru-RU" sz="2700" spc="-1" strike="noStrike">
                <a:solidFill>
                  <a:srgbClr val="073e87"/>
                </a:solidFill>
                <a:latin typeface="Calibri"/>
              </a:rPr>
              <a:t>Как вы думаете, почему она выглядит по-разному?</a:t>
            </a:r>
            <a:endParaRPr b="0" lang="en-US" sz="27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9604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Скругленный прямоугольник 2"/>
          <p:cNvSpPr/>
          <p:nvPr/>
        </p:nvSpPr>
        <p:spPr>
          <a:xfrm>
            <a:off x="990720" y="121932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73a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У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бъект 2"/>
          <p:cNvSpPr/>
          <p:nvPr/>
        </p:nvSpPr>
        <p:spPr>
          <a:xfrm>
            <a:off x="495360" y="16765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1500"/>
              </a:spcBef>
              <a:buClr>
                <a:srgbClr val="073e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73e87"/>
                </a:solidFill>
                <a:latin typeface="Calibri"/>
              </a:rPr>
              <a:t>Как была отключена реклам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ла</dc:creator>
  <dc:description/>
  <dc:language>en-US</dc:language>
  <cp:lastModifiedBy>Алла Гамаюнова</cp:lastModifiedBy>
  <dcterms:modified xsi:type="dcterms:W3CDTF">2013-07-07T22:53:18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