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A74-26F8-4A68-ADB2-4ECCAC61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14C-CB07-4EE0-9DA1-D975C1A1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459-36ED-46FB-885C-D9011A00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DAB-64C4-4E59-BD65-F4DCDE0F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0746-4780-44EC-8C6F-E41D5727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30E6-03C7-48F8-A310-77D4B580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60B4-885B-4041-BDDF-3B3E7525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2323-4B07-42BD-A81D-56ABF590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DF1D-C0C5-4223-B6CA-65204979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84C0-04F3-4FC9-9398-92D3A57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B3F5-0270-4658-BE7D-47197BA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097-CBDC-4871-8E68-B97E41F0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6667-351F-4534-9CEA-D10CCAF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63C6-7D26-47C0-94DF-1387E2B1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6A27-B451-4AA7-A312-2D9CC4E6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22CB-0DEB-454E-BE3E-FDA90C52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02FC-5B29-4CBB-BA7E-D1597FA6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48BB6-F1B7-414F-965B-01BFBC69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CB78-8C39-4E8B-AA62-19021E4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F2B8-EB82-4D1D-80DA-71390436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9C80-9D5D-4401-BE4E-788AB894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6E83-25E5-45AF-9205-EFFC4A5B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7AB-AA0B-4C88-AD78-4F2C1B1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6B0A-B60F-4865-94E9-398CEEB3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4C94-4908-4176-A87A-4E0F959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B4B8-49DC-4A34-A431-EC3F8A19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3B88-F179-4A9D-A19D-99DBF5FF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3DD4-BC3C-4F15-8236-B303A944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04A4-CF6D-4836-A727-A5A671FC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CDC6-9208-4254-AAA9-3176014C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FE1-7C01-4E7B-818D-66F0A127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92C-DABD-4D3E-B57A-D87EC5A9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22A-52D9-4B7E-A9AC-1DED3519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587-5B70-4FE3-BA49-7DE09432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C3A-EF7B-4F47-B43B-5FF3094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A29-FB7D-4E9E-A0EF-65B969B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38F9-0C2A-47E9-85B7-3E1CEEDEF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0626-0A2C-47A7-B204-7DC46B1C2EC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029-D53E-4352-A4AA-B7028B740F1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Jupiter.Aurora.HST.UV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Полярное сия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357440" y="3929040"/>
            <a:ext cx="478620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Автор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Шутова Анастаси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У СОШ № 49 г.Мурманск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11 «А»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755640" y="83664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ЛЯРНОЕ СИЯНИЕ </a:t>
            </a:r>
            <a:endParaRPr b="1" lang="en-US" sz="1400" spc="1" strike="noStrike">
              <a:ln w="12600">
                <a:solidFill>
                  <a:srgbClr val="ffff00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следования полярных сияний на Кольском полуострове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5" name="Picture 4" descr="Безымянный"/>
          <p:cNvPicPr/>
          <p:nvPr/>
        </p:nvPicPr>
        <p:blipFill>
          <a:blip r:embed="rId1"/>
          <a:stretch/>
        </p:blipFill>
        <p:spPr>
          <a:xfrm>
            <a:off x="428760" y="1643040"/>
            <a:ext cx="4319280" cy="4187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5487840" y="24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5000760" y="2071800"/>
            <a:ext cx="3929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Со дня создания Полярного геофизического института прошло более сорока лет. Институт один из немногих в мире, нацеленный на изучение комплекса геофизических явлений именно в высоких широтах. Основным предметом исследований является физика верхней атмосферы и околоземного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6056280"/>
            <a:ext cx="33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Так всё начиналось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ормы полярных сия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680" y="1214280"/>
            <a:ext cx="3898800" cy="18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рмы полярных сияния согласно принятой классификации делятся на три группы: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2" descr="i?id=4289349&amp;tov=4"/>
          <p:cNvPicPr/>
          <p:nvPr/>
        </p:nvPicPr>
        <p:blipFill>
          <a:blip r:embed="rId1"/>
          <a:stretch/>
        </p:blipFill>
        <p:spPr>
          <a:xfrm>
            <a:off x="4786200" y="3637080"/>
            <a:ext cx="3714840" cy="310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i?id=33357865&amp;tov=4"/>
          <p:cNvPicPr/>
          <p:nvPr/>
        </p:nvPicPr>
        <p:blipFill>
          <a:blip r:embed="rId2"/>
          <a:stretch/>
        </p:blipFill>
        <p:spPr>
          <a:xfrm>
            <a:off x="4721400" y="1071720"/>
            <a:ext cx="3811320" cy="2428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7" descr="i?id=37139910&amp;tov=4"/>
          <p:cNvPicPr/>
          <p:nvPr/>
        </p:nvPicPr>
        <p:blipFill>
          <a:blip r:embed="rId3"/>
          <a:stretch/>
        </p:blipFill>
        <p:spPr>
          <a:xfrm>
            <a:off x="611280" y="3511440"/>
            <a:ext cx="3817800" cy="3221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8"/>
          <p:cNvSpPr/>
          <p:nvPr/>
        </p:nvSpPr>
        <p:spPr>
          <a:xfrm>
            <a:off x="1034640" y="3726000"/>
            <a:ext cx="27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ЛЕНТООБРАЗ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5364000" y="1278000"/>
            <a:ext cx="244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ДИФФУЗ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435640" y="3726000"/>
            <a:ext cx="1347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ЛУЧ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Яркость полярных сия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57120" y="1071720"/>
          <a:ext cx="8501040" cy="5094000"/>
        </p:xfrm>
        <a:graphic>
          <a:graphicData uri="http://schemas.openxmlformats.org/drawingml/2006/table">
            <a:tbl>
              <a:tblPr/>
              <a:tblGrid>
                <a:gridCol w="1911240"/>
                <a:gridCol w="65898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декс интенсивности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имечание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ияние визуально не фиксируется, может быть обнаружено инструменталь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ркость сравнима с яркостью Млечного пут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ркость сравнима с яркостью перистых облаков, освещенных Луной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ркость сравнима с яркостью кучевых облаков, освещенных Луной.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ркость много больше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I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1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72760" y="277920"/>
            <a:ext cx="57927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рты изохаз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8480" y="1599840"/>
            <a:ext cx="671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рвые карты линий равной частоты появления полярных сияний (карты изохазм), указывающие на существование областей на поверхности Земли, где они появляются наиболее часто, были составлены в 1860 – 1873 годах Э. Лумисом (США) и Г. Фрицем (Австрия) для Северного полушария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1939 году Ф. Уайтом и М. Геддесом (Новая Зеландия) — для Южн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1840" y="277920"/>
            <a:ext cx="7089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рты изохазм для Северного полушар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3" name="Picture 4" descr="РАСПРОСТРАНЕНИЕ ПОЛЯРНЫХ СИЯНИЙ в Северном полушарии. Изохазмы соответствуют среднему годовому количеству полярных сияний. Например, в центральных районах США полярные сияния наблюдаются в среднем около пяти раз в год."/>
          <p:cNvPicPr/>
          <p:nvPr/>
        </p:nvPicPr>
        <p:blipFill>
          <a:blip r:embed="rId1"/>
          <a:stretch/>
        </p:blipFill>
        <p:spPr>
          <a:xfrm>
            <a:off x="500040" y="2071800"/>
            <a:ext cx="4114800" cy="41180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5000760" y="5286240"/>
            <a:ext cx="3357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зохазмы соответствуют среднем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годовому количеству полярных сия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5000760" y="1692000"/>
            <a:ext cx="349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зохазмы в каждом полушарии представляют собой несколько деформированные концентрические окружности с центрами вблизи геомагнитных полюс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Рис. 4. Полярное сияние на Юпитере, снимок в ультрафиолете (Hubble Space Telescope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277920"/>
            <a:ext cx="8115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лярные сияния на других планетах Солнечной систем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731200" y="5079600"/>
            <a:ext cx="3082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Полярное сия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на Юпитер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нимок 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льтрафиолете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85840" y="3429000"/>
            <a:ext cx="48211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Магнитные поля планет-гигантов Солнечной системы значительно сильнее магнитного поля Земли, что обуславливает больший масштаб полярных сияний этих планет. Особенностью наблюдений с Земли планет-гигантов является то, что они обращены к наблюдателю освещённ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838760" cy="489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95280" y="19159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лярно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ияние на Сатурн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снимок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ультрафиолете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5508720" y="2349360"/>
            <a:ext cx="3384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Солнцем стороной и в видимом диапазоне их полярные сияния теряются в отражённом солнечном свете. Однако с помощью внеатмосферных  телескопов получены достаточно чёткие изображения полярных сияний этих план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428760" y="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Полярные сияния на других планетах Солнечной систем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Полярное сия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87280" y="69228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зучение такого необыкновенно красивого явления природы как северное сияние будет продолжаться еще. Будут еще сделаны новые открытия закономерностей проявления и влияния полярного сияния на процессы, происходящие на Земле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5694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i 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560" y="214200"/>
            <a:ext cx="6257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000160" y="1428840"/>
            <a:ext cx="58579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 Вступл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рирода и происхождение полярных сия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Исследование полярных сияний на Кольском полуостров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Характеристики полярных сияний: форма, яркость и длитель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лярные сияния на других планетах Солнеч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 Заключ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" descr="Полярное сия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Полярные сия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14320" y="1599840"/>
            <a:ext cx="6072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 одно из самых красивых световых явлений в природ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поминания о полярных сияниях можно найти в трудах Аристотеля, Плиния, Сенеки и других древних философ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лгое время полярные сияния рассматривали как предвестники катастроф - эпидемий, голода и войн. Это явление связали с падением Иерусалима и смертью Юлия Цезар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i?id=8978389&amp;tov=6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 красоте полярных сияний слагают стих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ВЕРНОЕ СИЯ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 вдруг вспыхнет заревом багряным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ак пожар или гигантский горн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 опустит стрелы к океану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ловно точит их на гребнях волн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 бледно-зеленой полосою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 алыми оттенками зари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обежит над черною волною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 за дальней сопкою сгорит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о, цветами радуги играя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везды одевает в кружева…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расотища у него такая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то ее не выразят слов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. Жураков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Впервые увидев северное сияние, я была поражена великолепием этого зрелища и поторопилась запечатлеть красоту полярного сияния на фотографиях.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2590920"/>
            <a:ext cx="4103640" cy="337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03640" y="2606760"/>
            <a:ext cx="40323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вый учёный, изучивший природу полярного сияния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 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02732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Наблюдая полярные сияния, Ломоносов определил высоту, на которой происходит это замечательное явление.                             М.В. Ломоносов первый предположил электрическую природу свеч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i?id=15996740&amp;tov=2"/>
          <p:cNvPicPr/>
          <p:nvPr/>
        </p:nvPicPr>
        <p:blipFill>
          <a:blip r:embed="rId3"/>
          <a:stretch/>
        </p:blipFill>
        <p:spPr>
          <a:xfrm>
            <a:off x="5219640" y="1557360"/>
            <a:ext cx="3016440" cy="3744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4500720" y="5661000"/>
            <a:ext cx="39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755640" y="53928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еверное сияние нарочито порядочное... — писал он в одном из своих сочинений, — приметил я здесь в С.-Петербурге и сколько возможно было смерил...”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а и  происхождение полярных сияний 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3960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йствительная картина силовых линий геомагнитного поля показана на рисунке. Солнечный ветер как бы поджимает поле с дневной стороны, при этом на ночной стороне линии поля оказываются отброшенными далеко от Земли, образуя длинный «хвос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4427640" y="2154240"/>
            <a:ext cx="4465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а и  происхождение полярных сия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6439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движущуюся заряженную частицу со стороны магнитного поля Земли действует сила Лоренца. В зависимости от угла, под которым влетает частица в магнитное поле, от её заряда траектории движения могут быть различ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Копия (3) scan 2"/>
          <p:cNvPicPr/>
          <p:nvPr/>
        </p:nvPicPr>
        <p:blipFill>
          <a:blip r:embed="rId1"/>
          <a:stretch/>
        </p:blipFill>
        <p:spPr>
          <a:xfrm>
            <a:off x="2843280" y="2852640"/>
            <a:ext cx="1969920" cy="381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Копия (2) scan 2"/>
          <p:cNvPicPr/>
          <p:nvPr/>
        </p:nvPicPr>
        <p:blipFill>
          <a:blip r:embed="rId2"/>
          <a:stretch/>
        </p:blipFill>
        <p:spPr>
          <a:xfrm>
            <a:off x="5572080" y="4286160"/>
            <a:ext cx="2627280" cy="22798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285840" y="2567880"/>
            <a:ext cx="237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Если магнитное поле однородно и частица влетает перпендикулярно силовым линиям поля, то она совершает движение по окружности вокруг силовых линий поля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3"/>
              <p:cNvSpPr txBox="1"/>
              <p:nvPr/>
            </p:nvSpPr>
            <p:spPr>
              <a:xfrm>
                <a:off x="1535040" y="3333600"/>
                <a:ext cx="8568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6"/>
              <p:cNvSpPr txBox="1"/>
              <p:nvPr/>
            </p:nvSpPr>
            <p:spPr>
              <a:xfrm>
                <a:off x="2395440" y="3333600"/>
                <a:ext cx="8568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Text Box 19"/>
          <p:cNvSpPr/>
          <p:nvPr/>
        </p:nvSpPr>
        <p:spPr>
          <a:xfrm>
            <a:off x="5429160" y="2500200"/>
            <a:ext cx="3522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Если частица влетает в магнитное поле под углом равным 90 градусов, то частица будет двигаться по спиральной траектор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а и  происхождение полярных сия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680" y="20714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сли магнитное поле Земли неоднородно, то заряженная частица будет описывать спиральную траекторию вокруг силовых ли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400" y="4941720"/>
            <a:ext cx="83581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ет полярных сияний — это люминесценция. Она вызывается потоками электронов, которые вторгаются в земную атмосферу. Люминесцирующим «экраном» являются в данном случае атомы, молекулы и  ионы атмосф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4714920" y="2000160"/>
            <a:ext cx="32400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3:01:11Z</dcterms:created>
  <dc:creator>noga</dc:creator>
  <dc:description/>
  <cp:keywords/>
  <dc:language>en-US</dc:language>
  <cp:lastModifiedBy>*****</cp:lastModifiedBy>
  <dcterms:modified xsi:type="dcterms:W3CDTF">2009-01-26T21:07:52Z</dcterms:modified>
  <cp:revision>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981049</vt:lpwstr>
  </property>
</Properties>
</file>