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22.jpeg" ContentType="image/jpeg"/>
  <Override PartName="/ppt/media/image1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8558-62AE-48FA-8C21-A714C6484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E569-BCDC-4B16-839F-6F87D7E4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BA19-50E9-4EFD-A7F5-7AE826977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3878-5FC8-4CFE-BF5E-05F39B45E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F3B0B-2DF6-4BCF-90CE-F31BB7A8A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CC903-BFD1-4E3E-A708-6A0F16DF7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B7E89-C158-4766-B47F-EF153871A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476D3-E378-4457-A5B3-5923918BA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73CEA-72AA-4583-9743-DF476C2AE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8F4B4-A770-4196-8E2E-D84043865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436C5-420C-4182-9AF6-170715A6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5316-7406-4E45-B8CD-00524A6BB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22247-45E0-442C-B861-814666FF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D5ED2-AB0F-466C-A142-6A0B5031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791AF-C4C1-4BBF-8E61-2C955400D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5705B-E99E-4EF8-9CC6-1B2B00D26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E1574-F24C-4DE0-B080-EEEFBE91E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42E53-B7AF-4958-BB05-E657F8168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1F114-32C6-4386-8576-7DB4D4C18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67C4B-22D5-4212-AAD7-A3802051E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9A3AF-0FF9-4DB2-89F3-9173F01A4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9CC11-DE33-4F5E-8118-3AD6F24AB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F294-EFF9-4B38-A55B-DD0DDEDAD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6B168-0870-4653-98CD-9F690A414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AD2C1-EBB2-4115-8E99-0836F11C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43E64-46B8-4A4D-A9EF-E6F66401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D668C-BB7E-40C9-B22D-94BBA737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6968A-8D61-4B28-8DE3-FFBD5AB87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C10E3-E861-4430-8FBB-DC5FF7CA2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CE471-9FE1-43F4-AA33-BAFE35193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BDDE-D544-4B77-B399-113190517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E83A-EBEE-46B3-8E4F-3BFF779B7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3EB2-3B2B-4532-AE7B-E46F50876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8371-3B55-4A07-BF25-98591814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3A56-0701-4C8F-8AD4-85509B5A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2B22-49AB-4FE8-9F7C-8D37593C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1E983-B2F0-4DF5-9EE1-D38CBCEA9B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7975B-8EF0-4A06-AE7A-B537D7CB6CD1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0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DB37A-DB79-49B7-AAF5-F59B8D7E18E4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Jupiter.Aurora.HST.UV.jp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12" descr="Полярное сия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357440" y="3929040"/>
            <a:ext cx="478620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Автор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Шутова Анастасия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МОУ СОШ № 49 г.Мурманска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11 «А» клас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WordArt 7"/>
          <p:cNvSpPr txBox="1"/>
          <p:nvPr/>
        </p:nvSpPr>
        <p:spPr>
          <a:xfrm>
            <a:off x="755640" y="836640"/>
            <a:ext cx="7772400" cy="146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7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ЛЯРНОЕ СИЯНИЕ </a:t>
            </a:r>
            <a:endParaRPr b="1" lang="en-US" sz="1400" spc="1" strike="noStrike">
              <a:ln w="12600">
                <a:solidFill>
                  <a:srgbClr val="ffff00"/>
                </a:solidFill>
                <a:miter/>
              </a:ln>
              <a:solidFill>
                <a:srgbClr val="00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Исследования полярных сияний на Кольском полуострове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85" name="Picture 4" descr="Безымянный"/>
          <p:cNvPicPr/>
          <p:nvPr/>
        </p:nvPicPr>
        <p:blipFill>
          <a:blip r:embed="rId1"/>
          <a:stretch/>
        </p:blipFill>
        <p:spPr>
          <a:xfrm>
            <a:off x="428760" y="1643040"/>
            <a:ext cx="4319280" cy="418788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8"/>
          <p:cNvSpPr/>
          <p:nvPr/>
        </p:nvSpPr>
        <p:spPr>
          <a:xfrm>
            <a:off x="5487840" y="2452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Прямоугольник 4"/>
          <p:cNvSpPr/>
          <p:nvPr/>
        </p:nvSpPr>
        <p:spPr>
          <a:xfrm>
            <a:off x="5000760" y="2071800"/>
            <a:ext cx="39290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Garamond"/>
              </a:rPr>
              <a:t>Со дня создания Полярного геофизического института прошло более сорока лет. Институт один из немногих в мире, нацеленный на изучение комплекса геофизических явлений именно в высоких широтах. Основным предметом исследований является физика верхней атмосферы и околоземного космического пространств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"/>
          <p:cNvSpPr/>
          <p:nvPr/>
        </p:nvSpPr>
        <p:spPr>
          <a:xfrm>
            <a:off x="684360" y="6056280"/>
            <a:ext cx="337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Так всё начиналось…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036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Формы полярных сияний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71680" y="1214280"/>
            <a:ext cx="3898800" cy="18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ормы полярных сияния согласно принятой классификации делятся на три группы: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12" descr="i?id=4289349&amp;tov=4"/>
          <p:cNvPicPr/>
          <p:nvPr/>
        </p:nvPicPr>
        <p:blipFill>
          <a:blip r:embed="rId1"/>
          <a:stretch/>
        </p:blipFill>
        <p:spPr>
          <a:xfrm>
            <a:off x="4786200" y="3637080"/>
            <a:ext cx="3714840" cy="31017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4" descr="i?id=33357865&amp;tov=4"/>
          <p:cNvPicPr/>
          <p:nvPr/>
        </p:nvPicPr>
        <p:blipFill>
          <a:blip r:embed="rId2"/>
          <a:stretch/>
        </p:blipFill>
        <p:spPr>
          <a:xfrm>
            <a:off x="4721400" y="1071720"/>
            <a:ext cx="3811320" cy="24285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7" descr="i?id=37139910&amp;tov=4"/>
          <p:cNvPicPr/>
          <p:nvPr/>
        </p:nvPicPr>
        <p:blipFill>
          <a:blip r:embed="rId3"/>
          <a:stretch/>
        </p:blipFill>
        <p:spPr>
          <a:xfrm>
            <a:off x="611280" y="3511440"/>
            <a:ext cx="3817800" cy="322128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18"/>
          <p:cNvSpPr/>
          <p:nvPr/>
        </p:nvSpPr>
        <p:spPr>
          <a:xfrm>
            <a:off x="1034640" y="3726000"/>
            <a:ext cx="270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ЛЕНТООБРАЗНЫ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Text Box 19"/>
          <p:cNvSpPr/>
          <p:nvPr/>
        </p:nvSpPr>
        <p:spPr>
          <a:xfrm>
            <a:off x="5364000" y="1278000"/>
            <a:ext cx="2448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ДИФФУЗНЫ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Text Box 20"/>
          <p:cNvSpPr/>
          <p:nvPr/>
        </p:nvSpPr>
        <p:spPr>
          <a:xfrm>
            <a:off x="5435640" y="3726000"/>
            <a:ext cx="134784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ЛУЧ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Яркость полярных сияний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357120" y="1071720"/>
          <a:ext cx="8501040" cy="5094000"/>
        </p:xfrm>
        <a:graphic>
          <a:graphicData uri="http://schemas.openxmlformats.org/drawingml/2006/table">
            <a:tbl>
              <a:tblPr/>
              <a:tblGrid>
                <a:gridCol w="1911240"/>
                <a:gridCol w="6589800"/>
              </a:tblGrid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Индекс интенсивности</a:t>
                      </a: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римечание</a:t>
                      </a: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ияние визуально не фиксируется, может быть обнаружено инструментально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Яркость сравнима с яркостью Млечного пути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Яркость сравнима с яркостью перистых облаков, освещенных Луной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Яркость сравнима с яркостью кучевых облаков, освещенных Луной.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Яркость много больше </a:t>
                      </a: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II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5" descr="1-we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72760" y="277920"/>
            <a:ext cx="57927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арты изохазм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428480" y="1599840"/>
            <a:ext cx="6715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ервые карты линий равной частоты появления полярных сияний (карты изохазм), указывающие на существование областей на поверхности Земли, где они появляются наиболее часто, были составлены в 1860 – 1873 годах Э. Лумисом (США) и Г. Фрицем (Австрия) для Северного полушария 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 1939 году Ф. Уайтом и М. Геддесом (Новая Зеландия) — для Южног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61840" y="277920"/>
            <a:ext cx="708984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арты изохазм для Северного полушар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03" name="Picture 4" descr="РАСПРОСТРАНЕНИЕ ПОЛЯРНЫХ СИЯНИЙ в Северном полушарии. Изохазмы соответствуют среднему годовому количеству полярных сияний. Например, в центральных районах США полярные сияния наблюдаются в среднем около пяти раз в год."/>
          <p:cNvPicPr/>
          <p:nvPr/>
        </p:nvPicPr>
        <p:blipFill>
          <a:blip r:embed="rId1"/>
          <a:stretch/>
        </p:blipFill>
        <p:spPr>
          <a:xfrm>
            <a:off x="500040" y="2071800"/>
            <a:ext cx="4114800" cy="411804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5"/>
          <p:cNvSpPr/>
          <p:nvPr/>
        </p:nvSpPr>
        <p:spPr>
          <a:xfrm>
            <a:off x="5000760" y="5286240"/>
            <a:ext cx="335736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Изохазмы соответствуют среднему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годовому количеству полярных сияний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5000760" y="1692000"/>
            <a:ext cx="3493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Изохазмы в каждом полушарии представляют собой несколько деформированные концентрические окружности с центрами вблизи геомагнитных полюсов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4" descr="Рис. 4. Полярное сияние на Юпитере, снимок в ультрафиолете (Hubble Space Telescope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71680" y="277920"/>
            <a:ext cx="81151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олярные сияния на других планетах Солнечной системы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5731200" y="5079600"/>
            <a:ext cx="308232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Полярное сияние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на Юпитере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(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снимок в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ультрафиолете)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285840" y="3429000"/>
            <a:ext cx="482112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Магнитные поля планет-гигантов Солнечной системы значительно сильнее магнитного поля Земли, что обуславливает больший масштаб полярных сияний этих планет. Особенностью наблюдений с Земли планет-гигантов является то, что они обращены к наблюдателю освещённо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4838760" cy="489744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395280" y="1915920"/>
            <a:ext cx="23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Полярное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сияние на Сатурне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(снимок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в ультрафиолете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5508720" y="2349360"/>
            <a:ext cx="338436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Солнцем стороной и в видимом диапазоне их полярные сияния теряются в отражённом солнечном свете. Однако с помощью внеатмосферных  телескопов получены достаточно чёткие изображения полярных сияний этих планет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Прямоугольник 5"/>
          <p:cNvSpPr/>
          <p:nvPr/>
        </p:nvSpPr>
        <p:spPr>
          <a:xfrm>
            <a:off x="428760" y="0"/>
            <a:ext cx="8501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Полярные сияния на других планетах Солнечной системы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Полярное сия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287280" y="692280"/>
            <a:ext cx="885672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Изучение такого необыкновенно красивого явления природы как северное сияние будет продолжаться еще. Будут еще сделаны новые открытия закономерностей проявления и влияния полярного сияния на процессы, происходящие на Земле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79480" y="56944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7" descr="i 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85560" y="214200"/>
            <a:ext cx="62578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одержание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2000160" y="1428840"/>
            <a:ext cx="585792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1. Вступлени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2. Природа и происхождение полярных сияни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3. Исследование полярных сияний на Кольском полуостров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4. Характеристики полярных сияний: форма, яркость и длительность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5. Полярные сияния на других планетах Солнечной систем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6. Заключени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0" descr="Полярное сияние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Полярные сиян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14320" y="1599840"/>
            <a:ext cx="6072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- одно из самых красивых световых явлений в природе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Упоминания о полярных сияниях можно найти в трудах Аристотеля, Плиния, Сенеки и других древних философ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олгое время полярные сияния рассматривали как предвестники катастроф - эпидемий, голода и войн. Это явление связали с падением Иерусалима и смертью Юлия Цезар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7" descr="i?id=8978389&amp;tov=6"/>
          <p:cNvPicPr/>
          <p:nvPr/>
        </p:nvPicPr>
        <p:blipFill>
          <a:blip r:embed="rId2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О красоте полярных сияний слагают стихи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ЕВЕРНОЕ СИЯ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То вдруг вспыхнет заревом багряным,</a:t>
            </a: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Как пожар или гигантский горн,</a:t>
            </a: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То опустит стрелы к океану,</a:t>
            </a: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Словно точит их на гребнях волн,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То бледно-зеленой полосою</a:t>
            </a: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С алыми оттенками зари</a:t>
            </a: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Пробежит над черною волною</a:t>
            </a: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И за дальней сопкою сгорит,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То, цветами радуги играя,</a:t>
            </a: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Звезды одевает в кружева…</a:t>
            </a: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Красотища у него такая,</a:t>
            </a: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Что ее не выразят слова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                                                       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. Жураковск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000" y="277920"/>
            <a:ext cx="821844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Arial"/>
              </a:rPr>
              <a:t>Впервые увидев северное сияние, я была поражена великолепием этого зрелища и поторопилась запечатлеть красоту полярного сияния на фотографиях.</a:t>
            </a:r>
            <a:endParaRPr b="0" lang="en-US" sz="2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68360" y="2590920"/>
            <a:ext cx="4103640" cy="3375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003640" y="2606760"/>
            <a:ext cx="403236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ервый учёный, изучивший природу полярного сияния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 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4027320" cy="40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Наблюдая полярные сияния, Ломоносов определил высоту, на которой происходит это замечательное явление.                             М.В. Ломоносов первый предположил электрическую природу свечения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8" descr="i?id=15996740&amp;tov=2"/>
          <p:cNvPicPr/>
          <p:nvPr/>
        </p:nvPicPr>
        <p:blipFill>
          <a:blip r:embed="rId3"/>
          <a:stretch/>
        </p:blipFill>
        <p:spPr>
          <a:xfrm>
            <a:off x="5219640" y="1557360"/>
            <a:ext cx="3016440" cy="374472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9"/>
          <p:cNvSpPr/>
          <p:nvPr/>
        </p:nvSpPr>
        <p:spPr>
          <a:xfrm>
            <a:off x="4500720" y="5661000"/>
            <a:ext cx="3958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755640" y="539280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М.В.Ломоносов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Северное сияние нарочито порядочное... — писал он в одном из своих сочинений, — приметил я здесь в С.-Петербурге и сколько возможно было смерил...”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рирода и  происхождение полярных сияний 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396072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ействительная картина силовых линий геомагнитного поля показана на рисунке. Солнечный ветер как бы поджимает поле с дневной стороны, при этом на ночной стороне линии поля оказываются отброшенными далеко от Земли, образуя длинный «хвост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7" descr=""/>
          <p:cNvPicPr/>
          <p:nvPr/>
        </p:nvPicPr>
        <p:blipFill>
          <a:blip r:embed="rId1"/>
          <a:stretch/>
        </p:blipFill>
        <p:spPr>
          <a:xfrm>
            <a:off x="4427640" y="2154240"/>
            <a:ext cx="446544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218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рирода и  происхождение полярных сияний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2560" y="1268280"/>
            <a:ext cx="864396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а движущуюся заряженную частицу со стороны магнитного поля Земли действует сила Лоренца. В зависимости от угла, под которым влетает частица в магнитное поле, от её заряда траектории движения могут быть различ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7" descr="Копия (3) scan 2"/>
          <p:cNvPicPr/>
          <p:nvPr/>
        </p:nvPicPr>
        <p:blipFill>
          <a:blip r:embed="rId1"/>
          <a:stretch/>
        </p:blipFill>
        <p:spPr>
          <a:xfrm>
            <a:off x="2843280" y="2852640"/>
            <a:ext cx="1969920" cy="3816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Копия (2) scan 2"/>
          <p:cNvPicPr/>
          <p:nvPr/>
        </p:nvPicPr>
        <p:blipFill>
          <a:blip r:embed="rId2"/>
          <a:stretch/>
        </p:blipFill>
        <p:spPr>
          <a:xfrm>
            <a:off x="5572080" y="4286160"/>
            <a:ext cx="2627280" cy="227988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9"/>
          <p:cNvSpPr/>
          <p:nvPr/>
        </p:nvSpPr>
        <p:spPr>
          <a:xfrm>
            <a:off x="285840" y="2567880"/>
            <a:ext cx="2376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Garamond"/>
              </a:rPr>
              <a:t>Если магнитное поле однородно и частица влетает перпендикулярно силовым линиям поля, то она совершает движение по окружности вокруг силовых линий поля</a:t>
            </a: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.</a:t>
            </a:r>
            <a:r>
              <a:rPr b="1" lang="ru-RU" sz="20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13"/>
              <p:cNvSpPr txBox="1"/>
              <p:nvPr/>
            </p:nvSpPr>
            <p:spPr>
              <a:xfrm>
                <a:off x="1535040" y="3333600"/>
                <a:ext cx="85680" cy="1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16"/>
              <p:cNvSpPr txBox="1"/>
              <p:nvPr/>
            </p:nvSpPr>
            <p:spPr>
              <a:xfrm>
                <a:off x="2395440" y="3333600"/>
                <a:ext cx="85680" cy="1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9" name="Text Box 19"/>
          <p:cNvSpPr/>
          <p:nvPr/>
        </p:nvSpPr>
        <p:spPr>
          <a:xfrm>
            <a:off x="5429160" y="2500200"/>
            <a:ext cx="3522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Garamond"/>
              </a:rPr>
              <a:t>Если частица влетает в магнитное поле под углом равным 90 градусов, то частица будет двигаться по спиральной траектори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рирода и  происхождение полярных сияний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71680" y="20714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Если магнитное поле Земли неоднородно, то заряженная частица будет описывать спиральную траекторию вокруг силовых лини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28400" y="4941720"/>
            <a:ext cx="8358120" cy="14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вет полярных сияний — это люминесценция. Она вызывается потоками электронов, которые вторгаются в земную атмосферу. Люминесцирующим «экраном» являются в данном случае атомы, молекулы и  ионы атмосфе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8" descr=""/>
          <p:cNvPicPr/>
          <p:nvPr/>
        </p:nvPicPr>
        <p:blipFill>
          <a:blip r:embed="rId1"/>
          <a:stretch/>
        </p:blipFill>
        <p:spPr>
          <a:xfrm>
            <a:off x="4714920" y="2000160"/>
            <a:ext cx="324000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13:01:11Z</dcterms:created>
  <dc:creator>noga</dc:creator>
  <dc:description/>
  <cp:keywords/>
  <dc:language>en-US</dc:language>
  <cp:lastModifiedBy>*****</cp:lastModifiedBy>
  <dcterms:modified xsi:type="dcterms:W3CDTF">2009-01-26T21:07:52Z</dcterms:modified>
  <cp:revision>5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981049</vt:lpwstr>
  </property>
</Properties>
</file>