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9170-E61E-4623-8C79-482139BD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987E-127C-4E43-B06C-31DED386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2F9D-60BA-4412-B4E5-8F651C29B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5246-36D0-4EFF-9BA8-76670CB4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0A58-DB26-479B-A3C0-4CED8698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8180-ADF7-44EA-931A-96353B86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945C-290C-463D-9739-3174728D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51D0-EF7B-4DFE-A4B4-C6F1E3A8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8497-E66F-484D-A325-C89F7E94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B5B6-32CF-496F-9CEC-A2069116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865A-9ECC-4433-904F-34B2CB11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2498-B2B2-4BE4-8A0E-FD54CDC3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23ED-0160-43ED-A76C-6CD6B402D6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ория Древнего мир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5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ур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71680" y="3929040"/>
            <a:ext cx="3000240" cy="2251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5429160" y="357120"/>
            <a:ext cx="3272040" cy="214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642960" y="357120"/>
            <a:ext cx="2786040" cy="2176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4"/>
          <a:stretch/>
        </p:blipFill>
        <p:spPr>
          <a:xfrm>
            <a:off x="5786280" y="3917880"/>
            <a:ext cx="292896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шлое народов всего мира с древнейших времен до наших дней называется Всемирной историей. В 5 классе вы будете изучать е первую часть –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орию Древнего мир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71680" y="2000160"/>
            <a:ext cx="2773080" cy="185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5000760" y="1500120"/>
            <a:ext cx="3571920" cy="2392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428760" y="4714920"/>
            <a:ext cx="2752560" cy="1428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4"/>
          <a:stretch/>
        </p:blipFill>
        <p:spPr>
          <a:xfrm>
            <a:off x="3571920" y="3071880"/>
            <a:ext cx="1014480" cy="3170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5"/>
          <a:stretch/>
        </p:blipFill>
        <p:spPr>
          <a:xfrm>
            <a:off x="5072040" y="4214880"/>
            <a:ext cx="3500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ревнем мире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овали страны, которых давно н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2\Desktop\ассирия.gif"/>
          <p:cNvPicPr/>
          <p:nvPr/>
        </p:nvPicPr>
        <p:blipFill>
          <a:blip r:embed="rId1"/>
          <a:stretch/>
        </p:blipFill>
        <p:spPr>
          <a:xfrm>
            <a:off x="428760" y="2357280"/>
            <a:ext cx="4038480" cy="2913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2\Desktop\междуречье.jpg"/>
          <p:cNvPicPr/>
          <p:nvPr/>
        </p:nvPicPr>
        <p:blipFill>
          <a:blip r:embed="rId2"/>
          <a:stretch/>
        </p:blipFill>
        <p:spPr>
          <a:xfrm>
            <a:off x="4648320" y="2239920"/>
            <a:ext cx="403848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узнают историю древних народов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енные памят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ченые – археологи производят раскопки и находят вещественные памятники. Это посуда, оружие, монеты, кости, украшения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714240" y="1571760"/>
            <a:ext cx="3489480" cy="2357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785880" y="4071960"/>
            <a:ext cx="328608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исьменные памят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ажными источниками являются надписи на камне, глине, металле, дереве и конечно древние книг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2071800" cy="2427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1000080" y="4357800"/>
            <a:ext cx="2714760" cy="20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амым известной книгой является </a:t>
            </a: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Библ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285920" y="1571760"/>
            <a:ext cx="66438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еродот – «отец истори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с половиной тыс лет назад греческий ученый Геродот написал книгу, в котором описал жизнь других народов. Он назвал свой труд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орие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означает «описание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701640" y="1609560"/>
            <a:ext cx="358452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КРЕПЛЕНИЕ</a:t>
            </a:r>
            <a:br>
              <a:rPr sz="4400"/>
            </a:b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найдите на карте Европу, Азию, Афри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C:\Users\2\Desktop\Древний мир\World-pol.jpg"/>
          <p:cNvPicPr/>
          <p:nvPr/>
        </p:nvPicPr>
        <p:blipFill>
          <a:blip r:embed="rId1"/>
          <a:stretch/>
        </p:blipFill>
        <p:spPr>
          <a:xfrm>
            <a:off x="457200" y="1773360"/>
            <a:ext cx="822960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 значение слов: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ория, археолог, вещественный памятник, письменный памятник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06:28:31Z</dcterms:created>
  <dc:creator>2</dc:creator>
  <dc:description/>
  <dc:language>en-US</dc:language>
  <cp:lastModifiedBy>2</cp:lastModifiedBy>
  <dcterms:modified xsi:type="dcterms:W3CDTF">2012-09-18T08:32:56Z</dcterms:modified>
  <cp:revision>2</cp:revision>
  <dc:subject/>
  <dc:title>История Древнего мира</dc:title>
</cp:coreProperties>
</file>