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5B4-31D7-4851-9E31-20C5797A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31A-843C-4BD8-AF61-E5EBAB4E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EB0-B1FA-4920-98C1-C2251ECD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DA7-BC2A-4345-8969-4E9B44C1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B27-721A-4221-B56F-F926951A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2AF5-3614-4A1D-84FB-63227C3F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D0B-1742-4950-96BF-06763B0A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092B-536D-4B85-B9A3-05AD6EA0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6D05-8BB3-4894-AE47-959D0748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6456-5A49-47AB-BDDA-1FAC63CE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C1AF-5D3E-459A-8D96-BF0EA70F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584-7590-4847-A0C9-B90A5AF6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D4F1-DFE9-4985-B538-78905330D3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я Древнего ми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71680" y="3929040"/>
            <a:ext cx="3000240" cy="2251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5429160" y="357120"/>
            <a:ext cx="3272040" cy="214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42960" y="357120"/>
            <a:ext cx="2786040" cy="217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5786280" y="3917880"/>
            <a:ext cx="29289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лое народов всего мира с древнейших времен до наших дней называется Всемирной историей. В 5 классе вы будете изучать е первую часть –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ю Древнего ми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2773080" cy="185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5000760" y="1500120"/>
            <a:ext cx="3571920" cy="2392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28760" y="4714920"/>
            <a:ext cx="275256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4"/>
          <a:stretch/>
        </p:blipFill>
        <p:spPr>
          <a:xfrm>
            <a:off x="3571920" y="3071880"/>
            <a:ext cx="1014480" cy="3170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5"/>
          <a:stretch/>
        </p:blipFill>
        <p:spPr>
          <a:xfrm>
            <a:off x="5072040" y="4214880"/>
            <a:ext cx="3500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евнем мире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овали страны, которых давно н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2\Desktop\ассирия.gif"/>
          <p:cNvPicPr/>
          <p:nvPr/>
        </p:nvPicPr>
        <p:blipFill>
          <a:blip r:embed="rId1"/>
          <a:stretch/>
        </p:blipFill>
        <p:spPr>
          <a:xfrm>
            <a:off x="428760" y="2357280"/>
            <a:ext cx="4038480" cy="2913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2\Desktop\междуречье.jpg"/>
          <p:cNvPicPr/>
          <p:nvPr/>
        </p:nvPicPr>
        <p:blipFill>
          <a:blip r:embed="rId2"/>
          <a:stretch/>
        </p:blipFill>
        <p:spPr>
          <a:xfrm>
            <a:off x="4648320" y="2239920"/>
            <a:ext cx="40384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знают историю древних народов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енные памят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ченые – археологи производят раскопки и находят вещественные памятники. Это посуда, оружие, монеты, кости, украшени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14240" y="1571760"/>
            <a:ext cx="3489480" cy="235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785880" y="4071960"/>
            <a:ext cx="32860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исьменные памят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жными источниками являются надписи на камне, глине, металле, дереве и конечно древние книг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2071800" cy="242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1000080" y="4357800"/>
            <a:ext cx="271476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амым известной книгой является 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Биб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6643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еродот – «отец истор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 половиной тыс лет назад греческий ученый Геродот написал книгу, в котором описал жизнь других народов. Он назвал свой труд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означает «описание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01640" y="1609560"/>
            <a:ext cx="35845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br>
              <a:rPr sz="44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найдите на карте Европу, Азию, Афр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Users\2\Desktop\Древний мир\World-pol.jpg"/>
          <p:cNvPicPr/>
          <p:nvPr/>
        </p:nvPicPr>
        <p:blipFill>
          <a:blip r:embed="rId1"/>
          <a:stretch/>
        </p:blipFill>
        <p:spPr>
          <a:xfrm>
            <a:off x="457200" y="1773360"/>
            <a:ext cx="822960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значение слов: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я, археолог, вещественный памятник, письменный памятник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6:28:31Z</dcterms:created>
  <dc:creator>2</dc:creator>
  <dc:description/>
  <dc:language>en-US</dc:language>
  <cp:lastModifiedBy>2</cp:lastModifiedBy>
  <dcterms:modified xsi:type="dcterms:W3CDTF">2012-09-18T08:32:56Z</dcterms:modified>
  <cp:revision>2</cp:revision>
  <dc:subject/>
  <dc:title>История Древнего мира</dc:title>
</cp:coreProperties>
</file>