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DD9-15B5-4B22-B43D-D614EE5B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F3E-1EA3-4D7A-A81E-C90AE28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6B7-FA84-44B3-8DC3-97EAEA62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EEF-5103-4FEC-B753-E66C0DB9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90E-1A37-467B-8904-451094DE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059-ED79-46A3-B2C7-445D668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A4A-1350-460D-8E69-3ABD80ED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5A3-013C-48A9-80CD-271081EA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DCD-1924-4C75-ADF5-417BA40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786-416D-4BAE-9063-72DCA23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2B1-3C07-4F30-A07D-2FECFB2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3FB-E052-4927-9A71-A18758E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CD3-F3F6-4E2B-9819-8F4C62B8B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Технология 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изготовления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 куклы-кува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5300640"/>
            <a:ext cx="352872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957920" cy="3710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63640" y="112536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Материал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итец – 30х30 см, 15х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2. Нитки х/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Инстр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Карандаш (ме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Шабл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оследовательность изгото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970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. Обвести шаблоны основы и раскроить два квадрата из сит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989000"/>
            <a:ext cx="20890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4437000"/>
            <a:ext cx="1584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. Большой квадрат свернуть в трубочку, предварительно подогнув края. Сложить пополам, по линии шеи стянуть нитками. Можно добавить немного ваты. Это го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7596000" y="2205000"/>
            <a:ext cx="9349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479280" y="4257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851640" y="3285360"/>
            <a:ext cx="4608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050200">
            <a:off x="4026240" y="3248640"/>
            <a:ext cx="46818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149200">
            <a:off x="6623280" y="4185360"/>
            <a:ext cx="31683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67640" y="2997360"/>
            <a:ext cx="1441440" cy="5029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530000">
            <a:off x="6654240" y="2631600"/>
            <a:ext cx="1879560" cy="43200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. Так же скатать в трубочку маленький квадрат. На обоих концах оставить немного ткани и связать нитками. Это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72428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4724280"/>
            <a:ext cx="1116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4724280"/>
            <a:ext cx="1116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269200">
            <a:off x="2378880" y="5195160"/>
            <a:ext cx="1224000" cy="4255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5004360" y="4580280"/>
            <a:ext cx="1150920" cy="72072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415400">
            <a:off x="2527920" y="4472640"/>
            <a:ext cx="1511280" cy="14436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283280" y="5085360"/>
            <a:ext cx="1224000" cy="647640"/>
          </a:xfrm>
          <a:custGeom>
            <a:avLst/>
            <a:gdLst/>
            <a:ahLst/>
            <a:rect l="l" t="t" r="r" b="b"/>
            <a:pathLst>
              <a:path w="1036" h="378">
                <a:moveTo>
                  <a:pt x="0" y="15"/>
                </a:moveTo>
                <a:cubicBezTo>
                  <a:pt x="390" y="7"/>
                  <a:pt x="780" y="0"/>
                  <a:pt x="908" y="60"/>
                </a:cubicBezTo>
                <a:cubicBezTo>
                  <a:pt x="1036" y="120"/>
                  <a:pt x="786" y="325"/>
                  <a:pt x="771" y="3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382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4. Вложить руки под линией шеи под две трубочки. Перевязать нитками крест-накрест, оформив гру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927200">
            <a:off x="4931640" y="357336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34936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349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2349360"/>
            <a:ext cx="79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4642920" y="357336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832360" y="137628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. Раскроить по шаблонам одежду для национального костюма. Одеть кук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3938400" cy="48513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0600" y="4292280"/>
            <a:ext cx="8362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9:37:58Z</dcterms:created>
  <dc:creator>Вера</dc:creator>
  <dc:description/>
  <dc:language>en-US</dc:language>
  <cp:lastModifiedBy>SamLab.ws</cp:lastModifiedBy>
  <dcterms:modified xsi:type="dcterms:W3CDTF">2010-02-04T05:44:58Z</dcterms:modified>
  <cp:revision>8</cp:revision>
  <dc:subject/>
  <dc:title>Технология   изготовления   куклы-куватки</dc:title>
</cp:coreProperties>
</file>