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898-6B89-4EBE-B2D0-D628971F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FF3-ABF3-4A3A-9895-EB72579E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415-51C9-46A8-B2D8-0F031DBD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4BD-2FF6-4ED5-8621-2D75FEDA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378-47C2-4EFE-9B16-162EC0D4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5AF-9425-49AF-B93A-07C8E4B9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45D-B597-4B6B-B827-3F366E15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E60-4296-4DFA-8ED1-412201F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D30-3732-4208-81BC-38EBA394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78E-406F-4542-90A7-478740E5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1AF-79EC-4876-8A76-4A85387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A03-6613-4B37-BF76-B8C8CBF9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F982-87CD-4E61-AC4C-C5194AAAA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48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Технология 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изготовления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 куклы-кува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360" y="5300640"/>
            <a:ext cx="352872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68360" y="2708280"/>
            <a:ext cx="4957920" cy="37101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63640" y="112536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Материал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Ситец – 30х30 см, 15х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2. Нитки х/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Инстру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ине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Карандаш (ме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ож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Шабл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Последовательность изгото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3970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. Обвести шаблоны основы и раскроить два квадрата из сит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1989000"/>
            <a:ext cx="2089080" cy="208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4437000"/>
            <a:ext cx="1584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2. Большой квадрат свернуть в трубочку, предварительно подогнув края. Сложить пополам, по линии шеи стянуть нитками. Можно добавить немного ваты. Это гол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7596000" y="2205000"/>
            <a:ext cx="9349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6479280" y="425700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851640" y="3285360"/>
            <a:ext cx="4608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050200">
            <a:off x="4026240" y="3248640"/>
            <a:ext cx="46818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149200">
            <a:off x="6623280" y="4185360"/>
            <a:ext cx="31683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67640" y="2997360"/>
            <a:ext cx="1441440" cy="50292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530000">
            <a:off x="6654240" y="2631600"/>
            <a:ext cx="1879560" cy="43200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3. Так же скатать в трубочку маленький квадрат. На обоих концах оставить немного ткани и связать нитками. Это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72428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4724280"/>
            <a:ext cx="11160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4724280"/>
            <a:ext cx="11160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269200">
            <a:off x="2378880" y="5195160"/>
            <a:ext cx="1224000" cy="42552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5004360" y="4580280"/>
            <a:ext cx="1150920" cy="72072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415400">
            <a:off x="2527920" y="4472640"/>
            <a:ext cx="1511280" cy="14436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283280" y="5085360"/>
            <a:ext cx="1224000" cy="64764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382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4. Вложить руки под линией шеи под две трубочки. Перевязать нитками крест-накрест, оформив груд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4927200">
            <a:off x="4931640" y="3573360"/>
            <a:ext cx="3384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349360"/>
            <a:ext cx="2303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349360"/>
            <a:ext cx="79200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2349360"/>
            <a:ext cx="79200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4642920" y="3573360"/>
            <a:ext cx="3384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5832360" y="1376280"/>
            <a:ext cx="1079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5. Раскроить по шаблонам одежду для национального костюма. Одеть кук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3938400" cy="48513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0600" y="4292280"/>
            <a:ext cx="8362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9:37:58Z</dcterms:created>
  <dc:creator>Вера</dc:creator>
  <dc:description/>
  <dc:language>en-US</dc:language>
  <cp:lastModifiedBy>SamLab.ws</cp:lastModifiedBy>
  <dcterms:modified xsi:type="dcterms:W3CDTF">2010-02-04T05:44:58Z</dcterms:modified>
  <cp:revision>8</cp:revision>
  <dc:subject/>
  <dc:title>Технология   изготовления   куклы-куватки</dc:title>
</cp:coreProperties>
</file>