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523-1677-4366-A339-7811C715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B4B-5716-4C5E-95E8-D42C8BEC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922-CC12-4EE1-BD92-71FAB99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3E6-6333-4C41-83DC-CADDBC76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2EB-58C8-4E38-82C1-B8664129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E9A-BB43-454E-B673-F85A706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375-7707-471F-B7EB-311605B2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BF1-A3D5-4E07-A16F-78374168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70A-F553-4181-8574-DB5E895C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268-9271-4FB1-8EDB-809764C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334-28D0-4D15-9FFE-952B851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422-1E58-427F-ACCF-9C0506E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D5C-1959-48B4-A0F5-685B98AE2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00720" y="115920"/>
            <a:ext cx="446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мы сделал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миро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11280" y="836640"/>
            <a:ext cx="79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Это же лоно нашей плане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55640" y="189000"/>
            <a:ext cx="777708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 же животны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00000" y="476280"/>
            <a:ext cx="7115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ак же лесные троп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692280"/>
            <a:ext cx="63356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згляни, что мы сделал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58920" y="836640"/>
            <a:ext cx="669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цветущие поля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1413000"/>
            <a:ext cx="64087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как же все мечт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333360"/>
            <a:ext cx="7345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ть ли у нас еще врем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26920" y="3860640"/>
            <a:ext cx="4969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мор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5950080"/>
            <a:ext cx="785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Небеса падают вни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95280" y="260280"/>
            <a:ext cx="8064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могу даже вздохну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ценность природ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1:37:19Z</dcterms:created>
  <dc:creator>пользователь</dc:creator>
  <dc:description/>
  <dc:language>en-US</dc:language>
  <cp:lastModifiedBy>пользователь</cp:lastModifiedBy>
  <dcterms:modified xsi:type="dcterms:W3CDTF">2014-01-03T13:25:53Z</dcterms:modified>
  <cp:revision>11</cp:revision>
  <dc:subject/>
  <dc:title>Слайд 1</dc:title>
</cp:coreProperties>
</file>