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C1D-E2E4-4D74-86D8-393C0A1E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F10-832B-4A9F-B3B8-C3AEA056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02B-698F-4B84-8449-43EB5E4E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149-EE2E-4396-9F95-B664BF32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797-20D2-474C-908F-6D6A058B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933-FC75-48AF-9361-CAF6808E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026-9332-4676-8606-A47AC399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760-DE57-4D3C-AE78-418BB1D0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18D-753F-4F98-87FF-47F5C909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BEF-34FC-4D19-85D4-3590BD4B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BC3-2749-499F-912F-D45952B2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7B2-143E-4CD1-9B6E-F69B45F8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8797-752A-4030-AA29-E1E4F09D8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00720" y="115920"/>
            <a:ext cx="446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то мы сделал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миром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11280" y="836640"/>
            <a:ext cx="799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Это же лоно нашей плане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55640" y="189000"/>
            <a:ext cx="777708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ак же животны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900000" y="476280"/>
            <a:ext cx="71154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Как же лесные тропы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340000" y="692280"/>
            <a:ext cx="63356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Взгляни, что мы сделали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258920" y="836640"/>
            <a:ext cx="6697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же цветущие поля?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692360" y="1413000"/>
            <a:ext cx="640872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как же все мечты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11280" y="333360"/>
            <a:ext cx="73454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ть ли у нас еще время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826920" y="3860640"/>
            <a:ext cx="49690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же моря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042920" y="5950080"/>
            <a:ext cx="785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Небеса падают вни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95280" y="260280"/>
            <a:ext cx="80643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 не могу даже вздохнут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95280" y="18900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же ценность природы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01:37:19Z</dcterms:created>
  <dc:creator>пользователь</dc:creator>
  <dc:description/>
  <dc:language>en-US</dc:language>
  <cp:lastModifiedBy>пользователь</cp:lastModifiedBy>
  <dcterms:modified xsi:type="dcterms:W3CDTF">2014-01-03T13:25:53Z</dcterms:modified>
  <cp:revision>11</cp:revision>
  <dc:subject/>
  <dc:title>Слайд 1</dc:title>
</cp:coreProperties>
</file>