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B66E-36AA-433C-83D8-A23CDAB0B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95ED-2D61-42A0-B363-7662F66E4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9C28-8B1F-49D5-9DB9-31238C028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CE65-C124-464F-A3D0-794FAC8FF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587372-E089-4792-9289-233E07D21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7E3D5F-85DB-403B-9224-4CB7E6876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3B03AB-AEE1-4ACD-843E-45517B6CA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3B0D70-16B9-40E2-B52A-5917EFA3D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CFCC5B-5B7E-4A5A-B3EC-832C4C35C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AB3ED4-6406-4A73-B767-AB25DE5D6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36E598-6BE3-437C-98C9-201BC541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A124-979C-42D3-BD64-E0A5F8D77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4850E6-5358-4F59-92F4-CD26B179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0D1BE0-81C9-40AA-9205-8CD777DD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C85DC8-2CCE-4318-A391-94DDA0A5E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747B3B-8CDF-400B-9CC7-2ECDA7F78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6F8726-D30F-4B23-A33A-60B1EF292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5756-8533-443C-AB88-10B03E296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E440-2062-4AFE-A2C2-312C52B36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2E31-0EB7-401D-A028-25465BD7A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6DBB-150D-41CA-8157-8F7501122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C73F-5303-4E65-B141-EA1E23BFE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464A-7F4E-4377-80D0-3450C70E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8051-F7D3-4C1A-8FD7-48470B441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EA98B-2FB5-47EC-8062-A54C5924DB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5926E-ACD6-40CC-A45C-A8C6634233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ahoma"/>
              </a:rPr>
              <a:t>Франсиско Писарро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исхождение и молодость Франсиско Писарр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325116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исарро родился в городе Трухильо в Эстремадуре. Точная дата его рождения неизвестна, в качестве вариантов называют 1471, 1475, 1476 и 1478 г. Традиционно днем рождения конкистадора считается 16 марта. Сведений о ранних годах жизни также немного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635280" y="1996920"/>
            <a:ext cx="5508720" cy="48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исарро не знал грамоты, из чего можно сделать вывод, что его воспитанием и обучением никто особенно не занимался, поскольку юность свою он провёл среди крестьян. Имел прозвище «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El Ropero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» — «сын кастелянши», поскольку его мать имела прозвище «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la Ropera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» — «Кастелянша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796000" y="-360"/>
            <a:ext cx="3348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ывший свинопас, Писарро в юности стал солдатом, а затем отправился искать счастья в новый Свет, где и услышал о сокровищах Пер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300720" y="2997360"/>
            <a:ext cx="2378160" cy="3625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98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98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оходы Франсиско Писарро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41860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ве первые попытки вторгнуться туда оказались неудачными, но в третий раз редкое упорство и энергия Писарро принесли ему успех. Воспользовавшись борьбой за власть в государстве инков, Писарро во главе отряда из двухсот солдат вступил в его пределы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427640" y="1916280"/>
            <a:ext cx="4454280" cy="4019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932000" y="0"/>
            <a:ext cx="42116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ерховный инка (таков был титул правителя Тауантинсуйю) Атауальпа согласился встретиться с Писарро. Действуя с беспримерным вероломством, маленький отряд испанцев захватил Атауальпу в плен и потребовал за него огромный выкуп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08000" y="1682640"/>
            <a:ext cx="5256000" cy="394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000" y="1628280"/>
            <a:ext cx="4608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гда большая часть выкупа – свыше 6 тонн золота и серебра – была внесена, Писарро вероломно казнил Атауальпа, а затем овладел столицей страны, Куско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364000" y="2205000"/>
            <a:ext cx="3780000" cy="3459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3635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скоре империя инков была окончательно разгромлен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56000" y="3068640"/>
            <a:ext cx="2987640" cy="37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 концу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XVI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. испанцы захватили всю Центральную и Южную Америку, за исключением Бразилии, Оставшейся за португальца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26920" y="1844640"/>
            <a:ext cx="3597480" cy="501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6T16:01:36Z</dcterms:created>
  <dc:creator>Customer</dc:creator>
  <dc:description/>
  <dc:language>en-US</dc:language>
  <cp:lastModifiedBy>Customer</cp:lastModifiedBy>
  <dcterms:modified xsi:type="dcterms:W3CDTF">2011-09-06T18:19:55Z</dcterms:modified>
  <cp:revision>3</cp:revision>
  <dc:subject/>
  <dc:title>Франсиско Писарро</dc:title>
</cp:coreProperties>
</file>