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E7A-608E-4BD6-8453-23D6C935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D77F-1219-421E-9F96-C7EB9826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B759-01CC-4B5A-BCE4-3B6C135E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1B3-BE44-47B1-9D25-5BD52F10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19BFC-CDD5-45AC-9474-2999F34A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2AAEA-8B89-4E63-BB48-006DA6AA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0D96C-C505-4344-B5CB-EA4FE9B7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7AF5A-BA84-4C8C-9EA4-A6E195F7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A8D74-9F66-4FC8-B0C6-E61D8A52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2645C-E595-4B19-BFA2-AA713AC8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EF4AA-679D-4953-8E6B-538D4313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00BE-F2CA-4043-AB45-7707C22D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315B0-580E-4151-8690-5D10F8BF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871A8-895E-45D3-8509-218F602F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3B004-FED9-4FB1-ACEF-6CAE4BC3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24A07-A099-4554-B11D-E28EF963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753DB-3A01-4827-A1F7-D8F19D6B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F58-D853-4208-964F-AF11AC77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FE5-97CB-404F-9281-93A419CC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6A6E-BC4C-47D4-B718-423F8C18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2916-E25D-490B-BC3E-06D07245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39C-736E-446D-938A-CE785C07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1F46-ABD7-40F2-9A40-9976D839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9B2-2F8B-466D-B48B-D855A5D3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C641-97FC-4266-98C9-104797560C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64DF-32F2-4BC9-B644-EAB9F1FA5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Франсиско Писарр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схождение и молодость Франсиско Писарр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32511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сарро родился в городе Трухильо в Эстремадуре. Точная дата его рождения неизвестна, в качестве вариантов называют 1471, 1475, 1476 и 1478 г. Традиционно днем рождения конкистадора считается 16 марта. Сведений о ранних годах жизни также немно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635280" y="1996920"/>
            <a:ext cx="550872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сарро не знал грамоты, из чего можно сделать вывод, что его воспитанием и обучением никто особенно не занимался, поскольку юность свою он провёл среди крестьян. Имел прозвище «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El Roper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 — «сын кастелянши», поскольку его мать имела прозвище «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la Roper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 — «Кастелянша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96000" y="-360"/>
            <a:ext cx="3348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вший свинопас, Писарро в юности стал солдатом, а затем отправился искать счастья в новый Свет, где и услышал о сокровищах Пе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300720" y="2997360"/>
            <a:ext cx="2378160" cy="3625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ходы Франсиско Писарр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186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е первые попытки вторгнуться туда оказались неудачными, но в третий раз редкое упорство и энергия Писарро принесли ему успех. Воспользовавшись борьбой за власть в государстве инков, Писарро во главе отряда из двухсот солдат вступил в его предел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454280" cy="40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32000" y="0"/>
            <a:ext cx="4211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ховный инка (таков был титул правителя Тауантинсуйю) Атауальпа согласился встретиться с Писарро. Действуя с беспримерным вероломством, маленький отряд испанцев захватил Атауальпу в плен и потребовал за него огромный выкуп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8000" y="1682640"/>
            <a:ext cx="5256000" cy="394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460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гда большая часть выкупа – свыше 6 тонн золота и серебра – была внесена, Писарро вероломно казнил Атауальпа, а затем овладел столицей страны, Куск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64000" y="2205000"/>
            <a:ext cx="3780000" cy="3459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3635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коре империя инков была окончательно разгромле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56000" y="3068640"/>
            <a:ext cx="298764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концу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. испанцы захватили всю Центральную и Южную Америку, за исключением Бразилии, Оставшейся за португальц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359748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6:01:36Z</dcterms:created>
  <dc:creator>Customer</dc:creator>
  <dc:description/>
  <dc:language>en-US</dc:language>
  <cp:lastModifiedBy>Customer</cp:lastModifiedBy>
  <dcterms:modified xsi:type="dcterms:W3CDTF">2011-09-06T18:19:55Z</dcterms:modified>
  <cp:revision>3</cp:revision>
  <dc:subject/>
  <dc:title>Франсиско Писарро</dc:title>
</cp:coreProperties>
</file>