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5DF-8DFF-4CF2-BCDA-DC6B7516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14A-A4B5-454E-A802-7E0F38E9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C74-DDFA-4035-8760-6B33DAAF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4DC-7A1D-45EA-BC45-3013D1E0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20CE0-83B0-42FE-8B38-AA787DC4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7EDF8-4BA9-4DFE-B240-439C8898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0BB6B-2C9D-49F9-B0A0-15E57C63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32CAA-35F9-4FDD-95E8-791406C0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49893-5DD3-4307-8511-B5806BE6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645A2-943C-44DD-B6F3-BF35BE0B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EC934-93CD-4F5B-A0F2-AF9B3ABD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212-B939-4A3B-A709-68FFD2CB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AF261-A2BC-4DEF-945D-A92A862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1B36F-5790-48EB-BF8C-B546E3AE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9E522-1FBD-4F9E-94AC-2005717F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4870F-4D47-43EC-9A80-C776553E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AD37B-4A81-45D1-B29D-2A17DB44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224-444C-40C7-9180-D1E5C948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4D8-2AFD-4C94-B999-6B502DC1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974-7E07-4ACC-8FEF-D0B7200C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F06-3B2C-4099-B521-19927083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E15-A27D-497A-9A8F-8026AB31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FE3-9978-4D54-8F1D-BD1A358C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8BF-275C-488E-A360-A82F7D7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3C60-B3F4-4DCB-87F9-1EE09A18A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BB5A-FCFD-45C0-BAF8-F871B3F7F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Франсиско Писарр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ждение и молодость Франсиско Писар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32511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рро родился в городе Трухильо в Эстремадуре. Точная дата его рождения неизвестна, в качестве вариантов называют 1471, 1475, 1476 и 1478 г. Традиционно днем рождения конкистадора считается 16 марта. Сведений о ранних годах жизни также нем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35280" y="1996920"/>
            <a:ext cx="550872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рро не знал грамоты, из чего можно сделать вывод, что его воспитанием и обучением никто особенно не занимался, поскольку юность свою он провёл среди крестьян. Имел прозвище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El Roper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 — «сын кастелянши», поскольку его мать имела прозвище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la Roper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 — «Кастелянш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-360"/>
            <a:ext cx="3348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вший свинопас, Писарро в юности стал солдатом, а затем отправился искать счастья в новый Свет, где и услышал о сокровищах П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378160" cy="36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ходы Франсиско Писарр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е первые попытки вторгнуться туда оказались неудачными, но в третий раз редкое упорство и энергия Писарро принесли ему успех. Воспользовавшись борьбой за власть в государстве инков, Писарро во главе отряда из двухсот солдат вступил в его предел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454280" cy="40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ховный инка (таков был титул правителя Тауантинсуйю) Атауальпа согласился встретиться с Писарро. Действуя с беспримерным вероломством, маленький отряд испанцев захватил Атауальпу в плен и потребовал за него огромный выкуп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8000" y="1682640"/>
            <a:ext cx="5256000" cy="39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460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большая часть выкупа – свыше 6 тонн золота и серебра – была внесена, Писарро вероломно казнил Атауальпа, а затем овладел столицей страны, Куск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3780000" cy="345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3635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коре империя инков была окончательно разгромл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56000" y="3068640"/>
            <a:ext cx="298764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конц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 испанцы захватили всю Центральную и Южную Америку, за исключением Бразилии, Оставшейся за португальц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35974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6:01:36Z</dcterms:created>
  <dc:creator>Customer</dc:creator>
  <dc:description/>
  <dc:language>en-US</dc:language>
  <cp:lastModifiedBy>Customer</cp:lastModifiedBy>
  <dcterms:modified xsi:type="dcterms:W3CDTF">2011-09-06T18:19:55Z</dcterms:modified>
  <cp:revision>3</cp:revision>
  <dc:subject/>
  <dc:title>Франсиско Писарро</dc:title>
</cp:coreProperties>
</file>