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6.gif" ContentType="image/gif"/>
  <Override PartName="/ppt/media/image5.jpeg" ContentType="image/jpeg"/>
  <Override PartName="/ppt/media/image8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wmf" ContentType="image/x-wmf"/>
  <Override PartName="/ppt/media/image4.jpeg" ContentType="image/jpeg"/>
  <Override PartName="/ppt/media/image22.gif" ContentType="image/gif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6DC-D561-478E-B18E-C424AEFD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E15-69F2-410C-9A31-561462E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36D-82A0-4662-A4E8-3ADF15DF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A5C-8010-46FB-8E42-B650DF19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B76-D936-4B41-BF57-CF2595CF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6C5-80BD-45A2-9AD4-75CAA2D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EA8-DC2B-4A09-A204-B185724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EA7-45D1-4F44-8115-54C7B37E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41D-6838-437A-9755-43874718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075-C69B-4279-B914-25386A8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8AD-0325-49D9-8F5D-790F25EC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C44-AE89-493A-9CA3-9529120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0ED-6F86-4495-99AE-A638BEE58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is.clan.su/forum/15-104-1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86;&#1103;&#1089;&#1085;&#1080;&#1090;&#1077;&#1083;&#1100;&#1085;&#1072;&#1103;%20&#1079;&#1072;&#1087;&#1080;&#1089;&#1082;&#1072;.doc" TargetMode="External"/><Relationship Id="rId2" Type="http://schemas.openxmlformats.org/officeDocument/2006/relationships/hyperlink" Target="file:///&#1050;&#1086;&#1085;&#1089;&#1087;&#1077;&#1082;&#1090;%20&#1091;&#1088;&#1086;&#1082;&#1072;.doc" TargetMode="Externa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hyperlink" Target="file:///&#1054;&#1092;&#1090;&#1072;&#1083;&#1100;&#1084;&#1086;&#1083;&#1086;&#1075;&#1080;&#1095;&#1077;&#1089;&#1082;&#1072;&#1103;%20&#1087;&#1072;&#1091;&#1079;&#1072;.doc" TargetMode="External"/><Relationship Id="rId6" Type="http://schemas.openxmlformats.org/officeDocument/2006/relationships/hyperlink" Target="file:///&#1051;&#1080;&#1090;&#1077;&#1088;&#1072;&#1090;&#1091;&#1088;&#1072;.doc" TargetMode="External"/><Relationship Id="rId7" Type="http://schemas.openxmlformats.org/officeDocument/2006/relationships/hyperlink" Target="file:///&#1089;&#1086;&#1095;&#1080;&#1085;&#1077;&#1085;&#1080;&#1103;.doc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baskin-robins.summer-breath.com/post/463470" TargetMode="External"/><Relationship Id="rId3" Type="http://schemas.openxmlformats.org/officeDocument/2006/relationships/hyperlink" Target="http://baskin-robins.summer-breath.com/post/463470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30840" y="3933720"/>
            <a:ext cx="4964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: А.А ПЛЕШАКОВ «МИР ВОКРУГ НА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727920" y="5786280"/>
            <a:ext cx="730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ушатель курса –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образовательной санаторной школы - интерната ГОУ «Балтийский бере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злова В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0292982"/>
          <p:cNvPicPr/>
          <p:nvPr/>
        </p:nvPicPr>
        <p:blipFill>
          <a:blip r:embed="rId1"/>
          <a:stretch/>
        </p:blipFill>
        <p:spPr>
          <a:xfrm>
            <a:off x="5724360" y="2637000"/>
            <a:ext cx="277992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972360" y="1557360"/>
            <a:ext cx="73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урока по курсу «Окружающий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спользованием П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08360" y="260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712600" y="211536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392120" y="5025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снег"/>
          <p:cNvPicPr/>
          <p:nvPr/>
        </p:nvPicPr>
        <p:blipFill>
          <a:blip r:embed="rId1"/>
          <a:stretch/>
        </p:blipFill>
        <p:spPr>
          <a:xfrm>
            <a:off x="539640" y="4797360"/>
            <a:ext cx="127008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дождь2"/>
          <p:cNvPicPr/>
          <p:nvPr/>
        </p:nvPicPr>
        <p:blipFill>
          <a:blip r:embed="rId2"/>
          <a:stretch/>
        </p:blipFill>
        <p:spPr>
          <a:xfrm>
            <a:off x="7164360" y="3645000"/>
            <a:ext cx="1270080" cy="1028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3147840" y="6226200"/>
            <a:ext cx="32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8360" y="3645000"/>
            <a:ext cx="5327640" cy="78552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лучилось с водяным паром? (тум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132000" y="4941720"/>
            <a:ext cx="4753080" cy="78552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г – что это такое? (сне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10160" y="19162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бота в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11280" y="1197000"/>
            <a:ext cx="396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3708360" y="2781360"/>
            <a:ext cx="4753080" cy="58140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уда взялись облака? (дожд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556000" y="501336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468360" y="6021360"/>
            <a:ext cx="4680000" cy="58140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дождь никому не нужен? (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7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8">
            <a:hlinkClick r:id="rId3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9" descr="земля"/>
          <p:cNvPicPr/>
          <p:nvPr/>
        </p:nvPicPr>
        <p:blipFill>
          <a:blip r:embed="rId4"/>
          <a:stretch/>
        </p:blipFill>
        <p:spPr>
          <a:xfrm>
            <a:off x="3348000" y="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круговорот"/>
          <p:cNvPicPr/>
          <p:nvPr/>
        </p:nvPicPr>
        <p:blipFill>
          <a:blip r:embed="rId1"/>
          <a:srcRect l="2570" t="3880" r="3842" b="3847"/>
          <a:stretch/>
        </p:blipFill>
        <p:spPr>
          <a:xfrm>
            <a:off x="971640" y="2565360"/>
            <a:ext cx="7127640" cy="3673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539640" y="33336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снове услышанного сделайте вывод о движении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движется в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7264440" y="6564240"/>
            <a:ext cx="168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2268360" y="1700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к р у г о в о р о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>
            <a:hlinkClick r:id="" action="ppaction://hlinkshowjump?jump=nextslide"/>
          </p:cNvPr>
          <p:cNvSpPr/>
          <p:nvPr/>
        </p:nvSpPr>
        <p:spPr>
          <a:xfrm>
            <a:off x="860436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>
            <a:hlinkClick r:id="rId2" action="ppaction://hlinksldjump"/>
          </p:cNvPr>
          <p:cNvSpPr/>
          <p:nvPr/>
        </p:nvSpPr>
        <p:spPr>
          <a:xfrm>
            <a:off x="817236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539640" y="1052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 сложным словом можно назвать этот процес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1268280"/>
            <a:ext cx="70387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ейчас я предлагаю вам посмотреть некоторый процесс и определить является ли этот процесс круговорот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пыт с чайником и тарел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previousslide"/>
          </p:cNvPr>
          <p:cNvSpPr/>
          <p:nvPr/>
        </p:nvSpPr>
        <p:spPr>
          <a:xfrm>
            <a:off x="766764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3794" y="21654"/>
                </a:moveTo>
                <a:lnTo>
                  <a:pt x="17806" y="14648"/>
                </a:lnTo>
                <a:lnTo>
                  <a:pt x="17806" y="286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3794" y="14648"/>
                </a:moveTo>
                <a:lnTo>
                  <a:pt x="17806" y="21654"/>
                </a:lnTo>
                <a:lnTo>
                  <a:pt x="3794" y="286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rId2" action="ppaction://hlinksldjump"/>
          </p:cNvPr>
          <p:cNvSpPr/>
          <p:nvPr/>
        </p:nvSpPr>
        <p:spPr>
          <a:xfrm>
            <a:off x="810108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10800" y="14691"/>
                </a:moveTo>
                <a:lnTo>
                  <a:pt x="13376" y="17302"/>
                </a:lnTo>
                <a:lnTo>
                  <a:pt x="13376" y="15561"/>
                </a:lnTo>
                <a:lnTo>
                  <a:pt x="15152" y="15561"/>
                </a:lnTo>
                <a:lnTo>
                  <a:pt x="15152" y="19078"/>
                </a:lnTo>
                <a:lnTo>
                  <a:pt x="17763" y="21654"/>
                </a:lnTo>
                <a:lnTo>
                  <a:pt x="16109" y="21654"/>
                </a:lnTo>
                <a:lnTo>
                  <a:pt x="16109" y="28843"/>
                </a:lnTo>
                <a:lnTo>
                  <a:pt x="5491" y="28843"/>
                </a:lnTo>
                <a:lnTo>
                  <a:pt x="5491" y="21654"/>
                </a:lnTo>
                <a:lnTo>
                  <a:pt x="3837" y="21654"/>
                </a:lnTo>
                <a:close/>
              </a:path>
              <a:path fill="darkenLess" w="21600" h="43308">
                <a:moveTo>
                  <a:pt x="13376" y="17302"/>
                </a:moveTo>
                <a:lnTo>
                  <a:pt x="13376" y="15561"/>
                </a:lnTo>
                <a:lnTo>
                  <a:pt x="15152" y="15561"/>
                </a:lnTo>
                <a:lnTo>
                  <a:pt x="15152" y="19078"/>
                </a:lnTo>
                <a:close/>
              </a:path>
              <a:path fill="darkenLess" w="21600" h="43308">
                <a:moveTo>
                  <a:pt x="9877" y="25153"/>
                </a:moveTo>
                <a:lnTo>
                  <a:pt x="11723" y="25153"/>
                </a:lnTo>
                <a:lnTo>
                  <a:pt x="11723" y="28843"/>
                </a:lnTo>
                <a:lnTo>
                  <a:pt x="16109" y="28843"/>
                </a:lnTo>
                <a:lnTo>
                  <a:pt x="16109" y="21654"/>
                </a:lnTo>
                <a:lnTo>
                  <a:pt x="5491" y="21654"/>
                </a:lnTo>
                <a:lnTo>
                  <a:pt x="5491" y="28843"/>
                </a:lnTo>
                <a:lnTo>
                  <a:pt x="9877" y="288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17.mid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7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971640" y="54936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Arial"/>
              </a:rPr>
              <a:t>Молодцы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те на капельку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ода путешественница,  то и капелька то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ьте, где и как может путешествовать капель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пишите сочинение об этом путеше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476360" y="2851920"/>
            <a:ext cx="51832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Arial"/>
              </a:rPr>
              <a:t>Темы сочин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ак вырос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Что случилось с водяным па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Снег – что это так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акой дождь никому не нуж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капля"/>
          <p:cNvPicPr/>
          <p:nvPr/>
        </p:nvPicPr>
        <p:blipFill>
          <a:blip r:embed="rId2"/>
          <a:stretch/>
        </p:blipFill>
        <p:spPr>
          <a:xfrm>
            <a:off x="7308720" y="2349360"/>
            <a:ext cx="1617840" cy="20894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4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>
            <a:hlinkClick r:id="" action="ppaction://hlinkshowjump?jump=nextslide"/>
          </p:cNvPr>
          <p:cNvSpPr/>
          <p:nvPr/>
        </p:nvSpPr>
        <p:spPr>
          <a:xfrm>
            <a:off x="8604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rId3" action="ppaction://hlinksldjump"/>
          </p:cNvPr>
          <p:cNvSpPr/>
          <p:nvPr/>
        </p:nvSpPr>
        <p:spPr>
          <a:xfrm>
            <a:off x="8172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1116000" y="765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очень довольна вашей работой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1619280" y="2852640"/>
            <a:ext cx="5473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AutoShape 7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1210320" y="3714840"/>
            <a:ext cx="29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is.clan.su/forum/15-104-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992880" y="2143080"/>
            <a:ext cx="29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ihi.ru/2011/09/06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143000" y="3286440"/>
            <a:ext cx="47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baskin-robins.summer-breath.com/post/46347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144800" y="2928960"/>
            <a:ext cx="28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boardru.monstersgame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073160" y="257184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kp.ru/daily/25673.4/83330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928800" y="214200"/>
            <a:ext cx="6072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чебник А.А.Плешаков «Мир вокруг н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.Фефилова  Разработки уроков по курсу  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1852560" y="56844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403280" y="170028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нспект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борудование</a:t>
            </a:r>
            <a:r>
              <a:rPr b="1" lang="ru-RU" sz="24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емонстрацио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фтальмологическая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ополнительный материал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216000" cy="431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128">
                <a:moveTo>
                  <a:pt x="0" y="0"/>
                </a:moveTo>
                <a:lnTo>
                  <a:pt x="21600" y="0"/>
                </a:lnTo>
                <a:lnTo>
                  <a:pt x="21600" y="43128"/>
                </a:lnTo>
                <a:lnTo>
                  <a:pt x="0" y="43128"/>
                </a:lnTo>
                <a:close/>
              </a:path>
              <a:path fill="lightenLess" w="21600" h="431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28">
                <a:moveTo>
                  <a:pt x="21600" y="0"/>
                </a:moveTo>
                <a:lnTo>
                  <a:pt x="21600" y="43128"/>
                </a:lnTo>
                <a:lnTo>
                  <a:pt x="20200" y="41728"/>
                </a:lnTo>
                <a:lnTo>
                  <a:pt x="20200" y="1400"/>
                </a:lnTo>
                <a:close/>
              </a:path>
              <a:path fill="darkenLess" w="21600" h="43128">
                <a:moveTo>
                  <a:pt x="21600" y="43128"/>
                </a:moveTo>
                <a:lnTo>
                  <a:pt x="0" y="43128"/>
                </a:lnTo>
                <a:lnTo>
                  <a:pt x="1400" y="41728"/>
                </a:lnTo>
                <a:lnTo>
                  <a:pt x="20200" y="41728"/>
                </a:lnTo>
                <a:close/>
              </a:path>
              <a:path fill="lighten" w="21600" h="43128">
                <a:moveTo>
                  <a:pt x="0" y="4312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28"/>
                </a:lnTo>
                <a:close/>
              </a:path>
              <a:path fill="darken" w="21600" h="43128">
                <a:moveTo>
                  <a:pt x="3794" y="21564"/>
                </a:moveTo>
                <a:lnTo>
                  <a:pt x="17806" y="14558"/>
                </a:lnTo>
                <a:lnTo>
                  <a:pt x="17806" y="285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>
            <a:hlinkClick r:id="" action="ppaction://hlinkshowjump?jump=nextslide"/>
          </p:cNvPr>
          <p:cNvSpPr/>
          <p:nvPr/>
        </p:nvSpPr>
        <p:spPr>
          <a:xfrm>
            <a:off x="8677440" y="6237360"/>
            <a:ext cx="215640" cy="431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  <a:path fill="darken" w="21600" h="43200">
                <a:moveTo>
                  <a:pt x="3794" y="14594"/>
                </a:moveTo>
                <a:lnTo>
                  <a:pt x="17806" y="21600"/>
                </a:lnTo>
                <a:lnTo>
                  <a:pt x="3794" y="286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>
            <a:hlinkClick r:id="rId8" action="ppaction://hlinksldjump"/>
          </p:cNvPr>
          <p:cNvSpPr/>
          <p:nvPr/>
        </p:nvSpPr>
        <p:spPr>
          <a:xfrm>
            <a:off x="8388360" y="6237360"/>
            <a:ext cx="216000" cy="431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128">
                <a:moveTo>
                  <a:pt x="0" y="0"/>
                </a:moveTo>
                <a:lnTo>
                  <a:pt x="21600" y="0"/>
                </a:lnTo>
                <a:lnTo>
                  <a:pt x="21600" y="43128"/>
                </a:lnTo>
                <a:lnTo>
                  <a:pt x="0" y="43128"/>
                </a:lnTo>
                <a:close/>
              </a:path>
              <a:path fill="lightenLess" w="21600" h="431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28">
                <a:moveTo>
                  <a:pt x="21600" y="0"/>
                </a:moveTo>
                <a:lnTo>
                  <a:pt x="21600" y="43128"/>
                </a:lnTo>
                <a:lnTo>
                  <a:pt x="20200" y="41728"/>
                </a:lnTo>
                <a:lnTo>
                  <a:pt x="20200" y="1400"/>
                </a:lnTo>
                <a:close/>
              </a:path>
              <a:path fill="darkenLess" w="21600" h="43128">
                <a:moveTo>
                  <a:pt x="21600" y="43128"/>
                </a:moveTo>
                <a:lnTo>
                  <a:pt x="0" y="43128"/>
                </a:lnTo>
                <a:lnTo>
                  <a:pt x="1400" y="41728"/>
                </a:lnTo>
                <a:lnTo>
                  <a:pt x="20200" y="41728"/>
                </a:lnTo>
                <a:close/>
              </a:path>
              <a:path fill="lighten" w="21600" h="43128">
                <a:moveTo>
                  <a:pt x="0" y="4312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28"/>
                </a:lnTo>
                <a:close/>
              </a:path>
              <a:path fill="darken" w="21600" h="43128">
                <a:moveTo>
                  <a:pt x="10800" y="14601"/>
                </a:moveTo>
                <a:lnTo>
                  <a:pt x="13376" y="17212"/>
                </a:lnTo>
                <a:lnTo>
                  <a:pt x="13376" y="15471"/>
                </a:lnTo>
                <a:lnTo>
                  <a:pt x="15152" y="15471"/>
                </a:lnTo>
                <a:lnTo>
                  <a:pt x="15152" y="18988"/>
                </a:lnTo>
                <a:lnTo>
                  <a:pt x="17763" y="21564"/>
                </a:lnTo>
                <a:lnTo>
                  <a:pt x="16109" y="21564"/>
                </a:lnTo>
                <a:lnTo>
                  <a:pt x="16109" y="28753"/>
                </a:lnTo>
                <a:lnTo>
                  <a:pt x="5491" y="28753"/>
                </a:lnTo>
                <a:lnTo>
                  <a:pt x="5491" y="21564"/>
                </a:lnTo>
                <a:lnTo>
                  <a:pt x="3837" y="21564"/>
                </a:lnTo>
                <a:close/>
              </a:path>
              <a:path fill="darkenLess" w="21600" h="43128">
                <a:moveTo>
                  <a:pt x="13376" y="17212"/>
                </a:moveTo>
                <a:lnTo>
                  <a:pt x="13376" y="15471"/>
                </a:lnTo>
                <a:lnTo>
                  <a:pt x="15152" y="15471"/>
                </a:lnTo>
                <a:lnTo>
                  <a:pt x="15152" y="18988"/>
                </a:lnTo>
                <a:close/>
              </a:path>
              <a:path fill="darkenLess" w="21600" h="43128">
                <a:moveTo>
                  <a:pt x="9877" y="25063"/>
                </a:moveTo>
                <a:lnTo>
                  <a:pt x="11723" y="25063"/>
                </a:lnTo>
                <a:lnTo>
                  <a:pt x="11723" y="28753"/>
                </a:lnTo>
                <a:lnTo>
                  <a:pt x="16109" y="28753"/>
                </a:lnTo>
                <a:lnTo>
                  <a:pt x="16109" y="21564"/>
                </a:lnTo>
                <a:lnTo>
                  <a:pt x="5491" y="21564"/>
                </a:lnTo>
                <a:lnTo>
                  <a:pt x="5491" y="28753"/>
                </a:lnTo>
                <a:lnTo>
                  <a:pt x="9877" y="2875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826920" y="981000"/>
            <a:ext cx="69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оруд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ля проведения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ьютерн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е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лект презентации с необходимым   матери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92982"/>
          <p:cNvPicPr/>
          <p:nvPr/>
        </p:nvPicPr>
        <p:blipFill>
          <a:blip r:embed="rId1"/>
          <a:stretch/>
        </p:blipFill>
        <p:spPr>
          <a:xfrm>
            <a:off x="6659640" y="3645000"/>
            <a:ext cx="2203200" cy="21747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SA34"/>
          <p:cNvPicPr/>
          <p:nvPr/>
        </p:nvPicPr>
        <p:blipFill>
          <a:blip r:embed="rId1"/>
          <a:stretch/>
        </p:blipFill>
        <p:spPr>
          <a:xfrm>
            <a:off x="324000" y="620640"/>
            <a:ext cx="8424720" cy="572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GA0047"/>
          <p:cNvPicPr/>
          <p:nvPr/>
        </p:nvPicPr>
        <p:blipFill>
          <a:blip r:embed="rId2"/>
          <a:stretch/>
        </p:blipFill>
        <p:spPr>
          <a:xfrm>
            <a:off x="179280" y="476280"/>
            <a:ext cx="8713800" cy="621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озеро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8459640" y="6165720"/>
            <a:ext cx="287640" cy="5050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08">
                <a:moveTo>
                  <a:pt x="0" y="0"/>
                </a:moveTo>
                <a:lnTo>
                  <a:pt x="21600" y="0"/>
                </a:lnTo>
                <a:lnTo>
                  <a:pt x="21600" y="37908"/>
                </a:lnTo>
                <a:lnTo>
                  <a:pt x="0" y="37908"/>
                </a:lnTo>
                <a:close/>
              </a:path>
              <a:path fill="lightenLess" w="21600" h="37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08">
                <a:moveTo>
                  <a:pt x="21600" y="0"/>
                </a:moveTo>
                <a:lnTo>
                  <a:pt x="21600" y="37908"/>
                </a:lnTo>
                <a:lnTo>
                  <a:pt x="20200" y="36508"/>
                </a:lnTo>
                <a:lnTo>
                  <a:pt x="20200" y="1400"/>
                </a:lnTo>
                <a:close/>
              </a:path>
              <a:path fill="darkenLess" w="21600" h="37908">
                <a:moveTo>
                  <a:pt x="21600" y="37908"/>
                </a:moveTo>
                <a:lnTo>
                  <a:pt x="0" y="37908"/>
                </a:lnTo>
                <a:lnTo>
                  <a:pt x="1400" y="36508"/>
                </a:lnTo>
                <a:lnTo>
                  <a:pt x="20200" y="36508"/>
                </a:lnTo>
                <a:close/>
              </a:path>
              <a:path fill="lighten" w="21600" h="37908">
                <a:moveTo>
                  <a:pt x="0" y="37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08"/>
                </a:lnTo>
                <a:close/>
              </a:path>
              <a:path fill="darken" w="21600" h="37908">
                <a:moveTo>
                  <a:pt x="3794" y="11948"/>
                </a:moveTo>
                <a:lnTo>
                  <a:pt x="17806" y="18954"/>
                </a:lnTo>
                <a:lnTo>
                  <a:pt x="3794" y="259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rId4" action="ppaction://hlinksldjump"/>
          </p:cNvPr>
          <p:cNvSpPr/>
          <p:nvPr/>
        </p:nvSpPr>
        <p:spPr>
          <a:xfrm>
            <a:off x="8101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водопад"/>
          <p:cNvPicPr/>
          <p:nvPr/>
        </p:nvPicPr>
        <p:blipFill>
          <a:blip r:embed="rId1"/>
          <a:stretch/>
        </p:blipFill>
        <p:spPr>
          <a:xfrm>
            <a:off x="1116000" y="67464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547640" y="6093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476360" y="6165720"/>
            <a:ext cx="6048360" cy="36828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мы будем говорить сегодня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2" descr="море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11280" y="1521360"/>
            <a:ext cx="7920000" cy="4710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920" rIns="90000" tIns="46800" bIns="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 – самое распространенное вещество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 –  символ  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поит и кормит, лечит и заставляет страдать, приносит удовольствие и непоправимый вред. Это хорошо знакомое каждому из нас  с  самого рождения вещество обладает многими необычными свойствами. Она обязательный компонент всех живых организмов: растений, животных, человека. А также участник многих важных процессов в нежив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одним из таких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цессо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 предстоит познакомиться сегодня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b"/>
          <p:cNvPicPr/>
          <p:nvPr/>
        </p:nvPicPr>
        <p:blipFill>
          <a:blip r:embed="rId2"/>
          <a:stretch/>
        </p:blipFill>
        <p:spPr>
          <a:xfrm>
            <a:off x="2771640" y="260280"/>
            <a:ext cx="638280" cy="61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o"/>
          <p:cNvPicPr/>
          <p:nvPr/>
        </p:nvPicPr>
        <p:blipFill>
          <a:blip r:embed="rId3"/>
          <a:stretch/>
        </p:blipFill>
        <p:spPr>
          <a:xfrm>
            <a:off x="3492360" y="260280"/>
            <a:ext cx="638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"/>
          <p:cNvPicPr/>
          <p:nvPr/>
        </p:nvPicPr>
        <p:blipFill>
          <a:blip r:embed="rId4"/>
          <a:stretch/>
        </p:blipFill>
        <p:spPr>
          <a:xfrm>
            <a:off x="4211640" y="26028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"/>
          <p:cNvPicPr/>
          <p:nvPr/>
        </p:nvPicPr>
        <p:blipFill>
          <a:blip r:embed="rId5"/>
          <a:stretch/>
        </p:blipFill>
        <p:spPr>
          <a:xfrm>
            <a:off x="4932360" y="260280"/>
            <a:ext cx="66528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0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>
            <a:hlinkClick r:id="" action="ppaction://hlinkshowjump?jump=nextslide"/>
          </p:cNvPr>
          <p:cNvSpPr/>
          <p:nvPr/>
        </p:nvSpPr>
        <p:spPr>
          <a:xfrm>
            <a:off x="867564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2">
            <a:hlinkClick r:id="rId6" action="ppaction://hlinksldjump"/>
          </p:cNvPr>
          <p:cNvSpPr/>
          <p:nvPr/>
        </p:nvSpPr>
        <p:spPr>
          <a:xfrm>
            <a:off x="831708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781800" y="18900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334520" y="5013360"/>
            <a:ext cx="27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ралась на карни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 повесила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очь слезы пряч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на солнце плач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72680" y="3429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ежит и солнце спряч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еще запла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292720" y="3500280"/>
            <a:ext cx="33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еба к нам прилет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ужился, тихо с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рзшую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убу белую о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сосульки"/>
          <p:cNvPicPr/>
          <p:nvPr/>
        </p:nvPicPr>
        <p:blipFill>
          <a:blip r:embed="rId1"/>
          <a:stretch/>
        </p:blipFill>
        <p:spPr>
          <a:xfrm>
            <a:off x="4140360" y="4724280"/>
            <a:ext cx="1657080" cy="187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снег2"/>
          <p:cNvPicPr/>
          <p:nvPr/>
        </p:nvPicPr>
        <p:blipFill>
          <a:blip r:embed="rId2"/>
          <a:srcRect l="5552" t="5305" r="5591" b="10088"/>
          <a:stretch/>
        </p:blipFill>
        <p:spPr>
          <a:xfrm>
            <a:off x="5219640" y="76500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39_2_1"/>
          <p:cNvPicPr/>
          <p:nvPr/>
        </p:nvPicPr>
        <p:blipFill>
          <a:blip r:embed="rId3"/>
          <a:stretch/>
        </p:blipFill>
        <p:spPr>
          <a:xfrm>
            <a:off x="539640" y="765000"/>
            <a:ext cx="3373560" cy="2313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6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3794" y="19401"/>
                </a:moveTo>
                <a:lnTo>
                  <a:pt x="17806" y="12395"/>
                </a:lnTo>
                <a:lnTo>
                  <a:pt x="17806" y="264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>
            <a:hlinkClick r:id="" action="ppaction://hlinkshowjump?jump=nextslide"/>
          </p:cNvPr>
          <p:cNvSpPr/>
          <p:nvPr/>
        </p:nvSpPr>
        <p:spPr>
          <a:xfrm>
            <a:off x="860436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3794" y="12395"/>
                </a:moveTo>
                <a:lnTo>
                  <a:pt x="17806" y="19401"/>
                </a:lnTo>
                <a:lnTo>
                  <a:pt x="3794" y="264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>
            <a:hlinkClick r:id="rId4" action="ppaction://hlinksldjump"/>
          </p:cNvPr>
          <p:cNvSpPr/>
          <p:nvPr/>
        </p:nvSpPr>
        <p:spPr>
          <a:xfrm>
            <a:off x="817236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10800" y="12438"/>
                </a:moveTo>
                <a:lnTo>
                  <a:pt x="13376" y="15049"/>
                </a:lnTo>
                <a:lnTo>
                  <a:pt x="13376" y="13309"/>
                </a:lnTo>
                <a:lnTo>
                  <a:pt x="15152" y="13309"/>
                </a:lnTo>
                <a:lnTo>
                  <a:pt x="15152" y="16825"/>
                </a:lnTo>
                <a:lnTo>
                  <a:pt x="17763" y="19401"/>
                </a:lnTo>
                <a:lnTo>
                  <a:pt x="16109" y="19401"/>
                </a:lnTo>
                <a:lnTo>
                  <a:pt x="16109" y="26590"/>
                </a:lnTo>
                <a:lnTo>
                  <a:pt x="5491" y="26590"/>
                </a:lnTo>
                <a:lnTo>
                  <a:pt x="5491" y="19401"/>
                </a:lnTo>
                <a:lnTo>
                  <a:pt x="3837" y="19401"/>
                </a:lnTo>
                <a:close/>
              </a:path>
              <a:path fill="darkenLess" w="21600" h="38802">
                <a:moveTo>
                  <a:pt x="13376" y="15049"/>
                </a:moveTo>
                <a:lnTo>
                  <a:pt x="13376" y="13309"/>
                </a:lnTo>
                <a:lnTo>
                  <a:pt x="15152" y="13309"/>
                </a:lnTo>
                <a:lnTo>
                  <a:pt x="15152" y="16825"/>
                </a:lnTo>
                <a:close/>
              </a:path>
              <a:path fill="darkenLess" w="21600" h="38802">
                <a:moveTo>
                  <a:pt x="9877" y="22900"/>
                </a:moveTo>
                <a:lnTo>
                  <a:pt x="11723" y="22900"/>
                </a:lnTo>
                <a:lnTo>
                  <a:pt x="11723" y="26590"/>
                </a:lnTo>
                <a:lnTo>
                  <a:pt x="16109" y="26590"/>
                </a:lnTo>
                <a:lnTo>
                  <a:pt x="16109" y="19401"/>
                </a:lnTo>
                <a:lnTo>
                  <a:pt x="5491" y="19401"/>
                </a:lnTo>
                <a:lnTo>
                  <a:pt x="5491" y="26590"/>
                </a:lnTo>
                <a:lnTo>
                  <a:pt x="9877" y="265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9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4619880" cy="3071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289840" y="356760"/>
            <a:ext cx="25520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-за тума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полян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рек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ру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йти свой дом -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м да дым круг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88400" y="3928680"/>
            <a:ext cx="3531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ер был не в меру весе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ять накуролеси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ь радоваться граду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не рад, и вы не ра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тот, кто се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жай всегда жале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>
            <a:hlinkClick r:id="" action="ppaction://hlinkshowjump?jump=nextslide"/>
          </p:cNvPr>
          <p:cNvSpPr/>
          <p:nvPr/>
        </p:nvSpPr>
        <p:spPr>
          <a:xfrm>
            <a:off x="867564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>
            <a:hlinkClick r:id="rId2" action="ppaction://hlinksldjump"/>
          </p:cNvPr>
          <p:cNvSpPr/>
          <p:nvPr/>
        </p:nvSpPr>
        <p:spPr>
          <a:xfrm>
            <a:off x="831708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"/>
          <p:cNvPicPr/>
          <p:nvPr/>
        </p:nvPicPr>
        <p:blipFill>
          <a:blip r:embed="rId3"/>
          <a:stretch/>
        </p:blipFill>
        <p:spPr>
          <a:xfrm>
            <a:off x="4429080" y="328608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71640" y="476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отношение к воде имеют эти явления приро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 flipH="1">
            <a:off x="269280" y="5168880"/>
            <a:ext cx="183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-541440" y="540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1"/>
          <p:cNvGrpSpPr/>
          <p:nvPr/>
        </p:nvGrpSpPr>
        <p:grpSpPr>
          <a:xfrm>
            <a:off x="1547640" y="1700280"/>
            <a:ext cx="5975280" cy="1944720"/>
            <a:chOff x="1547640" y="1700280"/>
            <a:chExt cx="5975280" cy="1944720"/>
          </a:xfrm>
        </p:grpSpPr>
        <p:sp>
          <p:nvSpPr>
            <p:cNvPr id="98" name="Rectangle 70"/>
            <p:cNvSpPr/>
            <p:nvPr/>
          </p:nvSpPr>
          <p:spPr>
            <a:xfrm>
              <a:off x="154764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1"/>
            <p:cNvSpPr/>
            <p:nvPr/>
          </p:nvSpPr>
          <p:spPr>
            <a:xfrm>
              <a:off x="3779640" y="1700280"/>
              <a:ext cx="151128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2"/>
            <p:cNvSpPr/>
            <p:nvPr/>
          </p:nvSpPr>
          <p:spPr>
            <a:xfrm>
              <a:off x="377964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верд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3"/>
            <p:cNvSpPr/>
            <p:nvPr/>
          </p:nvSpPr>
          <p:spPr>
            <a:xfrm>
              <a:off x="593856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78"/>
            <p:cNvSpPr/>
            <p:nvPr/>
          </p:nvSpPr>
          <p:spPr>
            <a:xfrm>
              <a:off x="4498920" y="2492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9"/>
            <p:cNvSpPr/>
            <p:nvPr/>
          </p:nvSpPr>
          <p:spPr>
            <a:xfrm flipH="1">
              <a:off x="2339640" y="2492640"/>
              <a:ext cx="2159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0"/>
            <p:cNvSpPr/>
            <p:nvPr/>
          </p:nvSpPr>
          <p:spPr>
            <a:xfrm>
              <a:off x="4498920" y="2492640"/>
              <a:ext cx="223200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85"/>
          <p:cNvSpPr/>
          <p:nvPr/>
        </p:nvSpPr>
        <p:spPr>
          <a:xfrm>
            <a:off x="1187280" y="907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 о состояниях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9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0">
            <a:hlinkClick r:id="" action="ppaction://hlinkshowjump?jump=nextslide"/>
          </p:cNvPr>
          <p:cNvSpPr/>
          <p:nvPr/>
        </p:nvSpPr>
        <p:spPr>
          <a:xfrm>
            <a:off x="8604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1">
            <a:hlinkClick r:id="rId1" action="ppaction://hlinksldjump"/>
          </p:cNvPr>
          <p:cNvSpPr/>
          <p:nvPr/>
        </p:nvSpPr>
        <p:spPr>
          <a:xfrm>
            <a:off x="8244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askin-robins.summer-breath.com/post/4634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3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askin-robins.summer-breath.com/post/4634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4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285732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5" descr=""/>
          <p:cNvPicPr/>
          <p:nvPr/>
        </p:nvPicPr>
        <p:blipFill>
          <a:blip r:embed="rId5"/>
          <a:stretch/>
        </p:blipFill>
        <p:spPr>
          <a:xfrm>
            <a:off x="3357720" y="3857760"/>
            <a:ext cx="2286000" cy="276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6" descr=""/>
          <p:cNvPicPr/>
          <p:nvPr/>
        </p:nvPicPr>
        <p:blipFill>
          <a:blip r:embed="rId6"/>
          <a:stretch/>
        </p:blipFill>
        <p:spPr>
          <a:xfrm>
            <a:off x="5929200" y="4143240"/>
            <a:ext cx="2928960" cy="234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20:26:43Z</dcterms:created>
  <dc:creator>Козлов Александр Павлович</dc:creator>
  <dc:description/>
  <dc:language>en-US</dc:language>
  <cp:lastModifiedBy>Zver</cp:lastModifiedBy>
  <dcterms:modified xsi:type="dcterms:W3CDTF">2012-01-05T12:44:55Z</dcterms:modified>
  <cp:revision>36</cp:revision>
  <dc:subject/>
  <dc:title>Слайд 1</dc:title>
</cp:coreProperties>
</file>