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gif" ContentType="image/gif"/>
  <Override PartName="/ppt/media/image12.jpeg" ContentType="image/jpeg"/>
  <Override PartName="/ppt/media/image9.gif" ContentType="image/gif"/>
  <Override PartName="/ppt/media/image7.jpeg" ContentType="image/jpeg"/>
  <Override PartName="/ppt/media/image18.png" ContentType="image/png"/>
  <Override PartName="/ppt/media/image11.gif" ContentType="image/gif"/>
  <Override PartName="/ppt/media/image14.png" ContentType="image/png"/>
  <Override PartName="/ppt/media/image6.gif" ContentType="image/gif"/>
  <Override PartName="/ppt/media/image5.jpeg" ContentType="image/jpeg"/>
  <Override PartName="/ppt/media/image8.gif" ContentType="image/gif"/>
  <Override PartName="/ppt/media/image26.gif" ContentType="image/gif"/>
  <Override PartName="/ppt/media/image20.jpeg" ContentType="image/jpeg"/>
  <Override PartName="/ppt/media/image15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wmf" ContentType="image/x-wmf"/>
  <Override PartName="/ppt/media/image4.jpeg" ContentType="image/jpeg"/>
  <Override PartName="/ppt/media/image22.gif" ContentType="image/gif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64C-570E-42A2-AE2A-A35C812A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831A-F49B-410F-95C5-BF1D0A06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4FF-B559-43F2-A076-D7650219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673-0911-4856-859C-4E1AEDD9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8C3-616F-4991-9929-FC98CD7E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5FC5-C2DB-4951-949A-38663445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99F8-5BD1-43A2-B3D5-9D71C37C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221-F42A-45EE-A7FB-1D00568B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FDC-76FD-4F14-8B44-CB4C172E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120-6EDB-4053-9DDC-CE5FA362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633-026F-4191-A492-8EFD8501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1CF2-2C1D-4580-9301-529BAFF5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FABB-5A46-4FE4-849A-67CA33AE87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" Target="slide2.xml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6.gi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nis.clan.su/forum/15-104-11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87;&#1086;&#1103;&#1089;&#1085;&#1080;&#1090;&#1077;&#1083;&#1100;&#1085;&#1072;&#1103;%20&#1079;&#1072;&#1087;&#1080;&#1089;&#1082;&#1072;.doc" TargetMode="External"/><Relationship Id="rId2" Type="http://schemas.openxmlformats.org/officeDocument/2006/relationships/hyperlink" Target="file:///&#1050;&#1086;&#1085;&#1089;&#1087;&#1077;&#1082;&#1090;%20&#1091;&#1088;&#1086;&#1082;&#1072;.doc" TargetMode="Externa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hyperlink" Target="file:///&#1054;&#1092;&#1090;&#1072;&#1083;&#1100;&#1084;&#1086;&#1083;&#1086;&#1075;&#1080;&#1095;&#1077;&#1089;&#1082;&#1072;&#1103;%20&#1087;&#1072;&#1091;&#1079;&#1072;.doc" TargetMode="External"/><Relationship Id="rId6" Type="http://schemas.openxmlformats.org/officeDocument/2006/relationships/hyperlink" Target="file:///&#1051;&#1080;&#1090;&#1077;&#1088;&#1072;&#1090;&#1091;&#1088;&#1072;.doc" TargetMode="External"/><Relationship Id="rId7" Type="http://schemas.openxmlformats.org/officeDocument/2006/relationships/hyperlink" Target="file:///&#1089;&#1086;&#1095;&#1080;&#1085;&#1077;&#1085;&#1080;&#1103;.doc" TargetMode="Externa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baskin-robins.summer-breath.com/post/463470" TargetMode="External"/><Relationship Id="rId3" Type="http://schemas.openxmlformats.org/officeDocument/2006/relationships/hyperlink" Target="http://baskin-robins.summer-breath.com/post/463470" TargetMode="External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30840" y="3933720"/>
            <a:ext cx="4964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БНИК: А.А ПЛЕШАКОВ «МИР ВОКРУГ НАС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 КЛАС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727920" y="5786280"/>
            <a:ext cx="7302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ушатель курса – 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образовательной санаторной школы - интерната ГОУ «Балтийский берег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злова В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j0292982"/>
          <p:cNvPicPr/>
          <p:nvPr/>
        </p:nvPicPr>
        <p:blipFill>
          <a:blip r:embed="rId1"/>
          <a:stretch/>
        </p:blipFill>
        <p:spPr>
          <a:xfrm>
            <a:off x="5724360" y="2637000"/>
            <a:ext cx="2779920" cy="27432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"/>
          <p:cNvSpPr/>
          <p:nvPr/>
        </p:nvSpPr>
        <p:spPr>
          <a:xfrm>
            <a:off x="972360" y="1557360"/>
            <a:ext cx="737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ка урока по курсу «Окружающий ми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использованием П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3708360" y="260280"/>
            <a:ext cx="137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П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2712600" y="211536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392120" y="5025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снег"/>
          <p:cNvPicPr/>
          <p:nvPr/>
        </p:nvPicPr>
        <p:blipFill>
          <a:blip r:embed="rId1"/>
          <a:stretch/>
        </p:blipFill>
        <p:spPr>
          <a:xfrm>
            <a:off x="539640" y="4797360"/>
            <a:ext cx="1270080" cy="1028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дождь2"/>
          <p:cNvPicPr/>
          <p:nvPr/>
        </p:nvPicPr>
        <p:blipFill>
          <a:blip r:embed="rId2"/>
          <a:stretch/>
        </p:blipFill>
        <p:spPr>
          <a:xfrm>
            <a:off x="7164360" y="3645000"/>
            <a:ext cx="1270080" cy="10285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3"/>
          <p:cNvSpPr/>
          <p:nvPr/>
        </p:nvSpPr>
        <p:spPr>
          <a:xfrm>
            <a:off x="3147840" y="6226200"/>
            <a:ext cx="329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68360" y="3645000"/>
            <a:ext cx="5327640" cy="785520"/>
          </a:xfrm>
          <a:prstGeom prst="rect">
            <a:avLst/>
          </a:prstGeom>
          <a:gradFill rotWithShape="0">
            <a:gsLst>
              <a:gs pos="0">
                <a:srgbClr val="6a7071"/>
              </a:gs>
              <a:gs pos="50000">
                <a:srgbClr val="e6f3f4"/>
              </a:gs>
              <a:gs pos="100000">
                <a:srgbClr val="6a7071"/>
              </a:gs>
            </a:gsLst>
            <a:lin ang="2700000"/>
          </a:gra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случилось с водяным паром? (тум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3132000" y="4941720"/>
            <a:ext cx="4753080" cy="785520"/>
          </a:xfrm>
          <a:prstGeom prst="rect">
            <a:avLst/>
          </a:prstGeom>
          <a:gradFill rotWithShape="0">
            <a:gsLst>
              <a:gs pos="0">
                <a:srgbClr val="6a7071"/>
              </a:gs>
              <a:gs pos="50000">
                <a:srgbClr val="e6f3f4"/>
              </a:gs>
              <a:gs pos="100000">
                <a:srgbClr val="6a7071"/>
              </a:gs>
            </a:gsLst>
            <a:lin ang="2700000"/>
          </a:gra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нег – что это такое? (сне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10160" y="1916280"/>
            <a:ext cx="40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Работа в групп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611280" y="1197000"/>
            <a:ext cx="396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3708360" y="2781360"/>
            <a:ext cx="4753080" cy="581400"/>
          </a:xfrm>
          <a:prstGeom prst="rect">
            <a:avLst/>
          </a:prstGeom>
          <a:gradFill rotWithShape="0">
            <a:gsLst>
              <a:gs pos="0">
                <a:srgbClr val="6a7071"/>
              </a:gs>
              <a:gs pos="50000">
                <a:srgbClr val="e6f3f4"/>
              </a:gs>
              <a:gs pos="100000">
                <a:srgbClr val="6a7071"/>
              </a:gs>
            </a:gsLst>
            <a:lin ang="2700000"/>
          </a:gra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уда взялись облака? (дожд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2556000" y="5013360"/>
            <a:ext cx="46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468360" y="6021360"/>
            <a:ext cx="4680000" cy="581400"/>
          </a:xfrm>
          <a:prstGeom prst="rect">
            <a:avLst/>
          </a:prstGeom>
          <a:gradFill rotWithShape="0">
            <a:gsLst>
              <a:gs pos="0">
                <a:srgbClr val="6a7071"/>
              </a:gs>
              <a:gs pos="50000">
                <a:srgbClr val="e6f3f4"/>
              </a:gs>
              <a:gs pos="100000">
                <a:srgbClr val="6a7071"/>
              </a:gs>
            </a:gsLst>
            <a:lin ang="2700000"/>
          </a:gra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й дождь никому не нужен? (гра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6">
            <a:hlinkClick r:id="" action="ppaction://hlinkshowjump?jump=previousslide"/>
          </p:cNvPr>
          <p:cNvSpPr/>
          <p:nvPr/>
        </p:nvSpPr>
        <p:spPr>
          <a:xfrm>
            <a:off x="795672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8978"/>
                </a:moveTo>
                <a:lnTo>
                  <a:pt x="17806" y="11971"/>
                </a:lnTo>
                <a:lnTo>
                  <a:pt x="17806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7">
            <a:hlinkClick r:id="" action="ppaction://hlinkshowjump?jump=nextslide"/>
          </p:cNvPr>
          <p:cNvSpPr/>
          <p:nvPr/>
        </p:nvSpPr>
        <p:spPr>
          <a:xfrm>
            <a:off x="867564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1971"/>
                </a:moveTo>
                <a:lnTo>
                  <a:pt x="17806" y="18978"/>
                </a:lnTo>
                <a:lnTo>
                  <a:pt x="3794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8">
            <a:hlinkClick r:id="rId3" action="ppaction://hlinksldjump"/>
          </p:cNvPr>
          <p:cNvSpPr/>
          <p:nvPr/>
        </p:nvSpPr>
        <p:spPr>
          <a:xfrm>
            <a:off x="831708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10800" y="12015"/>
                </a:moveTo>
                <a:lnTo>
                  <a:pt x="13376" y="14626"/>
                </a:ln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lnTo>
                  <a:pt x="17763" y="18978"/>
                </a:lnTo>
                <a:lnTo>
                  <a:pt x="16109" y="18978"/>
                </a:lnTo>
                <a:lnTo>
                  <a:pt x="16109" y="26167"/>
                </a:lnTo>
                <a:lnTo>
                  <a:pt x="5491" y="26167"/>
                </a:lnTo>
                <a:lnTo>
                  <a:pt x="5491" y="18978"/>
                </a:lnTo>
                <a:lnTo>
                  <a:pt x="3837" y="18978"/>
                </a:lnTo>
                <a:close/>
              </a:path>
              <a:path fill="darkenLess" w="21600" h="37955">
                <a:moveTo>
                  <a:pt x="13376" y="14626"/>
                </a:move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close/>
              </a:path>
              <a:path fill="darkenLess" w="21600" h="37955">
                <a:moveTo>
                  <a:pt x="9877" y="22477"/>
                </a:moveTo>
                <a:lnTo>
                  <a:pt x="11723" y="22477"/>
                </a:lnTo>
                <a:lnTo>
                  <a:pt x="11723" y="26167"/>
                </a:lnTo>
                <a:lnTo>
                  <a:pt x="16109" y="26167"/>
                </a:lnTo>
                <a:lnTo>
                  <a:pt x="16109" y="18978"/>
                </a:lnTo>
                <a:lnTo>
                  <a:pt x="5491" y="18978"/>
                </a:lnTo>
                <a:lnTo>
                  <a:pt x="5491" y="26167"/>
                </a:lnTo>
                <a:lnTo>
                  <a:pt x="9877" y="2616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9" descr="земля"/>
          <p:cNvPicPr/>
          <p:nvPr/>
        </p:nvPicPr>
        <p:blipFill>
          <a:blip r:embed="rId4"/>
          <a:stretch/>
        </p:blipFill>
        <p:spPr>
          <a:xfrm>
            <a:off x="3348000" y="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круговорот"/>
          <p:cNvPicPr/>
          <p:nvPr/>
        </p:nvPicPr>
        <p:blipFill>
          <a:blip r:embed="rId1"/>
          <a:srcRect l="2570" t="3880" r="3842" b="3847"/>
          <a:stretch/>
        </p:blipFill>
        <p:spPr>
          <a:xfrm>
            <a:off x="971640" y="2565360"/>
            <a:ext cx="7127640" cy="3673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539640" y="333360"/>
            <a:ext cx="8353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основе услышанного сделайте вывод о движении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движется вод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7264440" y="6564240"/>
            <a:ext cx="168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4"/>
          <p:cNvSpPr/>
          <p:nvPr/>
        </p:nvSpPr>
        <p:spPr>
          <a:xfrm>
            <a:off x="2268360" y="1700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к р у г о в о р о 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>
            <a:hlinkClick r:id="" action="ppaction://hlinkshowjump?jump=previousslide"/>
          </p:cNvPr>
          <p:cNvSpPr/>
          <p:nvPr/>
        </p:nvSpPr>
        <p:spPr>
          <a:xfrm>
            <a:off x="774072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8978"/>
                </a:moveTo>
                <a:lnTo>
                  <a:pt x="17806" y="11971"/>
                </a:lnTo>
                <a:lnTo>
                  <a:pt x="17806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0">
            <a:hlinkClick r:id="" action="ppaction://hlinkshowjump?jump=nextslide"/>
          </p:cNvPr>
          <p:cNvSpPr/>
          <p:nvPr/>
        </p:nvSpPr>
        <p:spPr>
          <a:xfrm>
            <a:off x="860436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1971"/>
                </a:moveTo>
                <a:lnTo>
                  <a:pt x="17806" y="18978"/>
                </a:lnTo>
                <a:lnTo>
                  <a:pt x="3794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1">
            <a:hlinkClick r:id="rId2" action="ppaction://hlinksldjump"/>
          </p:cNvPr>
          <p:cNvSpPr/>
          <p:nvPr/>
        </p:nvSpPr>
        <p:spPr>
          <a:xfrm>
            <a:off x="817236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10800" y="12015"/>
                </a:moveTo>
                <a:lnTo>
                  <a:pt x="13376" y="14626"/>
                </a:ln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lnTo>
                  <a:pt x="17763" y="18978"/>
                </a:lnTo>
                <a:lnTo>
                  <a:pt x="16109" y="18978"/>
                </a:lnTo>
                <a:lnTo>
                  <a:pt x="16109" y="26167"/>
                </a:lnTo>
                <a:lnTo>
                  <a:pt x="5491" y="26167"/>
                </a:lnTo>
                <a:lnTo>
                  <a:pt x="5491" y="18978"/>
                </a:lnTo>
                <a:lnTo>
                  <a:pt x="3837" y="18978"/>
                </a:lnTo>
                <a:close/>
              </a:path>
              <a:path fill="darkenLess" w="21600" h="37955">
                <a:moveTo>
                  <a:pt x="13376" y="14626"/>
                </a:move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close/>
              </a:path>
              <a:path fill="darkenLess" w="21600" h="37955">
                <a:moveTo>
                  <a:pt x="9877" y="22477"/>
                </a:moveTo>
                <a:lnTo>
                  <a:pt x="11723" y="22477"/>
                </a:lnTo>
                <a:lnTo>
                  <a:pt x="11723" y="26167"/>
                </a:lnTo>
                <a:lnTo>
                  <a:pt x="16109" y="26167"/>
                </a:lnTo>
                <a:lnTo>
                  <a:pt x="16109" y="18978"/>
                </a:lnTo>
                <a:lnTo>
                  <a:pt x="5491" y="18978"/>
                </a:lnTo>
                <a:lnTo>
                  <a:pt x="5491" y="26167"/>
                </a:lnTo>
                <a:lnTo>
                  <a:pt x="9877" y="2616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2"/>
          <p:cNvSpPr/>
          <p:nvPr/>
        </p:nvSpPr>
        <p:spPr>
          <a:xfrm>
            <a:off x="539640" y="1052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м сложным словом можно назвать этот процес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легкие облака"/>
          <p:cNvPicPr/>
          <p:nvPr/>
        </p:nvPicPr>
        <p:blipFill>
          <a:blip r:embed="rId1">
            <a:lum bright="70000" contrast="-70000"/>
          </a:blip>
          <a:srcRect l="17293" t="0" r="0" b="234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971640" y="1268280"/>
            <a:ext cx="703872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сейчас я предлагаю вам посмотреть некоторый процесс и определить является ли этот процесс круговорот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пыт с чайником и тарел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>
            <a:hlinkClick r:id="" action="ppaction://hlinkshowjump?jump=previousslide"/>
          </p:cNvPr>
          <p:cNvSpPr/>
          <p:nvPr/>
        </p:nvSpPr>
        <p:spPr>
          <a:xfrm>
            <a:off x="7667640" y="6021360"/>
            <a:ext cx="287280" cy="576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360"/>
              <a:gd name="textAreaBottom" fmla="*/ 558000 h 576360"/>
            </a:gdLst>
            <a:ahLst/>
            <a:rect l="textAreaLeft" t="textAreaTop" r="textAreaRight" b="textAreaBottom"/>
            <a:pathLst>
              <a:path w="21600" h="43308">
                <a:moveTo>
                  <a:pt x="0" y="0"/>
                </a:moveTo>
                <a:lnTo>
                  <a:pt x="21600" y="0"/>
                </a:lnTo>
                <a:lnTo>
                  <a:pt x="21600" y="43308"/>
                </a:lnTo>
                <a:lnTo>
                  <a:pt x="0" y="43308"/>
                </a:lnTo>
                <a:close/>
              </a:path>
              <a:path fill="lightenLess" w="21600" h="433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08">
                <a:moveTo>
                  <a:pt x="21600" y="0"/>
                </a:moveTo>
                <a:lnTo>
                  <a:pt x="21600" y="43308"/>
                </a:lnTo>
                <a:lnTo>
                  <a:pt x="20200" y="41908"/>
                </a:lnTo>
                <a:lnTo>
                  <a:pt x="20200" y="1400"/>
                </a:lnTo>
                <a:close/>
              </a:path>
              <a:path fill="darkenLess" w="21600" h="43308">
                <a:moveTo>
                  <a:pt x="21600" y="43308"/>
                </a:moveTo>
                <a:lnTo>
                  <a:pt x="0" y="43308"/>
                </a:lnTo>
                <a:lnTo>
                  <a:pt x="1400" y="41908"/>
                </a:lnTo>
                <a:lnTo>
                  <a:pt x="20200" y="41908"/>
                </a:lnTo>
                <a:close/>
              </a:path>
              <a:path fill="lighten" w="21600" h="43308">
                <a:moveTo>
                  <a:pt x="0" y="43308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08"/>
                </a:lnTo>
                <a:close/>
              </a:path>
              <a:path fill="darken" w="21600" h="43308">
                <a:moveTo>
                  <a:pt x="3794" y="21654"/>
                </a:moveTo>
                <a:lnTo>
                  <a:pt x="17806" y="14648"/>
                </a:lnTo>
                <a:lnTo>
                  <a:pt x="17806" y="286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>
            <a:hlinkClick r:id="" action="ppaction://hlinkshowjump?jump=nextslide"/>
          </p:cNvPr>
          <p:cNvSpPr/>
          <p:nvPr/>
        </p:nvSpPr>
        <p:spPr>
          <a:xfrm>
            <a:off x="8532720" y="6021360"/>
            <a:ext cx="287280" cy="576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360"/>
              <a:gd name="textAreaBottom" fmla="*/ 558000 h 576360"/>
            </a:gdLst>
            <a:ahLst/>
            <a:rect l="textAreaLeft" t="textAreaTop" r="textAreaRight" b="textAreaBottom"/>
            <a:pathLst>
              <a:path w="21600" h="43308">
                <a:moveTo>
                  <a:pt x="0" y="0"/>
                </a:moveTo>
                <a:lnTo>
                  <a:pt x="21600" y="0"/>
                </a:lnTo>
                <a:lnTo>
                  <a:pt x="21600" y="43308"/>
                </a:lnTo>
                <a:lnTo>
                  <a:pt x="0" y="43308"/>
                </a:lnTo>
                <a:close/>
              </a:path>
              <a:path fill="lightenLess" w="21600" h="433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08">
                <a:moveTo>
                  <a:pt x="21600" y="0"/>
                </a:moveTo>
                <a:lnTo>
                  <a:pt x="21600" y="43308"/>
                </a:lnTo>
                <a:lnTo>
                  <a:pt x="20200" y="41908"/>
                </a:lnTo>
                <a:lnTo>
                  <a:pt x="20200" y="1400"/>
                </a:lnTo>
                <a:close/>
              </a:path>
              <a:path fill="darkenLess" w="21600" h="43308">
                <a:moveTo>
                  <a:pt x="21600" y="43308"/>
                </a:moveTo>
                <a:lnTo>
                  <a:pt x="0" y="43308"/>
                </a:lnTo>
                <a:lnTo>
                  <a:pt x="1400" y="41908"/>
                </a:lnTo>
                <a:lnTo>
                  <a:pt x="20200" y="41908"/>
                </a:lnTo>
                <a:close/>
              </a:path>
              <a:path fill="lighten" w="21600" h="43308">
                <a:moveTo>
                  <a:pt x="0" y="43308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08"/>
                </a:lnTo>
                <a:close/>
              </a:path>
              <a:path fill="darken" w="21600" h="43308">
                <a:moveTo>
                  <a:pt x="3794" y="14648"/>
                </a:moveTo>
                <a:lnTo>
                  <a:pt x="17806" y="21654"/>
                </a:lnTo>
                <a:lnTo>
                  <a:pt x="3794" y="286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rId2" action="ppaction://hlinksldjump"/>
          </p:cNvPr>
          <p:cNvSpPr/>
          <p:nvPr/>
        </p:nvSpPr>
        <p:spPr>
          <a:xfrm>
            <a:off x="8101080" y="6021360"/>
            <a:ext cx="287280" cy="576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360"/>
              <a:gd name="textAreaBottom" fmla="*/ 558000 h 576360"/>
            </a:gdLst>
            <a:ahLst/>
            <a:rect l="textAreaLeft" t="textAreaTop" r="textAreaRight" b="textAreaBottom"/>
            <a:pathLst>
              <a:path w="21600" h="43308">
                <a:moveTo>
                  <a:pt x="0" y="0"/>
                </a:moveTo>
                <a:lnTo>
                  <a:pt x="21600" y="0"/>
                </a:lnTo>
                <a:lnTo>
                  <a:pt x="21600" y="43308"/>
                </a:lnTo>
                <a:lnTo>
                  <a:pt x="0" y="43308"/>
                </a:lnTo>
                <a:close/>
              </a:path>
              <a:path fill="lightenLess" w="21600" h="433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308">
                <a:moveTo>
                  <a:pt x="21600" y="0"/>
                </a:moveTo>
                <a:lnTo>
                  <a:pt x="21600" y="43308"/>
                </a:lnTo>
                <a:lnTo>
                  <a:pt x="20200" y="41908"/>
                </a:lnTo>
                <a:lnTo>
                  <a:pt x="20200" y="1400"/>
                </a:lnTo>
                <a:close/>
              </a:path>
              <a:path fill="darkenLess" w="21600" h="43308">
                <a:moveTo>
                  <a:pt x="21600" y="43308"/>
                </a:moveTo>
                <a:lnTo>
                  <a:pt x="0" y="43308"/>
                </a:lnTo>
                <a:lnTo>
                  <a:pt x="1400" y="41908"/>
                </a:lnTo>
                <a:lnTo>
                  <a:pt x="20200" y="41908"/>
                </a:lnTo>
                <a:close/>
              </a:path>
              <a:path fill="lighten" w="21600" h="43308">
                <a:moveTo>
                  <a:pt x="0" y="43308"/>
                </a:moveTo>
                <a:lnTo>
                  <a:pt x="0" y="0"/>
                </a:lnTo>
                <a:lnTo>
                  <a:pt x="1400" y="1400"/>
                </a:lnTo>
                <a:lnTo>
                  <a:pt x="1400" y="41908"/>
                </a:lnTo>
                <a:close/>
              </a:path>
              <a:path fill="darken" w="21600" h="43308">
                <a:moveTo>
                  <a:pt x="10800" y="14691"/>
                </a:moveTo>
                <a:lnTo>
                  <a:pt x="13376" y="17302"/>
                </a:lnTo>
                <a:lnTo>
                  <a:pt x="13376" y="15561"/>
                </a:lnTo>
                <a:lnTo>
                  <a:pt x="15152" y="15561"/>
                </a:lnTo>
                <a:lnTo>
                  <a:pt x="15152" y="19078"/>
                </a:lnTo>
                <a:lnTo>
                  <a:pt x="17763" y="21654"/>
                </a:lnTo>
                <a:lnTo>
                  <a:pt x="16109" y="21654"/>
                </a:lnTo>
                <a:lnTo>
                  <a:pt x="16109" y="28843"/>
                </a:lnTo>
                <a:lnTo>
                  <a:pt x="5491" y="28843"/>
                </a:lnTo>
                <a:lnTo>
                  <a:pt x="5491" y="21654"/>
                </a:lnTo>
                <a:lnTo>
                  <a:pt x="3837" y="21654"/>
                </a:lnTo>
                <a:close/>
              </a:path>
              <a:path fill="darkenLess" w="21600" h="43308">
                <a:moveTo>
                  <a:pt x="13376" y="17302"/>
                </a:moveTo>
                <a:lnTo>
                  <a:pt x="13376" y="15561"/>
                </a:lnTo>
                <a:lnTo>
                  <a:pt x="15152" y="15561"/>
                </a:lnTo>
                <a:lnTo>
                  <a:pt x="15152" y="19078"/>
                </a:lnTo>
                <a:close/>
              </a:path>
              <a:path fill="darkenLess" w="21600" h="43308">
                <a:moveTo>
                  <a:pt x="9877" y="25153"/>
                </a:moveTo>
                <a:lnTo>
                  <a:pt x="11723" y="25153"/>
                </a:lnTo>
                <a:lnTo>
                  <a:pt x="11723" y="28843"/>
                </a:lnTo>
                <a:lnTo>
                  <a:pt x="16109" y="28843"/>
                </a:lnTo>
                <a:lnTo>
                  <a:pt x="16109" y="21654"/>
                </a:lnTo>
                <a:lnTo>
                  <a:pt x="5491" y="21654"/>
                </a:lnTo>
                <a:lnTo>
                  <a:pt x="5491" y="28843"/>
                </a:lnTo>
                <a:lnTo>
                  <a:pt x="9877" y="288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117.mid" descr=""/>
          <p:cNvPicPr/>
          <p:nvPr/>
        </p:nvPicPr>
        <p:blipFill>
          <a:blip r:embed="rId3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7" descr="легкие облака"/>
          <p:cNvPicPr/>
          <p:nvPr/>
        </p:nvPicPr>
        <p:blipFill>
          <a:blip r:embed="rId1">
            <a:lum bright="70000" contrast="-70000"/>
          </a:blip>
          <a:srcRect l="17293" t="0" r="0" b="23416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971640" y="54936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5050"/>
                </a:solidFill>
                <a:latin typeface="Arial"/>
              </a:rPr>
              <a:t>Молодцы!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теперь посмотрите на капельку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вода путешественница,  то и капелька тож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тавьте, где и как может путешествовать капель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апишите сочинение об этом путешеств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476360" y="2851920"/>
            <a:ext cx="518328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5050"/>
                </a:solidFill>
                <a:uFillTx/>
                <a:latin typeface="Arial"/>
              </a:rPr>
              <a:t>Темы сочине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Как выросли обл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Что случилось с водяным па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 Снег – что это так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4.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Какой дождь никому не нуже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капля"/>
          <p:cNvPicPr/>
          <p:nvPr/>
        </p:nvPicPr>
        <p:blipFill>
          <a:blip r:embed="rId2"/>
          <a:stretch/>
        </p:blipFill>
        <p:spPr>
          <a:xfrm>
            <a:off x="7308720" y="2349360"/>
            <a:ext cx="1617840" cy="208944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4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21641"/>
                </a:moveTo>
                <a:lnTo>
                  <a:pt x="17806" y="14634"/>
                </a:lnTo>
                <a:lnTo>
                  <a:pt x="17806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5">
            <a:hlinkClick r:id="" action="ppaction://hlinkshowjump?jump=nextslide"/>
          </p:cNvPr>
          <p:cNvSpPr/>
          <p:nvPr/>
        </p:nvSpPr>
        <p:spPr>
          <a:xfrm>
            <a:off x="860436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14634"/>
                </a:moveTo>
                <a:lnTo>
                  <a:pt x="17806" y="21641"/>
                </a:lnTo>
                <a:lnTo>
                  <a:pt x="3794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6">
            <a:hlinkClick r:id="rId3" action="ppaction://hlinksldjump"/>
          </p:cNvPr>
          <p:cNvSpPr/>
          <p:nvPr/>
        </p:nvSpPr>
        <p:spPr>
          <a:xfrm>
            <a:off x="817236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10800" y="14678"/>
                </a:moveTo>
                <a:lnTo>
                  <a:pt x="13376" y="17289"/>
                </a:ln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lnTo>
                  <a:pt x="17763" y="21641"/>
                </a:lnTo>
                <a:lnTo>
                  <a:pt x="16109" y="21641"/>
                </a:lnTo>
                <a:lnTo>
                  <a:pt x="16109" y="28830"/>
                </a:lnTo>
                <a:lnTo>
                  <a:pt x="5491" y="28830"/>
                </a:lnTo>
                <a:lnTo>
                  <a:pt x="5491" y="21641"/>
                </a:lnTo>
                <a:lnTo>
                  <a:pt x="3837" y="21641"/>
                </a:lnTo>
                <a:close/>
              </a:path>
              <a:path fill="darkenLess" w="21600" h="43281">
                <a:moveTo>
                  <a:pt x="13376" y="17289"/>
                </a:move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close/>
              </a:path>
              <a:path fill="darkenLess" w="21600" h="43281">
                <a:moveTo>
                  <a:pt x="9877" y="25139"/>
                </a:moveTo>
                <a:lnTo>
                  <a:pt x="11723" y="25139"/>
                </a:lnTo>
                <a:lnTo>
                  <a:pt x="11723" y="28830"/>
                </a:lnTo>
                <a:lnTo>
                  <a:pt x="16109" y="28830"/>
                </a:lnTo>
                <a:lnTo>
                  <a:pt x="16109" y="21641"/>
                </a:lnTo>
                <a:lnTo>
                  <a:pt x="5491" y="21641"/>
                </a:lnTo>
                <a:lnTo>
                  <a:pt x="5491" y="28830"/>
                </a:lnTo>
                <a:lnTo>
                  <a:pt x="9877" y="288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легкие облака"/>
          <p:cNvPicPr/>
          <p:nvPr/>
        </p:nvPicPr>
        <p:blipFill>
          <a:blip r:embed="rId1">
            <a:lum bright="70000" contrast="-70000"/>
          </a:blip>
          <a:srcRect l="17293" t="0" r="0" b="234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5"/>
          <p:cNvSpPr txBox="1"/>
          <p:nvPr/>
        </p:nvSpPr>
        <p:spPr>
          <a:xfrm>
            <a:off x="1116000" y="76500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 очень довольна вашей работой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6"/>
          <p:cNvSpPr txBox="1"/>
          <p:nvPr/>
        </p:nvSpPr>
        <p:spPr>
          <a:xfrm>
            <a:off x="1619280" y="2852640"/>
            <a:ext cx="54738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AutoShape 7">
            <a:hlinkClick r:id="" action="ppaction://hlinkshowjump?jump=previousslide"/>
          </p:cNvPr>
          <p:cNvSpPr/>
          <p:nvPr/>
        </p:nvSpPr>
        <p:spPr>
          <a:xfrm>
            <a:off x="795672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8978"/>
                </a:moveTo>
                <a:lnTo>
                  <a:pt x="17806" y="11971"/>
                </a:lnTo>
                <a:lnTo>
                  <a:pt x="17806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>
            <a:hlinkClick r:id="" action="ppaction://hlinkshowjump?jump=nextslide"/>
          </p:cNvPr>
          <p:cNvSpPr/>
          <p:nvPr/>
        </p:nvSpPr>
        <p:spPr>
          <a:xfrm>
            <a:off x="867564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1971"/>
                </a:moveTo>
                <a:lnTo>
                  <a:pt x="17806" y="18978"/>
                </a:lnTo>
                <a:lnTo>
                  <a:pt x="3794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>
            <a:hlinkClick r:id="rId2" action="ppaction://hlinksldjump"/>
          </p:cNvPr>
          <p:cNvSpPr/>
          <p:nvPr/>
        </p:nvSpPr>
        <p:spPr>
          <a:xfrm>
            <a:off x="831708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10800" y="12015"/>
                </a:moveTo>
                <a:lnTo>
                  <a:pt x="13376" y="14626"/>
                </a:ln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lnTo>
                  <a:pt x="17763" y="18978"/>
                </a:lnTo>
                <a:lnTo>
                  <a:pt x="16109" y="18978"/>
                </a:lnTo>
                <a:lnTo>
                  <a:pt x="16109" y="26167"/>
                </a:lnTo>
                <a:lnTo>
                  <a:pt x="5491" y="26167"/>
                </a:lnTo>
                <a:lnTo>
                  <a:pt x="5491" y="18978"/>
                </a:lnTo>
                <a:lnTo>
                  <a:pt x="3837" y="18978"/>
                </a:lnTo>
                <a:close/>
              </a:path>
              <a:path fill="darkenLess" w="21600" h="37955">
                <a:moveTo>
                  <a:pt x="13376" y="14626"/>
                </a:move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close/>
              </a:path>
              <a:path fill="darkenLess" w="21600" h="37955">
                <a:moveTo>
                  <a:pt x="9877" y="22477"/>
                </a:moveTo>
                <a:lnTo>
                  <a:pt x="11723" y="22477"/>
                </a:lnTo>
                <a:lnTo>
                  <a:pt x="11723" y="26167"/>
                </a:lnTo>
                <a:lnTo>
                  <a:pt x="16109" y="26167"/>
                </a:lnTo>
                <a:lnTo>
                  <a:pt x="16109" y="18978"/>
                </a:lnTo>
                <a:lnTo>
                  <a:pt x="5491" y="18978"/>
                </a:lnTo>
                <a:lnTo>
                  <a:pt x="5491" y="26167"/>
                </a:lnTo>
                <a:lnTo>
                  <a:pt x="9877" y="2616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1210320" y="3714840"/>
            <a:ext cx="29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is.clan.su/forum/15-104-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992880" y="2143080"/>
            <a:ext cx="29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tihi.ru/2011/09/06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1143000" y="3286440"/>
            <a:ext cx="47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baskin-robins.summer-breath.com/post/46347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1144800" y="2928960"/>
            <a:ext cx="28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boardru.monstersgame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5"/>
          <p:cNvSpPr/>
          <p:nvPr/>
        </p:nvSpPr>
        <p:spPr>
          <a:xfrm>
            <a:off x="1073160" y="2571840"/>
            <a:ext cx="28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kp.ru/daily/25673.4/833301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928800" y="214200"/>
            <a:ext cx="6072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Учебник А.А.Плешаков «Мир вокруг на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Е.Фефилова  Разработки уроков по курсу   «Окружающий мир» 3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Интернет-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1852560" y="568440"/>
            <a:ext cx="56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Содерж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1403280" y="1700280"/>
            <a:ext cx="64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ояснительная за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онспект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Оборудование</a:t>
            </a:r>
            <a:r>
              <a:rPr b="1" lang="ru-RU" sz="24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емонстрацио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Офтальмологическая па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Дополнительный материал к у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4">
            <a:hlinkClick r:id="" action="ppaction://hlinkshowjump?jump=previousslide"/>
          </p:cNvPr>
          <p:cNvSpPr/>
          <p:nvPr/>
        </p:nvSpPr>
        <p:spPr>
          <a:xfrm>
            <a:off x="8101080" y="6237360"/>
            <a:ext cx="216000" cy="431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431640"/>
              <a:gd name="textAreaBottom" fmla="*/ 417960 h 431640"/>
            </a:gdLst>
            <a:ahLst/>
            <a:rect l="textAreaLeft" t="textAreaTop" r="textAreaRight" b="textAreaBottom"/>
            <a:pathLst>
              <a:path w="21600" h="43128">
                <a:moveTo>
                  <a:pt x="0" y="0"/>
                </a:moveTo>
                <a:lnTo>
                  <a:pt x="21600" y="0"/>
                </a:lnTo>
                <a:lnTo>
                  <a:pt x="21600" y="43128"/>
                </a:lnTo>
                <a:lnTo>
                  <a:pt x="0" y="43128"/>
                </a:lnTo>
                <a:close/>
              </a:path>
              <a:path fill="lightenLess" w="21600" h="431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128">
                <a:moveTo>
                  <a:pt x="21600" y="0"/>
                </a:moveTo>
                <a:lnTo>
                  <a:pt x="21600" y="43128"/>
                </a:lnTo>
                <a:lnTo>
                  <a:pt x="20200" y="41728"/>
                </a:lnTo>
                <a:lnTo>
                  <a:pt x="20200" y="1400"/>
                </a:lnTo>
                <a:close/>
              </a:path>
              <a:path fill="darkenLess" w="21600" h="43128">
                <a:moveTo>
                  <a:pt x="21600" y="43128"/>
                </a:moveTo>
                <a:lnTo>
                  <a:pt x="0" y="43128"/>
                </a:lnTo>
                <a:lnTo>
                  <a:pt x="1400" y="41728"/>
                </a:lnTo>
                <a:lnTo>
                  <a:pt x="20200" y="41728"/>
                </a:lnTo>
                <a:close/>
              </a:path>
              <a:path fill="lighten" w="21600" h="43128">
                <a:moveTo>
                  <a:pt x="0" y="43128"/>
                </a:moveTo>
                <a:lnTo>
                  <a:pt x="0" y="0"/>
                </a:lnTo>
                <a:lnTo>
                  <a:pt x="1400" y="1400"/>
                </a:lnTo>
                <a:lnTo>
                  <a:pt x="1400" y="41728"/>
                </a:lnTo>
                <a:close/>
              </a:path>
              <a:path fill="darken" w="21600" h="43128">
                <a:moveTo>
                  <a:pt x="3794" y="21564"/>
                </a:moveTo>
                <a:lnTo>
                  <a:pt x="17806" y="14558"/>
                </a:lnTo>
                <a:lnTo>
                  <a:pt x="17806" y="2857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5">
            <a:hlinkClick r:id="" action="ppaction://hlinkshowjump?jump=nextslide"/>
          </p:cNvPr>
          <p:cNvSpPr/>
          <p:nvPr/>
        </p:nvSpPr>
        <p:spPr>
          <a:xfrm>
            <a:off x="8677440" y="6237360"/>
            <a:ext cx="215640" cy="431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431640"/>
              <a:gd name="textAreaBottom" fmla="*/ 417960 h 431640"/>
            </a:gdLst>
            <a:ahLst/>
            <a:rect l="textAreaLeft" t="textAreaTop" r="textAreaRight" b="textAreaBottom"/>
            <a:pathLst>
              <a:path w="21600" h="43200">
                <a:moveTo>
                  <a:pt x="0" y="0"/>
                </a:moveTo>
                <a:lnTo>
                  <a:pt x="21600" y="0"/>
                </a:lnTo>
                <a:lnTo>
                  <a:pt x="21600" y="43200"/>
                </a:lnTo>
                <a:lnTo>
                  <a:pt x="0" y="43200"/>
                </a:lnTo>
                <a:close/>
              </a:path>
              <a:path fill="lightenLess" w="21600" h="432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00">
                <a:moveTo>
                  <a:pt x="21600" y="0"/>
                </a:moveTo>
                <a:lnTo>
                  <a:pt x="21600" y="43200"/>
                </a:lnTo>
                <a:lnTo>
                  <a:pt x="20200" y="41800"/>
                </a:lnTo>
                <a:lnTo>
                  <a:pt x="20200" y="1400"/>
                </a:lnTo>
                <a:close/>
              </a:path>
              <a:path fill="darkenLess" w="21600" h="43200">
                <a:moveTo>
                  <a:pt x="21600" y="43200"/>
                </a:moveTo>
                <a:lnTo>
                  <a:pt x="0" y="43200"/>
                </a:lnTo>
                <a:lnTo>
                  <a:pt x="1400" y="41800"/>
                </a:lnTo>
                <a:lnTo>
                  <a:pt x="20200" y="41800"/>
                </a:lnTo>
                <a:close/>
              </a:path>
              <a:path fill="lighten" w="21600" h="43200">
                <a:moveTo>
                  <a:pt x="0" y="43200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00"/>
                </a:lnTo>
                <a:close/>
              </a:path>
              <a:path fill="darken" w="21600" h="43200">
                <a:moveTo>
                  <a:pt x="3794" y="14594"/>
                </a:moveTo>
                <a:lnTo>
                  <a:pt x="17806" y="21600"/>
                </a:lnTo>
                <a:lnTo>
                  <a:pt x="3794" y="286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>
            <a:hlinkClick r:id="rId8" action="ppaction://hlinksldjump"/>
          </p:cNvPr>
          <p:cNvSpPr/>
          <p:nvPr/>
        </p:nvSpPr>
        <p:spPr>
          <a:xfrm>
            <a:off x="8388360" y="6237360"/>
            <a:ext cx="216000" cy="431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431640"/>
              <a:gd name="textAreaBottom" fmla="*/ 417960 h 431640"/>
            </a:gdLst>
            <a:ahLst/>
            <a:rect l="textAreaLeft" t="textAreaTop" r="textAreaRight" b="textAreaBottom"/>
            <a:pathLst>
              <a:path w="21600" h="43128">
                <a:moveTo>
                  <a:pt x="0" y="0"/>
                </a:moveTo>
                <a:lnTo>
                  <a:pt x="21600" y="0"/>
                </a:lnTo>
                <a:lnTo>
                  <a:pt x="21600" y="43128"/>
                </a:lnTo>
                <a:lnTo>
                  <a:pt x="0" y="43128"/>
                </a:lnTo>
                <a:close/>
              </a:path>
              <a:path fill="lightenLess" w="21600" h="431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128">
                <a:moveTo>
                  <a:pt x="21600" y="0"/>
                </a:moveTo>
                <a:lnTo>
                  <a:pt x="21600" y="43128"/>
                </a:lnTo>
                <a:lnTo>
                  <a:pt x="20200" y="41728"/>
                </a:lnTo>
                <a:lnTo>
                  <a:pt x="20200" y="1400"/>
                </a:lnTo>
                <a:close/>
              </a:path>
              <a:path fill="darkenLess" w="21600" h="43128">
                <a:moveTo>
                  <a:pt x="21600" y="43128"/>
                </a:moveTo>
                <a:lnTo>
                  <a:pt x="0" y="43128"/>
                </a:lnTo>
                <a:lnTo>
                  <a:pt x="1400" y="41728"/>
                </a:lnTo>
                <a:lnTo>
                  <a:pt x="20200" y="41728"/>
                </a:lnTo>
                <a:close/>
              </a:path>
              <a:path fill="lighten" w="21600" h="43128">
                <a:moveTo>
                  <a:pt x="0" y="43128"/>
                </a:moveTo>
                <a:lnTo>
                  <a:pt x="0" y="0"/>
                </a:lnTo>
                <a:lnTo>
                  <a:pt x="1400" y="1400"/>
                </a:lnTo>
                <a:lnTo>
                  <a:pt x="1400" y="41728"/>
                </a:lnTo>
                <a:close/>
              </a:path>
              <a:path fill="darken" w="21600" h="43128">
                <a:moveTo>
                  <a:pt x="10800" y="14601"/>
                </a:moveTo>
                <a:lnTo>
                  <a:pt x="13376" y="17212"/>
                </a:lnTo>
                <a:lnTo>
                  <a:pt x="13376" y="15471"/>
                </a:lnTo>
                <a:lnTo>
                  <a:pt x="15152" y="15471"/>
                </a:lnTo>
                <a:lnTo>
                  <a:pt x="15152" y="18988"/>
                </a:lnTo>
                <a:lnTo>
                  <a:pt x="17763" y="21564"/>
                </a:lnTo>
                <a:lnTo>
                  <a:pt x="16109" y="21564"/>
                </a:lnTo>
                <a:lnTo>
                  <a:pt x="16109" y="28753"/>
                </a:lnTo>
                <a:lnTo>
                  <a:pt x="5491" y="28753"/>
                </a:lnTo>
                <a:lnTo>
                  <a:pt x="5491" y="21564"/>
                </a:lnTo>
                <a:lnTo>
                  <a:pt x="3837" y="21564"/>
                </a:lnTo>
                <a:close/>
              </a:path>
              <a:path fill="darkenLess" w="21600" h="43128">
                <a:moveTo>
                  <a:pt x="13376" y="17212"/>
                </a:moveTo>
                <a:lnTo>
                  <a:pt x="13376" y="15471"/>
                </a:lnTo>
                <a:lnTo>
                  <a:pt x="15152" y="15471"/>
                </a:lnTo>
                <a:lnTo>
                  <a:pt x="15152" y="18988"/>
                </a:lnTo>
                <a:close/>
              </a:path>
              <a:path fill="darkenLess" w="21600" h="43128">
                <a:moveTo>
                  <a:pt x="9877" y="25063"/>
                </a:moveTo>
                <a:lnTo>
                  <a:pt x="11723" y="25063"/>
                </a:lnTo>
                <a:lnTo>
                  <a:pt x="11723" y="28753"/>
                </a:lnTo>
                <a:lnTo>
                  <a:pt x="16109" y="28753"/>
                </a:lnTo>
                <a:lnTo>
                  <a:pt x="16109" y="21564"/>
                </a:lnTo>
                <a:lnTo>
                  <a:pt x="5491" y="21564"/>
                </a:lnTo>
                <a:lnTo>
                  <a:pt x="5491" y="28753"/>
                </a:lnTo>
                <a:lnTo>
                  <a:pt x="9877" y="2875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826920" y="981000"/>
            <a:ext cx="698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оруд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ля проведения за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мпьютерный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идеопро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мплект презентации с необходимым   материа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j0292982"/>
          <p:cNvPicPr/>
          <p:nvPr/>
        </p:nvPicPr>
        <p:blipFill>
          <a:blip r:embed="rId1"/>
          <a:stretch/>
        </p:blipFill>
        <p:spPr>
          <a:xfrm>
            <a:off x="6659640" y="3645000"/>
            <a:ext cx="2203200" cy="21747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10">
            <a:hlinkClick r:id="" action="ppaction://hlinkshowjump?jump=previousslide"/>
          </p:cNvPr>
          <p:cNvSpPr/>
          <p:nvPr/>
        </p:nvSpPr>
        <p:spPr>
          <a:xfrm>
            <a:off x="795672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8978"/>
                </a:moveTo>
                <a:lnTo>
                  <a:pt x="17806" y="11971"/>
                </a:lnTo>
                <a:lnTo>
                  <a:pt x="17806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>
            <a:hlinkClick r:id="" action="ppaction://hlinkshowjump?jump=nextslide"/>
          </p:cNvPr>
          <p:cNvSpPr/>
          <p:nvPr/>
        </p:nvSpPr>
        <p:spPr>
          <a:xfrm>
            <a:off x="867564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1971"/>
                </a:moveTo>
                <a:lnTo>
                  <a:pt x="17806" y="18978"/>
                </a:lnTo>
                <a:lnTo>
                  <a:pt x="3794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>
            <a:hlinkClick r:id="rId2" action="ppaction://hlinksldjump"/>
          </p:cNvPr>
          <p:cNvSpPr/>
          <p:nvPr/>
        </p:nvSpPr>
        <p:spPr>
          <a:xfrm>
            <a:off x="831708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10800" y="12015"/>
                </a:moveTo>
                <a:lnTo>
                  <a:pt x="13376" y="14626"/>
                </a:ln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lnTo>
                  <a:pt x="17763" y="18978"/>
                </a:lnTo>
                <a:lnTo>
                  <a:pt x="16109" y="18978"/>
                </a:lnTo>
                <a:lnTo>
                  <a:pt x="16109" y="26167"/>
                </a:lnTo>
                <a:lnTo>
                  <a:pt x="5491" y="26167"/>
                </a:lnTo>
                <a:lnTo>
                  <a:pt x="5491" y="18978"/>
                </a:lnTo>
                <a:lnTo>
                  <a:pt x="3837" y="18978"/>
                </a:lnTo>
                <a:close/>
              </a:path>
              <a:path fill="darkenLess" w="21600" h="37955">
                <a:moveTo>
                  <a:pt x="13376" y="14626"/>
                </a:move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close/>
              </a:path>
              <a:path fill="darkenLess" w="21600" h="37955">
                <a:moveTo>
                  <a:pt x="9877" y="22477"/>
                </a:moveTo>
                <a:lnTo>
                  <a:pt x="11723" y="22477"/>
                </a:lnTo>
                <a:lnTo>
                  <a:pt x="11723" y="26167"/>
                </a:lnTo>
                <a:lnTo>
                  <a:pt x="16109" y="26167"/>
                </a:lnTo>
                <a:lnTo>
                  <a:pt x="16109" y="18978"/>
                </a:lnTo>
                <a:lnTo>
                  <a:pt x="5491" y="18978"/>
                </a:lnTo>
                <a:lnTo>
                  <a:pt x="5491" y="26167"/>
                </a:lnTo>
                <a:lnTo>
                  <a:pt x="9877" y="2616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SA34"/>
          <p:cNvPicPr/>
          <p:nvPr/>
        </p:nvPicPr>
        <p:blipFill>
          <a:blip r:embed="rId1"/>
          <a:stretch/>
        </p:blipFill>
        <p:spPr>
          <a:xfrm>
            <a:off x="324000" y="620640"/>
            <a:ext cx="8424720" cy="572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IMGA0047"/>
          <p:cNvPicPr/>
          <p:nvPr/>
        </p:nvPicPr>
        <p:blipFill>
          <a:blip r:embed="rId2"/>
          <a:stretch/>
        </p:blipFill>
        <p:spPr>
          <a:xfrm>
            <a:off x="179280" y="476280"/>
            <a:ext cx="8713800" cy="621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озеро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0">
            <a:hlinkClick r:id="" action="ppaction://hlinkshowjump?jump=previousslide"/>
          </p:cNvPr>
          <p:cNvSpPr/>
          <p:nvPr/>
        </p:nvSpPr>
        <p:spPr>
          <a:xfrm>
            <a:off x="774072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8978"/>
                </a:moveTo>
                <a:lnTo>
                  <a:pt x="17806" y="11971"/>
                </a:lnTo>
                <a:lnTo>
                  <a:pt x="17806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>
            <a:hlinkClick r:id="" action="ppaction://hlinkshowjump?jump=nextslide"/>
          </p:cNvPr>
          <p:cNvSpPr/>
          <p:nvPr/>
        </p:nvSpPr>
        <p:spPr>
          <a:xfrm>
            <a:off x="8459640" y="6165720"/>
            <a:ext cx="287640" cy="505080"/>
          </a:xfrm>
          <a:custGeom>
            <a:avLst/>
            <a:gdLst>
              <a:gd name="textAreaLeft" fmla="*/ 18360 w 287640"/>
              <a:gd name="textAreaRight" fmla="*/ 269280 w 28764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08">
                <a:moveTo>
                  <a:pt x="0" y="0"/>
                </a:moveTo>
                <a:lnTo>
                  <a:pt x="21600" y="0"/>
                </a:lnTo>
                <a:lnTo>
                  <a:pt x="21600" y="37908"/>
                </a:lnTo>
                <a:lnTo>
                  <a:pt x="0" y="37908"/>
                </a:lnTo>
                <a:close/>
              </a:path>
              <a:path fill="lightenLess" w="21600" h="379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08">
                <a:moveTo>
                  <a:pt x="21600" y="0"/>
                </a:moveTo>
                <a:lnTo>
                  <a:pt x="21600" y="37908"/>
                </a:lnTo>
                <a:lnTo>
                  <a:pt x="20200" y="36508"/>
                </a:lnTo>
                <a:lnTo>
                  <a:pt x="20200" y="1400"/>
                </a:lnTo>
                <a:close/>
              </a:path>
              <a:path fill="darkenLess" w="21600" h="37908">
                <a:moveTo>
                  <a:pt x="21600" y="37908"/>
                </a:moveTo>
                <a:lnTo>
                  <a:pt x="0" y="37908"/>
                </a:lnTo>
                <a:lnTo>
                  <a:pt x="1400" y="36508"/>
                </a:lnTo>
                <a:lnTo>
                  <a:pt x="20200" y="36508"/>
                </a:lnTo>
                <a:close/>
              </a:path>
              <a:path fill="lighten" w="21600" h="37908">
                <a:moveTo>
                  <a:pt x="0" y="37908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08"/>
                </a:lnTo>
                <a:close/>
              </a:path>
              <a:path fill="darken" w="21600" h="37908">
                <a:moveTo>
                  <a:pt x="3794" y="11948"/>
                </a:moveTo>
                <a:lnTo>
                  <a:pt x="17806" y="18954"/>
                </a:lnTo>
                <a:lnTo>
                  <a:pt x="3794" y="2596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>
            <a:hlinkClick r:id="rId4" action="ppaction://hlinksldjump"/>
          </p:cNvPr>
          <p:cNvSpPr/>
          <p:nvPr/>
        </p:nvSpPr>
        <p:spPr>
          <a:xfrm>
            <a:off x="810108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10800" y="12015"/>
                </a:moveTo>
                <a:lnTo>
                  <a:pt x="13376" y="14626"/>
                </a:ln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lnTo>
                  <a:pt x="17763" y="18978"/>
                </a:lnTo>
                <a:lnTo>
                  <a:pt x="16109" y="18978"/>
                </a:lnTo>
                <a:lnTo>
                  <a:pt x="16109" y="26167"/>
                </a:lnTo>
                <a:lnTo>
                  <a:pt x="5491" y="26167"/>
                </a:lnTo>
                <a:lnTo>
                  <a:pt x="5491" y="18978"/>
                </a:lnTo>
                <a:lnTo>
                  <a:pt x="3837" y="18978"/>
                </a:lnTo>
                <a:close/>
              </a:path>
              <a:path fill="darkenLess" w="21600" h="37955">
                <a:moveTo>
                  <a:pt x="13376" y="14626"/>
                </a:move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close/>
              </a:path>
              <a:path fill="darkenLess" w="21600" h="37955">
                <a:moveTo>
                  <a:pt x="9877" y="22477"/>
                </a:moveTo>
                <a:lnTo>
                  <a:pt x="11723" y="22477"/>
                </a:lnTo>
                <a:lnTo>
                  <a:pt x="11723" y="26167"/>
                </a:lnTo>
                <a:lnTo>
                  <a:pt x="16109" y="26167"/>
                </a:lnTo>
                <a:lnTo>
                  <a:pt x="16109" y="18978"/>
                </a:lnTo>
                <a:lnTo>
                  <a:pt x="5491" y="18978"/>
                </a:lnTo>
                <a:lnTo>
                  <a:pt x="5491" y="26167"/>
                </a:lnTo>
                <a:lnTo>
                  <a:pt x="9877" y="2616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водопад"/>
          <p:cNvPicPr/>
          <p:nvPr/>
        </p:nvPicPr>
        <p:blipFill>
          <a:blip r:embed="rId1"/>
          <a:stretch/>
        </p:blipFill>
        <p:spPr>
          <a:xfrm>
            <a:off x="1116000" y="674640"/>
            <a:ext cx="6769080" cy="5076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547640" y="609300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476360" y="6165720"/>
            <a:ext cx="6048360" cy="36828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чем мы будем говорить сегодня на уро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>
            <a:hlinkClick r:id="" action="ppaction://hlinkshowjump?jump=previousslide"/>
          </p:cNvPr>
          <p:cNvSpPr/>
          <p:nvPr/>
        </p:nvSpPr>
        <p:spPr>
          <a:xfrm>
            <a:off x="795672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8978"/>
                </a:moveTo>
                <a:lnTo>
                  <a:pt x="17806" y="11971"/>
                </a:lnTo>
                <a:lnTo>
                  <a:pt x="17806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>
            <a:hlinkClick r:id="" action="ppaction://hlinkshowjump?jump=nextslide"/>
          </p:cNvPr>
          <p:cNvSpPr/>
          <p:nvPr/>
        </p:nvSpPr>
        <p:spPr>
          <a:xfrm>
            <a:off x="867564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3794" y="11971"/>
                </a:moveTo>
                <a:lnTo>
                  <a:pt x="17806" y="18978"/>
                </a:lnTo>
                <a:lnTo>
                  <a:pt x="3794" y="259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>
            <a:hlinkClick r:id="rId2" action="ppaction://hlinksldjump"/>
          </p:cNvPr>
          <p:cNvSpPr/>
          <p:nvPr/>
        </p:nvSpPr>
        <p:spPr>
          <a:xfrm>
            <a:off x="8317080" y="6165720"/>
            <a:ext cx="287280" cy="505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05080"/>
              <a:gd name="textAreaBottom" fmla="*/ 486720 h 505080"/>
            </a:gdLst>
            <a:ahLst/>
            <a:rect l="textAreaLeft" t="textAreaTop" r="textAreaRight" b="textAreaBottom"/>
            <a:pathLst>
              <a:path w="21600" h="37955">
                <a:moveTo>
                  <a:pt x="0" y="0"/>
                </a:moveTo>
                <a:lnTo>
                  <a:pt x="21600" y="0"/>
                </a:lnTo>
                <a:lnTo>
                  <a:pt x="21600" y="37955"/>
                </a:lnTo>
                <a:lnTo>
                  <a:pt x="0" y="37955"/>
                </a:lnTo>
                <a:close/>
              </a:path>
              <a:path fill="lightenLess" w="21600" h="379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955">
                <a:moveTo>
                  <a:pt x="21600" y="0"/>
                </a:moveTo>
                <a:lnTo>
                  <a:pt x="21600" y="37955"/>
                </a:lnTo>
                <a:lnTo>
                  <a:pt x="20200" y="36555"/>
                </a:lnTo>
                <a:lnTo>
                  <a:pt x="20200" y="1400"/>
                </a:lnTo>
                <a:close/>
              </a:path>
              <a:path fill="darkenLess" w="21600" h="37955">
                <a:moveTo>
                  <a:pt x="21600" y="37955"/>
                </a:moveTo>
                <a:lnTo>
                  <a:pt x="0" y="37955"/>
                </a:lnTo>
                <a:lnTo>
                  <a:pt x="1400" y="36555"/>
                </a:lnTo>
                <a:lnTo>
                  <a:pt x="20200" y="36555"/>
                </a:lnTo>
                <a:close/>
              </a:path>
              <a:path fill="lighten" w="21600" h="37955">
                <a:moveTo>
                  <a:pt x="0" y="379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555"/>
                </a:lnTo>
                <a:close/>
              </a:path>
              <a:path fill="darken" w="21600" h="37955">
                <a:moveTo>
                  <a:pt x="10800" y="12015"/>
                </a:moveTo>
                <a:lnTo>
                  <a:pt x="13376" y="14626"/>
                </a:ln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lnTo>
                  <a:pt x="17763" y="18978"/>
                </a:lnTo>
                <a:lnTo>
                  <a:pt x="16109" y="18978"/>
                </a:lnTo>
                <a:lnTo>
                  <a:pt x="16109" y="26167"/>
                </a:lnTo>
                <a:lnTo>
                  <a:pt x="5491" y="26167"/>
                </a:lnTo>
                <a:lnTo>
                  <a:pt x="5491" y="18978"/>
                </a:lnTo>
                <a:lnTo>
                  <a:pt x="3837" y="18978"/>
                </a:lnTo>
                <a:close/>
              </a:path>
              <a:path fill="darkenLess" w="21600" h="37955">
                <a:moveTo>
                  <a:pt x="13376" y="14626"/>
                </a:moveTo>
                <a:lnTo>
                  <a:pt x="13376" y="12885"/>
                </a:lnTo>
                <a:lnTo>
                  <a:pt x="15152" y="12885"/>
                </a:lnTo>
                <a:lnTo>
                  <a:pt x="15152" y="16401"/>
                </a:lnTo>
                <a:close/>
              </a:path>
              <a:path fill="darkenLess" w="21600" h="37955">
                <a:moveTo>
                  <a:pt x="9877" y="22477"/>
                </a:moveTo>
                <a:lnTo>
                  <a:pt x="11723" y="22477"/>
                </a:lnTo>
                <a:lnTo>
                  <a:pt x="11723" y="26167"/>
                </a:lnTo>
                <a:lnTo>
                  <a:pt x="16109" y="26167"/>
                </a:lnTo>
                <a:lnTo>
                  <a:pt x="16109" y="18978"/>
                </a:lnTo>
                <a:lnTo>
                  <a:pt x="5491" y="18978"/>
                </a:lnTo>
                <a:lnTo>
                  <a:pt x="5491" y="26167"/>
                </a:lnTo>
                <a:lnTo>
                  <a:pt x="9877" y="2616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2" descr="море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611280" y="1521360"/>
            <a:ext cx="7920000" cy="47106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920" rIns="90000" tIns="46800" bIns="0" anchor="ctr">
            <a:spAutoFit/>
          </a:bodyPr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да – самое распространенное вещество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да –  символ  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а поит и кормит, лечит и заставляет страдать, приносит удовольствие и непоправимый вред. Это хорошо знакомое каждому из нас  с  самого рождения вещество обладает многими необычными свойствами. Она обязательный компонент всех живых организмов: растений, животных, человека. А также участник многих важных процессов в неживой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одним из таких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цессов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м предстоит познакомиться сегодня на ур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b"/>
          <p:cNvPicPr/>
          <p:nvPr/>
        </p:nvPicPr>
        <p:blipFill>
          <a:blip r:embed="rId2"/>
          <a:stretch/>
        </p:blipFill>
        <p:spPr>
          <a:xfrm>
            <a:off x="2771640" y="260280"/>
            <a:ext cx="638280" cy="619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o"/>
          <p:cNvPicPr/>
          <p:nvPr/>
        </p:nvPicPr>
        <p:blipFill>
          <a:blip r:embed="rId3"/>
          <a:stretch/>
        </p:blipFill>
        <p:spPr>
          <a:xfrm>
            <a:off x="3492360" y="260280"/>
            <a:ext cx="638280" cy="619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d"/>
          <p:cNvPicPr/>
          <p:nvPr/>
        </p:nvPicPr>
        <p:blipFill>
          <a:blip r:embed="rId4"/>
          <a:stretch/>
        </p:blipFill>
        <p:spPr>
          <a:xfrm>
            <a:off x="4211640" y="260280"/>
            <a:ext cx="666720" cy="619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a"/>
          <p:cNvPicPr/>
          <p:nvPr/>
        </p:nvPicPr>
        <p:blipFill>
          <a:blip r:embed="rId5"/>
          <a:stretch/>
        </p:blipFill>
        <p:spPr>
          <a:xfrm>
            <a:off x="4932360" y="260280"/>
            <a:ext cx="665280" cy="7192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20">
            <a:hlinkClick r:id="" action="ppaction://hlinkshowjump?jump=previousslide"/>
          </p:cNvPr>
          <p:cNvSpPr/>
          <p:nvPr/>
        </p:nvSpPr>
        <p:spPr>
          <a:xfrm>
            <a:off x="795672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21641"/>
                </a:moveTo>
                <a:lnTo>
                  <a:pt x="17806" y="14634"/>
                </a:lnTo>
                <a:lnTo>
                  <a:pt x="17806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1">
            <a:hlinkClick r:id="" action="ppaction://hlinkshowjump?jump=nextslide"/>
          </p:cNvPr>
          <p:cNvSpPr/>
          <p:nvPr/>
        </p:nvSpPr>
        <p:spPr>
          <a:xfrm>
            <a:off x="867564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14634"/>
                </a:moveTo>
                <a:lnTo>
                  <a:pt x="17806" y="21641"/>
                </a:lnTo>
                <a:lnTo>
                  <a:pt x="3794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2">
            <a:hlinkClick r:id="rId6" action="ppaction://hlinksldjump"/>
          </p:cNvPr>
          <p:cNvSpPr/>
          <p:nvPr/>
        </p:nvSpPr>
        <p:spPr>
          <a:xfrm>
            <a:off x="831708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10800" y="14678"/>
                </a:moveTo>
                <a:lnTo>
                  <a:pt x="13376" y="17289"/>
                </a:ln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lnTo>
                  <a:pt x="17763" y="21641"/>
                </a:lnTo>
                <a:lnTo>
                  <a:pt x="16109" y="21641"/>
                </a:lnTo>
                <a:lnTo>
                  <a:pt x="16109" y="28830"/>
                </a:lnTo>
                <a:lnTo>
                  <a:pt x="5491" y="28830"/>
                </a:lnTo>
                <a:lnTo>
                  <a:pt x="5491" y="21641"/>
                </a:lnTo>
                <a:lnTo>
                  <a:pt x="3837" y="21641"/>
                </a:lnTo>
                <a:close/>
              </a:path>
              <a:path fill="darkenLess" w="21600" h="43281">
                <a:moveTo>
                  <a:pt x="13376" y="17289"/>
                </a:move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close/>
              </a:path>
              <a:path fill="darkenLess" w="21600" h="43281">
                <a:moveTo>
                  <a:pt x="9877" y="25139"/>
                </a:moveTo>
                <a:lnTo>
                  <a:pt x="11723" y="25139"/>
                </a:lnTo>
                <a:lnTo>
                  <a:pt x="11723" y="28830"/>
                </a:lnTo>
                <a:lnTo>
                  <a:pt x="16109" y="28830"/>
                </a:lnTo>
                <a:lnTo>
                  <a:pt x="16109" y="21641"/>
                </a:lnTo>
                <a:lnTo>
                  <a:pt x="5491" y="21641"/>
                </a:lnTo>
                <a:lnTo>
                  <a:pt x="5491" y="28830"/>
                </a:lnTo>
                <a:lnTo>
                  <a:pt x="9877" y="288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3781800" y="18900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га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334520" y="5013360"/>
            <a:ext cx="27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ралась на карни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с повесила вн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ночь слезы пряч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на солнце плач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72680" y="3429000"/>
            <a:ext cx="34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ежит и солнце спряч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потом еще заплач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292720" y="3500280"/>
            <a:ext cx="33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еба к нам прилет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ружился, тихо се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рзшую зем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шубу белую од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сосульки"/>
          <p:cNvPicPr/>
          <p:nvPr/>
        </p:nvPicPr>
        <p:blipFill>
          <a:blip r:embed="rId1"/>
          <a:stretch/>
        </p:blipFill>
        <p:spPr>
          <a:xfrm>
            <a:off x="4140360" y="4724280"/>
            <a:ext cx="1657080" cy="1873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снег2"/>
          <p:cNvPicPr/>
          <p:nvPr/>
        </p:nvPicPr>
        <p:blipFill>
          <a:blip r:embed="rId2"/>
          <a:srcRect l="5552" t="5305" r="5591" b="10088"/>
          <a:stretch/>
        </p:blipFill>
        <p:spPr>
          <a:xfrm>
            <a:off x="5219640" y="765000"/>
            <a:ext cx="3456000" cy="230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p39_2_1"/>
          <p:cNvPicPr/>
          <p:nvPr/>
        </p:nvPicPr>
        <p:blipFill>
          <a:blip r:embed="rId3"/>
          <a:stretch/>
        </p:blipFill>
        <p:spPr>
          <a:xfrm>
            <a:off x="539640" y="765000"/>
            <a:ext cx="3373560" cy="23130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6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360360" cy="647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647640"/>
              <a:gd name="textAreaBottom" fmla="*/ 624600 h 647640"/>
            </a:gdLst>
            <a:ahLst/>
            <a:rect l="textAreaLeft" t="textAreaTop" r="textAreaRight" b="textAreaBottom"/>
            <a:pathLst>
              <a:path w="21600" h="38802">
                <a:moveTo>
                  <a:pt x="0" y="0"/>
                </a:moveTo>
                <a:lnTo>
                  <a:pt x="21600" y="0"/>
                </a:lnTo>
                <a:lnTo>
                  <a:pt x="21600" y="38802"/>
                </a:lnTo>
                <a:lnTo>
                  <a:pt x="0" y="38802"/>
                </a:lnTo>
                <a:close/>
              </a:path>
              <a:path fill="lightenLess" w="21600" h="388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802">
                <a:moveTo>
                  <a:pt x="21600" y="0"/>
                </a:moveTo>
                <a:lnTo>
                  <a:pt x="21600" y="38802"/>
                </a:lnTo>
                <a:lnTo>
                  <a:pt x="20200" y="37402"/>
                </a:lnTo>
                <a:lnTo>
                  <a:pt x="20200" y="1400"/>
                </a:lnTo>
                <a:close/>
              </a:path>
              <a:path fill="darkenLess" w="21600" h="38802">
                <a:moveTo>
                  <a:pt x="21600" y="38802"/>
                </a:moveTo>
                <a:lnTo>
                  <a:pt x="0" y="38802"/>
                </a:lnTo>
                <a:lnTo>
                  <a:pt x="1400" y="37402"/>
                </a:lnTo>
                <a:lnTo>
                  <a:pt x="20200" y="37402"/>
                </a:lnTo>
                <a:close/>
              </a:path>
              <a:path fill="lighten" w="21600" h="38802">
                <a:moveTo>
                  <a:pt x="0" y="388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7402"/>
                </a:lnTo>
                <a:close/>
              </a:path>
              <a:path fill="darken" w="21600" h="38802">
                <a:moveTo>
                  <a:pt x="3794" y="19401"/>
                </a:moveTo>
                <a:lnTo>
                  <a:pt x="17806" y="12395"/>
                </a:lnTo>
                <a:lnTo>
                  <a:pt x="17806" y="264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7">
            <a:hlinkClick r:id="" action="ppaction://hlinkshowjump?jump=nextslide"/>
          </p:cNvPr>
          <p:cNvSpPr/>
          <p:nvPr/>
        </p:nvSpPr>
        <p:spPr>
          <a:xfrm>
            <a:off x="8604360" y="6021360"/>
            <a:ext cx="360360" cy="647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647640"/>
              <a:gd name="textAreaBottom" fmla="*/ 624600 h 647640"/>
            </a:gdLst>
            <a:ahLst/>
            <a:rect l="textAreaLeft" t="textAreaTop" r="textAreaRight" b="textAreaBottom"/>
            <a:pathLst>
              <a:path w="21600" h="38802">
                <a:moveTo>
                  <a:pt x="0" y="0"/>
                </a:moveTo>
                <a:lnTo>
                  <a:pt x="21600" y="0"/>
                </a:lnTo>
                <a:lnTo>
                  <a:pt x="21600" y="38802"/>
                </a:lnTo>
                <a:lnTo>
                  <a:pt x="0" y="38802"/>
                </a:lnTo>
                <a:close/>
              </a:path>
              <a:path fill="lightenLess" w="21600" h="388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802">
                <a:moveTo>
                  <a:pt x="21600" y="0"/>
                </a:moveTo>
                <a:lnTo>
                  <a:pt x="21600" y="38802"/>
                </a:lnTo>
                <a:lnTo>
                  <a:pt x="20200" y="37402"/>
                </a:lnTo>
                <a:lnTo>
                  <a:pt x="20200" y="1400"/>
                </a:lnTo>
                <a:close/>
              </a:path>
              <a:path fill="darkenLess" w="21600" h="38802">
                <a:moveTo>
                  <a:pt x="21600" y="38802"/>
                </a:moveTo>
                <a:lnTo>
                  <a:pt x="0" y="38802"/>
                </a:lnTo>
                <a:lnTo>
                  <a:pt x="1400" y="37402"/>
                </a:lnTo>
                <a:lnTo>
                  <a:pt x="20200" y="37402"/>
                </a:lnTo>
                <a:close/>
              </a:path>
              <a:path fill="lighten" w="21600" h="38802">
                <a:moveTo>
                  <a:pt x="0" y="388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7402"/>
                </a:lnTo>
                <a:close/>
              </a:path>
              <a:path fill="darken" w="21600" h="38802">
                <a:moveTo>
                  <a:pt x="3794" y="12395"/>
                </a:moveTo>
                <a:lnTo>
                  <a:pt x="17806" y="19401"/>
                </a:lnTo>
                <a:lnTo>
                  <a:pt x="3794" y="264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>
            <a:hlinkClick r:id="rId4" action="ppaction://hlinksldjump"/>
          </p:cNvPr>
          <p:cNvSpPr/>
          <p:nvPr/>
        </p:nvSpPr>
        <p:spPr>
          <a:xfrm>
            <a:off x="8172360" y="6021360"/>
            <a:ext cx="360360" cy="647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647640"/>
              <a:gd name="textAreaBottom" fmla="*/ 624600 h 647640"/>
            </a:gdLst>
            <a:ahLst/>
            <a:rect l="textAreaLeft" t="textAreaTop" r="textAreaRight" b="textAreaBottom"/>
            <a:pathLst>
              <a:path w="21600" h="38802">
                <a:moveTo>
                  <a:pt x="0" y="0"/>
                </a:moveTo>
                <a:lnTo>
                  <a:pt x="21600" y="0"/>
                </a:lnTo>
                <a:lnTo>
                  <a:pt x="21600" y="38802"/>
                </a:lnTo>
                <a:lnTo>
                  <a:pt x="0" y="38802"/>
                </a:lnTo>
                <a:close/>
              </a:path>
              <a:path fill="lightenLess" w="21600" h="388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802">
                <a:moveTo>
                  <a:pt x="21600" y="0"/>
                </a:moveTo>
                <a:lnTo>
                  <a:pt x="21600" y="38802"/>
                </a:lnTo>
                <a:lnTo>
                  <a:pt x="20200" y="37402"/>
                </a:lnTo>
                <a:lnTo>
                  <a:pt x="20200" y="1400"/>
                </a:lnTo>
                <a:close/>
              </a:path>
              <a:path fill="darkenLess" w="21600" h="38802">
                <a:moveTo>
                  <a:pt x="21600" y="38802"/>
                </a:moveTo>
                <a:lnTo>
                  <a:pt x="0" y="38802"/>
                </a:lnTo>
                <a:lnTo>
                  <a:pt x="1400" y="37402"/>
                </a:lnTo>
                <a:lnTo>
                  <a:pt x="20200" y="37402"/>
                </a:lnTo>
                <a:close/>
              </a:path>
              <a:path fill="lighten" w="21600" h="38802">
                <a:moveTo>
                  <a:pt x="0" y="388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7402"/>
                </a:lnTo>
                <a:close/>
              </a:path>
              <a:path fill="darken" w="21600" h="38802">
                <a:moveTo>
                  <a:pt x="10800" y="12438"/>
                </a:moveTo>
                <a:lnTo>
                  <a:pt x="13376" y="15049"/>
                </a:lnTo>
                <a:lnTo>
                  <a:pt x="13376" y="13309"/>
                </a:lnTo>
                <a:lnTo>
                  <a:pt x="15152" y="13309"/>
                </a:lnTo>
                <a:lnTo>
                  <a:pt x="15152" y="16825"/>
                </a:lnTo>
                <a:lnTo>
                  <a:pt x="17763" y="19401"/>
                </a:lnTo>
                <a:lnTo>
                  <a:pt x="16109" y="19401"/>
                </a:lnTo>
                <a:lnTo>
                  <a:pt x="16109" y="26590"/>
                </a:lnTo>
                <a:lnTo>
                  <a:pt x="5491" y="26590"/>
                </a:lnTo>
                <a:lnTo>
                  <a:pt x="5491" y="19401"/>
                </a:lnTo>
                <a:lnTo>
                  <a:pt x="3837" y="19401"/>
                </a:lnTo>
                <a:close/>
              </a:path>
              <a:path fill="darkenLess" w="21600" h="38802">
                <a:moveTo>
                  <a:pt x="13376" y="15049"/>
                </a:moveTo>
                <a:lnTo>
                  <a:pt x="13376" y="13309"/>
                </a:lnTo>
                <a:lnTo>
                  <a:pt x="15152" y="13309"/>
                </a:lnTo>
                <a:lnTo>
                  <a:pt x="15152" y="16825"/>
                </a:lnTo>
                <a:close/>
              </a:path>
              <a:path fill="darkenLess" w="21600" h="38802">
                <a:moveTo>
                  <a:pt x="9877" y="22900"/>
                </a:moveTo>
                <a:lnTo>
                  <a:pt x="11723" y="22900"/>
                </a:lnTo>
                <a:lnTo>
                  <a:pt x="11723" y="26590"/>
                </a:lnTo>
                <a:lnTo>
                  <a:pt x="16109" y="26590"/>
                </a:lnTo>
                <a:lnTo>
                  <a:pt x="16109" y="19401"/>
                </a:lnTo>
                <a:lnTo>
                  <a:pt x="5491" y="19401"/>
                </a:lnTo>
                <a:lnTo>
                  <a:pt x="5491" y="26590"/>
                </a:lnTo>
                <a:lnTo>
                  <a:pt x="9877" y="2659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9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4619880" cy="3071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289840" y="356760"/>
            <a:ext cx="25520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-за туман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видать поляны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видать реки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видать рук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найти свой дом -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ым да дым круг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88400" y="3928680"/>
            <a:ext cx="35319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тер был не в меру весе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пять накуролесил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но ль радоваться граду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не рад, и вы не рад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ому что тот, кто сеет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жай всегда жале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5">
            <a:hlinkClick r:id="" action="ppaction://hlinkshowjump?jump=previousslide"/>
          </p:cNvPr>
          <p:cNvSpPr/>
          <p:nvPr/>
        </p:nvSpPr>
        <p:spPr>
          <a:xfrm>
            <a:off x="795672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21641"/>
                </a:moveTo>
                <a:lnTo>
                  <a:pt x="17806" y="14634"/>
                </a:lnTo>
                <a:lnTo>
                  <a:pt x="17806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6">
            <a:hlinkClick r:id="" action="ppaction://hlinkshowjump?jump=nextslide"/>
          </p:cNvPr>
          <p:cNvSpPr/>
          <p:nvPr/>
        </p:nvSpPr>
        <p:spPr>
          <a:xfrm>
            <a:off x="867564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14634"/>
                </a:moveTo>
                <a:lnTo>
                  <a:pt x="17806" y="21641"/>
                </a:lnTo>
                <a:lnTo>
                  <a:pt x="3794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7">
            <a:hlinkClick r:id="rId2" action="ppaction://hlinksldjump"/>
          </p:cNvPr>
          <p:cNvSpPr/>
          <p:nvPr/>
        </p:nvSpPr>
        <p:spPr>
          <a:xfrm>
            <a:off x="831708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10800" y="14678"/>
                </a:moveTo>
                <a:lnTo>
                  <a:pt x="13376" y="17289"/>
                </a:ln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lnTo>
                  <a:pt x="17763" y="21641"/>
                </a:lnTo>
                <a:lnTo>
                  <a:pt x="16109" y="21641"/>
                </a:lnTo>
                <a:lnTo>
                  <a:pt x="16109" y="28830"/>
                </a:lnTo>
                <a:lnTo>
                  <a:pt x="5491" y="28830"/>
                </a:lnTo>
                <a:lnTo>
                  <a:pt x="5491" y="21641"/>
                </a:lnTo>
                <a:lnTo>
                  <a:pt x="3837" y="21641"/>
                </a:lnTo>
                <a:close/>
              </a:path>
              <a:path fill="darkenLess" w="21600" h="43281">
                <a:moveTo>
                  <a:pt x="13376" y="17289"/>
                </a:move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close/>
              </a:path>
              <a:path fill="darkenLess" w="21600" h="43281">
                <a:moveTo>
                  <a:pt x="9877" y="25139"/>
                </a:moveTo>
                <a:lnTo>
                  <a:pt x="11723" y="25139"/>
                </a:lnTo>
                <a:lnTo>
                  <a:pt x="11723" y="28830"/>
                </a:lnTo>
                <a:lnTo>
                  <a:pt x="16109" y="28830"/>
                </a:lnTo>
                <a:lnTo>
                  <a:pt x="16109" y="21641"/>
                </a:lnTo>
                <a:lnTo>
                  <a:pt x="5491" y="21641"/>
                </a:lnTo>
                <a:lnTo>
                  <a:pt x="5491" y="28830"/>
                </a:lnTo>
                <a:lnTo>
                  <a:pt x="9877" y="288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8" descr=""/>
          <p:cNvPicPr/>
          <p:nvPr/>
        </p:nvPicPr>
        <p:blipFill>
          <a:blip r:embed="rId3"/>
          <a:stretch/>
        </p:blipFill>
        <p:spPr>
          <a:xfrm>
            <a:off x="4429080" y="3286080"/>
            <a:ext cx="39290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971640" y="47628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е отношение к воде имеют эти явления приро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 flipH="1">
            <a:off x="269280" y="5168880"/>
            <a:ext cx="1839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3"/>
          <p:cNvSpPr/>
          <p:nvPr/>
        </p:nvSpPr>
        <p:spPr>
          <a:xfrm>
            <a:off x="-541440" y="5407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81"/>
          <p:cNvGrpSpPr/>
          <p:nvPr/>
        </p:nvGrpSpPr>
        <p:grpSpPr>
          <a:xfrm>
            <a:off x="1547640" y="1700280"/>
            <a:ext cx="5975280" cy="1944720"/>
            <a:chOff x="1547640" y="1700280"/>
            <a:chExt cx="5975280" cy="1944720"/>
          </a:xfrm>
        </p:grpSpPr>
        <p:sp>
          <p:nvSpPr>
            <p:cNvPr id="98" name="Rectangle 70"/>
            <p:cNvSpPr/>
            <p:nvPr/>
          </p:nvSpPr>
          <p:spPr>
            <a:xfrm>
              <a:off x="1547640" y="3068640"/>
              <a:ext cx="158436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жидк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71"/>
            <p:cNvSpPr/>
            <p:nvPr/>
          </p:nvSpPr>
          <p:spPr>
            <a:xfrm>
              <a:off x="3779640" y="1700280"/>
              <a:ext cx="151128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72"/>
            <p:cNvSpPr/>
            <p:nvPr/>
          </p:nvSpPr>
          <p:spPr>
            <a:xfrm>
              <a:off x="3779640" y="3068640"/>
              <a:ext cx="158436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верд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73"/>
            <p:cNvSpPr/>
            <p:nvPr/>
          </p:nvSpPr>
          <p:spPr>
            <a:xfrm>
              <a:off x="5938560" y="3068640"/>
              <a:ext cx="1584360" cy="576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газообраз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78"/>
            <p:cNvSpPr/>
            <p:nvPr/>
          </p:nvSpPr>
          <p:spPr>
            <a:xfrm>
              <a:off x="4498920" y="249264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9"/>
            <p:cNvSpPr/>
            <p:nvPr/>
          </p:nvSpPr>
          <p:spPr>
            <a:xfrm flipH="1">
              <a:off x="2339640" y="2492640"/>
              <a:ext cx="21592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0"/>
            <p:cNvSpPr/>
            <p:nvPr/>
          </p:nvSpPr>
          <p:spPr>
            <a:xfrm>
              <a:off x="4498920" y="2492640"/>
              <a:ext cx="223200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85"/>
          <p:cNvSpPr/>
          <p:nvPr/>
        </p:nvSpPr>
        <p:spPr>
          <a:xfrm>
            <a:off x="1187280" y="9079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делайте вывод о состояниях 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9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21641"/>
                </a:moveTo>
                <a:lnTo>
                  <a:pt x="17806" y="14634"/>
                </a:lnTo>
                <a:lnTo>
                  <a:pt x="17806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0">
            <a:hlinkClick r:id="" action="ppaction://hlinkshowjump?jump=nextslide"/>
          </p:cNvPr>
          <p:cNvSpPr/>
          <p:nvPr/>
        </p:nvSpPr>
        <p:spPr>
          <a:xfrm>
            <a:off x="860436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3794" y="14634"/>
                </a:moveTo>
                <a:lnTo>
                  <a:pt x="17806" y="21641"/>
                </a:lnTo>
                <a:lnTo>
                  <a:pt x="3794" y="2864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1">
            <a:hlinkClick r:id="rId1" action="ppaction://hlinksldjump"/>
          </p:cNvPr>
          <p:cNvSpPr/>
          <p:nvPr/>
        </p:nvSpPr>
        <p:spPr>
          <a:xfrm>
            <a:off x="8244000" y="6093000"/>
            <a:ext cx="287280" cy="576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576000"/>
              <a:gd name="textAreaBottom" fmla="*/ 557640 h 576000"/>
            </a:gdLst>
            <a:ahLst/>
            <a:rect l="textAreaLeft" t="textAreaTop" r="textAreaRight" b="textAreaBottom"/>
            <a:pathLst>
              <a:path w="21600" h="43281">
                <a:moveTo>
                  <a:pt x="0" y="0"/>
                </a:moveTo>
                <a:lnTo>
                  <a:pt x="21600" y="0"/>
                </a:lnTo>
                <a:lnTo>
                  <a:pt x="21600" y="43281"/>
                </a:lnTo>
                <a:lnTo>
                  <a:pt x="0" y="43281"/>
                </a:lnTo>
                <a:close/>
              </a:path>
              <a:path fill="lightenLess" w="21600" h="432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81">
                <a:moveTo>
                  <a:pt x="21600" y="0"/>
                </a:moveTo>
                <a:lnTo>
                  <a:pt x="21600" y="43281"/>
                </a:lnTo>
                <a:lnTo>
                  <a:pt x="20200" y="41881"/>
                </a:lnTo>
                <a:lnTo>
                  <a:pt x="20200" y="1400"/>
                </a:lnTo>
                <a:close/>
              </a:path>
              <a:path fill="darkenLess" w="21600" h="43281">
                <a:moveTo>
                  <a:pt x="21600" y="43281"/>
                </a:moveTo>
                <a:lnTo>
                  <a:pt x="0" y="43281"/>
                </a:lnTo>
                <a:lnTo>
                  <a:pt x="1400" y="41881"/>
                </a:lnTo>
                <a:lnTo>
                  <a:pt x="20200" y="41881"/>
                </a:lnTo>
                <a:close/>
              </a:path>
              <a:path fill="lighten" w="21600" h="43281">
                <a:moveTo>
                  <a:pt x="0" y="4328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81"/>
                </a:lnTo>
                <a:close/>
              </a:path>
              <a:path fill="darken" w="21600" h="43281">
                <a:moveTo>
                  <a:pt x="10800" y="14678"/>
                </a:moveTo>
                <a:lnTo>
                  <a:pt x="13376" y="17289"/>
                </a:ln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lnTo>
                  <a:pt x="17763" y="21641"/>
                </a:lnTo>
                <a:lnTo>
                  <a:pt x="16109" y="21641"/>
                </a:lnTo>
                <a:lnTo>
                  <a:pt x="16109" y="28830"/>
                </a:lnTo>
                <a:lnTo>
                  <a:pt x="5491" y="28830"/>
                </a:lnTo>
                <a:lnTo>
                  <a:pt x="5491" y="21641"/>
                </a:lnTo>
                <a:lnTo>
                  <a:pt x="3837" y="21641"/>
                </a:lnTo>
                <a:close/>
              </a:path>
              <a:path fill="darkenLess" w="21600" h="43281">
                <a:moveTo>
                  <a:pt x="13376" y="17289"/>
                </a:moveTo>
                <a:lnTo>
                  <a:pt x="13376" y="15548"/>
                </a:lnTo>
                <a:lnTo>
                  <a:pt x="15152" y="15548"/>
                </a:lnTo>
                <a:lnTo>
                  <a:pt x="15152" y="19064"/>
                </a:lnTo>
                <a:close/>
              </a:path>
              <a:path fill="darkenLess" w="21600" h="43281">
                <a:moveTo>
                  <a:pt x="9877" y="25139"/>
                </a:moveTo>
                <a:lnTo>
                  <a:pt x="11723" y="25139"/>
                </a:lnTo>
                <a:lnTo>
                  <a:pt x="11723" y="28830"/>
                </a:lnTo>
                <a:lnTo>
                  <a:pt x="16109" y="28830"/>
                </a:lnTo>
                <a:lnTo>
                  <a:pt x="16109" y="21641"/>
                </a:lnTo>
                <a:lnTo>
                  <a:pt x="5491" y="21641"/>
                </a:lnTo>
                <a:lnTo>
                  <a:pt x="5491" y="28830"/>
                </a:lnTo>
                <a:lnTo>
                  <a:pt x="9877" y="288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2"/>
          <p:cNvSpPr/>
          <p:nvPr/>
        </p:nvSpPr>
        <p:spPr>
          <a:xfrm>
            <a:off x="0" y="-183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askin-robins.summer-breath.com/post/46347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3"/>
          <p:cNvSpPr/>
          <p:nvPr/>
        </p:nvSpPr>
        <p:spPr>
          <a:xfrm>
            <a:off x="0" y="-183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askin-robins.summer-breath.com/post/46347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4" descr=""/>
          <p:cNvPicPr/>
          <p:nvPr/>
        </p:nvPicPr>
        <p:blipFill>
          <a:blip r:embed="rId4"/>
          <a:stretch/>
        </p:blipFill>
        <p:spPr>
          <a:xfrm>
            <a:off x="285840" y="4000680"/>
            <a:ext cx="2857320" cy="231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5" descr=""/>
          <p:cNvPicPr/>
          <p:nvPr/>
        </p:nvPicPr>
        <p:blipFill>
          <a:blip r:embed="rId5"/>
          <a:stretch/>
        </p:blipFill>
        <p:spPr>
          <a:xfrm>
            <a:off x="3357720" y="3857760"/>
            <a:ext cx="2286000" cy="2768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6" descr=""/>
          <p:cNvPicPr/>
          <p:nvPr/>
        </p:nvPicPr>
        <p:blipFill>
          <a:blip r:embed="rId6"/>
          <a:stretch/>
        </p:blipFill>
        <p:spPr>
          <a:xfrm>
            <a:off x="5929200" y="4143240"/>
            <a:ext cx="2928960" cy="2343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20:26:43Z</dcterms:created>
  <dc:creator>Козлов Александр Павлович</dc:creator>
  <dc:description/>
  <dc:language>en-US</dc:language>
  <cp:lastModifiedBy>Zver</cp:lastModifiedBy>
  <dcterms:modified xsi:type="dcterms:W3CDTF">2012-01-05T12:44:55Z</dcterms:modified>
  <cp:revision>36</cp:revision>
  <dc:subject/>
  <dc:title>Слайд 1</dc:title>
</cp:coreProperties>
</file>