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694-BD28-41C8-BF79-513E8C53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B9B-354B-4B45-9570-1140FEC2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E81-0CEF-4ED2-A9DE-50632CBF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6AF-3880-493F-BC49-51C9FB00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7FA1-7908-47F9-A410-09A1E03E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1185-70E6-4733-A6FB-75E07F4A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63AF-D5BD-499E-A82B-3BED9D15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56BD-5B48-4B7D-BD13-519E89EF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C847-8626-4B52-A70D-4E8A7EC5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A1CD-FB15-4365-B201-17BA1A76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52D8-C2E1-44ED-A2BC-AE4D7A62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F387-5A95-4AFE-8971-03778FBB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0A7E-7FFD-4DE2-89E1-5249C651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BC53-439F-413C-A0C2-18C9EDE5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BF1F-4028-4D48-A5DB-598E1757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9DFA-E7B7-4BD3-9249-9D3BEE6F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AFDC-A5BF-4078-9256-7CEA09D5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8B2716-963B-4791-8FFD-FB0E1D7D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654A0-6668-4276-A1F2-434556FE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8E277-BF5B-4406-AD54-C4832CF0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F5EEE-D06F-4AD8-92B4-5553F79F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26094-AA37-4146-AD3E-AEC6CCFD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5DC-7F8C-42AE-9E5A-3BF2A383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7D715-D432-4924-BAA9-E8679A4A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15447-9A0E-42E7-8E95-4FCCF771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45CF6C-6DCA-4E98-8195-F650FD9C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0A1C2-91CC-46D9-916B-9640B37B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3BCF6-94CB-41D8-8177-1C7724A5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DDB63-F093-4D49-AE3D-001F78FB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9FCDC-6E01-4DFB-9DC6-3CF9A310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7A8E2-90B8-4925-ABFF-74059B77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27389-7ECE-46E0-86B0-163FCA74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4CDA0-B42C-4E8D-B2B5-2BC98D8E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5C1-0BD9-403E-BA93-26F7F4E9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566AE-DFFB-499A-9BE1-17967EB8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24F96-C305-47D9-9712-926525ED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C95E6-D6E8-4F58-838E-9A45C6C1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FFD71-3CBF-4A7D-AD81-F862AC85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70BFF-2898-443E-98DC-38C71BE2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F6E29-8209-4560-8ABF-5E13D593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5EA98-30AB-44AA-8CCE-B68783E0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EA27E-379B-497B-9A46-ED1C9C3B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C535A-DE54-4940-A23B-4459F1A8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F7A-3DD5-4E7E-BDD4-86F109F9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B7CE-A8C1-47DC-BC14-AC38BAE0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514-2970-4E03-8241-AE84DB62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53BD-509E-489F-8CE5-6534B4AB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891-14FA-4E4D-B83F-BD6F0E5D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7904-D34F-49A3-9FBB-C10679281C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2144-20C1-4C73-988B-238E78983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B61B-ACB4-4A53-A4E7-F261FF112FA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6EC6-D1BD-4C5A-A7BF-EEFDF2160D7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43588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Памятники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Великой Отечественной войны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в Кантемировке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rcRect l="29086" t="25062" r="40179" b="50669"/>
          <a:stretch/>
        </p:blipFill>
        <p:spPr>
          <a:xfrm>
            <a:off x="363600" y="1125360"/>
            <a:ext cx="4137120" cy="46087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Памятник «Братская могила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19700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7 ноября 1952 года состоялось открытие памятника «Братская могила». Обелиск был конусной формы, оштукатуренный, сверху – пятиконечная звезда, застекленная стеклом красного цвета, внутри горела красная лампоч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3280" y="126828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 мая 1966 года состоялось второе открытие памятника – на бетонном пьедестале установлена скульптурная фигура солдата в  каске, плащ-накидке и с автоматом на гру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51452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9 мая 1992 года состоялось третье открытие памятника. Были перезахоронены останки партизан-подпольщиков, расстрелянных в Панском лесу урочища Лесково. На памятной доске выбиты фамилии 2909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076720" y="1125360"/>
            <a:ext cx="3830760" cy="5107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000" autoRev="1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102,51)"/>
                                      </p:to>
                                    </p:set>
                                    <p:set>
                                      <p:cBhvr>
                                        <p:cTn id="7" dur="1000" autoRev="1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102,51)"/>
                                      </p:to>
                                    </p:set>
                                    <p:set>
                                      <p:cBhvr>
                                        <p:cTn id="8" dur="1000" autoRev="1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35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35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35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2375"/>
                            </p:stCondLst>
                            <p:childTnLst>
                              <p:par>
                                <p:cTn id="15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1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375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3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3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3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6525"/>
                            </p:stCondLst>
                            <p:childTnLst>
                              <p:par>
                                <p:cTn id="28" nodeType="afterEffect" fill="hold" presetClass="exit" presetID="8" presetSubtype="16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8" presetSubtype="16">
                                  <p:stCondLst>
                                    <p:cond delay="3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3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3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3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4125"/>
                            </p:stCondLst>
                            <p:childTnLst>
                              <p:par>
                                <p:cTn id="43" nodeType="afterEffect" fill="hold" presetClass="exit" presetID="3" presetSubtype="10">
                                  <p:stCondLst>
                                    <p:cond delay="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8625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403280" y="1268280"/>
            <a:ext cx="7021440" cy="52675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8770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42208"/>
                </a:solidFill>
                <a:latin typeface="Tahoma"/>
              </a:rPr>
              <a:t>Памятник «Танк Т-34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16000" y="1267920"/>
            <a:ext cx="8856720" cy="35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десь в грозный год твоя родилась сла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  не померкнуть в памяти люд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имя «Кантемировец» по прав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сешь ты гордо на броне сво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йдя походный путь от Дона и до Праг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ы нес свободу сквозь огонь боёв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идетель верный мужества, отваг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ода русского прославленных сын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. Сметан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40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0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80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42208"/>
                </a:solidFill>
                <a:latin typeface="Tahoma"/>
              </a:rPr>
              <a:t>Аллея Герое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0" y="1341000"/>
            <a:ext cx="6400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бояров П.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фимов А.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лубов А.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товой А.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леник Д.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китченко Н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вчаренко К.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ужников Т.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маненко А.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пак К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rcRect l="51234" t="75114" r="11825" b="8279"/>
          <a:stretch/>
        </p:blipFill>
        <p:spPr>
          <a:xfrm>
            <a:off x="5292720" y="0"/>
            <a:ext cx="3851280" cy="2443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24000" y="602136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19 декабря 1992 года, к 50 –летию освобождения Кантемировки, по инициативе местных властей, была открыта Аллея Геро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419640" y="242100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5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5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2208"/>
                </a:solidFill>
                <a:latin typeface="Tahoma"/>
              </a:rPr>
              <a:t>Памятник</a:t>
            </a:r>
            <a:br>
              <a:rPr sz="3600"/>
            </a:br>
            <a:r>
              <a:rPr b="0" lang="en-US" sz="3600" spc="-1" strike="noStrike">
                <a:solidFill>
                  <a:srgbClr val="a42208"/>
                </a:solidFill>
                <a:latin typeface="Tahoma"/>
              </a:rPr>
              <a:t> «Узникам, погибшим в фашистском концлагере в 1942 г.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rcRect l="29485" t="53416" r="41020" b="29143"/>
          <a:stretch/>
        </p:blipFill>
        <p:spPr>
          <a:xfrm>
            <a:off x="250920" y="1989000"/>
            <a:ext cx="5327640" cy="44434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867280" y="2060640"/>
            <a:ext cx="327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 10 июля по 19 декабря 1942 года Кантемировка была оккупирована фашистскими захватчиками. На территории колхоза «Красный партизан» был организован концлагерь, в котором фашисты замучили 2200 военнопленных и мирных жи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rcRect l="20532" t="33148" r="8136" b="33148"/>
          <a:stretch/>
        </p:blipFill>
        <p:spPr>
          <a:xfrm>
            <a:off x="108000" y="115920"/>
            <a:ext cx="4968720" cy="3313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rcRect l="13314" t="8771" r="41039" b="70334"/>
          <a:stretch/>
        </p:blipFill>
        <p:spPr>
          <a:xfrm>
            <a:off x="5219640" y="115920"/>
            <a:ext cx="3600360" cy="23256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rcRect l="11973" t="6853" r="42380" b="72923"/>
          <a:stretch/>
        </p:blipFill>
        <p:spPr>
          <a:xfrm>
            <a:off x="324000" y="3490920"/>
            <a:ext cx="4392360" cy="2746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rcRect l="46217" t="50002" r="8136" b="27081"/>
          <a:stretch/>
        </p:blipFill>
        <p:spPr>
          <a:xfrm>
            <a:off x="4788000" y="2492280"/>
            <a:ext cx="4356000" cy="3673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68360" y="2349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10b2f"/>
                </a:solidFill>
                <a:latin typeface="Monotype Corsiva"/>
              </a:rPr>
              <a:t>Кантемировка, сердцу родная…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10827" t="2211" r="594" b="8663"/>
          <a:stretch/>
        </p:blipFill>
        <p:spPr>
          <a:xfrm>
            <a:off x="1692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42208"/>
                </a:solidFill>
                <a:latin typeface="Tahoma"/>
              </a:rPr>
              <a:t>Никто не забыт, ничто не забыт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111400" y="1700280"/>
            <a:ext cx="526896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12:12:47Z</dcterms:created>
  <dc:creator>Учитель</dc:creator>
  <dc:description/>
  <dc:language>en-US</dc:language>
  <cp:lastModifiedBy>Инна</cp:lastModifiedBy>
  <dcterms:modified xsi:type="dcterms:W3CDTF">2008-12-16T06:30:10Z</dcterms:modified>
  <cp:revision>12</cp:revision>
  <dc:subject/>
  <dc:title>Элективный курс «СССР во время II мировой войны</dc:title>
</cp:coreProperties>
</file>