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68BE-12FC-44A7-BE6E-74F83D7DE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0C61-DE50-4529-8FCA-171350585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54D6-6C0C-46DB-B3EC-8B173876D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3161-F95B-4893-B038-9E78A88C7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DDD5B-6F50-468E-B014-11C7713ED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445D4-6A33-4D6D-8FD0-2E1FB894F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21283-27FF-4CE1-942E-BA00AFA3E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A8122-7123-4E9B-B549-46F9CC993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4767D-8F86-4693-8982-CE68F5529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3AADB-38FF-4525-84D1-1B5A919B6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70624-FE58-4268-BC0A-8868488AE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970D-C864-459F-AF6C-3DC3ABC8B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313AB-1D7B-4F96-9A0A-0DEC2693D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38A93-DBEF-437C-B946-51381EE9A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EEA57-C7E6-4A23-847D-5DAD425BA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C6A85-851E-433E-968A-2EA3F6A39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EE654-AF80-4758-9E3F-3D4399998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5E4966-0A52-4FE0-AB48-09FDE8EF4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2D622C-FEAD-4874-816B-2A6676A33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931815-D5BD-4C6C-8BDA-485738852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66D547-F251-4D6D-94CB-CC3BBCDDD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99A70B-C130-4142-8EE6-4F59BB8C8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D183-A1F6-4FB2-B45B-9CA1BE3F8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242C88-8290-4A46-814F-FB3BD21B1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D890C7-8B76-4B69-8118-420803D1C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01A78F-7D92-4788-A626-1620688BA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592CE2-3BD5-4DCD-A64B-488410EB3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43D7A9-D1BC-4BFD-B87E-6A70CBA05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13CCEF-69B8-4726-9640-558BD2B9D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6377A4-EFE2-438B-80D2-3D97B5643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D36CAA-BDDD-4D36-BC55-869A826AD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910CC8-6772-4E69-A321-877F793B2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7F1299-1246-4289-B93E-B6BC442B3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FA15-AEFB-487B-BD30-0C7DE951E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E6BCC4-6EEF-4E93-9849-B262C61D8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479581-F6B9-4E1F-B4E9-B1F34FA1A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148939-2289-4C95-8A26-860BE11AF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F0CD23-C9E2-448D-B54E-53DAD184F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0F424F-2185-4355-9E2E-7ED8F9D27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A6DC78-EA6C-41E7-9367-2A058ECFE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DD2176-0096-433F-98B1-010F029B8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8525F2-191E-4E4A-ADB1-143F49E15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FA4014-570D-4792-A62B-E8A056621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96A8-3654-4C12-A396-FAF2CDB64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AF0B-33D8-4936-8459-0B503939F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F73A-7EF8-498D-97AF-F931EB70A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79B6-6B3F-4323-B23F-1B5084E23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7141-BF01-4588-B6A1-E25BD6582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19725-0EE8-404E-B989-2FE62ECAE1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FC45F-9061-485B-97BE-D1B5F636B1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83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sldNum" idx="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63BB2-11AA-49BA-B19F-CC63ED7EC9E1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dt" idx="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46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21543-DF66-46F5-A79E-ACF919169236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250560" y="0"/>
            <a:ext cx="8435880" cy="613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Times New Roman"/>
              </a:rPr>
              <a:t>Памятники 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Times New Roman"/>
              </a:rPr>
              <a:t>Великой Отечественной войны 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Times New Roman"/>
              </a:rPr>
              <a:t>в Кантемировке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2"/>
          <a:srcRect l="29086" t="25062" r="40179" b="50669"/>
          <a:stretch/>
        </p:blipFill>
        <p:spPr>
          <a:xfrm>
            <a:off x="363600" y="1125360"/>
            <a:ext cx="4137120" cy="460872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Tahoma"/>
              </a:rPr>
              <a:t>Памятник «Братская могила»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0" name=""/>
          <p:cNvSpPr/>
          <p:nvPr/>
        </p:nvSpPr>
        <p:spPr>
          <a:xfrm>
            <a:off x="539640" y="1197000"/>
            <a:ext cx="8136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7 ноября 1952 года состоялось открытие памятника «Братская могила». Обелиск был конусной формы, оштукатуренный, сверху – пятиконечная звезда, застекленная стеклом красного цвета, внутри горела красная лампочк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643280" y="1268280"/>
            <a:ext cx="4572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9 мая 1966 года состоялось второе открытие памятника – на бетонном пьедестале установлена скульптурная фигура солдата в  каске, плащ-накидке и с автоматом на груд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1514520"/>
            <a:ext cx="4572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9 мая 1992 года состоялось третье открытие памятника. Были перезахоронены останки партизан-подпольщиков, расстрелянных в Панском лесу урочища Лесково. На памятной доске выбиты фамилии 2909 человек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3"/>
          <a:stretch/>
        </p:blipFill>
        <p:spPr>
          <a:xfrm>
            <a:off x="5076720" y="1125360"/>
            <a:ext cx="3830760" cy="51073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0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000" autoRev="1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102,51)"/>
                                      </p:to>
                                    </p:set>
                                    <p:set>
                                      <p:cBhvr>
                                        <p:cTn id="7" dur="1000" autoRev="1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102,51)"/>
                                      </p:to>
                                    </p:set>
                                    <p:set>
                                      <p:cBhvr>
                                        <p:cTn id="8" dur="1000" autoRev="1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75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" dur="35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" dur="35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" dur="35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2375"/>
                            </p:stCondLst>
                            <p:childTnLst>
                              <p:par>
                                <p:cTn id="15" nodeType="afterEffect" fill="hold" presetClass="exit" presetID="4" presetSubtype="16">
                                  <p:stCondLst>
                                    <p:cond delay="2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ox(in)" transition="out">
                                      <p:cBhvr additive="repl">
                                        <p:cTn id="16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35375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" dur="3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" dur="3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3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6525"/>
                            </p:stCondLst>
                            <p:childTnLst>
                              <p:par>
                                <p:cTn id="28" nodeType="afterEffect" fill="hold" presetClass="exit" presetID="8" presetSubtype="16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amond(in)" transition="out">
                                      <p:cBhvr additive="repl">
                                        <p:cTn id="29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xit" presetID="8" presetSubtype="16">
                                  <p:stCondLst>
                                    <p:cond delay="300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2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7">
                                  <p:stCondLst>
                                    <p:cond delay="150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" dur="3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" dur="3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3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84125"/>
                            </p:stCondLst>
                            <p:childTnLst>
                              <p:par>
                                <p:cTn id="43" nodeType="afterEffect" fill="hold" presetClass="exit" presetID="3" presetSubtype="10">
                                  <p:stCondLst>
                                    <p:cond delay="4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linds(horizontal)" transition="out">
                                      <p:cBhvr additive="repl">
                                        <p:cTn id="4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88625"/>
                            </p:stCondLst>
                            <p:childTnLst>
                              <p:par>
                                <p:cTn id="47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1403280" y="1268280"/>
            <a:ext cx="7021440" cy="526752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87708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42208"/>
                </a:solidFill>
                <a:latin typeface="Tahoma"/>
              </a:rPr>
              <a:t>Памятник «Танк Т-34»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116000" y="1267920"/>
            <a:ext cx="8856720" cy="35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десь в грозный год твоя родилась слава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Чтоб  не померкнуть в памяти люде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 имя «Кантемировец» по праву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есешь ты гордо на броне свое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йдя походный путь от Дона и до Праги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ы нес свободу сквозь огонь боёв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видетель верный мужества, отваги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рода русского прославленных сын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. Сметани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8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40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40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6800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42208"/>
                </a:solidFill>
                <a:latin typeface="Tahoma"/>
              </a:rPr>
              <a:t>Аллея Героев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0" y="1341000"/>
            <a:ext cx="64008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лубояров П.П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Ефимов А.Н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олубов А.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утовой А.Ф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аленик Д.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икитченко Н.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вчаренко К.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лужников Т.Г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оманенко А.Ф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Шпак К.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rcRect l="51234" t="75114" r="11825" b="8279"/>
          <a:stretch/>
        </p:blipFill>
        <p:spPr>
          <a:xfrm>
            <a:off x="5292720" y="0"/>
            <a:ext cx="3851280" cy="244332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324000" y="6021360"/>
            <a:ext cx="882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19 декабря 1992 года, к 50 –летию освобождения Кантемировки, по инициативе местных властей, была открыта Аллея Герое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3"/>
          <a:stretch/>
        </p:blipFill>
        <p:spPr>
          <a:xfrm>
            <a:off x="3419640" y="2421000"/>
            <a:ext cx="4824360" cy="36194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4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500"/>
                            </p:stCondLst>
                            <p:childTnLst>
                              <p:par>
                                <p:cTn id="73" nodeType="afterEffect" fill="hold" presetClass="entr" presetID="4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0"/>
                            </p:stCondLst>
                            <p:childTnLst>
                              <p:par>
                                <p:cTn id="79" nodeType="afterEffect" fill="hold" presetClass="entr" presetID="4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7500"/>
                            </p:stCondLst>
                            <p:childTnLst>
                              <p:par>
                                <p:cTn id="85" nodeType="afterEffect" fill="hold" presetClass="entr" presetID="4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0"/>
                            </p:stCondLst>
                            <p:childTnLst>
                              <p:par>
                                <p:cTn id="91" nodeType="afterEffect" fill="hold" presetClass="entr" presetID="4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2500"/>
                            </p:stCondLst>
                            <p:childTnLst>
                              <p:par>
                                <p:cTn id="97" nodeType="afterEffect" fill="hold" presetClass="entr" presetID="4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5000"/>
                            </p:stCondLst>
                            <p:childTnLst>
                              <p:par>
                                <p:cTn id="103" nodeType="afterEffect" fill="hold" presetClass="entr" presetID="4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7500"/>
                            </p:stCondLst>
                            <p:childTnLst>
                              <p:par>
                                <p:cTn id="109" nodeType="afterEffect" fill="hold" presetClass="entr" presetID="4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5" nodeType="afterEffect" fill="hold" presetClass="entr" presetID="4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2500"/>
                            </p:stCondLst>
                            <p:childTnLst>
                              <p:par>
                                <p:cTn id="121" nodeType="afterEffect" fill="hold" presetClass="entr" presetID="4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2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2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2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42208"/>
                </a:solidFill>
                <a:latin typeface="Tahoma"/>
              </a:rPr>
              <a:t>Памятник</a:t>
            </a:r>
            <a:br>
              <a:rPr sz="3600"/>
            </a:br>
            <a:r>
              <a:rPr b="0" lang="en-US" sz="3600" spc="-1" strike="noStrike">
                <a:solidFill>
                  <a:srgbClr val="a42208"/>
                </a:solidFill>
                <a:latin typeface="Tahoma"/>
              </a:rPr>
              <a:t> «Узникам, погибшим в фашистском концлагере в 1942 г.»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rcRect l="29485" t="53416" r="41020" b="29143"/>
          <a:stretch/>
        </p:blipFill>
        <p:spPr>
          <a:xfrm>
            <a:off x="250920" y="1989000"/>
            <a:ext cx="5327640" cy="444348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5867280" y="2060640"/>
            <a:ext cx="327672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С 10 июля по 19 декабря 1942 года Кантемировка была оккупирована фашистскими захватчиками. На территории колхоза «Красный партизан» был организован концлагерь, в котором фашисты замучили 2200 военнопленных и мирных жителей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2"/>
          <a:srcRect l="20532" t="33148" r="8136" b="33148"/>
          <a:stretch/>
        </p:blipFill>
        <p:spPr>
          <a:xfrm>
            <a:off x="108000" y="115920"/>
            <a:ext cx="4968720" cy="331308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3"/>
          <a:srcRect l="13314" t="8771" r="41039" b="70334"/>
          <a:stretch/>
        </p:blipFill>
        <p:spPr>
          <a:xfrm>
            <a:off x="5219640" y="115920"/>
            <a:ext cx="3600360" cy="232560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4"/>
          <a:srcRect l="11973" t="6853" r="42380" b="72923"/>
          <a:stretch/>
        </p:blipFill>
        <p:spPr>
          <a:xfrm>
            <a:off x="324000" y="3490920"/>
            <a:ext cx="4392360" cy="274644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5"/>
          <a:srcRect l="46217" t="50002" r="8136" b="27081"/>
          <a:stretch/>
        </p:blipFill>
        <p:spPr>
          <a:xfrm>
            <a:off x="4788000" y="2492280"/>
            <a:ext cx="4356000" cy="367344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468360" y="234936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e10b2f"/>
                </a:solidFill>
                <a:latin typeface="Monotype Corsiva"/>
              </a:rPr>
              <a:t>Кантемировка, сердцу родная…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4000"/>
                            </p:stCondLst>
                            <p:childTnLst>
                              <p:par>
                                <p:cTn id="14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6000"/>
                            </p:stCondLst>
                            <p:childTnLst>
                              <p:par>
                                <p:cTn id="15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8000"/>
                            </p:stCondLst>
                            <p:childTnLst>
                              <p:par>
                                <p:cTn id="1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rcRect l="10827" t="2211" r="594" b="8663"/>
          <a:stretch/>
        </p:blipFill>
        <p:spPr>
          <a:xfrm>
            <a:off x="1692360" y="0"/>
            <a:ext cx="61927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42208"/>
                </a:solidFill>
                <a:latin typeface="Tahoma"/>
              </a:rPr>
              <a:t>Никто не забыт, ничто не забыто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2111400" y="1700280"/>
            <a:ext cx="5268960" cy="48974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0T12:12:47Z</dcterms:created>
  <dc:creator>Учитель</dc:creator>
  <dc:description/>
  <dc:language>en-US</dc:language>
  <cp:lastModifiedBy>Инна</cp:lastModifiedBy>
  <dcterms:modified xsi:type="dcterms:W3CDTF">2008-12-16T06:30:10Z</dcterms:modified>
  <cp:revision>12</cp:revision>
  <dc:subject/>
  <dc:title>Элективный курс «СССР во время II мировой войны</dc:title>
</cp:coreProperties>
</file>