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787-4F3B-4C83-B530-06386B5E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1D6-B1A9-43F5-8D39-088C3157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8A5-C4FB-4A3B-8230-6BB32D2D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356-5F9F-4996-8CDE-042539AF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3A89-91B5-4724-A86C-DB524677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E6F2-0F62-4FC6-A9ED-0D9BF71A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FA1A-3807-4157-B4A6-8E367A2C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4411-3466-4963-BBDF-BEF2055B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2246-D6BD-4381-8590-84C80B1F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8932-64D1-4F8F-9117-AD7C3C00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21A3-6C16-4DD0-9889-A405955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BFE-8E43-4245-AA16-334CD8C2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1A3F-A8FB-4A2D-B8DE-C5258F0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3EA7-D33F-4264-B80A-28644AD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8156-DDDD-4634-881B-61DC2378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3307-C7B9-469B-B534-C790A708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315D-2498-416C-A861-0951DA94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5297D-771D-481A-B14A-CB287979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09445-673C-4C2E-9AA7-640C7723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C4BD1-7115-4396-900B-E64F0884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D9108-CFAF-46FD-9DFC-DD04D06A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E512C-1B69-4034-A2C3-E90CC708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126-DC09-4E83-AAA4-BA443B53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0ECDF-AC6C-4D44-89B0-D9A4FB6B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BC560-E70C-4D85-85C8-E63B3276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42D1E-260B-4257-A7E4-90F4429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921EF-1844-4A19-A986-C7BF89E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08F62-5EF0-4C28-987E-EBD1CCFD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29105-9D1D-4F37-99C0-9FD51B1A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9D3C5-061C-4B00-9AFA-2E2A7252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E6FC-ABD7-4D88-AEE3-26FCB5BA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3997-0F60-4581-9C3F-47AD4764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AFF2-8934-4A00-87D2-A826D26A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ED3-9082-4125-B34A-7C42469B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93BC-CD0C-4FC3-9613-0B3C25DA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28B1-1208-41B7-A48B-7F0A4EA3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E342-BE7D-4242-993D-129D702C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4B77-6FE8-4FB4-BE0B-226104E4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D316B-A8E0-4A0A-B562-FAABC54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81EB-4E02-48C4-8EB2-0706598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6B61-8E3A-43FE-9F10-EF13B0C1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20D3E-8E77-4C76-AF05-4E69EEA1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A03F-32D6-4930-BC08-8498363B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165-565D-4C14-A67D-9A3A587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738-5158-4225-94C2-3BC163DD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E6A-0034-48D2-B078-D4DAB00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197-99FB-494A-A8FE-E45EC618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ADD-B243-48C9-96DF-5172DE3B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DCE9-4C8F-4D80-A6B3-CD6159D37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3CCD-A979-4590-82BB-9E4BE1025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5F8E-512E-408B-A054-A6B67AEA1B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D0C0-5744-4D30-8430-6B018376A4E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Памятники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Великой Отечественной войны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в Кантемировк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29086" t="25062" r="40179" b="50669"/>
          <a:stretch/>
        </p:blipFill>
        <p:spPr>
          <a:xfrm>
            <a:off x="363600" y="1125360"/>
            <a:ext cx="4137120" cy="4608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Памятник «Братская могил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197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7 ноября 1952 года состоялось открытие памятника «Братская могила». Обелиск был конусной формы, оштукатуренный, сверху – пятиконечная звезда, застекленная стеклом красного цвета, внутри горела красная лампоч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12682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мая 1966 года состоялось второе открытие памятника – на бетонном пьедестале установлена скульптурная фигура солдата в  каске, плащ-накидке и с автоматом на гру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5145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 мая 1992 года состоялось третье открытие памятника. Были перезахоронены останки партизан-подпольщиков, расстрелянных в Панском лесу урочища Лесково. На памятной доске выбиты фамилии 2909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076720" y="1125360"/>
            <a:ext cx="3830760" cy="510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00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7" dur="100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3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3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3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2375"/>
                            </p:stCondLst>
                            <p:childTnLst>
                              <p:par>
                                <p:cTn id="15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375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3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3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3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6525"/>
                            </p:stCondLst>
                            <p:childTnLst>
                              <p:par>
                                <p:cTn id="28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3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3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3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4125"/>
                            </p:stCondLst>
                            <p:childTnLst>
                              <p:par>
                                <p:cTn id="43" nodeType="afterEffect" fill="hold" presetClass="exit" presetID="3" presetSubtype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8625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7021440" cy="5267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877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2208"/>
                </a:solidFill>
                <a:latin typeface="Tahoma"/>
              </a:rPr>
              <a:t>Памятник «Танк Т-34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16000" y="1267920"/>
            <a:ext cx="8856720" cy="35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есь в грозный год твоя родилась сла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 не померкнуть в памяти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имя «Кантемировец» по прав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ешь ты гордо на броне сво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йдя походный путь от Дона и до Праг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нес свободу сквозь огонь боёв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идетель верный мужества, отваг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а русского прославленных сы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 Сметан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0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80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2208"/>
                </a:solidFill>
                <a:latin typeface="Tahoma"/>
              </a:rPr>
              <a:t>Аллея Геро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134100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бояров П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фимов А.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лубов А.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товой А.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ик Д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итченко Н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чаренко К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ужников Т.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маненко А.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пак К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51234" t="75114" r="11825" b="8279"/>
          <a:stretch/>
        </p:blipFill>
        <p:spPr>
          <a:xfrm>
            <a:off x="5292720" y="0"/>
            <a:ext cx="3851280" cy="2443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24000" y="602136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19 декабря 1992 года, к 50 –летию освобождения Кантемировки, по инициативе местных властей, была открыта Аллея Геро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419640" y="242100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2208"/>
                </a:solidFill>
                <a:latin typeface="Tahoma"/>
              </a:rPr>
              <a:t>Памятник</a:t>
            </a:r>
            <a:br>
              <a:rPr sz="3600"/>
            </a:br>
            <a:r>
              <a:rPr b="0" lang="en-US" sz="3600" spc="-1" strike="noStrike">
                <a:solidFill>
                  <a:srgbClr val="a42208"/>
                </a:solidFill>
                <a:latin typeface="Tahoma"/>
              </a:rPr>
              <a:t> «Узникам, погибшим в фашистском концлагере в 1942 г.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29485" t="53416" r="41020" b="29143"/>
          <a:stretch/>
        </p:blipFill>
        <p:spPr>
          <a:xfrm>
            <a:off x="250920" y="1989000"/>
            <a:ext cx="5327640" cy="4443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867280" y="2060640"/>
            <a:ext cx="327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10 июля по 19 декабря 1942 года Кантемировка была оккупирована фашистскими захватчиками. На территории колхоза «Красный партизан» был организован концлагерь, в котором фашисты замучили 2200 военнопленных и мирных ж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rcRect l="20532" t="33148" r="8136" b="33148"/>
          <a:stretch/>
        </p:blipFill>
        <p:spPr>
          <a:xfrm>
            <a:off x="108000" y="115920"/>
            <a:ext cx="496872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13314" t="8771" r="41039" b="70334"/>
          <a:stretch/>
        </p:blipFill>
        <p:spPr>
          <a:xfrm>
            <a:off x="5219640" y="115920"/>
            <a:ext cx="3600360" cy="2325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11973" t="6853" r="42380" b="72923"/>
          <a:stretch/>
        </p:blipFill>
        <p:spPr>
          <a:xfrm>
            <a:off x="324000" y="3490920"/>
            <a:ext cx="4392360" cy="2746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rcRect l="46217" t="50002" r="8136" b="27081"/>
          <a:stretch/>
        </p:blipFill>
        <p:spPr>
          <a:xfrm>
            <a:off x="4788000" y="2492280"/>
            <a:ext cx="4356000" cy="367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10b2f"/>
                </a:solidFill>
                <a:latin typeface="Monotype Corsiva"/>
              </a:rPr>
              <a:t>Кантемировка, сердцу родная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10827" t="2211" r="594" b="8663"/>
          <a:stretch/>
        </p:blipFill>
        <p:spPr>
          <a:xfrm>
            <a:off x="1692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2208"/>
                </a:solidFill>
                <a:latin typeface="Tahoma"/>
              </a:rPr>
              <a:t>Никто не забыт, ничто не забыт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111400" y="1700280"/>
            <a:ext cx="526896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2:12:47Z</dcterms:created>
  <dc:creator>Учитель</dc:creator>
  <dc:description/>
  <dc:language>en-US</dc:language>
  <cp:lastModifiedBy>Инна</cp:lastModifiedBy>
  <dcterms:modified xsi:type="dcterms:W3CDTF">2008-12-16T06:30:10Z</dcterms:modified>
  <cp:revision>12</cp:revision>
  <dc:subject/>
  <dc:title>Элективный курс «СССР во время II мировой войны</dc:title>
</cp:coreProperties>
</file>