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10A-9AF2-4A76-90E2-E8598851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00A-25AF-46C0-82DF-1A8D0CBB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4D1-A271-4A8D-97BB-7E189E8A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856-2CC6-4F86-93A5-EFD2B685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739-E0C9-4394-8C15-FE0B28D2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07E-7944-456E-A83D-039E6C23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3E1-43A0-4377-9A80-515E33D4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D1D-EA86-4A48-A773-C39D4387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5AF-F2D2-42DF-AFA4-BADEF4D3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8F3-B7E0-46E0-9391-6471199C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F0EF-A255-484E-A932-6D522C03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319-6E1A-49BE-955D-79E7C7B1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2BE8-CA91-4AB0-B38E-540D780C6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691920"/>
            <a:ext cx="726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145"/>
                </a:solidFill>
                <a:latin typeface="Arial"/>
              </a:rPr>
              <a:t>Банковск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204640"/>
            <a:ext cx="64008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b37"/>
                </a:solidFill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00200" y="2924280"/>
            <a:ext cx="6324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ричины появления и виды банков</a:t>
            </a:r>
            <a:endParaRPr b="0" lang="en-US" sz="1800" spc="1" strike="noStrike">
              <a:ln w="9360">
                <a:solidFill>
                  <a:srgbClr val="996633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 банков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анковские услуг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440" y="2057400"/>
            <a:ext cx="783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омощь коммерческим организациям и гражданам в организации платежей за товары и услу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 банков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анковские услуг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122560"/>
            <a:ext cx="799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Создание новых форм денег для ускорения и облегчения платежей за товары и услу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2440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d1f35"/>
                </a:solidFill>
                <a:latin typeface="Arial"/>
              </a:rPr>
              <a:t>Бан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финансовый посредник, осуществляющий деятельность п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28195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ему депози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оставлению сс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и расче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пле и продаже ценных бум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анковская система страны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иссионный                              Коммер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73332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1440" y="2338560"/>
            <a:ext cx="9146880" cy="2133360"/>
            <a:chOff x="-1440" y="2338560"/>
            <a:chExt cx="9146880" cy="2133360"/>
          </a:xfrm>
        </p:grpSpPr>
        <p:sp>
          <p:nvSpPr>
            <p:cNvPr id="83" name=""/>
            <p:cNvSpPr/>
            <p:nvPr/>
          </p:nvSpPr>
          <p:spPr>
            <a:xfrm>
              <a:off x="-1440" y="2338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1440" y="2338560"/>
              <a:ext cx="914688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066680" y="3581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666520" y="83808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83808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3733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нтральный Бан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4724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личные день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6240" y="5334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сударство   Коммерческ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3809880"/>
            <a:ext cx="18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бережения граждан и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38098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едиты гражданам и фир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324120" y="2997360"/>
            <a:ext cx="1055880" cy="88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80360" y="2997360"/>
            <a:ext cx="772920" cy="88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362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зер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96216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ед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частные                    совладелец   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                     госуд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3373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Биржев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Страхов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потечн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Земельн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Инновационн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Торг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Залогов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Конверсионн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Трастовы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дру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берегательный бан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520" y="1980720"/>
            <a:ext cx="7239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и банков (банковские услуг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едит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р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миссионный ба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мерческий ба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 появления ба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2040" y="4724280"/>
            <a:ext cx="939960" cy="700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44840" y="1916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ревний  Вави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803520" cy="1938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651640" y="2924280"/>
            <a:ext cx="30607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кономические интересы</a:t>
            </a:r>
            <a:br>
              <a:rPr sz="36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дприниматель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ладелец сбере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33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ет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ект прибыльного                 использования сред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уждается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денежном                            капитал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тов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делиться  доходом                                       за право использовать деньги для реализации своего прое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6360" y="162828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сбере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уждается в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оходе на сбере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тов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здержаться от потребления своих сбережений и разрешить их использовать за пла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 банков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анковские услуг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Сбор сбережений граждан для организации выгодного вложения этих сбережений в коммерческую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 банков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анковские услуг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057400"/>
            <a:ext cx="777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редоставление сбережений граждан во временное платное пользование коммерческим организа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76520" y="1066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редитование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05740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u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суда, дол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26668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оставление денег во временное платное пользование и за пла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96252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 12 месяцев – краткосрочный кре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 5 лет – долгосрочный кре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уктура цены кред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4022640"/>
        </p:xfrm>
        <a:graphic>
          <a:graphicData uri="http://schemas.openxmlformats.org/drawingml/2006/table">
            <a:tbl>
              <a:tblPr/>
              <a:tblGrid>
                <a:gridCol w="1069920"/>
                <a:gridCol w="7159680"/>
              </a:tblGrid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576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5760">
                      <a:solidFill>
                        <a:srgbClr val="9966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ыль банки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нтный доход для владельца сбереж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66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576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193840" y="3546360"/>
            <a:ext cx="64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траты банкира на ведение 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жа – (от англ. –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-граница ) –доход ба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ьза банко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кращают трансакционные затраты при кредито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4080" y="18558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ают риск одалживания де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90560" y="114300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11430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5:45:05Z</dcterms:created>
  <dc:creator>1</dc:creator>
  <dc:description/>
  <dc:language>en-US</dc:language>
  <cp:lastModifiedBy>Пользователь</cp:lastModifiedBy>
  <dcterms:modified xsi:type="dcterms:W3CDTF">2006-01-12T06:15:45Z</dcterms:modified>
  <cp:revision>27</cp:revision>
  <dc:subject/>
  <dc:title>Банковская система</dc:title>
</cp:coreProperties>
</file>