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8577-7A9E-4AC3-B55C-41ED8A2F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59B5-B541-40FF-9F5A-EA3EE62F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A9C4-0B7D-4BD2-B1EF-7736D2E9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2028-445E-481B-8C28-642E5AF9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CA8E-D360-44EE-A7F6-6FDD8D3D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3FB-1833-4414-8910-96C6AF25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DA30-D6F4-4ACD-A58A-95A1CFCF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068F-C47C-4F53-A7F6-C1A6CCF2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71A-200B-48A4-93F6-267DE4C3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4160-22B1-4D70-929C-51366A87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0518-A97F-467A-B6C1-E24F8E33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283F-81A5-4A01-B60D-86090D62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1E23-5170-4A40-A212-6F29F57388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404640"/>
            <a:ext cx="8496000" cy="50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зентация к уро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озмож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ерационной системы Linux в учебном процесс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ОУСОШ № 8 г. Старая Ру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: Трофимов П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Arial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Logotype2"/>
          <p:cNvPicPr/>
          <p:nvPr/>
        </p:nvPicPr>
        <p:blipFill>
          <a:blip r:embed="rId1"/>
          <a:stretch/>
        </p:blipFill>
        <p:spPr>
          <a:xfrm>
            <a:off x="971640" y="4076640"/>
            <a:ext cx="2232000" cy="1463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0879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5"/>
          <p:cNvSpPr/>
          <p:nvPr/>
        </p:nvSpPr>
        <p:spPr>
          <a:xfrm>
            <a:off x="0" y="602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penOffice.org. Impress - простая в освоении программа, имеющая дружелюбный интерфейс, стандартные панели инструментов и меню и позволяет нам создавать эффектные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5681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0" y="5661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penOffice.org Draw — векторный графический редактор, по функциональности сравнимый с CorelDRAW. Пакет включает полнофункциональные «коннекторы» между фигурами, которые могут использовать разнообразные стили линий и позволяют рисовать чертежи, например блок-сх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72440" cy="669924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5"/>
          <p:cNvSpPr/>
          <p:nvPr/>
        </p:nvSpPr>
        <p:spPr>
          <a:xfrm>
            <a:off x="8604360" y="6308640"/>
            <a:ext cx="539640" cy="40500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74" h="21600">
                <a:moveTo>
                  <a:pt x="0" y="0"/>
                </a:moveTo>
                <a:lnTo>
                  <a:pt x="28774" y="0"/>
                </a:lnTo>
                <a:lnTo>
                  <a:pt x="28774" y="21600"/>
                </a:lnTo>
                <a:lnTo>
                  <a:pt x="0" y="21600"/>
                </a:lnTo>
                <a:close/>
              </a:path>
              <a:path fill="lightenLess" w="28774" h="21600">
                <a:moveTo>
                  <a:pt x="0" y="0"/>
                </a:moveTo>
                <a:lnTo>
                  <a:pt x="28774" y="0"/>
                </a:lnTo>
                <a:lnTo>
                  <a:pt x="27374" y="1400"/>
                </a:lnTo>
                <a:lnTo>
                  <a:pt x="1400" y="1400"/>
                </a:lnTo>
                <a:close/>
              </a:path>
              <a:path fill="darken" w="28774" h="21600">
                <a:moveTo>
                  <a:pt x="28774" y="0"/>
                </a:moveTo>
                <a:lnTo>
                  <a:pt x="28774" y="21600"/>
                </a:lnTo>
                <a:lnTo>
                  <a:pt x="27374" y="20200"/>
                </a:lnTo>
                <a:lnTo>
                  <a:pt x="27374" y="1400"/>
                </a:lnTo>
                <a:close/>
              </a:path>
              <a:path fill="darkenLess" w="28774" h="21600">
                <a:moveTo>
                  <a:pt x="28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4" y="20200"/>
                </a:lnTo>
                <a:close/>
              </a:path>
              <a:path fill="lighten" w="28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4" h="21600">
                <a:moveTo>
                  <a:pt x="7381" y="7493"/>
                </a:moveTo>
                <a:lnTo>
                  <a:pt x="10888" y="7493"/>
                </a:lnTo>
                <a:lnTo>
                  <a:pt x="10888" y="12828"/>
                </a:lnTo>
                <a:cubicBezTo>
                  <a:pt x="10888" y="13751"/>
                  <a:pt x="11689" y="14482"/>
                  <a:pt x="12725" y="14482"/>
                </a:cubicBezTo>
                <a:lnTo>
                  <a:pt x="14387" y="14482"/>
                </a:lnTo>
                <a:cubicBezTo>
                  <a:pt x="15423" y="14482"/>
                  <a:pt x="16224" y="13751"/>
                  <a:pt x="16224" y="12828"/>
                </a:cubicBezTo>
                <a:lnTo>
                  <a:pt x="16224" y="7493"/>
                </a:lnTo>
                <a:lnTo>
                  <a:pt x="14387" y="7493"/>
                </a:lnTo>
                <a:lnTo>
                  <a:pt x="17895" y="3985"/>
                </a:lnTo>
                <a:lnTo>
                  <a:pt x="21568" y="7493"/>
                </a:lnTo>
                <a:lnTo>
                  <a:pt x="19731" y="7493"/>
                </a:lnTo>
                <a:lnTo>
                  <a:pt x="19731" y="12828"/>
                </a:lnTo>
                <a:cubicBezTo>
                  <a:pt x="19731" y="15596"/>
                  <a:pt x="17155" y="18155"/>
                  <a:pt x="14387" y="18155"/>
                </a:cubicBezTo>
                <a:lnTo>
                  <a:pt x="12725" y="18155"/>
                </a:lnTo>
                <a:cubicBezTo>
                  <a:pt x="9957" y="18155"/>
                  <a:pt x="7381" y="15596"/>
                  <a:pt x="7381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6210000"/>
            <a:ext cx="7740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habrahabr.ru/blogs/ubuntu/102685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0595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5"/>
          <p:cNvSpPr/>
          <p:nvPr/>
        </p:nvSpPr>
        <p:spPr>
          <a:xfrm>
            <a:off x="849636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7493"/>
                </a:moveTo>
                <a:lnTo>
                  <a:pt x="7771" y="7493"/>
                </a:lnTo>
                <a:lnTo>
                  <a:pt x="7771" y="12828"/>
                </a:lnTo>
                <a:cubicBezTo>
                  <a:pt x="7771" y="13751"/>
                  <a:pt x="8571" y="14482"/>
                  <a:pt x="9607" y="14482"/>
                </a:cubicBezTo>
                <a:lnTo>
                  <a:pt x="11270" y="14482"/>
                </a:lnTo>
                <a:cubicBezTo>
                  <a:pt x="12305" y="14482"/>
                  <a:pt x="13106" y="13751"/>
                  <a:pt x="13106" y="12828"/>
                </a:cubicBezTo>
                <a:lnTo>
                  <a:pt x="13106" y="7493"/>
                </a:lnTo>
                <a:lnTo>
                  <a:pt x="11270" y="7493"/>
                </a:lnTo>
                <a:lnTo>
                  <a:pt x="14777" y="3985"/>
                </a:lnTo>
                <a:lnTo>
                  <a:pt x="18450" y="7493"/>
                </a:lnTo>
                <a:lnTo>
                  <a:pt x="16614" y="7493"/>
                </a:lnTo>
                <a:lnTo>
                  <a:pt x="16614" y="12828"/>
                </a:lnTo>
                <a:cubicBezTo>
                  <a:pt x="16614" y="15596"/>
                  <a:pt x="14037" y="18155"/>
                  <a:pt x="11270" y="18155"/>
                </a:cubicBezTo>
                <a:lnTo>
                  <a:pt x="9607" y="18155"/>
                </a:lnTo>
                <a:cubicBezTo>
                  <a:pt x="6839" y="18155"/>
                  <a:pt x="4263" y="15596"/>
                  <a:pt x="4263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"/>
          <p:cNvPicPr/>
          <p:nvPr/>
        </p:nvPicPr>
        <p:blipFill>
          <a:blip r:embed="rId1"/>
          <a:stretch/>
        </p:blipFill>
        <p:spPr>
          <a:xfrm>
            <a:off x="-42840" y="0"/>
            <a:ext cx="9229680" cy="67438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5"/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Заголовок 1"/>
          <p:cNvGrpSpPr/>
          <p:nvPr/>
        </p:nvGrpSpPr>
        <p:grpSpPr>
          <a:xfrm>
            <a:off x="438120" y="103320"/>
            <a:ext cx="8345520" cy="1255680"/>
            <a:chOff x="438120" y="103320"/>
            <a:chExt cx="8345520" cy="1255680"/>
          </a:xfrm>
        </p:grpSpPr>
        <p:pic>
          <p:nvPicPr>
            <p:cNvPr id="9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38120" y="103320"/>
              <a:ext cx="83455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00040" y="14292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Сколько стоит</a:t>
              </a: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Windows</a:t>
              </a: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 txBox="1"/>
          <p:nvPr/>
        </p:nvSpPr>
        <p:spPr>
          <a:xfrm>
            <a:off x="428760" y="1499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S Widows 7 Pr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цена 360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S Office Standart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d, Excel, OneNote, Power Point, Publisher, Outlook, W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цена 163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S Office Pro Plus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d, Excel, OneNote, Power Point, Publisher, Outlook, Web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, InfoPath, Share Point, Communic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цена 217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колько стоит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inux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3635280" y="1413000"/>
            <a:ext cx="5205600" cy="5184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250920" y="2492280"/>
            <a:ext cx="373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сплатно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ux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тив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003640" y="2060640"/>
            <a:ext cx="3889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u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плат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ёшев в эксплуатаци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даптиру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дёж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щищён от вир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79280" y="1700280"/>
            <a:ext cx="4319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nd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бует финансовых в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граничен в возможнос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надё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язвим для вир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7451640" y="333360"/>
            <a:ext cx="14065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Ubuntu - самый популярный дистрибутив (слоган "Linux для людей" соответствует этой системе на все 100%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же диски с Ubuntu можно заказать совершенно бесплатно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Ubuntu быстра, надежна, стабильна, безопасна, в ней отсутствуют какие-бы то ни было вирусы (а значит и о необходимости в антивирусных программах можно также забыть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 и, наконец, она красива, да и просто удобна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ы, переход на эту операционную систему для Windows-пользователя непрост, но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ГУ ОСИЛИТ ИДУЩИЙ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и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ть возможности операционной системы Линукс в сравнении 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чь школьнику разобраться с интерфейсом операционной системы Linux и её программным обеспечени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Alex\Downloads\winlinux.jpg"/>
          <p:cNvPicPr/>
          <p:nvPr/>
        </p:nvPicPr>
        <p:blipFill>
          <a:blip r:embed="rId1"/>
          <a:stretch/>
        </p:blipFill>
        <p:spPr>
          <a:xfrm>
            <a:off x="1692360" y="4149720"/>
            <a:ext cx="543852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Что такое П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(программное обеспечение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39640" y="2209680"/>
            <a:ext cx="2584440" cy="2874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Это компью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4211640" y="2924280"/>
            <a:ext cx="452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ез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hardwa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ф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Program Files\Microsoft Office\CLIPART\PUB60COR\AG00154_.GIF"/>
          <p:cNvPicPr/>
          <p:nvPr/>
        </p:nvPicPr>
        <p:blipFill>
          <a:blip r:embed="rId1"/>
          <a:stretch/>
        </p:blipFill>
        <p:spPr>
          <a:xfrm>
            <a:off x="1066680" y="2286000"/>
            <a:ext cx="1562400" cy="1374840"/>
          </a:xfrm>
          <a:prstGeom prst="rect">
            <a:avLst/>
          </a:prstGeom>
          <a:ln w="0">
            <a:noFill/>
          </a:ln>
        </p:spPr>
      </p:pic>
      <p:sp>
        <p:nvSpPr>
          <p:cNvPr id="50" name="Right Arrow 9"/>
          <p:cNvSpPr/>
          <p:nvPr/>
        </p:nvSpPr>
        <p:spPr>
          <a:xfrm>
            <a:off x="3132000" y="3213000"/>
            <a:ext cx="970200" cy="7495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итие программного обеспе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94920" y="2057400"/>
            <a:ext cx="7497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ервая эта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 момента изобретения компьютеров до начала 80-х г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торой эта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начало 1976 год и до позавч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ретий эта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аши д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Заголовок 1"/>
          <p:cNvGrpSpPr/>
          <p:nvPr/>
        </p:nvGrpSpPr>
        <p:grpSpPr>
          <a:xfrm>
            <a:off x="426960" y="249120"/>
            <a:ext cx="8345520" cy="1251000"/>
            <a:chOff x="426960" y="249120"/>
            <a:chExt cx="8345520" cy="1251000"/>
          </a:xfrm>
        </p:grpSpPr>
        <p:pic>
          <p:nvPicPr>
            <p:cNvPr id="5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26960" y="249120"/>
              <a:ext cx="834552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85640" y="2858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alibri"/>
                </a:rPr>
                <a:t>Виды  «П О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 txBox="1"/>
          <p:nvPr/>
        </p:nvSpPr>
        <p:spPr>
          <a:xfrm>
            <a:off x="250920" y="1856880"/>
            <a:ext cx="85723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приета́рное программное обеспеч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англ. 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proprietary software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  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астная собственность авторов или правообладателе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авообладатель проприетарного ПО сохраняет за собой монополию на его использование, копирование и модификаци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вободное программное обеспеч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право пользователя свободно запускать, копировать, распространять, изучать, изменять и улучшать его»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временная версия определения свободы ПО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запускать программу в любых целях (свобода 0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изучения работы программы и адаптация её к вашим нуждам (свобода 1). Доступ к исходным текстам является необходимым услови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распространять копии, так что вы можете помочь вашему товарищу (свобода 2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улучшать программу и публиковать ваши улучшения, так что всё общество выиграет от этого (свобода 3). Доступ к исходным текстам является необходимым услови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Заголовок 1"/>
          <p:cNvGrpSpPr/>
          <p:nvPr/>
        </p:nvGrpSpPr>
        <p:grpSpPr>
          <a:xfrm>
            <a:off x="438120" y="249120"/>
            <a:ext cx="8345520" cy="1251000"/>
            <a:chOff x="438120" y="249120"/>
            <a:chExt cx="8345520" cy="1251000"/>
          </a:xfrm>
        </p:grpSpPr>
        <p:pic>
          <p:nvPicPr>
            <p:cNvPr id="5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38120" y="249120"/>
              <a:ext cx="834552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00040" y="2858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alibri"/>
                </a:rPr>
                <a:t>Виды  «П О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1" name="Straight Arrow Connector 20"/>
          <p:cNvCxnSpPr/>
          <p:nvPr/>
        </p:nvCxnSpPr>
        <p:spPr>
          <a:xfrm flipH="1">
            <a:off x="4343040" y="2666880"/>
            <a:ext cx="381600" cy="18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31664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Что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ужно школьнику?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 -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700" spc="-1" strike="noStrike">
                <a:solidFill>
                  <a:srgbClr val="ff0000"/>
                </a:solidFill>
                <a:latin typeface="Corbel"/>
              </a:rPr>
              <a:t>это операционные системы</a:t>
            </a: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1700" spc="-1" strike="noStrike">
                <a:solidFill>
                  <a:srgbClr val="ff0000"/>
                </a:solidFill>
                <a:latin typeface="Corbel"/>
              </a:rPr>
              <a:t>основное ПО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352680" y="5562720"/>
            <a:ext cx="1905120" cy="60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Компью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2133720" y="4572000"/>
            <a:ext cx="388620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перацион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6"/>
          <p:cNvCxnSpPr/>
          <p:nvPr/>
        </p:nvCxnSpPr>
        <p:spPr>
          <a:xfrm flipH="1">
            <a:off x="4188600" y="4954320"/>
            <a:ext cx="396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xtBox 8">
            <a:hlinkClick r:id="rId1" action="ppaction://hlinksldjump"/>
          </p:cNvPr>
          <p:cNvSpPr/>
          <p:nvPr/>
        </p:nvSpPr>
        <p:spPr>
          <a:xfrm>
            <a:off x="609480" y="2133720"/>
            <a:ext cx="1524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кстовый ред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>
            <a:hlinkClick r:id="rId2" action="ppaction://hlinksldjump"/>
          </p:cNvPr>
          <p:cNvSpPr/>
          <p:nvPr/>
        </p:nvSpPr>
        <p:spPr>
          <a:xfrm>
            <a:off x="2411280" y="2133720"/>
            <a:ext cx="16765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лектронные табл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>
            <a:hlinkClick r:id="rId3" action="ppaction://hlinksldjump"/>
          </p:cNvPr>
          <p:cNvSpPr/>
          <p:nvPr/>
        </p:nvSpPr>
        <p:spPr>
          <a:xfrm>
            <a:off x="6227640" y="2421000"/>
            <a:ext cx="1524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1">
            <a:hlinkClick r:id="rId4" action="ppaction://hlinksldjump"/>
          </p:cNvPr>
          <p:cNvSpPr/>
          <p:nvPr/>
        </p:nvSpPr>
        <p:spPr>
          <a:xfrm>
            <a:off x="4284720" y="2133720"/>
            <a:ext cx="1523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буч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>
            <a:hlinkClick r:id="rId5" action="ppaction://hlinksldjump"/>
          </p:cNvPr>
          <p:cNvSpPr/>
          <p:nvPr/>
        </p:nvSpPr>
        <p:spPr>
          <a:xfrm>
            <a:off x="3124080" y="3200400"/>
            <a:ext cx="2514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.. и многое друг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16"/>
          <p:cNvCxnSpPr/>
          <p:nvPr/>
        </p:nvCxnSpPr>
        <p:spPr>
          <a:xfrm>
            <a:off x="1828800" y="2819520"/>
            <a:ext cx="991440" cy="1753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18"/>
          <p:cNvCxnSpPr/>
          <p:nvPr/>
        </p:nvCxnSpPr>
        <p:spPr>
          <a:xfrm>
            <a:off x="2513520" y="2895120"/>
            <a:ext cx="686520" cy="167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2"/>
          <p:cNvCxnSpPr/>
          <p:nvPr/>
        </p:nvCxnSpPr>
        <p:spPr>
          <a:xfrm flipH="1">
            <a:off x="5485680" y="2895120"/>
            <a:ext cx="1143720" cy="167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Straight Arrow Connector 24"/>
          <p:cNvCxnSpPr/>
          <p:nvPr/>
        </p:nvCxnSpPr>
        <p:spPr>
          <a:xfrm flipH="1">
            <a:off x="3733200" y="3581280"/>
            <a:ext cx="76680" cy="99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Oval Callout 27"/>
          <p:cNvSpPr/>
          <p:nvPr/>
        </p:nvSpPr>
        <p:spPr>
          <a:xfrm>
            <a:off x="6948360" y="3141720"/>
            <a:ext cx="1727280" cy="1439640"/>
          </a:xfrm>
          <a:prstGeom prst="wedgeEllipseCallout">
            <a:avLst>
              <a:gd name="adj1" fmla="val -102481"/>
              <a:gd name="adj2" fmla="val 66208"/>
            </a:avLst>
          </a:prstGeom>
          <a:solidFill>
            <a:srgbClr val="ff0000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ез этого компьютер вообще не работает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0" y="602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riter является свободным аналогом собственнического Microsoft Word. Writer также имеет некоторые возможности, отсутствующие в Word, поддержку стилей стран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>
            <a:hlinkClick r:id="rId2" action="ppaction://hlinksldjump"/>
          </p:cNvPr>
          <p:cNvSpPr/>
          <p:nvPr/>
        </p:nvSpPr>
        <p:spPr>
          <a:xfrm>
            <a:off x="8028000" y="5661000"/>
            <a:ext cx="1116000" cy="360360"/>
          </a:xfrm>
          <a:custGeom>
            <a:avLst/>
            <a:gdLst>
              <a:gd name="textAreaLeft" fmla="*/ 23040 w 1116000"/>
              <a:gd name="textAreaRight" fmla="*/ 1092960 w 111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6848" h="21600">
                <a:moveTo>
                  <a:pt x="0" y="0"/>
                </a:moveTo>
                <a:lnTo>
                  <a:pt x="66848" y="0"/>
                </a:lnTo>
                <a:lnTo>
                  <a:pt x="66848" y="21600"/>
                </a:lnTo>
                <a:lnTo>
                  <a:pt x="0" y="21600"/>
                </a:lnTo>
                <a:close/>
              </a:path>
              <a:path fill="lightenLess" w="66848" h="21600">
                <a:moveTo>
                  <a:pt x="0" y="0"/>
                </a:moveTo>
                <a:lnTo>
                  <a:pt x="66848" y="0"/>
                </a:lnTo>
                <a:lnTo>
                  <a:pt x="65448" y="1400"/>
                </a:lnTo>
                <a:lnTo>
                  <a:pt x="1400" y="1400"/>
                </a:lnTo>
                <a:close/>
              </a:path>
              <a:path fill="darken" w="66848" h="21600">
                <a:moveTo>
                  <a:pt x="66848" y="0"/>
                </a:moveTo>
                <a:lnTo>
                  <a:pt x="66848" y="21600"/>
                </a:lnTo>
                <a:lnTo>
                  <a:pt x="65448" y="20200"/>
                </a:lnTo>
                <a:lnTo>
                  <a:pt x="65448" y="1400"/>
                </a:lnTo>
                <a:close/>
              </a:path>
              <a:path fill="darkenLess" w="66848" h="21600">
                <a:moveTo>
                  <a:pt x="6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448" y="20200"/>
                </a:lnTo>
                <a:close/>
              </a:path>
              <a:path fill="lighten" w="6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6848" h="21600">
                <a:moveTo>
                  <a:pt x="26417" y="7493"/>
                </a:moveTo>
                <a:lnTo>
                  <a:pt x="29925" y="7493"/>
                </a:lnTo>
                <a:lnTo>
                  <a:pt x="29925" y="12828"/>
                </a:lnTo>
                <a:cubicBezTo>
                  <a:pt x="29925" y="13751"/>
                  <a:pt x="30726" y="14482"/>
                  <a:pt x="31762" y="14482"/>
                </a:cubicBezTo>
                <a:lnTo>
                  <a:pt x="33424" y="14482"/>
                </a:lnTo>
                <a:cubicBezTo>
                  <a:pt x="34460" y="14482"/>
                  <a:pt x="35260" y="13751"/>
                  <a:pt x="35260" y="12828"/>
                </a:cubicBezTo>
                <a:lnTo>
                  <a:pt x="35260" y="7493"/>
                </a:lnTo>
                <a:lnTo>
                  <a:pt x="33424" y="7493"/>
                </a:lnTo>
                <a:lnTo>
                  <a:pt x="36932" y="3985"/>
                </a:lnTo>
                <a:lnTo>
                  <a:pt x="40605" y="7493"/>
                </a:lnTo>
                <a:lnTo>
                  <a:pt x="38768" y="7493"/>
                </a:lnTo>
                <a:lnTo>
                  <a:pt x="38768" y="12828"/>
                </a:lnTo>
                <a:cubicBezTo>
                  <a:pt x="38768" y="15596"/>
                  <a:pt x="36192" y="18155"/>
                  <a:pt x="33424" y="18155"/>
                </a:cubicBezTo>
                <a:lnTo>
                  <a:pt x="31762" y="18155"/>
                </a:lnTo>
                <a:cubicBezTo>
                  <a:pt x="28994" y="18155"/>
                  <a:pt x="26417" y="15596"/>
                  <a:pt x="26417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87480" y="5969160"/>
            <a:ext cx="905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penOffice.org Calc — табличный процессор. С его помощью можно анализировать вводимые данные, заниматься расчётами, прогнозировать, сводить данные с разных листов и таблиц, строить диаграммы и граф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824400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7493"/>
                </a:moveTo>
                <a:lnTo>
                  <a:pt x="23458" y="7493"/>
                </a:lnTo>
                <a:lnTo>
                  <a:pt x="23458" y="12828"/>
                </a:lnTo>
                <a:cubicBezTo>
                  <a:pt x="23458" y="13751"/>
                  <a:pt x="24259" y="14482"/>
                  <a:pt x="25294" y="14482"/>
                </a:cubicBezTo>
                <a:lnTo>
                  <a:pt x="26957" y="14482"/>
                </a:lnTo>
                <a:cubicBezTo>
                  <a:pt x="27993" y="14482"/>
                  <a:pt x="28793" y="13751"/>
                  <a:pt x="28793" y="12828"/>
                </a:cubicBezTo>
                <a:lnTo>
                  <a:pt x="28793" y="7493"/>
                </a:lnTo>
                <a:lnTo>
                  <a:pt x="26957" y="7493"/>
                </a:lnTo>
                <a:lnTo>
                  <a:pt x="30464" y="3985"/>
                </a:lnTo>
                <a:lnTo>
                  <a:pt x="34137" y="7493"/>
                </a:lnTo>
                <a:lnTo>
                  <a:pt x="32301" y="7493"/>
                </a:lnTo>
                <a:lnTo>
                  <a:pt x="32301" y="12828"/>
                </a:lnTo>
                <a:cubicBezTo>
                  <a:pt x="32301" y="15596"/>
                  <a:pt x="29725" y="18155"/>
                  <a:pt x="26957" y="18155"/>
                </a:cubicBezTo>
                <a:lnTo>
                  <a:pt x="25294" y="18155"/>
                </a:lnTo>
                <a:cubicBezTo>
                  <a:pt x="22527" y="18155"/>
                  <a:pt x="19950" y="15596"/>
                  <a:pt x="19950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5:41:59Z</dcterms:created>
  <dc:creator>Alex</dc:creator>
  <dc:description/>
  <dc:language>en-US</dc:language>
  <cp:lastModifiedBy>Олег</cp:lastModifiedBy>
  <dcterms:modified xsi:type="dcterms:W3CDTF">2011-04-17T11:20:39Z</dcterms:modified>
  <cp:revision>56</cp:revision>
  <dc:subject/>
  <dc:title>Варианты легализации</dc:title>
</cp:coreProperties>
</file>