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CED-E6DC-49F8-BF32-1EBAC76A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0BB-ACC3-4A5A-9C71-5CE916A1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9B5-E248-4666-813F-65005BC6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2B28-5CBA-4B5C-9FA5-24EAB73C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8CA-DC45-4B65-BD7E-C08C16EF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623F-115E-40FF-875A-F7ED51E1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5DC4-4E87-42EC-9AE5-5A491FDF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791D-3C6F-40C1-A34B-3164A2C6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286A-7230-46E0-8215-FC7F370E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8B1-72AB-47A4-B6B4-5443E3BF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3E8-1CC6-4329-AE27-88019EC2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C152-AEBD-4389-8785-53B3BF04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FAC0-6CDE-4C11-8571-8C647DB8C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333360"/>
            <a:ext cx="81360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усск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узыкальны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струмент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967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</a:rPr>
              <a:t>Буб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39610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ен восточным славянам с древнейших времён. Особенно широко они применялись в ратном деле и у скоморохов. В прежние времена бубном называли ударные инструменты, на которых натянута кож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95640" y="1341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Д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3610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рают на «дровах» молоточками, сделанными из твёрдых пород дер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овали разновидности «дров», в которых вместо деревянных брусков использовались скалки для раскатывания теста или металлические труб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067280" y="907920"/>
            <a:ext cx="50767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3366"/>
                </a:solidFill>
                <a:latin typeface="Arial"/>
              </a:rPr>
              <a:t>Кугик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4653000"/>
            <a:ext cx="774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гиклы представляют собой набор пустотелых трубок различной длины и диаметра с открытым верхним концом и закрытым нижним. Инструмент этот изготавливался обычно из стеблей куги (камыша), тростника, бамбука и т.д., дном служил узел ств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71640" y="765000"/>
            <a:ext cx="60962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068800" y="333360"/>
            <a:ext cx="3692520" cy="575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686800" y="-4098240"/>
            <a:ext cx="45720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425916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ают на кугиклах только ансамблем, группой из трех-четырех исполнителей. Это чисто женский инстру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Свир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30974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сский инструмент типа продольной флейты. На Руси инструмент изготавливали либо из куска пустотелого тростника, либо из цилиндрического куска дерева. По преданию, на свирели играл сын славянской богини любви Лады — Л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76720" y="1557360"/>
            <a:ext cx="5715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Жале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06728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алейка представляет собой деревянную (ива, бузина, тростник)  трубку от 140 до 160 мм в длину. В верхний конец ее вставлен пищик. На нижний конец надевается в качестве резонатора натуральный коровий рог или берестяной раст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24360" y="2492280"/>
            <a:ext cx="4989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Брё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46911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дин из наиболее мягких и благозвучных по тембру инструментов семейства язычковых. Представляет собой как бы промежуточную разновидность жалейки и сур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345360" y="378000"/>
            <a:ext cx="27986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864072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Гу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36100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скольких дощечек, собранных затем в широкий и плоский ящик, имеющий внутри резонаторную пол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03640" y="1268280"/>
            <a:ext cx="5632560" cy="41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658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Разновидности гус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80560"/>
            <a:ext cx="26272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шлемо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дные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трапецие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дные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крыло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дные» (звончаты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4778280" cy="3584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048120" y="4508640"/>
            <a:ext cx="6095880" cy="2543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364000" y="404640"/>
            <a:ext cx="34927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700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35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3366"/>
                </a:solidFill>
                <a:latin typeface="Arial"/>
              </a:rPr>
              <a:t>Ударны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66"/>
                </a:solidFill>
                <a:latin typeface="Arial"/>
              </a:rPr>
              <a:t>Ло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66"/>
                </a:solidFill>
                <a:latin typeface="Arial"/>
              </a:rPr>
              <a:t>Трещ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66"/>
                </a:solidFill>
                <a:latin typeface="Arial"/>
              </a:rPr>
              <a:t>Бубен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66"/>
                </a:solidFill>
                <a:latin typeface="Arial"/>
              </a:rPr>
              <a:t>Ру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66"/>
                </a:solidFill>
                <a:latin typeface="Arial"/>
              </a:rPr>
              <a:t>Д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66"/>
                </a:solidFill>
                <a:latin typeface="Arial"/>
              </a:rPr>
              <a:t>Буб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640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66"/>
                </a:solidFill>
                <a:latin typeface="Arial"/>
              </a:rPr>
              <a:t>Духов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Кугик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Свир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Жал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Брё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66"/>
                </a:solidFill>
                <a:latin typeface="Arial"/>
              </a:rPr>
              <a:t>Стру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Гу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Дом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Балала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810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Дом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5007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вными исполнителями на домрах были скоморо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честве народного инструмента в России и Украине домра не пользуется особой популярностью, в деревнях она почти не встреч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457200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</a:rPr>
              <a:t>Балала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4608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лалайка — один из инструментов, ставших (наряду с гармонью и, в меньшей степени, жалейкой) музыкальным символом русского на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292720" y="981000"/>
            <a:ext cx="3429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68360" y="1197000"/>
            <a:ext cx="820728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нима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Л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35989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один из наиболее самобытных и популярных у русского народа ударных инструм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2920" y="3933360"/>
            <a:ext cx="4038840" cy="2187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211640" y="620640"/>
            <a:ext cx="4778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Изготовление лож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1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Трещо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амобытный русский музыкальный инстру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00720" y="620640"/>
            <a:ext cx="44701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45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Бубен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бенчик является полым шаром, в котором свободно катается металлический шарик (иногда несколько), при встряске ударяющийся о стенки и извлекающий зв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95640" y="1413000"/>
            <a:ext cx="4656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4869000"/>
            <a:ext cx="62276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сская тройка и бубенцы для упря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26320" cy="4676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227640" y="2492280"/>
            <a:ext cx="27608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Руб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897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же как и ложки, — предмет повседневного обихода русского народа. Отличие музыкального рубеля от бытового в том, что первый пустотелый, второй це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64000" y="476280"/>
            <a:ext cx="31086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3:46:45Z</dcterms:created>
  <dc:creator>User</dc:creator>
  <dc:description/>
  <dc:language>en-US</dc:language>
  <cp:lastModifiedBy>User</cp:lastModifiedBy>
  <dcterms:modified xsi:type="dcterms:W3CDTF">2010-12-18T07:57:24Z</dcterms:modified>
  <cp:revision>13</cp:revision>
  <dc:subject/>
  <dc:title>Слайд 1</dc:title>
</cp:coreProperties>
</file>