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293-94FE-4B0E-AFE4-FE956E42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ADC-65C6-4F6F-99FB-F31BD1D2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7EF-928A-45F9-8216-F472EF9D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F9B-BBB8-4F0E-B961-4D91DE9C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8A8-6383-4422-82FB-71EB739F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54C-2872-4B67-BEB2-329B5F6E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D0A-A53D-4825-AA65-4F5E8ED4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FE1-ABF8-45F1-9E16-1636EE0F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558-4B9C-4726-9EBD-024804D9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4C3-CFC6-4702-9982-1B544E5E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D35-D5BF-4FF6-BF90-9FA32BF5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B1C-3339-4A4E-BF77-C13F9FA1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BF50-784E-4840-8F0D-89AC6F1A1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33360"/>
            <a:ext cx="81360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усск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узыкальны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струмен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967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Буб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39610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ен восточным славянам с древнейших времён. Особенно широко они применялись в ратном деле и у скоморохов. В прежние времена бубном называли ударные инструменты, на которых натянута кож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9564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Д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3610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ают на «дровах» молоточками, сделанными из твёрдых пород де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овали разновидности «дров», в которых вместо деревянных брусков использовались скалки для раскатывания теста или металлические труб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067280" y="907920"/>
            <a:ext cx="5076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3366"/>
                </a:solidFill>
                <a:latin typeface="Arial"/>
              </a:rPr>
              <a:t>Кугик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653000"/>
            <a:ext cx="774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гиклы представляют собой набор пустотелых трубок различной длины и диаметра с открытым верхним концом и закрытым нижним. Инструмент этот изготавливался обычно из стеблей куги (камыша), тростника, бамбука и т.д., дном служил узел ст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71640" y="765000"/>
            <a:ext cx="60962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68800" y="333360"/>
            <a:ext cx="3692520" cy="57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86800" y="-409824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42591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ют на кугиклах только ансамблем, группой из трех-четырех исполнителей. Это чисто женский инстру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Свир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3097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ский инструмент типа продольной флейты. На Руси инструмент изготавливали либо из куска пустотелого тростника, либо из цилиндрического куска дерева. По преданию, на свирели играл сын славянской богини любви Лады — Л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76720" y="1557360"/>
            <a:ext cx="5715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Жале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0672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алейка представляет собой деревянную (ива, бузина, тростник)  трубку от 140 до 160 мм в длину. В верхний конец ее вставлен пищик. На нижний конец надевается в качестве резонатора натуральный коровий рог или берестяной раст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4989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Брё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4691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дин из наиболее мягких и благозвучных по тембру инструментов семейства язычковых. Представляет собой как бы промежуточную разновидность жалейки и сур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345360" y="378000"/>
            <a:ext cx="2798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6407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Гу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610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скольких дощечек, собранных затем в широкий и плоский ящик, имеющий внутри резонаторную пол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563256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658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Разновидности гус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80560"/>
            <a:ext cx="2627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шлемо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ны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трапецие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ны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крыло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ные» (звончаты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4778280" cy="3584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8120" y="4508640"/>
            <a:ext cx="6095880" cy="2543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364000" y="404640"/>
            <a:ext cx="3492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35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3366"/>
                </a:solidFill>
                <a:latin typeface="Arial"/>
              </a:rPr>
              <a:t>Ударны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Л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Трещ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Бубен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Д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Буб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64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66"/>
                </a:solidFill>
                <a:latin typeface="Arial"/>
              </a:rPr>
              <a:t>Духо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Кугик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Свир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Жал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Брё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66"/>
                </a:solidFill>
                <a:latin typeface="Arial"/>
              </a:rPr>
              <a:t>Стру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Гу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Дом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Балал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810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Дом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500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ыми исполнителями на домрах были скоморо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честве народного инструмента в России и Украине домра не пользуется особой популярностью, в деревнях она почти не встре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5720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Балала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60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лалайка — один из инструментов, ставших (наряду с гармонью и, в меньшей степени, жалейкой) музыкальным символом русского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92720" y="981000"/>
            <a:ext cx="3429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68360" y="1197000"/>
            <a:ext cx="820728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Л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35989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один из наиболее самобытных и популярных у русского народа ударных инстру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2920" y="3933360"/>
            <a:ext cx="4038840" cy="2187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211640" y="620640"/>
            <a:ext cx="4778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Изготовление лож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1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Трещо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амобытный русский музыкальный инстру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00720" y="620640"/>
            <a:ext cx="4470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45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Бубен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бенчик является полым шаром, в котором свободно катается металлический шарик (иногда несколько), при встряске ударяющийся о стенки и извлекающий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95640" y="1413000"/>
            <a:ext cx="4656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4869000"/>
            <a:ext cx="6227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ская тройка и бубенцы для упря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26320" cy="4676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227640" y="2492280"/>
            <a:ext cx="27608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66"/>
                </a:solidFill>
                <a:latin typeface="Arial"/>
              </a:rPr>
              <a:t>Руб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897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 как и ложки, — предмет повседневного обихода русского народа. Отличие музыкального рубеля от бытового в том, что первый пустотелый, второй ц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476280"/>
            <a:ext cx="31086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46:45Z</dcterms:created>
  <dc:creator>User</dc:creator>
  <dc:description/>
  <dc:language>en-US</dc:language>
  <cp:lastModifiedBy>User</cp:lastModifiedBy>
  <dcterms:modified xsi:type="dcterms:W3CDTF">2010-12-18T07:57:24Z</dcterms:modified>
  <cp:revision>13</cp:revision>
  <dc:subject/>
  <dc:title>Слайд 1</dc:title>
</cp:coreProperties>
</file>