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808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3808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57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2317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50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50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73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457200" y="6527880"/>
            <a:ext cx="647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    H    E    R    E       O    P    P    O    R    T    U    N    I    T    E    S       E     M    E    R    G    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1"/>
          <p:cNvSpPr/>
          <p:nvPr/>
        </p:nvSpPr>
        <p:spPr>
          <a:xfrm>
            <a:off x="0" y="1066680"/>
            <a:ext cx="8534520" cy="0"/>
          </a:xfrm>
          <a:prstGeom prst="line">
            <a:avLst/>
          </a:prstGeom>
          <a:ln w="9360">
            <a:solidFill>
              <a:srgbClr val="738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9"/>
          <p:cNvSpPr/>
          <p:nvPr/>
        </p:nvSpPr>
        <p:spPr>
          <a:xfrm>
            <a:off x="304920" y="6527880"/>
            <a:ext cx="64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    H    E    R    E       O    P    P    O    R    T    U    N    I    T    I    E    S       E     M    E    R    G    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0" descr="Test"/>
          <p:cNvPicPr/>
          <p:nvPr/>
        </p:nvPicPr>
        <p:blipFill>
          <a:blip r:embed="rId3"/>
          <a:stretch/>
        </p:blipFill>
        <p:spPr>
          <a:xfrm>
            <a:off x="6824520" y="6443640"/>
            <a:ext cx="209088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0"/>
          <p:cNvSpPr/>
          <p:nvPr/>
        </p:nvSpPr>
        <p:spPr>
          <a:xfrm>
            <a:off x="304920" y="6527880"/>
            <a:ext cx="64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    H    E    R    E       O    P    P    O    R    T    U    N    I    T    I    E    S       E     M    E    R    G    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1" descr="Test"/>
          <p:cNvPicPr/>
          <p:nvPr/>
        </p:nvPicPr>
        <p:blipFill>
          <a:blip r:embed="rId2"/>
          <a:stretch/>
        </p:blipFill>
        <p:spPr>
          <a:xfrm>
            <a:off x="6824520" y="6443640"/>
            <a:ext cx="2090880" cy="384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2317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50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50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134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305280" y="2362320"/>
            <a:ext cx="86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af9dc"/>
                </a:solidFill>
                <a:latin typeface="Times New Roman"/>
              </a:rPr>
              <a:t>Управление конфликтами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949200" y="3589200"/>
            <a:ext cx="304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f9dc"/>
                </a:solidFill>
                <a:latin typeface="Times New Roman"/>
              </a:rPr>
              <a:t>Бриджет МакДональ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9dc"/>
                </a:solidFill>
                <a:latin typeface="Times New Roman"/>
              </a:rPr>
              <a:t>25</a:t>
            </a:r>
            <a:r>
              <a:rPr b="0" lang="ru-RU" sz="2400" spc="-1" strike="noStrike">
                <a:solidFill>
                  <a:srgbClr val="faf9dc"/>
                </a:solidFill>
                <a:latin typeface="Times New Roman"/>
              </a:rPr>
              <a:t> сентября </a:t>
            </a:r>
            <a:r>
              <a:rPr b="0" lang="en-US" sz="2400" spc="-1" strike="noStrike">
                <a:solidFill>
                  <a:srgbClr val="faf9dc"/>
                </a:solidFill>
                <a:latin typeface="Times New Roman"/>
              </a:rPr>
              <a:t>2004</a:t>
            </a:r>
            <a:r>
              <a:rPr b="0" lang="ru-RU" sz="2400" spc="-1" strike="noStrike">
                <a:solidFill>
                  <a:srgbClr val="faf9dc"/>
                </a:solidFill>
                <a:latin typeface="Times New Roman"/>
              </a:rPr>
              <a:t> г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1" descr="Test"/>
          <p:cNvPicPr/>
          <p:nvPr/>
        </p:nvPicPr>
        <p:blipFill>
          <a:blip r:embed="rId2"/>
          <a:stretch/>
        </p:blipFill>
        <p:spPr>
          <a:xfrm>
            <a:off x="6824520" y="6443640"/>
            <a:ext cx="209088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Проблемы уклоняющегося подхода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то не так с этим подходом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шен возможностей дл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жного личностного ро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мы сталкиваемся с препятствиями, которые вынуждают нас переоценить наши идеи и чувства, мы учим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кладывает разрешение конфликта и допускает его усугуб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рицает возможность улучшения отнош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Сотрудничество, решение проблем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7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стойчивый и готовый сотруднича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арается работать вместе со второй стороной, чтобы найти решение, которое удовлетворит интересы обеих сторо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яет основные проблемы между сторон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ирует расхождения, чтобы научиться у каждой сторо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ытается найти творческое решение пробле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689760" y="2895480"/>
            <a:ext cx="635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dcdfc9"/>
                </a:solidFill>
                <a:latin typeface="Times New Roman"/>
              </a:rPr>
              <a:t>Причины конфликтов</a:t>
            </a:r>
            <a:endParaRPr b="1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04920" y="6527880"/>
            <a:ext cx="64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    H    E    R    E       O    P    P    O    R    T    U    N    I    T    I    E    S       E     M    E    R    G    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7" descr="Test"/>
          <p:cNvPicPr/>
          <p:nvPr/>
        </p:nvPicPr>
        <p:blipFill>
          <a:blip r:embed="rId2"/>
          <a:stretch/>
        </p:blipFill>
        <p:spPr>
          <a:xfrm>
            <a:off x="6824520" y="6443640"/>
            <a:ext cx="209088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Причины конфликтов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57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550"/>
              </a:spcBef>
              <a:buClr>
                <a:srgbClr val="738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личия и расхожд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spcBef>
                <a:spcPts val="550"/>
              </a:spcBef>
              <a:buClr>
                <a:srgbClr val="738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треб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spcBef>
                <a:spcPts val="550"/>
              </a:spcBef>
              <a:buClr>
                <a:srgbClr val="738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осприят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spcBef>
                <a:spcPts val="550"/>
              </a:spcBef>
              <a:buClr>
                <a:srgbClr val="738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ла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spcBef>
                <a:spcPts val="550"/>
              </a:spcBef>
              <a:buClr>
                <a:srgbClr val="738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Ценности и принцип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spcBef>
                <a:spcPts val="550"/>
              </a:spcBef>
              <a:buClr>
                <a:srgbClr val="738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увства и эмо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Расхождения</a:t>
            </a:r>
            <a:r>
              <a:rPr b="0" lang="en-US" sz="3200" spc="-1" strike="noStrike">
                <a:solidFill>
                  <a:srgbClr val="7d2317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7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 людей различаются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рия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треб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а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л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ти различия приводят к конфликта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огут быть позитивны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личные пути решения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ьтернативные точки зр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Потребности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57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ловия, без которых, по нашему мнению, мы не можем обойтись или которые считаем необходимыми для благополучия и развития отнош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ы сосредоточиваемся на собственных потребностях и игнорируем вторую сторону, ил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ы игнорируем свои потребности ради другой сторон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хотим показаться эгоистичны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Восприятие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57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Люди по-разному интерпретируют реально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то виноват в автомобильной авари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тери и находки – кому достанетс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ормирующиеся представ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ставления формируются из слухов и сплетен, которые люди принимают, как факт, не пытаясь узнать, действительно ли это прав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же, если нам не нравится человек или поступ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нденция игнорировать позитив и подчеркивать негати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ереотипы – расовые, гендерные, профессиона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щущение угроз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Власть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57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пособность заставить других вести себя так, как Вы хотите, контролировать или добиваться превосходства над кем-либ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гда власть используется как инструмент для получения контроля или преимущества над другими, результатом обычно бывают разрушительные конфлик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пытки подавить кого-то в конфликтной ситуации неэффективны и обычно усугубляют проблем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Ценности и принципы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71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Ценности и принципы могут приводить к конфликтам, если люди делают поспешный вывод о том, что конфликт, в который они вовлечены, - это конфликт ценностей и принцип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ет основания для того, чтобы отстаивать свою позиц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еренность в абсолютной право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фликт может возникать из-за представлений, а не ценностей или принцип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юди преувеличивают важность предпочтений, считая их ценностями и принцип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а из сторон не принимает ценности и принципы друг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личные це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сколько важна эта ценность для отношений в цел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Чувства и эмоции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Люди позволяют своим чувствам и эмоциям стать определяющими при улаживании конфликт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Либо они пытаются игнорировать свои чувства и эмо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690480" y="2895480"/>
            <a:ext cx="5475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f1e4a2"/>
                </a:solidFill>
                <a:latin typeface="Times New Roman"/>
              </a:rPr>
              <a:t>Стили конфликтов</a:t>
            </a:r>
            <a:endParaRPr b="1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304920" y="6527880"/>
            <a:ext cx="64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    H    E    R    E       O    P    P    O    R    T    U    N    I    T    I    E    S       E     M    E    R    G    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1" descr="Test"/>
          <p:cNvPicPr/>
          <p:nvPr/>
        </p:nvPicPr>
        <p:blipFill>
          <a:blip r:embed="rId2"/>
          <a:stretch/>
        </p:blipFill>
        <p:spPr>
          <a:xfrm>
            <a:off x="6824520" y="6443640"/>
            <a:ext cx="209088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691560" y="2286000"/>
            <a:ext cx="7281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f1e4a2"/>
                </a:solidFill>
                <a:latin typeface="Times New Roman"/>
              </a:rPr>
              <a:t>Шаги к урегулированию </a:t>
            </a:r>
            <a:endParaRPr b="1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f1e4a2"/>
                </a:solidFill>
                <a:latin typeface="Times New Roman"/>
              </a:rPr>
              <a:t>конфликтов</a:t>
            </a:r>
            <a:endParaRPr b="1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04920" y="6527880"/>
            <a:ext cx="64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    H    E    R    E       O    P    P    O    R    T    U    N    I    T    I    E    S       E     M    E    R    G    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6" descr="Test"/>
          <p:cNvPicPr/>
          <p:nvPr/>
        </p:nvPicPr>
        <p:blipFill>
          <a:blip r:embed="rId2"/>
          <a:stretch/>
        </p:blipFill>
        <p:spPr>
          <a:xfrm>
            <a:off x="6824520" y="6443640"/>
            <a:ext cx="209088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8989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Восемь шагов к урегулированию конфликта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7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550"/>
              </a:spcBef>
              <a:buClr>
                <a:srgbClr val="738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оздать эффективную атмосфер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spcBef>
                <a:spcPts val="550"/>
              </a:spcBef>
              <a:buClr>
                <a:srgbClr val="738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яснить представ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spcBef>
                <a:spcPts val="550"/>
              </a:spcBef>
              <a:buClr>
                <a:srgbClr val="738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осредоточиться на индивидуальных и общих потребностя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spcBef>
                <a:spcPts val="550"/>
              </a:spcBef>
              <a:buClr>
                <a:srgbClr val="738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оздать общую позитивную сил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spcBef>
                <a:spcPts val="550"/>
              </a:spcBef>
              <a:buClr>
                <a:srgbClr val="738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мотреть в будущее и извлекать уроки из прошлог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spcBef>
                <a:spcPts val="550"/>
              </a:spcBef>
              <a:buClr>
                <a:srgbClr val="738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едлагать вариан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spcBef>
                <a:spcPts val="550"/>
              </a:spcBef>
              <a:buClr>
                <a:srgbClr val="738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ть план действ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spcBef>
                <a:spcPts val="550"/>
              </a:spcBef>
              <a:buClr>
                <a:srgbClr val="738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ключать взаимовыгодные соглаш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Создание эффективной атмосферы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57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Личная подготовк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шение и умонастро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Я» против «Вы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следует загонять себя в рамки жестких требов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умайте, что Вы хотите сказать и как Вы хотите, чтобы это было восприня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ерите время, которое подходит обои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статочно долгое, чтобы обе стороны могли говорить свобод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ест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фортное для обеих сторо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в офисе ни одной из сторо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Прояснение представлений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7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просите себ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фликт возник впервые или это уже случалось неоднократно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я думаю о конфликт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конфликт из-за ценностей или предпочтен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овы мои ценности в данном конфликт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конфликт из-за потребностей или жел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для меня важнее всего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мои действия привели к появлению конфликта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темы, слова или поведение заставят меня выйти из себ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ошибочные представления может иметь обо мне вторая сторона и какие мои действия привели к их появлению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яются ли мои ожидания реалистичным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воспринимаю ли я стереотипно вторую сторон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Прояснение представлений</a:t>
            </a:r>
            <a:r>
              <a:rPr b="0" lang="en-US" sz="3200" spc="-1" strike="noStrike">
                <a:solidFill>
                  <a:srgbClr val="7d2317"/>
                </a:solidFill>
                <a:latin typeface="Times New Roman"/>
              </a:rPr>
              <a:t> (2)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7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тобы прояснить представления, нужн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слушиваться к тому, что говорит вторая стор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чно мы не слушаем люд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готовим свой ответ раньше, чем собеседник закончил говор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ть свои органы чувст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невербальные сигналы подает этот челове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рвоз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у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не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л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вать уточняющие вопро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 не могли бы объяснить, почему Вы так считает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 правильно Вас понима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8989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Фокус на индивидуальные и общие потребности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7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делить потребности от жела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я не получу то, в чем, по моему мнению, я нуждаюсь, какой ущерб мне это причини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деляет потребности и жел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просите себя, каковы Ваши потребности и удовлетворяются ли он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нет, известно ли второй стороне, каковы Ваши потребнос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торая сторона не может помочь удовлетворить их, если не знает о н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нужно считать, что вторая сторона знает, если Вы ей об этом не говори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3720" y="380880"/>
            <a:ext cx="9294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Фокус на индивидуальные и общие потребности </a:t>
            </a:r>
            <a:r>
              <a:rPr b="0" lang="en-US" sz="2400" spc="-1" strike="noStrike">
                <a:solidFill>
                  <a:srgbClr val="7d2317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57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ставьте себя на место второй сторон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они чувствую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овы их потребнос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м они известн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нет – спросит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ределите, в каких аспектах Ваши потребности пересекаютс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ороны обычно хотят одного и того ж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хождения возникают в отношении путей дости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Создание общей позитивной силы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7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 используйте власть негативн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пичный подход – это контроль или манипулирование кем-либ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ласть не развращае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юди сами выбирают, как использовать вла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спользуйте власть, чтобы расширить возможности всех сторон, вовлеченных в конфлик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ля этого необходимо иметь четкое представление о самом себ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нимать ценности и убе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тролировать свои эмоции и чув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кто не может заставить Вас чувствовать что-то без Вашего соглас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ши эмоции принадлежат Ва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у идею очень сложно приня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8989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Смотреть в будущее и извлекать уроки из</a:t>
            </a:r>
            <a:br>
              <a:rPr sz="3200"/>
            </a:b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 прошлого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7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читесь на ошибках прошлого, но не давайте им препятствовать Ва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читать, что раз конфликт не был положительно разрешен в прошлом, его нельзя эффективно разрешить и сейча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рицательно воспринимать прошлые конфлик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ставлять людей отвечать за прошлые ошибки или несоответствие требования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могли измениться, развиться, выр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шибка ни разу не повторяла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аже если это всегда делалось так, это не значит, что это лучший спосо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мантизация и приукрашивание прошл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Смотреть в будущее и извлекать уроки из прошлого </a:t>
            </a:r>
            <a:r>
              <a:rPr b="0" lang="en-US" sz="3200" spc="-1" strike="noStrike">
                <a:solidFill>
                  <a:srgbClr val="7d2317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7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спомните время, когда Вы были в хороших отношениях со второй стороной, до конфлик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именно вызвало конфлик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действия обеих сторон усугубили его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умейте простить прошлые поступки и ошибк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вигайтесь впере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Неважно, кто виноват, давайте просто решим проблему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атьте меньше времени на обвинения и больше на ре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иксация на прошлом не поможет решить проблем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мнит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ФЛИКТ – ЭТО ПРОЦЕСС, А НЕ СОБЫ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Конкуренция, применение силы, доминирование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стойчивый и не желающий сотруднича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еследующий собственные интересы за счет други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интересованный только во вла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ует всю возможную власть, чтобы побед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ие спор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ужебное пол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ономические санкц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ительств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ы правы, а они не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Предлагайте варианты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7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месте со второй стороной потратьте время на разработку новых возможносте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зговой штур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готовьте заранее несколько вариант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дьте готовы рассмотреть варианты и второй сторо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ределите вопросы, по которым вы согласн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мните, что существует гораздо больше решений, чем Вы или вторая сторона можете предложить самостоятельн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Разработка плана действий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7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аршрут от текущей позиции к желаем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исок действий, которые нужно выпол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не должны быть решения на скорую руку, они должны привести к реальному разрешению пробле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н действий должен быть согласован и одобрен обеими сторон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Заключение взаимовыгодных соглашений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57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сле того, как план действий составлен, соглашение должно быть выгодным для обеих сторо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 стороны должны быть довольны результат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жно включать все ценности, потребности и принципы сторо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ять конкретные обяза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Заключение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то только инструмен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не будут работать, если их не использ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вершенствование умения разрешать конфликты – это процесс, а не одиночное событ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достаточно просто сегодня послушать и согласиться с тем, что это правильные шаг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бходимо использовать их в жиз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ься на н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удаются Вам лучше – или требуют дополнительной работы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Заключение</a:t>
            </a:r>
            <a:r>
              <a:rPr b="0" lang="en-US" sz="3200" spc="-1" strike="noStrike">
                <a:solidFill>
                  <a:srgbClr val="7d2317"/>
                </a:solidFill>
                <a:latin typeface="Times New Roman"/>
              </a:rPr>
              <a:t> (2)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 опускайте руки, если Вы все время совершаете одни и те же ошибк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бы мы были специалистами по разрешению конфликтов, не было б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й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од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довольных работни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вивайтесь и учитесь на прошлых ошибка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8912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Проблемы конкурирующего подхода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то не так в этом подход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ереотип деструктивного использования в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ряется возможность выслушать другую точку зрения, которая может предлагать лучшие варианты осуществления чего-либ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тивопоставляет стороны и ограничивает пути разрешения конфликт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ть победитель и есть проигравш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игравший хочет отыграть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улучшает отно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ткосрочный мыслительный проце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8912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Уступки</a:t>
            </a:r>
            <a:r>
              <a:rPr b="0" lang="en-US" sz="3200" spc="-1" strike="noStrike">
                <a:solidFill>
                  <a:srgbClr val="7d2317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улаживание</a:t>
            </a:r>
            <a:r>
              <a:rPr b="0" lang="en-US" sz="3200" spc="-1" strike="noStrike">
                <a:solidFill>
                  <a:srgbClr val="7d2317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быстрое разрешение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 настойчивый и готовый к сотрудничеств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енебрегает собственными интересами, чтобы удовлетворить интересы другой сторон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лемент самопожертв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спытывает дискомфорт при конфликтах, поэтому хватается за любой способ быстрого решения, который может най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достаток уверенности в умении урегулировать конфлик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Проблемы улаживающего подхода</a:t>
            </a:r>
            <a:r>
              <a:rPr b="0" lang="en-US" sz="3200" spc="-1" strike="noStrike">
                <a:solidFill>
                  <a:srgbClr val="7d2317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то не так в этом подход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ет иллюзию того, что проблемы, лежащие в основе конфликта, реше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тавляет вопросы невыясненными и неразрешенны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угубляет конфли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дет к недостатку уверенности в разрешении конфли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Компромисс, участие</a:t>
            </a:r>
            <a:r>
              <a:rPr b="0" lang="en-US" sz="3200" spc="-1" strike="noStrike">
                <a:solidFill>
                  <a:srgbClr val="7d2317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сделка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ремление прийти к соглашению, удовлетворяющему обе сторон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 конкурирующим и улаживающим подход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упает больше, чем конкурирующий, но меньше, чем улаживающ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стижение компромисса - разница попола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стрый поиск серед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Проблемы компромиссного подхода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7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то не так в этом подходе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редоточен на требованиях и пренебрегает потребностями, взглядам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нностями, целями и чувств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яет власть как способность одной стороны принудить другую сторону к чему-либо или добиться какой-либо уступ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редоточен на арифметике уступок, а не на относительной стоимости этих уступ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ще торговаться о цифрах, чем выяснять суть конфли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40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2317"/>
                </a:solidFill>
                <a:latin typeface="Times New Roman"/>
              </a:rPr>
              <a:t>Уклонение, уход</a:t>
            </a:r>
            <a:r>
              <a:rPr b="0" lang="en-US" sz="3200" spc="-1" strike="noStrike">
                <a:solidFill>
                  <a:srgbClr val="7d2317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7d2317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760" y="1141200"/>
            <a:ext cx="8454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 настойчивый и не желающий сотруднича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 пытается решить конфлик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клоняется от пробле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кладывает проблем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ступает при угрожающей ситу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читает, что конфликт исчезнет, если сделать вид, что его не существуе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738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бегает отношений с людьми, которые отличаются от не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 имеет уверенности в своей способности разрешить конфлик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умает, что у компетентных людей не бывает конфликт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ерит, что время лечит вс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3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сли проблему игнорировать, она рассосетс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12:49:53Z</dcterms:created>
  <dc:creator> </dc:creator>
  <dc:description/>
  <dc:language>en-US</dc:language>
  <cp:lastModifiedBy>ZooM</cp:lastModifiedBy>
  <dcterms:modified xsi:type="dcterms:W3CDTF">2013-12-10T23:31:40Z</dcterms:modified>
  <cp:revision>117</cp:revision>
  <dc:subject/>
  <dc:title>PowerPoint Presentation</dc:title>
</cp:coreProperties>
</file>