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98C-C533-4EDF-BF83-A65871D1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1E9-16BB-48E9-A8A3-4CBFDA2B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B1C-B561-477C-9CEE-2DCF02B5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39C-F10B-4E8E-88B0-B51CF001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86FE-AD1D-40BE-866A-2756F32B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43C9-1A58-418F-B262-FD38ED35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14B2-1852-411D-AD3F-8B408D94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77DB-AE0E-4C0F-841E-AF39737D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16F9-26BC-448A-92E7-920C229B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6640-48AD-4DA7-893E-8EC6E84B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F9D4-A0FE-4DB5-8030-39B03B1A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9FC-209F-4E37-8FB3-FAB5638E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FCC9-894C-4C88-8CBD-DFD151F7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DB26-C420-4B40-B860-85576D07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A326-CB29-4279-BE98-385CA147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9DA7-F766-4724-A5F7-BE4ED070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8664-0EA9-4BA1-90F0-0C6F23B8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8F1-1948-4F71-AE04-D8D51C81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326-11C1-4A88-B70A-12C2AFA3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F85-DB1A-4AB5-A087-522FCD92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DEB-5AB5-455C-B2A5-F9772E6A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513-27EB-4C6C-95DB-0078947C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788-67F0-4DDA-92A6-4BD5B5AF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B55-6CFB-47A1-B4DE-E804056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A103-FD74-4A9F-98E3-D4268B73F65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AF0F-C5C4-46BE-9182-59FA629D700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hyperlink" Target="http://images.yandex.ru/yandpage?&amp;q=993151686&amp;p=7&amp;ag=ih&amp;rpt=simage&amp;qs=text%3D%25C7%25C1%25CA%25CB%25C9%26stype%3Dimage" TargetMode="External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имметрия в технике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работа  ученика 10 класс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Белорусской средней школ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ыталовского райо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рощенко Александра Юрьевича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2016000" cy="19875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7308720" y="256536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588000" y="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Цель моего исследования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казать роль  симметрии в техник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казать, что симметрия целесообразна и полезна в техник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2017440" cy="1890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932360" y="4724280"/>
            <a:ext cx="3240000" cy="20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имметрия в технических объектах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Технические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объекты – самолёты,  автомашины, ракеты, молотки, гайки – практически все они от мала до велика обладают той или иной симметрией. Случайно ли это? В технике красота, соразмерность механизмов часто бывает связана с их надёжностью, устойчивостью в работ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5603760"/>
            <a:ext cx="1728720" cy="12542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942840" cy="863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7451640" y="3716280"/>
            <a:ext cx="13035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имметричная форма дирижабля, самолёта, подводной лодки, автомобиля и т.д. обеспечивает хорошую обтекаемость воздухом или водой, а значит, и минимальное сопротивление движению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376360" cy="1716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2320920" cy="17416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6948360" y="1844640"/>
            <a:ext cx="12398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а заре развития авиации наши знаменитые учёные Н. Е. Жуковский и С. А. Чаплыгин исследовали полёт птиц, чтобы сделать выводы относительно наивыгоднейшей формы крыла и условий его полёт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Большую роль в этом сыграла, конечно, симметри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3348000" y="40464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7740720" y="4149720"/>
            <a:ext cx="1168200" cy="8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755640" y="404640"/>
            <a:ext cx="70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Глядя на транспортные средства, я задал себе вопрос: Чем объясняется частое присутствие симметрии в технике? Изучив необходимую литературу, я понял, что симметрия, прежде всего, определяется целесообразностью. Никому не нужен кривой автомобиль или самолёт с крыльями разной длины. Кроме того симметричные объекты красивы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иды симметрии в технике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Осевая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Центральная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Поворотная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Зеркальная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296720" cy="9730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3564000" y="1844640"/>
            <a:ext cx="1519200" cy="8445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7020000" y="1052640"/>
            <a:ext cx="1590480" cy="1092240"/>
          </a:xfrm>
          <a:prstGeom prst="rect">
            <a:avLst/>
          </a:prstGeom>
          <a:ln w="0">
            <a:noFill/>
          </a:ln>
        </p:spPr>
      </p:pic>
      <p:pic>
        <p:nvPicPr>
          <p:cNvPr id="380" name="i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4724280"/>
            <a:ext cx="1806840" cy="1806840"/>
          </a:xfrm>
          <a:prstGeom prst="rect">
            <a:avLst/>
          </a:prstGeom>
          <a:ln w="0">
            <a:noFill/>
          </a:ln>
        </p:spPr>
      </p:pic>
      <p:pic>
        <p:nvPicPr>
          <p:cNvPr id="381" name="i" descr=""/>
          <p:cNvPicPr/>
          <p:nvPr/>
        </p:nvPicPr>
        <p:blipFill>
          <a:blip r:embed="rId6"/>
          <a:stretch/>
        </p:blipFill>
        <p:spPr>
          <a:xfrm>
            <a:off x="6516720" y="321300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Использованная литератур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Л. Тарасов «Этот удивительно симметричный мир»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ww. yandex. r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ллекция картинок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crosoft off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i" descr=""/>
          <p:cNvPicPr/>
          <p:nvPr/>
        </p:nvPicPr>
        <p:blipFill>
          <a:blip r:embed="rId1"/>
          <a:stretch/>
        </p:blipFill>
        <p:spPr>
          <a:xfrm>
            <a:off x="3635280" y="4508640"/>
            <a:ext cx="2808360" cy="21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7:54:36Z</dcterms:created>
  <dc:creator>пользователь5</dc:creator>
  <dc:description/>
  <dc:language>en-US</dc:language>
  <cp:lastModifiedBy>User</cp:lastModifiedBy>
  <dcterms:modified xsi:type="dcterms:W3CDTF">2008-07-02T08:14:16Z</dcterms:modified>
  <cp:revision>13</cp:revision>
  <dc:subject/>
  <dc:title>Симметрия в технике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3000000000001024140</vt:lpwstr>
  </property>
</Properties>
</file>