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735-8A82-40C5-8B83-980695B5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2E4-A249-424B-AF8F-B8A63540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4C5-C782-4F10-A5D6-474E558D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222-152D-4D6E-950A-1885927B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6300-0924-4F49-87B2-7BC8F888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A49B-6C1E-4B14-91A4-CEA823F6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3FAA-EA61-4490-905E-5EF0E32A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37A6-FD3E-420C-B646-D1A6D793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1D62-9901-4FA0-8CB7-677926B1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C6D9-1688-4F8E-B2EA-71C0660D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1C8E-6698-46EE-BE0F-1B91E9AD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849-3EDE-41DD-A15C-A9D3E57D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46B1-8223-455A-A77C-77721CE0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E034-BA99-4E30-A129-F72F0DBF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8DD6-33D3-4986-8D33-3098578D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D458-307E-46E8-9706-6AEFBBF7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9D83-754E-42D6-9747-6799AF1A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389-A005-4E29-A2B6-07C1B2F9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6E9-BDCE-415D-90DA-81524534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C95-511B-4851-9B69-E40F86B7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CFD-329B-420E-847A-F41000E8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9B1-D644-4F4D-83C3-4C3D9DE4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375-495E-4106-8767-2297AE6D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3B2-3D4F-4893-A03E-593027B8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1677-7DA1-44D8-AA3C-83EBAFB76C1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48D7-0E46-4205-B317-66AED5EA899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6.jpeg"/><Relationship Id="rId4" Type="http://schemas.openxmlformats.org/officeDocument/2006/relationships/hyperlink" Target="http://images.yandex.ru/yandpage?&amp;q=993151686&amp;p=7&amp;ag=ih&amp;rpt=simage&amp;qs=text%3D%25C7%25C1%25CA%25CB%25C9%26stype%3Dimage" TargetMode="External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имметрия в технике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работа  ученика 10 класс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Белорусской средней школ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ыталовского райо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Крощенко Александра Юрьевича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2016000" cy="19875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7308720" y="256536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588000" y="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Цель моего исследовани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казать роль  симметрии в техник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казать, что симметрия целесообразна и полезна в техник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2017440" cy="18907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932360" y="4724280"/>
            <a:ext cx="3240000" cy="20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имметрия в технических объектах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Технические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объекты – самолёты,  автомашины, ракеты, молотки, гайки – практически все они от мала до велика обладают той или иной симметрией. Случайно ли это? В технике красота, соразмерность механизмов часто бывает связана с их надёжностью, устойчивостью в работ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300720" y="5603760"/>
            <a:ext cx="1728720" cy="12542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7451640" y="3716280"/>
            <a:ext cx="13035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имметричная форма дирижабля, самолёта, подводной лодки, автомобиля и т.д. обеспечивает хорошую обтекаемость воздухом или водой, а значит, и минимальное сопротивление движению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376360" cy="17161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2320920" cy="17416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6948360" y="1844640"/>
            <a:ext cx="12398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а заре развития авиации наши знаменитые учёные Н. Е. Жуковский и С. А. Чаплыгин исследовали полёт птиц, чтобы сделать выводы относительно наивыгоднейшей формы крыла и условий его полёт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Большую роль в этом сыграла, конечно, симметрия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3348000" y="40464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7740720" y="4149720"/>
            <a:ext cx="1168200" cy="8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755640" y="404640"/>
            <a:ext cx="705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Глядя на транспортные средства, я задал себе вопрос: Чем объясняется частое присутствие симметрии в технике? Изучив необходимую литературу, я понял, что симметрия, прежде всего, определяется целесообразностью. Никому не нужен кривой автомобиль или самолёт с крыльями разной длины. Кроме того симметричные объекты красивы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иды симметрии в технике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Осевая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Центральная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Поворотная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Зеркальная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296720" cy="9730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3564000" y="1844640"/>
            <a:ext cx="1519200" cy="8445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7020000" y="1052640"/>
            <a:ext cx="1590480" cy="1092240"/>
          </a:xfrm>
          <a:prstGeom prst="rect">
            <a:avLst/>
          </a:prstGeom>
          <a:ln w="0">
            <a:noFill/>
          </a:ln>
        </p:spPr>
      </p:pic>
      <p:pic>
        <p:nvPicPr>
          <p:cNvPr id="380" name="i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4724280"/>
            <a:ext cx="1806840" cy="1806840"/>
          </a:xfrm>
          <a:prstGeom prst="rect">
            <a:avLst/>
          </a:prstGeom>
          <a:ln w="0">
            <a:noFill/>
          </a:ln>
        </p:spPr>
      </p:pic>
      <p:pic>
        <p:nvPicPr>
          <p:cNvPr id="381" name="i" descr=""/>
          <p:cNvPicPr/>
          <p:nvPr/>
        </p:nvPicPr>
        <p:blipFill>
          <a:blip r:embed="rId6"/>
          <a:stretch/>
        </p:blipFill>
        <p:spPr>
          <a:xfrm>
            <a:off x="6516720" y="321300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Использованная литератур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Л. Тарасов «Этот удивительно симметричный мир»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ww. yandex. ru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оллекция картинок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crosoft off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i" descr=""/>
          <p:cNvPicPr/>
          <p:nvPr/>
        </p:nvPicPr>
        <p:blipFill>
          <a:blip r:embed="rId1"/>
          <a:stretch/>
        </p:blipFill>
        <p:spPr>
          <a:xfrm>
            <a:off x="3635280" y="4508640"/>
            <a:ext cx="2808360" cy="21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7:54:36Z</dcterms:created>
  <dc:creator>пользователь5</dc:creator>
  <dc:description/>
  <dc:language>en-US</dc:language>
  <cp:lastModifiedBy>User</cp:lastModifiedBy>
  <dcterms:modified xsi:type="dcterms:W3CDTF">2008-07-02T08:14:16Z</dcterms:modified>
  <cp:revision>13</cp:revision>
  <dc:subject/>
  <dc:title>Симметрия в технике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3000000000001024140</vt:lpwstr>
  </property>
</Properties>
</file>