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642-68C2-4804-BC54-2464147E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DA7-9874-4B79-84DC-56B79536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37D-DE1E-467E-8BF8-37E38F70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15F-DB70-41AA-82D3-ED13AF1C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4C9E-05B7-4377-A732-477DCE79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0685-1B2A-4B25-B13D-84F7B40B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4B33-A8F9-48B3-BA35-DA450D49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E6C6-8A6C-48BB-8267-34C18F67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8099-01E7-4679-8CD4-2002B789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52D2-DA38-4B2A-9BEB-57418572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E0FE-4FBF-41C8-B27D-DB3BA00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A90-356D-4EF3-9EF4-448F5287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14AE-F0ED-4A70-90EC-40C5EFC8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AC0B-3F15-44C5-911F-0E49EBE2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BD59-CF83-4CF7-8E84-BAF0AB92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6AC0-7543-4154-B79B-686C94CF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881A-9820-41B8-BAC5-1A854C89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EAD-A013-4DCD-A57B-6FFB34B1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A50-22AB-4A51-81F9-7E43FFDA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30A-33EA-48EC-8528-CF3E28E8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63D-86B0-4B24-AAAC-1DFA3A1A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58A-A036-4EF5-832A-A1239FC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10D-34CD-4EB2-B8FD-3B77B51B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7C0-591C-4530-8F19-790F89BC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4498-96CC-4CE0-ADD4-0AEC47A1089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790C-376D-49AD-BA93-5382BB27319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31840" y="858960"/>
            <a:ext cx="9186840" cy="2712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-360" y="3499920"/>
            <a:ext cx="85726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х Николай Владимирович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х Н. 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639720" y="530280"/>
            <a:ext cx="8047080" cy="1481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83296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–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Готов прийти на помощь другим людя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Защищает девочк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Старается быть честным и храбры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1603440" y="609480"/>
            <a:ext cx="7083360" cy="154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71680" y="2071440"/>
            <a:ext cx="8115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9966"/>
                </a:solidFill>
                <a:latin typeface="Times New Roman"/>
              </a:rPr>
              <a:t>–</a:t>
            </a:r>
            <a:r>
              <a:rPr b="0" lang="ru-RU" sz="4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Держит данное себе и другим людям слов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– </a:t>
            </a: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Спасает дом от пожар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1603440" y="530280"/>
            <a:ext cx="7083360" cy="1481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115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Защищает мальчика Горьк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 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Спасает ко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 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Хранит память о дедуш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 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Рискует жизнью ради спасения других людей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00040" y="603360"/>
            <a:ext cx="8186760" cy="1481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14240" y="1785600"/>
            <a:ext cx="79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ff"/>
                </a:solidFill>
                <a:latin typeface="Times New Roman"/>
              </a:rPr>
              <a:t>Спасает от гибели маленьких мальчишек, рискует своей жизнь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0080" y="609480"/>
            <a:ext cx="7686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85d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785520"/>
            <a:ext cx="8115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66"/>
                </a:solidFill>
                <a:latin typeface="Times New Roman"/>
              </a:rPr>
              <a:t>Гипотеза подтвердилась: героев произведений В. П. Крапивина можно назвать рыцарям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Выяснить, можно ли назвать рыцарями героев произведений  В.П. Крапивина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яснить, кто такие рыцари, какими качествами должен обладать современный рыцар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учить биографию В. П. Крапиви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анализировать избранные произведения Крапиви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яснить, можно ли героев произведений Крапивина назвать рыцаря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ff3399"/>
                </a:solidFill>
                <a:latin typeface="Times New Roman"/>
              </a:rPr>
              <a:t>Героев произведений  В. П. Крапивина можно назвать рыцаря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imes New Roman"/>
              </a:rPr>
              <a:t>Объект исследования – произведения В. П. Крапив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imes New Roman"/>
              </a:rPr>
              <a:t>Предмет исследования – свойства характеров героев произведений В. П. Крапив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Чтение текст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Анализ текст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1603440" y="176040"/>
            <a:ext cx="7083360" cy="1481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115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Будь честен и всегда говори правд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Помогай тем, кто в бед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Будь всегда храб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Смиренно терпи невзг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Не болтай попусту и не хвастайс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85d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508120"/>
            <a:ext cx="86868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Times New Roman"/>
              </a:rPr>
              <a:t>В. П. Крапиви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85840" y="204840"/>
            <a:ext cx="442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712800" y="480960"/>
            <a:ext cx="8040600" cy="1251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14240" y="1500120"/>
            <a:ext cx="7972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Сказки Севки Глущенко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Болтик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Журавлёнок и молнии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Трое с площади Карронад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13:56Z</dcterms:created>
  <dc:creator>Grey Wolf</dc:creator>
  <dc:description/>
  <dc:language>en-US</dc:language>
  <cp:lastModifiedBy>Пользователь</cp:lastModifiedBy>
  <dcterms:modified xsi:type="dcterms:W3CDTF">2013-07-24T09:17:29Z</dcterms:modified>
  <cp:revision>11</cp:revision>
  <dc:subject/>
  <dc:title>Даже если ты кузнечик, у тебя должна быть шпага!» (По произведениям В. П. Крапивина)</dc:title>
</cp:coreProperties>
</file>