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131-1D18-4E83-AD20-DE4A9FC0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2664-7EF1-4B7F-BBAD-9B42135D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BFBD-24A6-40A4-A26A-B25CAFFE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3BCC-2056-4038-B0DA-576B7AA0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071A-B8EF-4C80-8018-C535D3DC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9FB7-4540-4B8C-B649-7DABEE9A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4D19-5621-474A-8483-08D2E0EF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0131-233F-4FC4-AFD9-B67B33CD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DB0E-1979-4599-ABE1-899640F0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0508-B1DF-4638-AEC2-CA72372D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C790-8FB4-4187-BA36-3D84F93A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2A9-DFDA-452A-9E37-E6B7012F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7D34-C5B2-4F78-846F-C62027B1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F257-246F-47D5-AF99-80FCFCF5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F3AA-2DB6-4760-A21E-DC783E22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2183-F42C-4157-83B6-C4C60676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8FD0-07B9-4D3A-9911-68B539FC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2296-143B-421D-99BB-8679A8B0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46E-DA3A-4695-8E20-9FF536EC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E904-BABA-4397-A44D-16E3DDD4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6AB4-06B4-40C5-844D-67B81CAF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DB9-56A0-48D2-820D-A2F60CB5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862-D2CD-4432-90D2-ACACA85D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D51-247E-44BC-AC99-8C3CD125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2CC7-6E53-445B-959C-6AB06A75C5F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9293-48FF-4C86-B935-2F0BC0C93E5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31840" y="858960"/>
            <a:ext cx="9186840" cy="2712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-360" y="3499920"/>
            <a:ext cx="85726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тор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х Николай Владимирович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 кла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ководитель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х Н. 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639720" y="530280"/>
            <a:ext cx="8047080" cy="14810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57120" y="1714320"/>
            <a:ext cx="83296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2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99ff66"/>
                </a:solidFill>
                <a:latin typeface="Times New Roman"/>
              </a:rPr>
              <a:t>– </a:t>
            </a:r>
            <a:r>
              <a:rPr b="1" lang="ru-RU" sz="4400" spc="-1" strike="noStrike">
                <a:solidFill>
                  <a:srgbClr val="99ff66"/>
                </a:solidFill>
                <a:latin typeface="Times New Roman"/>
              </a:rPr>
              <a:t>Готов прийти на помощь другим людя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2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66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99ff66"/>
                </a:solidFill>
                <a:latin typeface="Times New Roman"/>
              </a:rPr>
              <a:t>Защищает девочк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2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66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99ff66"/>
                </a:solidFill>
                <a:latin typeface="Times New Roman"/>
              </a:rPr>
              <a:t>Старается быть честным и храбры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2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1603440" y="609480"/>
            <a:ext cx="7083360" cy="154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71680" y="2071440"/>
            <a:ext cx="8115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66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9966"/>
                </a:solidFill>
                <a:latin typeface="Times New Roman"/>
              </a:rPr>
              <a:t>–</a:t>
            </a:r>
            <a:r>
              <a:rPr b="0" lang="ru-RU" sz="4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9966"/>
                </a:solidFill>
                <a:latin typeface="Times New Roman"/>
              </a:rPr>
              <a:t>Держит данное себе и другим людям слово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66"/>
                </a:solidFill>
                <a:latin typeface="Times New Roman"/>
              </a:rPr>
              <a:t>– </a:t>
            </a:r>
            <a:r>
              <a:rPr b="1" lang="ru-RU" sz="4800" spc="-1" strike="noStrike">
                <a:solidFill>
                  <a:srgbClr val="ff9966"/>
                </a:solidFill>
                <a:latin typeface="Times New Roman"/>
              </a:rPr>
              <a:t>Спасает дом от пожар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1603440" y="530280"/>
            <a:ext cx="7083360" cy="1481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8115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0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–  </a:t>
            </a: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Защищает мальчика Горьк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0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 –  </a:t>
            </a: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Спасает ко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0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 –  </a:t>
            </a: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Хранит память о дедушк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0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 –  </a:t>
            </a: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Рискует жизнью ради спасения других людей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500040" y="603360"/>
            <a:ext cx="8186760" cy="14810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14240" y="1785600"/>
            <a:ext cx="79725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ff"/>
                </a:solidFill>
                <a:latin typeface="Times New Roman"/>
              </a:rPr>
              <a:t>Спасает от гибели маленьких мальчишек, рискует своей жизнью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0080" y="609480"/>
            <a:ext cx="7686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4f85d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785520"/>
            <a:ext cx="8115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66"/>
                </a:solidFill>
                <a:latin typeface="Times New Roman"/>
              </a:rPr>
              <a:t>Гипотеза подтвердилась: героев произведений В. П. Крапивина можно назвать рыцарями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Выяснить, можно ли назвать рыцарями героев произведений  В.П. Крапивина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яснить, кто такие рыцари, какими качествами должен обладать современный рыцарь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учить биографию В. П. Крапивин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анализировать избранные произведения Крапивин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яснить, можно ли героев произведений Крапивина назвать рыцаря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5400" spc="-1" strike="noStrike">
                <a:solidFill>
                  <a:srgbClr val="ff3399"/>
                </a:solidFill>
                <a:latin typeface="Times New Roman"/>
              </a:rPr>
              <a:t>Героев произведений  В. П. Крапивина можно назвать рыцарям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571680"/>
            <a:ext cx="822960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1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Times New Roman"/>
              </a:rPr>
              <a:t>Объект исследования – произведения В. П. Крапивин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1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Times New Roman"/>
              </a:rPr>
              <a:t>Предмет исследования – свойства характеров героев произведений В. П. Крапивин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Times New Roman"/>
              </a:rPr>
              <a:t>Чтение текст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Times New Roman"/>
              </a:rPr>
              <a:t>Анализ текст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1603440" y="176040"/>
            <a:ext cx="7083360" cy="1481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8115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98240" indent="-429480">
              <a:spcBef>
                <a:spcPts val="10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Будь честен и всегда говори правд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429480">
              <a:spcBef>
                <a:spcPts val="10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Помогай тем, кто в бед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429480">
              <a:spcBef>
                <a:spcPts val="10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Будь всегда храб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429480">
              <a:spcBef>
                <a:spcPts val="10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Смиренно терпи невзго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429480">
              <a:spcBef>
                <a:spcPts val="10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Не болтай попусту и не хвастайс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680" y="609480"/>
            <a:ext cx="81151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4f85d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2508120"/>
            <a:ext cx="8686800" cy="37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Times New Roman"/>
              </a:rPr>
              <a:t>В. П. Крапиви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85840" y="204840"/>
            <a:ext cx="4429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712800" y="480960"/>
            <a:ext cx="8040600" cy="1251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14240" y="1500120"/>
            <a:ext cx="79725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4880" indent="-452520">
              <a:spcBef>
                <a:spcPts val="11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«Сказки Севки Глущенко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24880" indent="-452520">
              <a:spcBef>
                <a:spcPts val="11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«Болтик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24880" indent="-452520">
              <a:spcBef>
                <a:spcPts val="11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«Журавлёнок и молнии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24880" indent="-452520">
              <a:spcBef>
                <a:spcPts val="11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«Трое с площади Карронад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4:13:56Z</dcterms:created>
  <dc:creator>Grey Wolf</dc:creator>
  <dc:description/>
  <dc:language>en-US</dc:language>
  <cp:lastModifiedBy>Пользователь</cp:lastModifiedBy>
  <dcterms:modified xsi:type="dcterms:W3CDTF">2013-07-24T09:17:29Z</dcterms:modified>
  <cp:revision>11</cp:revision>
  <dc:subject/>
  <dc:title>Даже если ты кузнечик, у тебя должна быть шпага!» (По произведениям В. П. Крапивина)</dc:title>
</cp:coreProperties>
</file>