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25C-FFA0-41E0-9F04-F497FFFF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923-BB09-4C93-BEC8-D9874B0D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10F-652B-497A-A58C-3C9C9F2C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68B-895D-4839-9217-9F72B624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A98-07B5-4F6E-A449-A7598C88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8F44-5ACC-47E3-9EEB-34EECBD4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FDE0-C32C-4FE3-BB9F-38DB8E33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E02D-E8A2-4E5C-B522-06F6B218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88B0-215D-4C8A-AF16-E2A37951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DA87-185C-406B-80DB-50EFCF61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74F2-B672-43B3-A9CE-153B4FBF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3E2-649E-49E2-A595-45049080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677A-6B3F-4477-8BDB-6CAA1D62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F353-6244-49D7-9085-3B7A4997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BF0F-C135-4524-9417-995625C4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DA97-9924-4AFF-BBA8-D8E70A72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8189-D28A-4CCB-9ED1-58CF37AF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488-0221-4016-8FB0-34CBDD5D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238-F0D6-4B96-A823-670DAF89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1D0-53E4-44EC-8248-681253FD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6A6-D0FB-46AF-8D86-9BA37FE1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504-98B1-4D18-B047-F80846D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649E-61CA-48B1-BA91-A1DCCC2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972-C816-416F-85E4-7B02E45F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2132-F888-4563-A6F3-B8D82EECF14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BFDB-6944-4D1F-A002-55039CB37AC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31840" y="858960"/>
            <a:ext cx="9186840" cy="2712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-360" y="3499920"/>
            <a:ext cx="85726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х Николай Владимирович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х Н. 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639720" y="530280"/>
            <a:ext cx="8047080" cy="1481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57120" y="1714320"/>
            <a:ext cx="83296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–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Готов прийти на помощь другим людя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Защищает девочк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Старается быть честным и храбры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2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1603440" y="609480"/>
            <a:ext cx="7083360" cy="154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71680" y="2071440"/>
            <a:ext cx="8115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9966"/>
                </a:solidFill>
                <a:latin typeface="Times New Roman"/>
              </a:rPr>
              <a:t>–</a:t>
            </a:r>
            <a:r>
              <a:rPr b="0" lang="ru-RU" sz="4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Держит данное себе и другим людям слов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– </a:t>
            </a: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Спасает дом от пожар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1603440" y="530280"/>
            <a:ext cx="7083360" cy="1481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115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Защищает мальчика Горьк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 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Спасает ко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 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Хранит память о дедуш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70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 –  </a:t>
            </a:r>
            <a:r>
              <a:rPr b="1" lang="ru-RU" sz="4400" spc="-1" strike="noStrike">
                <a:solidFill>
                  <a:srgbClr val="ff9966"/>
                </a:solidFill>
                <a:latin typeface="Times New Roman"/>
              </a:rPr>
              <a:t>Рискует жизнью ради спасения других людей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00040" y="603360"/>
            <a:ext cx="8186760" cy="1481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14240" y="1785600"/>
            <a:ext cx="79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ff"/>
                </a:solidFill>
                <a:latin typeface="Times New Roman"/>
              </a:rPr>
              <a:t>Спасает от гибели маленьких мальчишек, рискует своей жизнью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0080" y="609480"/>
            <a:ext cx="7686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85d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785520"/>
            <a:ext cx="8115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66"/>
                </a:solidFill>
                <a:latin typeface="Times New Roman"/>
              </a:rPr>
              <a:t>Гипотеза подтвердилась: героев произведений В. П. Крапивина можно назвать рыцарям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Выяснить, можно ли назвать рыцарями героев произведений  В.П. Крапивина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яснить, кто такие рыцари, какими качествами должен обладать современный рыцар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учить биографию В. П. Крапиви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анализировать избранные произведения Крапивин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яснить, можно ли героев произведений Крапивина назвать рыцаря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5400" spc="-1" strike="noStrike">
                <a:solidFill>
                  <a:srgbClr val="ff3399"/>
                </a:solidFill>
                <a:latin typeface="Times New Roman"/>
              </a:rPr>
              <a:t>Героев произведений  В. П. Крапивина можно назвать рыцаря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571680"/>
            <a:ext cx="82296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imes New Roman"/>
              </a:rPr>
              <a:t>Объект исследования – произведения В. П. Крапив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imes New Roman"/>
              </a:rPr>
              <a:t>Предмет исследования – свойства характеров героев произведений В. П. Крапив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Чтение текст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Анализ текст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1603440" y="176040"/>
            <a:ext cx="7083360" cy="1481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8115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Будь честен и всегда говори правд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Помогай тем, кто в бед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Будь всегда храб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Смиренно терпи невзг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429480">
              <a:spcBef>
                <a:spcPts val="1001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Не болтай попусту и не хвастайс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f85d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2508120"/>
            <a:ext cx="86868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Times New Roman"/>
              </a:rPr>
              <a:t>В. П. Крапиви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85840" y="204840"/>
            <a:ext cx="4429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712800" y="480960"/>
            <a:ext cx="8040600" cy="1251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14240" y="1500120"/>
            <a:ext cx="7972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Сказки Севки Глущенко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Болтик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Журавлёнок и молнии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452520">
              <a:spcBef>
                <a:spcPts val="119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Трое с площади Карронад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13:56Z</dcterms:created>
  <dc:creator>Grey Wolf</dc:creator>
  <dc:description/>
  <dc:language>en-US</dc:language>
  <cp:lastModifiedBy>Пользователь</cp:lastModifiedBy>
  <dcterms:modified xsi:type="dcterms:W3CDTF">2013-07-24T09:17:29Z</dcterms:modified>
  <cp:revision>11</cp:revision>
  <dc:subject/>
  <dc:title>Даже если ты кузнечик, у тебя должна быть шпага!» (По произведениям В. П. Крапивина)</dc:title>
</cp:coreProperties>
</file>