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D7A-2BAE-48E3-BC0E-25787B12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838-66FD-4BFB-94F6-3D2DDE8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1B2E3-4BF4-4FA5-932C-A888DE1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8B7A-8E7F-4DF0-9559-5B5B5088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B2C2F-3E14-46AC-9CDA-E0F74DBF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F763-BAF6-4830-8905-F862A55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E37E7-D1E8-458D-9278-8E460F4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4222C-BFBC-439F-8253-0276AC4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328E-78F1-4612-893B-A8C9F59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4B48D-8F3B-40F1-B3E8-287DB6A7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EEC0-1706-4C5B-AD0E-9A0283C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9DE10-5F04-4270-B0D6-1585B1CF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A1A-9ABC-4BD8-8E22-D4B4507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F8E8E-4F1A-4ADB-A7CF-3CF8DEE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2E158-7FC3-410F-BF5B-C29025C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18CB7-2613-475A-9998-B859B9C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F54C6-E1E1-4BC8-BA28-5E0AB95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847A-E5D9-4F6D-945C-054EB80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2D8CE-2329-4DE7-8C90-4BA5258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9C07E-CD9C-4C58-8E66-DC7278E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8BB5-A3B3-46BE-BBE6-CEFDEF7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52E37-6CCA-427A-A386-714AA0D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E4740-ACC3-4196-A070-7664E34D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9AF-9312-4275-8277-647690D1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16052-EF5D-48C0-8C78-CB63006C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73A5-9A12-4A15-BEAE-7881E880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CEFB3-DD71-4EA7-AC9A-2F9BAEA4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9ADB-49DD-41E5-A4C8-7FF6BE7A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3D89A-2596-4D36-AA72-1693B74A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73103-61AC-4E25-8BBA-A1CE463C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F5A63-AF85-40FF-B255-C6A3DC4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D58D-8B45-4B47-9B86-15820BB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92728-6ADA-4FDA-9134-D2A7015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B1DE6-7849-4B54-B936-55253E0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96E1-47C9-4654-B6F4-317863E3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D28D-6134-4168-AF55-12E7F65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FF67-0785-48BC-80EC-08A645D8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5FDD5-FF5E-4AD6-B0CD-2835DB19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98087-9334-49D5-BA46-B50A50D3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A25A4-B808-48F4-898F-ADD69A02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7836-940C-4277-8BD1-C157D2CD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2ACB0-E88E-4331-93EF-CF6F566D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36639-DB1F-4ACE-B8BE-B037B6B7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CCE19-B8B9-4BC0-9862-265C939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094D1-F547-4AA6-9E33-5E42534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A07-E409-47FE-A189-9846BCFF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6D99F-613A-417A-8119-77C5D2A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04B31-92D6-4EC3-BA1F-0BC97F7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C254D-9322-4B3F-BBAD-489922E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04D11-A113-4158-BE37-B67EF243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B73C1-223D-4B1A-AC41-4F9CADB1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7D527-B635-4425-A10B-ECD19244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25CB9-1487-4F89-99FE-6225D7B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A7803-4D86-44B4-9028-955B9CF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7A44A-A4CC-4195-AF34-375D234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974E2-98F4-4561-AFFB-C3641882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BAC0-E6DA-429D-945A-8EB1193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A69F3-B1E3-4FD6-86DB-C2FACF06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8D9A1-FEE8-49BD-BB60-BAF16F7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17B25-7F78-445E-882B-C687101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AF33E-ACED-4D6F-84D5-7D707F20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8C809-9745-42AE-B06E-823D814B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9CD38-CC8F-49C9-90FC-38D66EF7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911A0-5C4E-4F69-A268-ACC024B9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3DE7D-CF2E-4D90-A66F-C3AF8532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6B50B-E07B-4EE2-B9E1-77BC8577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C73CE-018C-4ACA-80CB-06F51BFB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BD3-C360-4B23-9717-493EDBF1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B7730-2766-4CDF-8E59-4ED87012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7C1A2-48AC-485B-B1C5-8E1D2FFB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7D559-5019-4668-9F14-4741CA7B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2BC03-C7B4-4098-8DFD-2F8681F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DF26B-A4B5-426F-8746-BD07732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3DB06-72AA-40BB-85C3-8B84B3B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9881D-DF0C-44CA-8EF9-F2AC253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BCD90-FDD8-4863-A22E-CE13CD61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B3ABB-B716-4C9F-9349-99F00DA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5A408-A1E1-440F-824A-D61E6ABF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310-ED0E-429F-8823-B2F0454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7551C-D1A6-412A-B4A1-FB19418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28209-8893-4F39-B565-859B329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8A74A-B259-45EE-8CBF-61AA2629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A1B7E-0501-4E2D-B8D3-42B6A96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65524-64C2-4EE5-B7AC-B68EE74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5943F-33F0-4FCF-B762-5E28688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7B93C-04DA-4987-BEA3-14B2518F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6B2A9-CE26-4DEC-B17D-50BF357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ED3C2-5752-4381-9292-31DDCC4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54F1D-42AB-4E93-A1FB-8AC238CA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C2AB-22AA-4739-9B22-6ADA473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C4BE8-5FA4-4361-B16B-1CB2F258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B1C2B-4384-49A7-9F9F-2BD1E64E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7ABB3-261F-443F-BF55-8630D629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6C42E-8359-44C7-A4C4-1D7EC68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3075F-6E43-48F2-BB27-64440CB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B8E97-829E-4322-8639-CCA8F3F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5AADE-13D4-4079-A05A-7C43E4A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C8E88-B695-418A-8DBE-23AC748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61C30-E319-4F64-A4B4-C749582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35D48-75DC-473F-8C2D-7AD47C6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28F-A5DD-4CA0-BF50-027F64E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1D8EF-792C-4232-89F4-6DC579F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1B96F-5817-4D03-8B76-400DFEEB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6639F-85F6-43B2-9E56-799B7078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CF9B5-0D68-43A4-A3E2-87566738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62619-97DD-4F07-BBE4-A593523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29395-98EB-47F5-933A-6616EB02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F49E2-F361-403D-BB50-9EF0203C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25476-5605-417B-9D6E-ABCB4CEB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C1D63-463D-4E29-9B0E-E80C99B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4CE19-DB1A-4D1F-BD7F-9B9EFED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65-4736-4AD2-B4AB-B82620F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8AC-4663-496B-94DB-0C1E10D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5CBF3-1B2B-46EE-8558-65FFEBD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8EDF7-0D1E-4ACE-8769-F2DAB1E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EC150-4D00-4999-83EF-07D0972A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1174C-75D0-49AC-8116-CA56CAED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48A11-7466-43F9-8A30-E79B122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C7A-62CA-4637-9CFA-3C2C1F1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2BC-7782-476D-9AE5-358F92F3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ABAC-A8F6-4449-A9A0-15755F31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076-B8B0-4019-9B20-7B94479B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F971-0363-4BD8-AE87-D4DBDBFE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7025-7260-4A88-A9E1-C0E012D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82F4-1A59-4183-8479-C531690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1F98-35B3-4ABB-BDE7-BC7EA758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ADEA-C972-4789-8B6A-8C42505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A13-2F22-4293-ABDC-E6A1E96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BED6-6ABD-4909-8095-E223E78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2E16-495E-4D27-A710-FEE44EF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7EBE-3CE6-453C-8C2C-64E6EA5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74C2-F0A9-463F-87FC-37D7DBC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138F-FCE7-4A53-9463-C5EC8020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8148-BACF-45B5-A126-1F9E8CB7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766E-1F6A-4D42-AF23-640D4F46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6320-9828-4E10-894A-24291CE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54ED-7B18-4543-8173-8836115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897E-81B8-401E-8CFA-6A8C78EF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25D-E45D-42D3-956E-AF0E024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4DCC-1A08-4BDE-B71D-90EF2C18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5398-CD64-4B67-9260-7D18BEEE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6B5A-AB18-4624-B213-E963B52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66BB-42CD-466F-B78D-467DCFD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4D54-2F8C-44F5-A06E-B05CCC0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BDA4-59C8-4F68-B971-9825245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B6BE-E166-450A-8F62-3A1E76E9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841C-DE97-44BE-B63B-D89C9AD5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287A3-4EA2-4F33-B53D-3823D88A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2303-7CB0-4886-A45A-E7D32401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49A-C8A2-4049-BF3D-4118B3D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0DD1-DC5F-41B3-9388-4EF5EF2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FA91-04E6-4560-87F0-78C0375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0AF4-8F5B-41F7-9579-200E545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72C3-B5C1-41FA-9F9E-DB230C3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18FC-8A88-4D78-A5EA-97059698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46E3-4A41-424D-BB14-194CC43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2723-2E05-4F46-86BC-79F51DD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59CB-8CCA-431D-9A1A-343229F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0483-B5E1-4B87-805B-F7C5379F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5ADD-9062-478F-9D6B-42D567F2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C35-374F-4192-8915-333EDA7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5A9B-1331-4977-88EE-ED4E211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33050-EE88-45FF-A5F8-C87406E9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4416-53C0-4136-9045-4764911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4EFC-BC7E-456C-8850-80699362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56CD-9050-41C3-9A8E-E7026998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CDFC-8C4F-46EF-8C88-F301916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E967-626D-4231-923D-F278A9D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4AD5-EB38-4188-827A-4B9E6CB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9081-7011-4739-986E-04C00E82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FF19-C17E-421F-B5EE-29163A6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36B-CB97-4CE1-8F58-E64687D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3927-2249-4804-8A9E-6E7CEA7D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0D1A-07F0-4E46-888C-931AF0F7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B44E-4C1A-4EF3-AF61-2352CC9E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46CD-7073-4341-A768-7B265062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FF29-CB6A-4F9C-8318-AD22537E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4DB2-580B-400F-993F-A96E8D0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1DEF-6B79-45CE-8C87-CF73D88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02B7-FFF2-4933-81AF-3C949FD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D135-AD21-45B4-856E-439954A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E58D-F945-4BCD-B814-DDB4F222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641-470B-48BF-B136-F01609AC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7F31-8F32-49B3-8CB5-0675640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976E7-4AF2-4461-AC65-DC518714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42A5-51A7-40AD-8861-7B6B783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D54D-912A-4A6C-BEC3-7905A47C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AF59-2AD3-4AC3-AD34-F4EDF743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827E-2510-4E24-86DF-68E06DB0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C627-4266-4C94-BD7E-5FFC7E4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CA09-D700-4CE9-B528-A13BB08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CD26-670A-49AD-A6E6-75E09C1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A5FEB-C2FC-4867-BA64-B7CD00D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E1E-D618-4D24-94BC-5416263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0BAE8-25EA-4CF6-A8A1-CCB28E55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B5A1-0FBD-4C5D-B236-05DD224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429C-DD81-44F9-BAF7-8DC4627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DC7F-61DE-4FA7-80A3-C099437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EC61-CC0C-4E99-8756-9209492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04FA3-0913-4687-B455-AFF6FFC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A871F-592D-4349-B0C2-F90BF29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9CAE-7ABB-4D1F-AFA6-E3E61E8B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520F0-2A71-43BA-BFC3-8381DBA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83EA-EDDF-42DD-B083-A15C5A3E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3861-F6AD-4C0B-92F3-F9C6EDE5D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15A-D8A8-4B5A-ADA1-C1C4D407F8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7CE-C1F9-4B05-BA61-9B52E00EA5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957-85D7-4945-B1C3-5D7526736C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2630-A212-435B-8632-A443C5A25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CD5-D79B-4E95-AACA-AEC589D11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F31-805F-4CAE-8B51-68631D500A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384-B7F3-4190-970C-BAB1EAE835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A1D-7406-43D6-A42C-E9D3BE31D4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0EE-A0D1-497E-BC3C-1A1DBA938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265-CEED-455D-908A-0190182CA1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0189-03E4-484F-8DCB-2A5F403CC6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E3E-AB36-46FC-B9AF-D120235311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F183-23F0-4E32-A7BA-73C138F51E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777-A2E2-401F-AB02-9B4A97F55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D8F-FC72-43C3-9911-51F56E4AC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5D4F-F529-42B2-A9B5-68DE96E44A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3" descr="лечение открытого пневмотаракса"/>
          <p:cNvPicPr/>
          <p:nvPr/>
        </p:nvPicPr>
        <p:blipFill>
          <a:blip r:embed="rId1"/>
          <a:srcRect l="-1322" t="19988" r="0" b="31670"/>
          <a:stretch/>
        </p:blipFill>
        <p:spPr>
          <a:xfrm>
            <a:off x="611280" y="1349280"/>
            <a:ext cx="7850160" cy="550872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проникающей или открытой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Box 5"/>
          <p:cNvSpPr/>
          <p:nvPr/>
        </p:nvSpPr>
        <p:spPr>
          <a:xfrm>
            <a:off x="285840" y="3643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21420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д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проникающая или за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ножественных переломах ребер жизненная ёмкость легких уменьшается за счет уменьшения подвижности грудной клетки и лег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сутствии нарушения каркаса грудной клетки могут отмечаться признаки повреждения внутренних органов    (скопление воздуха и/или  крови в плевральной пол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нестабильная грудная клетка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3992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множественных переломах реб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мощь при множественных переломах костей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е повреждения наклеить полоски лейкопл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3" descr="нестабильная грудная клетка"/>
          <p:cNvPicPr/>
          <p:nvPr/>
        </p:nvPicPr>
        <p:blipFill>
          <a:blip r:embed="rId1"/>
          <a:srcRect l="2634" t="7999" r="34235" b="1328"/>
          <a:stretch/>
        </p:blipFill>
        <p:spPr>
          <a:xfrm>
            <a:off x="3995640" y="1484280"/>
            <a:ext cx="5148360" cy="513576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1"/>
          <p:cNvSpPr/>
          <p:nvPr/>
        </p:nvSpPr>
        <p:spPr>
          <a:xfrm rot="2034000">
            <a:off x="4787640" y="321264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 rot="2034000">
            <a:off x="4716000" y="357300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 rot="2034000">
            <a:off x="4642920" y="393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 rot="2034000">
            <a:off x="4572000" y="443664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 rot="2034000">
            <a:off x="4571640" y="4941360"/>
            <a:ext cx="1440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19"/>
          <p:cNvSpPr/>
          <p:nvPr/>
        </p:nvSpPr>
        <p:spPr>
          <a:xfrm rot="19806600">
            <a:off x="4642920" y="3573360"/>
            <a:ext cx="151308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20"/>
          <p:cNvSpPr/>
          <p:nvPr/>
        </p:nvSpPr>
        <p:spPr>
          <a:xfrm rot="19804200">
            <a:off x="4571640" y="4076280"/>
            <a:ext cx="151272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21"/>
          <p:cNvSpPr/>
          <p:nvPr/>
        </p:nvSpPr>
        <p:spPr>
          <a:xfrm rot="19951800">
            <a:off x="4500360" y="458136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2"/>
          <p:cNvSpPr/>
          <p:nvPr/>
        </p:nvSpPr>
        <p:spPr>
          <a:xfrm rot="20101800">
            <a:off x="4572000" y="494172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 rot="19806600">
            <a:off x="4571640" y="3213000"/>
            <a:ext cx="151272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вая помощь при травме гру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вать скорую медицинск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ыть рану стерильной ватно-марлевой повязкой не закрепляя нижний к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рана отсутствует – лейкопластырную повязку на болезненн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ложить на повреждённый бок с возвышенной верхней частью тулов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допускать переохлаждения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ыть готовым к сердечно-легочной реани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08000" y="1557360"/>
            <a:ext cx="5759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ТП травма груди возникает, как прави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рямого механического воздействия на грудную клетку, приводящего к переломам рёб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органы травмируются костными отломками или распространяющейся кинетической энергией уд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 7" descr="DPP_1577"/>
          <p:cNvPicPr/>
          <p:nvPr/>
        </p:nvPicPr>
        <p:blipFill>
          <a:blip r:embed="rId1"/>
          <a:stretch/>
        </p:blipFill>
        <p:spPr>
          <a:xfrm>
            <a:off x="5651640" y="22050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 ДТ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95280" y="213372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я чаще возник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грудной клеткой о  рулевое коле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даре пассажиров, если они не пристегнуты ремнями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толкновении  транспортных средств на большой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аезде на пеше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реждения о рулевое коле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6" descr="тело об рулевое колесо"/>
          <p:cNvPicPr/>
          <p:nvPr/>
        </p:nvPicPr>
        <p:blipFill>
          <a:blip r:embed="rId1"/>
          <a:srcRect l="26101" t="33751" r="25403" b="34878"/>
          <a:stretch/>
        </p:blipFill>
        <p:spPr>
          <a:xfrm>
            <a:off x="4643280" y="1773360"/>
            <a:ext cx="4105440" cy="43210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7" descr="ударился о руль"/>
          <p:cNvPicPr/>
          <p:nvPr/>
        </p:nvPicPr>
        <p:blipFill>
          <a:blip r:embed="rId2"/>
          <a:stretch/>
        </p:blipFill>
        <p:spPr>
          <a:xfrm>
            <a:off x="395280" y="1773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786" name="Заголовок 1"/>
          <p:cNvSpPr/>
          <p:nvPr/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240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равме грудной клетк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ается  целостность костного каркаса (переломы ребер, грудины)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режда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органы (легкие, сердц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оносные пути и кровеносные сосу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мышцы (диафраг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Заголовок 1"/>
          <p:cNvSpPr/>
          <p:nvPr/>
        </p:nvSpPr>
        <p:spPr>
          <a:xfrm>
            <a:off x="428760" y="3571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900000" y="522936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ые  признаки травмы грудной клетки – боль и дыхательная недостато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дыхательной недостаточ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ение сидя или полуси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ное, частое, прерывистое, поверхностное 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юшный цвет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4" descr="Изображение 400"/>
          <p:cNvPicPr/>
          <p:nvPr/>
        </p:nvPicPr>
        <p:blipFill>
          <a:blip r:embed="rId1"/>
          <a:stretch/>
        </p:blipFill>
        <p:spPr>
          <a:xfrm>
            <a:off x="5292720" y="1628640"/>
            <a:ext cx="35272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28760" y="164268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имеется сообщение через рану между органами грудной клетки и окружающей ср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никающая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отсутствуют проникающие ранения в области грудной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у пострадавших в ДТП отмечается закрытая травма грудной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Заголовок 1"/>
          <p:cNvSpPr/>
          <p:nvPr/>
        </p:nvSpPr>
        <p:spPr>
          <a:xfrm>
            <a:off x="428760" y="35712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раны в области грудной кл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ыхании через рану может циркулировать воздух (на выдохе появляется кровавая п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целостности плевральной полости приводит к скоплению в ней воздуха и спадению легкого на стороне повреждения, что уменьшает количество поступающего кислорода в организм пострад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ние воздуха в плевральную полость называется пневмоторак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3" descr="открытый пневмоторакс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1688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никающая или открытая травма грудн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98764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3564000" y="213372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596360" y="206064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948360" y="1557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4:39:55Z</dcterms:created>
  <dc:creator>User</dc:creator>
  <dc:description/>
  <dc:language>en-US</dc:language>
  <cp:lastModifiedBy>COMP</cp:lastModifiedBy>
  <dcterms:modified xsi:type="dcterms:W3CDTF">2011-11-24T18:22:21Z</dcterms:modified>
  <cp:revision>173</cp:revision>
  <dc:subject/>
  <dc:title>Дорожно-транспортные проишествия</dc:title>
</cp:coreProperties>
</file>