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823-52A2-4C92-8C6E-6E6019CA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27F-8179-42FF-B208-658AE66B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8B084-38D6-4228-8320-3A568EA7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87252-128A-4B5D-92EF-0D677E31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67AE0-1542-4DE4-A082-4C40FD7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46DDF-1A05-4404-A4CD-86B14AD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8B322-3EB9-4294-AE72-C9B2AFC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92B24-8A53-4E7F-B86D-ECBC010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CA2CC-C28E-4668-8A8C-4B999FD0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2CE85-03F3-44CE-9D24-0AF87692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161DA-2A01-45B0-8574-F3DBBD63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D0486-920C-4F08-B2F2-C0F55DBB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4EA-2D8E-4137-90F6-E8E011E6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73369-E2AC-4D69-B68C-850B11D9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EC603-306D-487F-82DA-1994AC6D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B72A4-D629-49BA-9030-04A7E78B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E3BCE-8FD6-4128-A720-0D4414C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F7910-95F6-4099-BC6D-05D8B43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9A3ED-6257-4505-8F74-9F42C9E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10E0-4FC9-4DBE-AEBB-27B6B735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78960-62C7-47F9-A454-A3C16E2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9ED55-DA4E-4F85-B056-56428D98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35A40-D5C9-4C4B-AF38-55E42C67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14B-5647-45EF-A104-D0B01305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20F88-25FB-42F3-8531-52F5889D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02846-4BED-4EDD-B185-B90B32E1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A8508-629C-402A-83AC-50F2A8B3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E93E0-1850-48A8-A8BF-46C98B5B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33A3B-9244-4E5A-8D1A-1BEBAF6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66A3F-232F-4709-975B-48190A4A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226BA-B199-48C7-9C93-DD0FC9F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EE93C-B389-4232-BFD6-2F1222B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5381C-4C0C-40AB-9A4F-B795A53D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99805-8E26-4C47-B8E0-7873DE3E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4D20-2E3B-45BE-A861-1300054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377D-FE5D-4DE7-AC57-0D84DDC9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9012C-522A-4438-8D05-9E51E419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02CB8-F29B-4890-983E-24468AB8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B72B-5C63-4E84-A2CE-5FD3C7D6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89A41-6D95-48AC-8E5D-9D0FA0CF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6F7F4-7327-4894-9C52-EAF00CB1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8DE8C-A35C-4612-AC66-3B3DA8C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C3954-0C25-4F8D-85AF-DCCA23A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34604-73B8-48DB-9E92-45B5010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E9C05-D989-4653-94BE-E43E70B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8876-4789-4D7E-9B05-8E932B84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250CB-275B-4015-B2F1-ECA3FD5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619C2-6738-440C-9699-C76C832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EF036-8247-4CEA-A2C4-57E5BCB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60978-A7EB-47D7-9C77-9204AD33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A3F65-4555-44A0-9B4D-57C03DB1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2DFA6-F248-4CC5-A304-4A943259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3DF5F-5D53-447A-BA7D-751632B7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C231B-BD3E-420B-9D3A-F74080B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9246B-2512-4837-A93E-D0938F5D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FA044-D186-47F7-AD04-18569758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267B-8FAD-41D2-A942-CC3D87B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ADC81-6121-4779-AEC2-C0FE4E9B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C2567-6058-4E37-87C5-8929AAA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5F529-87FF-4CC6-B41C-A4D468D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20474-293D-43D1-A5F9-C83F7884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6F9EE-F609-4FEE-9892-38DC2C4C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2DF54-6727-4FE1-A3A9-4CE19F0B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A81DC-AE31-4791-9CE9-83B77C5F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D55B5-0EAC-4327-AC5E-CF8F2E57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B87AC-D305-4557-9B22-A34DF463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E0D34-363A-4B57-B494-C4EBA488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45B5-063F-4ED7-8BC9-95FBC5A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4BA7A-495D-47B1-BF0E-A6A6624C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C5100-3393-4674-ABA1-48BCCA66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8727F-F4A2-43EC-A695-C40493A9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148F0-2778-472A-9C28-6D3CA46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C9771-B09B-438A-9AA8-A002CEC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B8CAA-7757-436F-A848-660F267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AB81C-8023-4240-A169-937A032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0B685-FB5C-4CDB-82BB-FB6E927C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F6B64-142B-4578-A53E-7401161A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40456-F2BA-4119-AA3D-3BD300CF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0EE5-9D35-4DFA-99ED-4B9A9702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74754-8E32-45E7-AE17-6E29D798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DC7D4-8172-4361-80C2-3B3DFA5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4A4EB-AFFF-46AC-9B24-5F3BF39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5B0C3-028D-49F6-8AD3-8D4055F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E85E9-564C-4F1C-A18C-113AAD7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1EE72-52B9-49C6-B3DD-5969E43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225E9-CCCD-448F-9D1F-8FBC3B6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D532F-79B6-4B93-B617-DDD2DC2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02A7E-7DA4-406C-B2DE-B30FEB09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44323-3415-4FCA-BBE9-6D0AE609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6456-5015-4B35-A526-FD1302E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6B27F-97E3-4B4E-B773-839FCF6B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EC8A3-C5EF-48B8-A1E4-B5AA861A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429DB-52D0-4915-9CF0-550EEDBE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A0D08-2C9F-456E-8604-B1FBA81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09B1D-EBC5-4716-9075-3CD86BB5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F2F82-25D7-4D5A-A3D3-4A780816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60985-3984-4FD5-9880-C45BD0A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81017-5A77-4CCC-9F63-664F5D37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56FF6-9DFB-4DEE-9672-14FB22F8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156E5-1846-428F-8550-AF1E34E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D89B-F2C1-42FD-AAA9-DD86CD5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87E35-5AB7-40C3-B71D-8C7F94BC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CD2FF-7FB4-48AD-8A95-A00C404E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A41FE-BCFF-4795-B2AB-4DB8A7A9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327F4-648E-453E-81FE-12C5AF47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A82C3-ECF4-4746-9698-942995C1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15127-CB68-4C88-830A-8BDF818C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0B4BB-17FE-41E2-8C99-A386D92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46112-4D22-41CF-98A6-E7EB1A69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F401B-D1B5-4BD0-AFF5-7007D9F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4BBAD-3E48-4D8B-8A0E-F2131B6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18C-EB92-456B-BEAC-170D1677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84B9-81BE-49E1-881E-FE196241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BB3AC-7CF8-4122-92C4-FA17993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C43C2-38E8-483C-9F51-2CABB14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4DAE2-A898-4E53-9DAA-DC7FA6A7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DEACC-4FB3-4718-8BC4-8B96AEEB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1CF2A-7A5B-432E-A3CF-8AC17475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70DB-B887-4A2E-988F-28ED9F45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D5A6-195A-49C4-A247-B9468FE0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8CC8-6E4F-4691-AD8B-9CE6D9B6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8ED8-3C38-41CE-B681-2BFC3760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387A-723E-4E43-B168-E8AACE56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648A-6432-4D4D-8582-4F72C13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835C-9141-4024-B235-B0CADCAA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8E22-CC7F-491E-8CD7-B28E9D5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27BC-084D-4973-ABB5-C4E7DBAD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E28-CCA0-4004-886C-9A19413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E743-358C-4FB8-B15C-23365DA8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17D1-A2F0-41AB-A7FE-D5E4307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EF95-6C01-420E-ABAB-057206B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2162-C8DE-4101-862F-41D0B0E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21E5-0D16-4C82-8E22-123D03E6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FA8F-160F-4B75-8591-70C17C39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F7FD-3192-40CA-9E39-5E18ADF5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536A-E298-4105-875A-8CCB34F7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EB92-EB0F-4027-84E5-472F47D5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67D8-4CBB-4566-AA7D-061A078D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CD6-4FAA-49F3-AC05-DA3AC7D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C0D5-B01F-45DF-AEE3-400BA6BA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BC54-31EE-49F4-91CD-1A1D6F32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C4EA-3E9F-461D-A209-41F3887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92E8-B48B-4EC3-9C8B-7896C5C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CEC2-C278-43BB-8C84-832082F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D16E-9C8C-4FC9-9DE9-5E9976C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06AC-337E-4118-897D-A2CCED44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B49C-47D9-4DD5-813A-AE647F6A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03F2B-D88F-48AF-A302-B97DA6AA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6B38-53D0-49F0-A25B-C9399354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529-087A-40A5-BFD1-88E83CC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882F-9C98-49A2-A99E-7724A835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D4C1-2056-4F76-8654-76087E6F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2C001-2765-485F-9567-11EE9591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3C54-EE0F-4160-9F94-6B36A58E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493E-40E4-4755-9DDA-A784778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9078-12BB-4309-9EB7-B84ECEA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C2559-EDC9-4C3C-AD34-E54F9841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B969-FACF-401D-89D4-8BD46C48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CB7F-EBB5-423E-A928-15B8F6A1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5813-FB12-455A-8141-6CB5AACF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38D-FFF6-491F-B9BB-F6E26454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26B64-7C10-4D28-A35A-1A6FD52A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5EF1-B219-4B58-B93B-66911EDA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AB571-7247-47D8-A492-B5809A1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3D7E7-8E97-4CD3-9C0F-F681F2D4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87EC-1BF7-4BCF-AE9E-114827EC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7724E-D73F-4027-BB70-530A07A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6724-E318-42CA-803C-E39CDEA0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9D0D-EC1A-48D9-9141-580436E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1FE3-4793-4075-B343-11774550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F085-C599-4C79-9DBE-67EE80E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88B-031F-47B2-BEDF-0769A617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E369-D88E-4CD8-9D54-C0AE7AB2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786D-35AC-4AA8-BFC7-7D044F74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3DC52-8688-40A2-A7D1-3159FB24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17226-2C04-4F49-ABCE-B97EC42E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2A43A-245C-48D9-9627-3822D1D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201F-BF53-43A0-A6CD-DA890A5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A8058-48C7-4FBC-917F-D6D6B75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D1E1-9651-40F9-A65D-4059734F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6E74-23F8-4982-BD94-CA089860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FC42-AEAE-4156-B0ED-5E74C1B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7C2-B02A-4AA6-AEB3-A926434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2E75F-4D5B-4D75-BAC8-B38BF3F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5C5CF-ABB8-4CF9-ACAA-FDADC5D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5B524-E74F-4C4D-ADE1-EC25B0A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B573-21FA-4DFF-8E61-156AE4E7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B8B2F-D6F0-479C-AE75-D05D2F61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3C163-3ABF-40E5-8CD8-43D8C187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FDE62-4DAE-4937-832C-8861EAF2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4EC07-451B-498F-96B0-094B699E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AE8A3-5444-4F38-A172-9D71A8F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952D-B563-4BAE-90F8-1F824FF2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B28-2202-40BB-9637-6A2F2F55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C7511-BEC0-49A1-957F-78660052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1FE92-A357-4FAF-95E9-AEBFCE3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059C3-8DA9-4BC3-AC88-8ACE17F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77201-DC70-4E9F-ACCE-736377DF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F3E16-CDCF-4DE6-B7E4-87534A39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80534-3B8E-4C10-B407-D98ECEFD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DA80-B345-4F9D-BF44-F1E836CB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F2CEE-F513-41EC-B2D2-09995788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D7DBC-414F-40DF-9648-F5D9A70B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7F09D-966A-4730-BC7D-72FEB4F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965E-AAC4-4F78-A51C-8143AA0A4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D8B8-5A11-4C9B-A004-71F366A46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C0A2-0894-4465-9CD2-552141744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A87-1FDF-439E-B277-3E64D151C0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C22-2B8B-451B-A7EE-43C22842BF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7223-C475-4D8A-BFEA-E1FEC7A078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D2E0-B6C6-4019-971F-06D0728A3B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442-4DCE-4052-9CD4-677E449354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F850-8699-4A2D-ACC7-C8B8435921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4E08-A365-4385-8EE6-82A7C19D6E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2785-7868-425E-BF7E-FB957CFEED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50F-D2C3-41E8-BD8D-A53C1F6B32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0B22-F6B1-4AEC-9AE3-6D934CB427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0549-898A-46DF-83AD-B6CF461977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A2C5-30E2-4525-80B9-00BE596C4A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493C-2267-4461-98F5-F943E2453C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1496-F772-46BD-8DCD-FE4806A73F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3" descr="лечение открытого пневмотаракса"/>
          <p:cNvPicPr/>
          <p:nvPr/>
        </p:nvPicPr>
        <p:blipFill>
          <a:blip r:embed="rId1"/>
          <a:srcRect l="-1322" t="19988" r="0" b="31670"/>
          <a:stretch/>
        </p:blipFill>
        <p:spPr>
          <a:xfrm>
            <a:off x="611280" y="1349280"/>
            <a:ext cx="7850160" cy="550872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проникающей или открытой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5"/>
          <p:cNvSpPr/>
          <p:nvPr/>
        </p:nvSpPr>
        <p:spPr>
          <a:xfrm>
            <a:off x="285840" y="3643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21420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проникающая или за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множественных переломах ребер жизненная ёмкость легких уменьшается за счет уменьшения подвижности грудной клетки и лег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тсутствии нарушения каркаса грудной клетки могут отмечаться признаки повреждения внутренних органов    (скопление воздуха и/или  крови в плевральной пол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" descr="нестабильная грудная клетка"/>
          <p:cNvPicPr/>
          <p:nvPr/>
        </p:nvPicPr>
        <p:blipFill>
          <a:blip r:embed="rId1"/>
          <a:stretch/>
        </p:blipFill>
        <p:spPr>
          <a:xfrm>
            <a:off x="468360" y="1125360"/>
            <a:ext cx="8209080" cy="53992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множественных переломах реб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множественных переломах костей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сте повреждения наклеить полоски лейкопл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3" descr="нестабильная грудная клетка"/>
          <p:cNvPicPr/>
          <p:nvPr/>
        </p:nvPicPr>
        <p:blipFill>
          <a:blip r:embed="rId1"/>
          <a:srcRect l="2634" t="7999" r="34235" b="1328"/>
          <a:stretch/>
        </p:blipFill>
        <p:spPr>
          <a:xfrm>
            <a:off x="3995640" y="1484280"/>
            <a:ext cx="5148360" cy="513576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11"/>
          <p:cNvSpPr/>
          <p:nvPr/>
        </p:nvSpPr>
        <p:spPr>
          <a:xfrm rot="2034000">
            <a:off x="4787640" y="321264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 rot="2034000">
            <a:off x="4716000" y="357300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 rot="2034000">
            <a:off x="4642920" y="393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 rot="2034000">
            <a:off x="4572000" y="443664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18"/>
          <p:cNvSpPr/>
          <p:nvPr/>
        </p:nvSpPr>
        <p:spPr>
          <a:xfrm rot="2034000">
            <a:off x="4571640" y="4941360"/>
            <a:ext cx="1440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19"/>
          <p:cNvSpPr/>
          <p:nvPr/>
        </p:nvSpPr>
        <p:spPr>
          <a:xfrm rot="19806600">
            <a:off x="4642920" y="357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20"/>
          <p:cNvSpPr/>
          <p:nvPr/>
        </p:nvSpPr>
        <p:spPr>
          <a:xfrm rot="19804200">
            <a:off x="4571640" y="407628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21"/>
          <p:cNvSpPr/>
          <p:nvPr/>
        </p:nvSpPr>
        <p:spPr>
          <a:xfrm rot="19951800">
            <a:off x="4500360" y="458136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2"/>
          <p:cNvSpPr/>
          <p:nvPr/>
        </p:nvSpPr>
        <p:spPr>
          <a:xfrm rot="20101800">
            <a:off x="4572000" y="494172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5"/>
          <p:cNvSpPr/>
          <p:nvPr/>
        </p:nvSpPr>
        <p:spPr>
          <a:xfrm rot="19806600">
            <a:off x="4571640" y="321300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вая помощь при травме гру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звать скорую медицинскую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ыть рану стерильной ватно-марлевой повязкой не закрепляя нижний кр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сли рана отсутствует – лейкопластырную повязку на болезненное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ложить на повреждённый бок с возвышенной верхней частью тулови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допускать переохлаждения пострадав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ыть готовым к сердечно-легочной реани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08000" y="1557360"/>
            <a:ext cx="57592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ТП травма груди возникает, как прави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рямого механического воздействия на грудную клетку, приводящего к переломам рёб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органы травмируются костными отломками или распространяющейся кинетической энергией уд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7" descr="DPP_1577"/>
          <p:cNvPicPr/>
          <p:nvPr/>
        </p:nvPicPr>
        <p:blipFill>
          <a:blip r:embed="rId1"/>
          <a:stretch/>
        </p:blipFill>
        <p:spPr>
          <a:xfrm>
            <a:off x="5651640" y="2205000"/>
            <a:ext cx="302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95280" y="2133720"/>
            <a:ext cx="82296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реждения чаще возника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грудной клеткой о  рулевое коле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пассажиров, если они не пристегнуты ремнями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толкновении  транспортных средств на большой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аезде на пеше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реждения о рулевое коле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6" descr="тело об рулевое колесо"/>
          <p:cNvPicPr/>
          <p:nvPr/>
        </p:nvPicPr>
        <p:blipFill>
          <a:blip r:embed="rId1"/>
          <a:srcRect l="26101" t="33751" r="25403" b="34878"/>
          <a:stretch/>
        </p:blipFill>
        <p:spPr>
          <a:xfrm>
            <a:off x="4643280" y="1773360"/>
            <a:ext cx="4105440" cy="43210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7" descr="ударился о руль"/>
          <p:cNvPicPr/>
          <p:nvPr/>
        </p:nvPicPr>
        <p:blipFill>
          <a:blip r:embed="rId2"/>
          <a:stretch/>
        </p:blipFill>
        <p:spPr>
          <a:xfrm>
            <a:off x="395280" y="1773360"/>
            <a:ext cx="4248000" cy="4319640"/>
          </a:xfrm>
          <a:prstGeom prst="rect">
            <a:avLst/>
          </a:prstGeom>
          <a:ln w="0">
            <a:noFill/>
          </a:ln>
        </p:spPr>
      </p:pic>
      <p:sp>
        <p:nvSpPr>
          <p:cNvPr id="786" name="Заголовок 1"/>
          <p:cNvSpPr/>
          <p:nvPr/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2400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травме грудной клетк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ается  целостность костного каркаса (переломы ребер, грудины).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режда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е органы (легкие, сердц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хоносные пути и кровеносные сосу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ые мышцы (диафраг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Заголовок 1"/>
          <p:cNvSpPr/>
          <p:nvPr/>
        </p:nvSpPr>
        <p:spPr>
          <a:xfrm>
            <a:off x="428760" y="35712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900000" y="522936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ые  признаки травмы грудной клетки – боль и дыхательная недостато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дыхательной недостаточ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897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ение сидя или полуси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мное, частое, прерывистое, поверхностное 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юшный цвет 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4" descr="Изображение 400"/>
          <p:cNvPicPr/>
          <p:nvPr/>
        </p:nvPicPr>
        <p:blipFill>
          <a:blip r:embed="rId1"/>
          <a:stretch/>
        </p:blipFill>
        <p:spPr>
          <a:xfrm>
            <a:off x="5292720" y="1628640"/>
            <a:ext cx="35272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28760" y="164268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имеется сообщение через рану между органами грудной клетки и окружающей сре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отсутствуют проникающие ранения в области грудной клет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у пострадавших в ДТП отмечается закрытая травма грудной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Заголовок 1"/>
          <p:cNvSpPr/>
          <p:nvPr/>
        </p:nvSpPr>
        <p:spPr>
          <a:xfrm>
            <a:off x="428760" y="35712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раны в области грудной кл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ыхании через рану может циркулировать воздух (на выдохе появляется кровавая пе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целостности плевральной полости приводит к скоплению в ней воздуха и спадению легкого на стороне повреждения, что уменьшает количество поступающего кислорода в организм пострад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ние воздуха в плевральную полость называется пневмоторак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3" descr="открытый пневмоторакс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51688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298764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3564000" y="213372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596360" y="206064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694836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4:39:55Z</dcterms:created>
  <dc:creator>User</dc:creator>
  <dc:description/>
  <dc:language>en-US</dc:language>
  <cp:lastModifiedBy>COMP</cp:lastModifiedBy>
  <dcterms:modified xsi:type="dcterms:W3CDTF">2011-11-24T18:22:21Z</dcterms:modified>
  <cp:revision>173</cp:revision>
  <dc:subject/>
  <dc:title>Дорожно-транспортные проишествия</dc:title>
</cp:coreProperties>
</file>