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8B0A-FF5C-4B54-8A56-76CAD6DD8D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7CB2-7DC9-48FB-8C6A-3C88819F1C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2A96-AECB-49DC-8EF1-DB17E47A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316B-7394-4010-92F8-F20C0FEF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5AB-3E5B-4E36-882D-F13B98A3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A4B7-3429-4C74-9F13-808123EA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EAC1-D1DB-4558-AE57-F1C6CB99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5DFB-21D4-4307-A893-305D87E5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95D3-747C-42B8-A098-681B05CA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917-212F-496C-98E7-1A21A410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EEAA-2C24-4C30-B876-C85D20DD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275-EB1D-4D39-AC9F-DC12E901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FD9-C842-4D86-A39F-CBABBE25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563-9B46-48F7-88C7-B6C33E3D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45B9-B146-4C15-A24C-A32894BF25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Calibri"/>
              </a:rPr>
              <a:t>Начала информационной безопасност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24360" y="5157360"/>
            <a:ext cx="4535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пов Николай Александрови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кандидат экономических наук,  доцент по кафедре безопасности информационных технологий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л. моб.  8-983-163-9493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mail: napopov2005@yandex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ебования к безопасности информационных систем в Росс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формулированы в руководящем документе Государственной технической комиссией при Президенте РФ «Классификация автоматизированных систем и требований по защите информации» выпущенном в 1992 году, в котором выделено 9 классов защищенности автоматизированных систем от несанкционированного доступа к информ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 специфике обработки информации классы разделены на групп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третья группа – системы в которых работает один пользователь, допущенный ко всей обрабатываемой информации (классы 3Б и 3А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вторая группа – системы в которых работает несколько пользователей, которые имеют одинаковые права доступа ко всей информации (классы 2Б и 2А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первая группа – многопользовательские системы, в которых одновременно обрабатывается и/или хранится информация разных уровней конфиденциальности, причем различные пользователи имеют разные права на доступ к информации (классы 1Д, 1Г, 1В, 1Б и 1А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ребования к защите растут от систем класса 3Б к классу 1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вы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ы защиты информа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1042920" y="1700280"/>
            <a:ext cx="7129440" cy="64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овое обеспечение информационной безопасности как вид деятельности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4"/>
          <p:cNvSpPr/>
          <p:nvPr/>
        </p:nvSpPr>
        <p:spPr>
          <a:xfrm>
            <a:off x="971640" y="3141720"/>
            <a:ext cx="1944720" cy="201600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016000"/>
              <a:gd name="textAreaBottom" fmla="*/ 1921320 h 2016000"/>
            </a:gdLst>
            <a:ahLst/>
            <a:rect l="textAreaLeft" t="textAreaTop" r="textAreaRight" b="textAreaBottom"/>
            <a:pathLst>
              <a:path w="21600" h="22392">
                <a:moveTo>
                  <a:pt x="3600" y="0"/>
                </a:moveTo>
                <a:arcTo wR="3600" hR="3600" stAng="16200000" swAng="-5400000"/>
                <a:lnTo>
                  <a:pt x="0" y="18792"/>
                </a:lnTo>
                <a:arcTo wR="3600" hR="3600" stAng="10800000" swAng="-5400000"/>
                <a:lnTo>
                  <a:pt x="18000" y="223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рмативное правовое обеспечение информацион-ной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7"/>
          <p:cNvSpPr/>
          <p:nvPr/>
        </p:nvSpPr>
        <p:spPr>
          <a:xfrm>
            <a:off x="3780000" y="3141720"/>
            <a:ext cx="1944360" cy="2016000"/>
          </a:xfrm>
          <a:custGeom>
            <a:avLst/>
            <a:gdLst>
              <a:gd name="textAreaLeft" fmla="*/ 94680 w 1944360"/>
              <a:gd name="textAreaRight" fmla="*/ 1849680 w 1944360"/>
              <a:gd name="textAreaTop" fmla="*/ 94680 h 2016000"/>
              <a:gd name="textAreaBottom" fmla="*/ 1921320 h 2016000"/>
            </a:gdLst>
            <a:ahLst/>
            <a:rect l="textAreaLeft" t="textAreaTop" r="textAreaRight" b="textAreaBottom"/>
            <a:pathLst>
              <a:path w="21600" h="22396">
                <a:moveTo>
                  <a:pt x="3600" y="0"/>
                </a:moveTo>
                <a:arcTo wR="3600" hR="3600" stAng="16200000" swAng="-5400000"/>
                <a:lnTo>
                  <a:pt x="0" y="18796"/>
                </a:lnTo>
                <a:arcTo wR="3600" hR="3600" stAng="10800000" swAng="-5400000"/>
                <a:lnTo>
                  <a:pt x="18000" y="223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ные знания о правовом обеспечении информацион-ной 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8"/>
          <p:cNvSpPr/>
          <p:nvPr/>
        </p:nvSpPr>
        <p:spPr>
          <a:xfrm>
            <a:off x="6443640" y="3141720"/>
            <a:ext cx="1944720" cy="201600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016000"/>
              <a:gd name="textAreaBottom" fmla="*/ 1921320 h 2016000"/>
            </a:gdLst>
            <a:ahLst/>
            <a:rect l="textAreaLeft" t="textAreaTop" r="textAreaRight" b="textAreaBottom"/>
            <a:pathLst>
              <a:path w="21600" h="22392">
                <a:moveTo>
                  <a:pt x="3600" y="0"/>
                </a:moveTo>
                <a:arcTo wR="3600" hR="3600" stAng="16200000" swAng="-5400000"/>
                <a:lnTo>
                  <a:pt x="0" y="18792"/>
                </a:lnTo>
                <a:arcTo wR="3600" hR="3600" stAng="10800000" swAng="-5400000"/>
                <a:lnTo>
                  <a:pt x="18000" y="223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бные дисципл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9"/>
          <p:cNvSpPr/>
          <p:nvPr/>
        </p:nvSpPr>
        <p:spPr>
          <a:xfrm>
            <a:off x="4572000" y="2349360"/>
            <a:ext cx="484200" cy="79236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низ 10"/>
          <p:cNvSpPr/>
          <p:nvPr/>
        </p:nvSpPr>
        <p:spPr>
          <a:xfrm>
            <a:off x="7093080" y="2349360"/>
            <a:ext cx="484200" cy="79236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низ 11"/>
          <p:cNvSpPr/>
          <p:nvPr/>
        </p:nvSpPr>
        <p:spPr>
          <a:xfrm>
            <a:off x="1692360" y="2349360"/>
            <a:ext cx="484200" cy="79236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2"/>
          <p:cNvSpPr/>
          <p:nvPr/>
        </p:nvSpPr>
        <p:spPr>
          <a:xfrm>
            <a:off x="971640" y="5589720"/>
            <a:ext cx="756108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* Стрельцов А.А. Правовое обеспечение информационной безопасности России: теоретические и методологические основы. – Минск, 2005. – 304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рганизационные методы защиты информа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рный комплекс мероприят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требований к системе защиты информ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определение и подготовка лиц, ответственных за обеспечение безопасности информ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проектирование, создание и эксплуатация системы защиты информации объек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научно-методологическое и документационное обеспечение работ по защите информ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установление мер контроля и ответственности за обеспечение всех правил защиты информ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хнические методы защиты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3"/>
          <p:cNvSpPr/>
          <p:nvPr/>
        </p:nvSpPr>
        <p:spPr>
          <a:xfrm>
            <a:off x="2268360" y="1628640"/>
            <a:ext cx="4680000" cy="28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женерно-техническая защита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4"/>
          <p:cNvSpPr/>
          <p:nvPr/>
        </p:nvSpPr>
        <p:spPr>
          <a:xfrm>
            <a:off x="1619280" y="220500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ая защ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5"/>
          <p:cNvSpPr/>
          <p:nvPr/>
        </p:nvSpPr>
        <p:spPr>
          <a:xfrm>
            <a:off x="3780000" y="2205000"/>
            <a:ext cx="15840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крытие информа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6"/>
          <p:cNvSpPr/>
          <p:nvPr/>
        </p:nvSpPr>
        <p:spPr>
          <a:xfrm>
            <a:off x="6300720" y="220500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ейтрализация источников опасных сигн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539640" y="3284640"/>
            <a:ext cx="1224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нженерная защ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3"/>
          <p:cNvSpPr/>
          <p:nvPr/>
        </p:nvSpPr>
        <p:spPr>
          <a:xfrm>
            <a:off x="1908000" y="3284640"/>
            <a:ext cx="1224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ехническая охрана 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4"/>
          <p:cNvSpPr/>
          <p:nvPr/>
        </p:nvSpPr>
        <p:spPr>
          <a:xfrm>
            <a:off x="3348000" y="3284640"/>
            <a:ext cx="1224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странст-венное скры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5"/>
          <p:cNvSpPr/>
          <p:nvPr/>
        </p:nvSpPr>
        <p:spPr>
          <a:xfrm>
            <a:off x="4716360" y="3284640"/>
            <a:ext cx="1224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труктурное скры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6"/>
          <p:cNvSpPr/>
          <p:nvPr/>
        </p:nvSpPr>
        <p:spPr>
          <a:xfrm>
            <a:off x="6084720" y="3284640"/>
            <a:ext cx="1224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ременное скры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7"/>
          <p:cNvSpPr/>
          <p:nvPr/>
        </p:nvSpPr>
        <p:spPr>
          <a:xfrm>
            <a:off x="7451640" y="3284640"/>
            <a:ext cx="1224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Энергетичес-кое скры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2"/>
          <p:cNvSpPr/>
          <p:nvPr/>
        </p:nvSpPr>
        <p:spPr>
          <a:xfrm>
            <a:off x="3348000" y="4508640"/>
            <a:ext cx="1224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скир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3"/>
          <p:cNvSpPr/>
          <p:nvPr/>
        </p:nvSpPr>
        <p:spPr>
          <a:xfrm>
            <a:off x="4716360" y="4508640"/>
            <a:ext cx="1224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зинфор-м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4"/>
          <p:cNvSpPr/>
          <p:nvPr/>
        </p:nvSpPr>
        <p:spPr>
          <a:xfrm>
            <a:off x="6084720" y="4508640"/>
            <a:ext cx="1224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меньшение энергии нос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5"/>
          <p:cNvSpPr/>
          <p:nvPr/>
        </p:nvSpPr>
        <p:spPr>
          <a:xfrm>
            <a:off x="7451640" y="4508640"/>
            <a:ext cx="1224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шум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6"/>
          <p:cNvSpPr/>
          <p:nvPr/>
        </p:nvSpPr>
        <p:spPr>
          <a:xfrm>
            <a:off x="684360" y="5516640"/>
            <a:ext cx="784836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*Торкин А.А. Инженерно-техническая защита информации: учеб. пособие для студентов, обучающихся по специальностям в обл. информ. безопасности / А.А. Торокин. – М.: Гелиос АРВ, 2005. – 96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низ 27"/>
          <p:cNvSpPr/>
          <p:nvPr/>
        </p:nvSpPr>
        <p:spPr>
          <a:xfrm>
            <a:off x="6732720" y="1916280"/>
            <a:ext cx="71280" cy="288720"/>
          </a:xfrm>
          <a:prstGeom prst="downArrow">
            <a:avLst>
              <a:gd name="adj1" fmla="val 50000"/>
              <a:gd name="adj2" fmla="val 500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низ 28"/>
          <p:cNvSpPr/>
          <p:nvPr/>
        </p:nvSpPr>
        <p:spPr>
          <a:xfrm>
            <a:off x="4500720" y="1916280"/>
            <a:ext cx="71280" cy="288720"/>
          </a:xfrm>
          <a:prstGeom prst="downArrow">
            <a:avLst>
              <a:gd name="adj1" fmla="val 50000"/>
              <a:gd name="adj2" fmla="val 500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низ 29"/>
          <p:cNvSpPr/>
          <p:nvPr/>
        </p:nvSpPr>
        <p:spPr>
          <a:xfrm>
            <a:off x="2411280" y="1916280"/>
            <a:ext cx="73080" cy="28872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Прямая со стрелкой 37"/>
          <p:cNvCxnSpPr>
            <a:stCxn id="123" idx="2"/>
            <a:endCxn id="127" idx="0"/>
          </p:cNvCxnSpPr>
          <p:nvPr/>
        </p:nvCxnSpPr>
        <p:spPr>
          <a:xfrm>
            <a:off x="2411280" y="2852640"/>
            <a:ext cx="10872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Прямая со стрелкой 39"/>
          <p:cNvCxnSpPr>
            <a:stCxn id="123" idx="2"/>
            <a:endCxn id="126" idx="0"/>
          </p:cNvCxnSpPr>
          <p:nvPr/>
        </p:nvCxnSpPr>
        <p:spPr>
          <a:xfrm flipH="1">
            <a:off x="1150200" y="2852640"/>
            <a:ext cx="126108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Прямая со стрелкой 41"/>
          <p:cNvCxnSpPr>
            <a:stCxn id="124" idx="2"/>
            <a:endCxn id="128" idx="0"/>
          </p:cNvCxnSpPr>
          <p:nvPr/>
        </p:nvCxnSpPr>
        <p:spPr>
          <a:xfrm flipH="1">
            <a:off x="3958920" y="2852640"/>
            <a:ext cx="61344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Прямая со стрелкой 43"/>
          <p:cNvCxnSpPr>
            <a:stCxn id="124" idx="2"/>
            <a:endCxn id="129" idx="0"/>
          </p:cNvCxnSpPr>
          <p:nvPr/>
        </p:nvCxnSpPr>
        <p:spPr>
          <a:xfrm>
            <a:off x="4571640" y="2852640"/>
            <a:ext cx="75636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Прямая со стрелкой 45"/>
          <p:cNvCxnSpPr>
            <a:stCxn id="125" idx="2"/>
            <a:endCxn id="130" idx="0"/>
          </p:cNvCxnSpPr>
          <p:nvPr/>
        </p:nvCxnSpPr>
        <p:spPr>
          <a:xfrm flipH="1">
            <a:off x="6695280" y="2852640"/>
            <a:ext cx="39780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Прямая со стрелкой 47"/>
          <p:cNvCxnSpPr>
            <a:stCxn id="125" idx="2"/>
            <a:endCxn id="131" idx="0"/>
          </p:cNvCxnSpPr>
          <p:nvPr/>
        </p:nvCxnSpPr>
        <p:spPr>
          <a:xfrm>
            <a:off x="7093080" y="2852640"/>
            <a:ext cx="97200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Прямая со стрелкой 49"/>
          <p:cNvCxnSpPr>
            <a:stCxn id="129" idx="2"/>
            <a:endCxn id="133" idx="0"/>
          </p:cNvCxnSpPr>
          <p:nvPr/>
        </p:nvCxnSpPr>
        <p:spPr>
          <a:xfrm>
            <a:off x="5327280" y="4005360"/>
            <a:ext cx="10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Прямая со стрелкой 51"/>
          <p:cNvCxnSpPr>
            <a:stCxn id="129" idx="2"/>
            <a:endCxn id="132" idx="0"/>
          </p:cNvCxnSpPr>
          <p:nvPr/>
        </p:nvCxnSpPr>
        <p:spPr>
          <a:xfrm flipH="1">
            <a:off x="3958560" y="4005360"/>
            <a:ext cx="13690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Прямая со стрелкой 53"/>
          <p:cNvCxnSpPr>
            <a:stCxn id="131" idx="2"/>
            <a:endCxn id="135" idx="0"/>
          </p:cNvCxnSpPr>
          <p:nvPr/>
        </p:nvCxnSpPr>
        <p:spPr>
          <a:xfrm>
            <a:off x="8064000" y="4005360"/>
            <a:ext cx="10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Прямая со стрелкой 55"/>
          <p:cNvCxnSpPr>
            <a:stCxn id="131" idx="2"/>
            <a:endCxn id="134" idx="0"/>
          </p:cNvCxnSpPr>
          <p:nvPr/>
        </p:nvCxnSpPr>
        <p:spPr>
          <a:xfrm flipH="1">
            <a:off x="6695280" y="4005360"/>
            <a:ext cx="13690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чень нормативных документов, в той или иной мере касающихся вопросов информационной безопас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Российской Федерации от 27 июля 2006 г. N 149-ФЗ Об информации, информационных технологиях и о защите информ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 июля 1993 года N 5485-1 РОССИЙСКАЯ ФЕДЕРАЦИЯ ЗАКОН О ГОСУДАРСТВЕННОЙ ТАЙ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Российской Федерации от 27 июля 2006 г. N 152-ФЗ О персональных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 мая 2011 года N 99-Ф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ССИЙСКАЯ ФЕДЕРАЦИЯ ФЕДЕРАЛЬНЫЙ ЗАКОН О ЛИЦЕНЗИРОВАНИИ ОТДЕЛЬНЫХ ВИДОВ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О техническом регулировании.  (в ред. Федеральных законов от 09.05.2005 № 45-ФЗ, от 01.05.2007 № 65-ФЗ, от 01.12.2007 № 309-ФЗ, от 23.07.2008 № 160-Ф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Российской Федерации О безопасности от 5 марта 1992 г. № 2446-1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в ред. Закона РФ от 25.12.1992 № 4235-1, Указа Президента РФ от 24.12.1993 № 2288, Федеральных законов от 25.07.2002 № 116-ФЗ, от 07.03.2005 № 15-ФЗ, от 25.07.2006 № 128-ФЗ,от 02.03.2007 № 24-ФЗ, от 26.06.2008 № 103-Ф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Федеральной Службы по Техническому и Экспортному Контролю Указ Президента Российской Федерации от 16 августа 2004 г. № 1085 (в ред. Указов Президента РФ от 22.03.2005 № 330, от 20.07.2005 № 846, от 30.11.2006 № 1321, от 23.10.2008 № 1517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17.11.2008 № 16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 утверждении перечня сведений конфиденциального характера Указ Президента Российской Федерации от 6 марта 1997 г. № 18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 утверждении перечня сведений, отнесенных к государственной тайне Указ Президента Российской Федерации от 30 ноября 1995 г. № 1203 (в ред. Указов Президента РФ от 24.01.1998 № 61, от 06.06.2001 № 659, от 10.09.2001 № 1114, от 29.05.2002 № 518, от 03.03.2005 № 243, от 11.02.2006 № 90, от 24.12.2007 № 1745, от 08.04.2008 № 460, от 30.04.2008 № 654, от 28.07.2008 № 1129, от 06.09.2008 № 13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ечень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едеральных органов исполнительной власти, осуществляющих лицензирование 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в редакции Постановление Правительства Российской Федерации от 26 января 2006 г. № 45 с последующими изменения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ФСТЭК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ь по технической защите конфиденциаль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ФСТЭК России, ФСБ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ь по разработке и (или) производству средств защиты конфиденциаль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ФСБ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, производство, реализация и приобретение в целях продажи специальных технических средств, предназначенных для негласного получения информации, индивидуальными предпринимателями и юридическими лицами, осуществляющими предпринимательскую деятель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ь по выявлению электронных устройств, предназначенных для негласного получения информации, в помещениях и технических средствах (за исключением случая, если указанная деятельность осуществляется для обеспечения собственных нужд юридического лица или индивидуального предпринимателя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ь по распространению шифровальных (криптографических) средст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ь по техническому обслуживанию шифровальных (криптографических) средст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ение услуг в области шифрования информ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, производство шифровальных (криптографических) средств, защищенных с использованием шифровальных (криптографических) средств информационных систем, телекоммуникационны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итература по основам информационной безопасност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Основы информационной безопасности. Учебое пособие для вузов / Е.Б. Белов, В.П. Лось, Р.В. Мещеряков, А.А.Шелупанов. – М. Горячая линия – Телеком, 2006. – 544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Малюк А.А., Пазизин С.В., Погожин Н.С. Введение в защиту информации в автоматизированных системах: Учебное пособие для вузов. – 4-е издание, стеритип. – М.: Горячая линия-Телеком, 2011. – 146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Грушо А.А. Теоретические основы компьютерной безопасности: учеб. Пособие для студентов высш. учеб. заведений / А.А. Грушо, Э.А. Применко, Е.Е. Тимонина. – М.: Издательский центр «Академия», 2009. – 272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Куприянов А.И. Основы защиты информации: учеб. пособие для студ. высш. учеб. заведений / А.И. Куприянов, А.В. Сахаров, В.А. Шевцов. – 2-е изд., стер. – М.: Издательский центр «Академия», 2007. – 256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Гафнер В.В. Информационная безопасность: учеб. пособие / В.В. Гафнер. – Ростов н/Д; Феникс, 2010. – 324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Росторгуев С.П. Основы информационной безопасности: учеб. пособие для студ. высших учебных заведений. – 2-е изд., стер. – М.: Издательский центр «Академия», 2009. – 192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Галатенко В.А. Основы информацционной безопасности: учебное пособие: / В.А. Галатенко Под редакцией академика РАН В.Б. Бетелина – 4-е изд. – М.: Интернет-Университет Информационных технологий; БИНОМ. Лаборатория знаний, 2011. – 2005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 Цирлов В.Л. Основы информационной безопасности: краткий курс /В.Л. Цирлов. – Ростов н/Д: Феникс, 2008. – 253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. Малюк А.А. Информационная безопасность: концептуальные и методологические основы защиты информации. Учебное пособие для вузов. – М.: Горячая линия-Телеком, 2004. – 280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Arial Black"/>
              </a:rPr>
              <a:t>СПАСИБО </a:t>
            </a:r>
            <a:br>
              <a:rPr sz="6000"/>
            </a:br>
            <a:r>
              <a:rPr b="0" lang="ru-RU" sz="6000" spc="-1" strike="noStrike">
                <a:solidFill>
                  <a:srgbClr val="0070c0"/>
                </a:solidFill>
                <a:latin typeface="Arial Black"/>
              </a:rPr>
              <a:t>ЗА </a:t>
            </a:r>
            <a:br>
              <a:rPr sz="6000"/>
            </a:br>
            <a:r>
              <a:rPr b="0" lang="ru-RU" sz="6000" spc="-1" strike="noStrike">
                <a:solidFill>
                  <a:srgbClr val="0070c0"/>
                </a:solidFill>
                <a:latin typeface="Arial Black"/>
              </a:rPr>
              <a:t>ВНИМ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Выписка из федерального закона Российской Федерации от 27 июля 2006 г. N 149-ФЗ  Об информации, информационных технологиях и защите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атья 16.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Защита информ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. Защита информации представляет собой принятие правовых, организационных и технических мер, направленных н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) обеспечение защиты информации от неправомерного доступа, уничтожения, модифицирования, блокирования, копирования, предоставления, распространения, а также от иных неправомерных действий в отношении такой информац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) соблюдение конфиденциальности информации ограниченного доступа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) реализацию права на доступ к информ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Выписка из федерального закона Российской Федерации от 27 июля 2006 г. N 149-ФЗ  Об информации, информационных технологиях и защите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тья 2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ые понятия, используемые в настоящем Федеральном зако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информация - сведения (сообщения, данные) независимо от формы их представл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) обладатель информации - лицо, самостоятельно создавшее информацию либо получившее на основании закона или договора право разрешать или ограничивать доступ к информации, определяемой по каким-либо признака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) конфиденциальность информации - обязательное для выполнения лицом, получившим доступ к определенной информации, требование не передавать такую информацию третьим лицам без согласия ее обладател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) документированная информация - зафиксированная на материальном носителе путем документирования информация с реквизитами, позволяющими определить такую информацию или в установленных законодательством Российской Федерации случаях ее материальный носител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) оператор информационной системы - гражданин или юридическое лицо, осуществляющие деятельность по эксплуатации информационной системы, в том числе по обработке информации, содержащейся в ее базах данн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ификация документированной информации</a:t>
            </a:r>
            <a:br>
              <a:rPr sz="24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в соответствии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 федеральным законом Российской Федерации от 27 июля 2006 г. N 149-Ф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3"/>
          <p:cNvSpPr/>
          <p:nvPr/>
        </p:nvSpPr>
        <p:spPr>
          <a:xfrm>
            <a:off x="3348000" y="1916280"/>
            <a:ext cx="24480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ННнннннДдД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755640" y="2997360"/>
            <a:ext cx="314640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5364000" y="2997360"/>
            <a:ext cx="3095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7"/>
          <p:cNvSpPr/>
          <p:nvPr/>
        </p:nvSpPr>
        <p:spPr>
          <a:xfrm>
            <a:off x="611280" y="4365720"/>
            <a:ext cx="1728720" cy="576000"/>
          </a:xfrm>
          <a:prstGeom prst="ellips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2"/>
          <p:cNvSpPr/>
          <p:nvPr/>
        </p:nvSpPr>
        <p:spPr>
          <a:xfrm>
            <a:off x="2556000" y="4365720"/>
            <a:ext cx="1728720" cy="576000"/>
          </a:xfrm>
          <a:prstGeom prst="ellips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4"/>
          <p:cNvSpPr/>
          <p:nvPr/>
        </p:nvSpPr>
        <p:spPr>
          <a:xfrm>
            <a:off x="6659640" y="4365720"/>
            <a:ext cx="1728720" cy="576000"/>
          </a:xfrm>
          <a:prstGeom prst="ellips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6"/>
          <p:cNvSpPr/>
          <p:nvPr/>
        </p:nvSpPr>
        <p:spPr>
          <a:xfrm>
            <a:off x="4643280" y="4365720"/>
            <a:ext cx="1729080" cy="576000"/>
          </a:xfrm>
          <a:prstGeom prst="ellips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18"/>
          <p:cNvCxnSpPr>
            <a:stCxn id="56" idx="2"/>
            <a:endCxn id="57" idx="0"/>
          </p:cNvCxnSpPr>
          <p:nvPr/>
        </p:nvCxnSpPr>
        <p:spPr>
          <a:xfrm flipH="1">
            <a:off x="2328120" y="2707920"/>
            <a:ext cx="22438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20"/>
          <p:cNvCxnSpPr>
            <a:stCxn id="56" idx="2"/>
          </p:cNvCxnSpPr>
          <p:nvPr/>
        </p:nvCxnSpPr>
        <p:spPr>
          <a:xfrm>
            <a:off x="4571640" y="2707920"/>
            <a:ext cx="18010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2"/>
          <p:cNvCxnSpPr>
            <a:stCxn id="58" idx="2"/>
            <a:endCxn id="59" idx="0"/>
          </p:cNvCxnSpPr>
          <p:nvPr/>
        </p:nvCxnSpPr>
        <p:spPr>
          <a:xfrm flipH="1">
            <a:off x="1475640" y="3357720"/>
            <a:ext cx="543636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24"/>
          <p:cNvCxnSpPr>
            <a:stCxn id="58" idx="2"/>
            <a:endCxn id="60" idx="0"/>
          </p:cNvCxnSpPr>
          <p:nvPr/>
        </p:nvCxnSpPr>
        <p:spPr>
          <a:xfrm flipH="1">
            <a:off x="3418920" y="3357720"/>
            <a:ext cx="349308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26"/>
          <p:cNvCxnSpPr>
            <a:stCxn id="58" idx="2"/>
            <a:endCxn id="62" idx="0"/>
          </p:cNvCxnSpPr>
          <p:nvPr/>
        </p:nvCxnSpPr>
        <p:spPr>
          <a:xfrm flipH="1">
            <a:off x="5508360" y="3357720"/>
            <a:ext cx="140400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Прямая со стрелкой 28"/>
          <p:cNvCxnSpPr>
            <a:stCxn id="58" idx="2"/>
            <a:endCxn id="61" idx="0"/>
          </p:cNvCxnSpPr>
          <p:nvPr/>
        </p:nvCxnSpPr>
        <p:spPr>
          <a:xfrm>
            <a:off x="6912000" y="3357720"/>
            <a:ext cx="61344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TextBox 36"/>
          <p:cNvSpPr/>
          <p:nvPr/>
        </p:nvSpPr>
        <p:spPr>
          <a:xfrm>
            <a:off x="3492360" y="198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кументирова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1"/>
          <p:cNvSpPr/>
          <p:nvPr/>
        </p:nvSpPr>
        <p:spPr>
          <a:xfrm>
            <a:off x="755640" y="299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доступ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4"/>
          <p:cNvSpPr/>
          <p:nvPr/>
        </p:nvSpPr>
        <p:spPr>
          <a:xfrm>
            <a:off x="5435640" y="2997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граниченного дост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6"/>
          <p:cNvSpPr/>
          <p:nvPr/>
        </p:nvSpPr>
        <p:spPr>
          <a:xfrm>
            <a:off x="826920" y="4255200"/>
            <a:ext cx="151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ая тай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2"/>
          <p:cNvSpPr/>
          <p:nvPr/>
        </p:nvSpPr>
        <p:spPr>
          <a:xfrm>
            <a:off x="2700360" y="443700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оммерческая    тай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6"/>
          <p:cNvSpPr/>
          <p:nvPr/>
        </p:nvSpPr>
        <p:spPr>
          <a:xfrm>
            <a:off x="4788000" y="4508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ужебная тай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9"/>
          <p:cNvSpPr/>
          <p:nvPr/>
        </p:nvSpPr>
        <p:spPr>
          <a:xfrm>
            <a:off x="6732720" y="450864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ная тай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70"/>
          <p:cNvSpPr/>
          <p:nvPr/>
        </p:nvSpPr>
        <p:spPr>
          <a:xfrm>
            <a:off x="2556000" y="5084640"/>
            <a:ext cx="3816360" cy="914400"/>
          </a:xfrm>
          <a:prstGeom prst="ellipse">
            <a:avLst/>
          </a:prstGeom>
          <a:solidFill>
            <a:srgbClr val="c6d9f1"/>
          </a:solidFill>
          <a:ln w="38160">
            <a:solidFill>
              <a:srgbClr val="95373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7"/>
          <p:cNvSpPr/>
          <p:nvPr/>
        </p:nvSpPr>
        <p:spPr>
          <a:xfrm>
            <a:off x="2916360" y="5300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д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ьная тай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539640" y="1700280"/>
            <a:ext cx="2519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анковская т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1116000" y="2133720"/>
            <a:ext cx="25192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отариальная т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1692360" y="2637000"/>
            <a:ext cx="25192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цессуальные та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8"/>
          <p:cNvSpPr/>
          <p:nvPr/>
        </p:nvSpPr>
        <p:spPr>
          <a:xfrm>
            <a:off x="2340000" y="3068640"/>
            <a:ext cx="25192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рачебная т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9"/>
          <p:cNvSpPr/>
          <p:nvPr/>
        </p:nvSpPr>
        <p:spPr>
          <a:xfrm>
            <a:off x="2987640" y="3573360"/>
            <a:ext cx="25192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двокатская т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0"/>
          <p:cNvSpPr/>
          <p:nvPr/>
        </p:nvSpPr>
        <p:spPr>
          <a:xfrm>
            <a:off x="3635280" y="4076640"/>
            <a:ext cx="25192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йна страх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4356000" y="4581360"/>
            <a:ext cx="2519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йна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4932360" y="5084640"/>
            <a:ext cx="25192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йна усыно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3"/>
          <p:cNvSpPr/>
          <p:nvPr/>
        </p:nvSpPr>
        <p:spPr>
          <a:xfrm>
            <a:off x="6012000" y="5589720"/>
            <a:ext cx="25192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йна испове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рупненный план организационных мероприятий, направленных на обеспечение информационной безопасности </a:t>
            </a:r>
            <a:br>
              <a:rPr sz="40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Что?  Кто? Где? Каким образом?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становление перечня сведений, которые следует отнести к категории «тайн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круга лиц, допускаемых к работе с информацией ограниченного доступ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рмативное закрепление помещений, в которых разрешена работа с информацией ограниченного доступ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крепление технических средств за системой, в которой ведется обработка информации ограниченного доступ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ческие этапы в документообор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Овал 5"/>
          <p:cNvSpPr/>
          <p:nvPr/>
        </p:nvSpPr>
        <p:spPr>
          <a:xfrm>
            <a:off x="2050920" y="3933720"/>
            <a:ext cx="2140200" cy="201636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Работа  с документом: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рием, обработка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доставка, контроль исполн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6"/>
          <p:cNvSpPr/>
          <p:nvPr/>
        </p:nvSpPr>
        <p:spPr>
          <a:xfrm>
            <a:off x="611280" y="1700280"/>
            <a:ext cx="2138400" cy="20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ка: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бсуждение, документиро-вание, редак-тирование, согласование, утвержден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3564000" y="1700280"/>
            <a:ext cx="2138400" cy="20160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перативное хранение документов: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учет, выдача, сохраннос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8"/>
          <p:cNvSpPr/>
          <p:nvPr/>
        </p:nvSpPr>
        <p:spPr>
          <a:xfrm>
            <a:off x="6443640" y="1700280"/>
            <a:ext cx="2138400" cy="201600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Уничтож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9"/>
          <p:cNvSpPr/>
          <p:nvPr/>
        </p:nvSpPr>
        <p:spPr>
          <a:xfrm>
            <a:off x="5003640" y="3860640"/>
            <a:ext cx="2138400" cy="2016360"/>
          </a:xfrm>
          <a:prstGeom prst="ellips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Архивиро-вание: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сос-тавление но-менклатуры дел, форми-рование де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трелка вправо 10"/>
          <p:cNvSpPr/>
          <p:nvPr/>
        </p:nvSpPr>
        <p:spPr>
          <a:xfrm rot="3086400">
            <a:off x="2194200" y="3512160"/>
            <a:ext cx="628560" cy="484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право 11"/>
          <p:cNvSpPr/>
          <p:nvPr/>
        </p:nvSpPr>
        <p:spPr>
          <a:xfrm rot="18100800">
            <a:off x="3512880" y="3539520"/>
            <a:ext cx="622440" cy="4860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право 12"/>
          <p:cNvSpPr/>
          <p:nvPr/>
        </p:nvSpPr>
        <p:spPr>
          <a:xfrm rot="3395400">
            <a:off x="5085000" y="3543840"/>
            <a:ext cx="536400" cy="4842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право 13"/>
          <p:cNvSpPr/>
          <p:nvPr/>
        </p:nvSpPr>
        <p:spPr>
          <a:xfrm rot="18547200">
            <a:off x="6553080" y="3560760"/>
            <a:ext cx="581040" cy="4856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налы утечки информации, возникающие в процессе подготовки докум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устические (виброакустические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ые окна, форточ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нтиляц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вер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ены и перекрытия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тическ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ерез ок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изуально (на месте подготовки документа)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диоэлектронные (акустоэлектрические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емоперадающие устройст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елефонные аппара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вода, выходящие за пределы контролируемой зоны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налы утечки информации, возникающие в дальнейшей работе с докумен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санкционированный доступ к информ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 паразитные сигналы и навод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 цепи электропит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 цепи заземления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08:37:57Z</dcterms:created>
  <dc:creator>Popov</dc:creator>
  <dc:description/>
  <dc:language>en-US</dc:language>
  <cp:lastModifiedBy>Коля</cp:lastModifiedBy>
  <dcterms:modified xsi:type="dcterms:W3CDTF">2013-08-29T16:13:30Z</dcterms:modified>
  <cp:revision>111</cp:revision>
  <dc:subject/>
  <dc:title>Начала информационной безопасности</dc:title>
</cp:coreProperties>
</file>