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34F-A1DF-46AA-AD09-C62A3742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036-99B6-4B4B-B69D-9164E690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79D-0DE0-4991-BB31-350113CA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652-915E-415B-9F41-0DAA5D77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DF67-F230-440D-B539-01C6759D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8F5-7C5B-479F-8067-D1B43B2E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967-38B6-4C5A-99A6-85414201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53C-8896-4D1B-A326-824747E3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3D4-868A-4F3F-8115-2C6F6ED4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2DB-57F8-41AD-9B49-08FDF804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C0A-8DD4-43EC-AF8B-A523FA5F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8C4-12BD-49FC-B7CB-1C671DB3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4956-0CD8-42B4-A09A-0007ABC4B4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\Мои документы\Фоны для презентаций. 105 штук\8-3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льчики принесли сухих вет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rcRect l="0" t="0" r="0" b="15980"/>
          <a:stretch/>
        </p:blipFill>
        <p:spPr>
          <a:xfrm>
            <a:off x="1500120" y="1571760"/>
            <a:ext cx="6129360" cy="3857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Admin\Мои документы\Фоны для презентаций. 105 штук\8-3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оле поспевает рожь и пшениц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643040" y="150012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Admin\Мои документы\Фоны для презентаций. 105 штук\8-3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ники поехали на строй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714680" y="150012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Admin\Мои документы\Фоны для презентаций. 105 штук\8-3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ежий ветерок повеял прохлад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714680" y="1285920"/>
            <a:ext cx="5802120" cy="4357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Admin\Мои документы\Фоны для презентаций. 105 штук\8-3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507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ти всех стран хотят жить в мир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286000" y="1428840"/>
            <a:ext cx="5438880" cy="4000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Admin\Мои документы\Фоны для презентаций. 105 штук\8-3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507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еркнула молния и загремел гр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2214720" y="1571760"/>
            <a:ext cx="5680080" cy="3786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35:12Z</dcterms:created>
  <dc:creator>Admin</dc:creator>
  <dc:description/>
  <dc:language>en-US</dc:language>
  <cp:lastModifiedBy>Admin</cp:lastModifiedBy>
  <dcterms:modified xsi:type="dcterms:W3CDTF">2011-01-07T12:02:43Z</dcterms:modified>
  <cp:revision>3</cp:revision>
  <dc:subject/>
  <dc:title>Мальчики принесли сухих веток.</dc:title>
</cp:coreProperties>
</file>