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E47-7ED0-4BA2-889F-62FFD74A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584-A914-4BEC-B33E-936FCEDE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DB7-7585-48A4-BAF6-CC52FA97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F33-876F-44D3-AB77-54B5CBBB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743-1F96-4C61-9F11-7E6C80E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888-F1BD-44FA-817B-03244634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71F-CF05-43BC-86B4-B0343DD0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C7B-168C-49E0-95A6-AE8BE2AA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6BE-7703-44B8-A23F-2C7DD0F5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D85-2399-4D8A-8C9C-EAEDD0C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986-AA1E-4C39-A5F3-5CBFF96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8AE-B03F-49A1-82A2-87D53DE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3DB-5A3C-48F0-B0FE-56B270291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льчики принесли сухих 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rcRect l="0" t="0" r="0" b="15980"/>
          <a:stretch/>
        </p:blipFill>
        <p:spPr>
          <a:xfrm>
            <a:off x="1500120" y="1571760"/>
            <a:ext cx="6129360" cy="385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оле поспевает рожь и пшениц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43040" y="150012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ники поехали на строй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714680" y="150012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жий ветерок повеял прохлад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14680" y="1285920"/>
            <a:ext cx="5802120" cy="4357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ти всех стран хотят жить в ми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428840"/>
            <a:ext cx="5438880" cy="4000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ркнула молния и загремел гр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214720" y="1571760"/>
            <a:ext cx="5680080" cy="3786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35:12Z</dcterms:created>
  <dc:creator>Admin</dc:creator>
  <dc:description/>
  <dc:language>en-US</dc:language>
  <cp:lastModifiedBy>Admin</cp:lastModifiedBy>
  <dcterms:modified xsi:type="dcterms:W3CDTF">2011-01-07T12:02:43Z</dcterms:modified>
  <cp:revision>3</cp:revision>
  <dc:subject/>
  <dc:title>Мальчики принесли сухих веток.</dc:title>
</cp:coreProperties>
</file>