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128-69E7-407C-B2D6-C7B4E6D2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CC9-44B8-49A7-8F70-B503A314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E84-EB42-46AE-AD79-932B5B69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0F8-235B-48E6-9177-6EA27275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303B-861F-4829-9C46-3DB1C744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850D-AA49-4CE8-B8FE-4320E703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13B-D958-43A9-92D4-F95E5D63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B797-81B3-4C95-A306-62A5A042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5FEF-B2AA-4AB1-BE75-8B4B7C6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76D8-BA93-4FA0-A5E1-81C813EE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3B8E-4FA7-4B66-8EC9-ED63D5F6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552-5422-46C6-89B9-76F29D2C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44A9-BEE0-4CC8-BBBA-C2EB0CB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5BA9-814E-4BF2-B744-BF00A34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F220-8150-4270-B3AB-D877D5C0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3CE-1F2E-4223-B7C9-66F0F772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DB3E-000A-4C19-9399-1772CAD2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2218-3EE1-4A52-BD37-777E66D6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B647-22F1-4F89-8BD6-41D3D232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681D-5902-4C2D-BE41-A6337CDB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E78B9-71D0-4D7D-A822-0607ADDE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A766-ACBF-4F21-A86A-3AD8BEE0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D81-4034-44B5-9A7E-FE57E005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1C87-75A2-49D6-84B5-A0C91E07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2D85-8807-41B9-AF79-238C69AE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6516-1436-4955-964F-0C3BDE65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6045-F7FB-48CD-820B-146D30B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90C73-4220-4092-B621-55694F30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0491-F69A-4A48-BD49-19497048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C259-7171-4F4A-829F-CFAC3816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8EBC-194E-41AA-8A67-ACCF8FE7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5E649-9386-4658-9DD6-ADE2823E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E2B9-D8D3-4682-AA43-9FBEF4F3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5D6-1762-4F65-B9CC-38A14BCF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7502-71E6-471F-9CBA-CA2434BD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4463-7AD4-45BE-A29F-6F5E235D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51527-42B8-48CF-8761-BD7D15C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5AB7-4759-46BA-9F67-8D444EE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B96F-4D09-42D5-B66C-04BF6E01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C2BC-835A-4D25-8B3A-AC670B7B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BD28-5F42-4514-AA81-F0305EA1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E4B6-B73C-49B6-9628-B9CAD763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8992-4489-4745-AFCB-5C1C440C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E836-5C1A-4D44-98DA-262627EA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094-A387-42FC-80EA-1732E0D2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B7CD1-AB11-4968-A081-934FBD27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6B61E-9581-4559-9072-4B646B97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B3A51-E5CE-41C2-8D7C-3987C682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18FB3-E8A9-47C6-8492-F96D8B54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16555-9398-470A-828A-B6806BA4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84D2A-54D6-4DF2-B37D-F96EEB87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5C4E-15F6-4126-926A-6A08E41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8D6E4-2593-4683-AA18-EF9C96B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D541-2972-4EE2-8569-698FC72A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901A-60F6-4D13-93E8-D9587DC7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DBB-C159-43F8-B442-E2288B3E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D523-09AE-4C12-B38D-99626C3D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42DDC-98C6-4945-9BE4-0D3756D1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82AFF-E0FB-4FD8-BF52-913609F9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247BD-0CEC-46DF-8DE7-2796207D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10A33-9A1D-46B6-9B4B-0E5A810C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94576-2F32-4BE8-B973-9E0412BB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121F0-3CA2-4BE9-B9A1-506CA7FA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E4246-3D9A-4D81-A9E7-786899A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19F67-D2E6-46F1-9D53-247492D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296FA-2649-40AD-AFEF-1F940062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F5E-2A5A-4094-B8E0-8C89A6D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26A10-02CD-4A82-ADAC-8DE1BA11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5002-B552-48AA-B5B2-DEB537DD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4A9CA-7791-4A2D-A9D9-31261DD0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CDB-EC6B-46E1-9B6C-980FAA35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AED-52C9-4FC1-8C0D-347E3A2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EAD5-51BB-4BCB-AF53-6F06F3FED6C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325B-AC15-4D0C-84D9-99A009FB557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9432-2B77-451A-915F-5D64772B681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CF22-B9FC-49CA-B22B-07C44E1DAD6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1975-D892-46FC-BEF8-0958D66AD1F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20D0-93DA-4C55-B27D-521BE0907D0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85680" y="1139760"/>
            <a:ext cx="9058320" cy="4864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42560" y="324000"/>
            <a:ext cx="6480360" cy="630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5beab"/>
                </a:solidFill>
                <a:latin typeface="Arial"/>
              </a:rPr>
              <a:t>Задание В4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2195640" y="5575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учитель русского языка и лит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крокурналинской сош Трифанова С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2"/>
          <p:cNvSpPr/>
          <p:nvPr/>
        </p:nvSpPr>
        <p:spPr>
          <a:xfrm>
            <a:off x="2428920" y="785880"/>
            <a:ext cx="3714840" cy="3988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зование причас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428760" y="1785960"/>
            <a:ext cx="4000320" cy="91692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астия настоящег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т основы настоящего времен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857840" y="1785960"/>
            <a:ext cx="4071960" cy="916920"/>
          </a:xfrm>
          <a:prstGeom prst="rect">
            <a:avLst/>
          </a:prstGeom>
          <a:solidFill>
            <a:srgbClr val="f6f6f6"/>
          </a:solidFill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3b3b"/>
                </a:solidFill>
                <a:latin typeface="Arial"/>
              </a:rPr>
              <a:t>Причастия прошедшег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(от основы инфинити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142920" y="2928960"/>
            <a:ext cx="207180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2357280" y="2928960"/>
            <a:ext cx="192888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д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4572000" y="2928960"/>
            <a:ext cx="2071800" cy="368280"/>
          </a:xfrm>
          <a:prstGeom prst="rect">
            <a:avLst/>
          </a:prstGeom>
          <a:solidFill>
            <a:srgbClr val="f6f6f6"/>
          </a:solidFill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действ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6715080" y="2928960"/>
            <a:ext cx="1928880" cy="368280"/>
          </a:xfrm>
          <a:prstGeom prst="rect">
            <a:avLst/>
          </a:prstGeom>
          <a:solidFill>
            <a:srgbClr val="f6f6f6"/>
          </a:solidFill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страд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360720" y="3500280"/>
            <a:ext cx="61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у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ю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я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авая фигурная скобка 20"/>
          <p:cNvSpPr/>
          <p:nvPr/>
        </p:nvSpPr>
        <p:spPr>
          <a:xfrm>
            <a:off x="928800" y="350028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авая фигурная скобка 21"/>
          <p:cNvSpPr/>
          <p:nvPr/>
        </p:nvSpPr>
        <p:spPr>
          <a:xfrm>
            <a:off x="928800" y="435780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1143000" y="350028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24"/>
          <p:cNvSpPr/>
          <p:nvPr/>
        </p:nvSpPr>
        <p:spPr>
          <a:xfrm>
            <a:off x="1214280" y="4429080"/>
            <a:ext cx="10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25"/>
          <p:cNvSpPr/>
          <p:nvPr/>
        </p:nvSpPr>
        <p:spPr>
          <a:xfrm>
            <a:off x="2500200" y="350028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авая фигурная скобка 26"/>
          <p:cNvSpPr/>
          <p:nvPr/>
        </p:nvSpPr>
        <p:spPr>
          <a:xfrm>
            <a:off x="3000240" y="350028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авая фигурная скобка 27"/>
          <p:cNvSpPr/>
          <p:nvPr/>
        </p:nvSpPr>
        <p:spPr>
          <a:xfrm>
            <a:off x="3000240" y="421488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28"/>
          <p:cNvSpPr/>
          <p:nvPr/>
        </p:nvSpPr>
        <p:spPr>
          <a:xfrm>
            <a:off x="3214800" y="350028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29"/>
          <p:cNvSpPr/>
          <p:nvPr/>
        </p:nvSpPr>
        <p:spPr>
          <a:xfrm>
            <a:off x="3286080" y="428616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31"/>
          <p:cNvSpPr/>
          <p:nvPr/>
        </p:nvSpPr>
        <p:spPr>
          <a:xfrm>
            <a:off x="4929120" y="3714840"/>
            <a:ext cx="642960" cy="119124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в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7740720" y="3500280"/>
            <a:ext cx="642960" cy="173988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ен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н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34"/>
          <p:cNvSpPr/>
          <p:nvPr/>
        </p:nvSpPr>
        <p:spPr>
          <a:xfrm>
            <a:off x="6572160" y="3643200"/>
            <a:ext cx="857520" cy="9169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ч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авая фигурная скобка 35"/>
          <p:cNvSpPr/>
          <p:nvPr/>
        </p:nvSpPr>
        <p:spPr>
          <a:xfrm>
            <a:off x="7143840" y="3643200"/>
            <a:ext cx="142920" cy="9288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928800"/>
              <a:gd name="textAreaBottom" fmla="*/ 9252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9" name="Прямая со стрелкой 37"/>
          <p:cNvCxnSpPr/>
          <p:nvPr/>
        </p:nvCxnSpPr>
        <p:spPr>
          <a:xfrm>
            <a:off x="7358040" y="3929040"/>
            <a:ext cx="357840" cy="21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Прямая со стрелкой 41"/>
          <p:cNvCxnSpPr>
            <a:stCxn id="278" idx="2"/>
            <a:endCxn id="279" idx="0"/>
          </p:cNvCxnSpPr>
          <p:nvPr/>
        </p:nvCxnSpPr>
        <p:spPr>
          <a:xfrm flipH="1">
            <a:off x="2428200" y="1185480"/>
            <a:ext cx="1857960" cy="6008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1" name="Прямая со стрелкой 43"/>
          <p:cNvCxnSpPr>
            <a:stCxn id="278" idx="2"/>
            <a:endCxn id="280" idx="0"/>
          </p:cNvCxnSpPr>
          <p:nvPr/>
        </p:nvCxnSpPr>
        <p:spPr>
          <a:xfrm>
            <a:off x="4285080" y="1185480"/>
            <a:ext cx="2608920" cy="6008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Прямая со стрелкой 45"/>
          <p:cNvCxnSpPr>
            <a:stCxn id="279" idx="2"/>
            <a:endCxn id="281" idx="0"/>
          </p:cNvCxnSpPr>
          <p:nvPr/>
        </p:nvCxnSpPr>
        <p:spPr>
          <a:xfrm flipH="1">
            <a:off x="1177200" y="2709360"/>
            <a:ext cx="125172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Прямая со стрелкой 47"/>
          <p:cNvCxnSpPr>
            <a:stCxn id="279" idx="2"/>
            <a:endCxn id="282" idx="0"/>
          </p:cNvCxnSpPr>
          <p:nvPr/>
        </p:nvCxnSpPr>
        <p:spPr>
          <a:xfrm>
            <a:off x="2428920" y="2709360"/>
            <a:ext cx="89280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4" name="Прямая со стрелкой 49"/>
          <p:cNvCxnSpPr>
            <a:stCxn id="280" idx="2"/>
            <a:endCxn id="283" idx="0"/>
          </p:cNvCxnSpPr>
          <p:nvPr/>
        </p:nvCxnSpPr>
        <p:spPr>
          <a:xfrm flipH="1">
            <a:off x="5608080" y="2709360"/>
            <a:ext cx="128628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5" name="Прямая со стрелкой 51"/>
          <p:cNvCxnSpPr>
            <a:stCxn id="280" idx="2"/>
            <a:endCxn id="284" idx="0"/>
          </p:cNvCxnSpPr>
          <p:nvPr/>
        </p:nvCxnSpPr>
        <p:spPr>
          <a:xfrm>
            <a:off x="6893280" y="2709360"/>
            <a:ext cx="78660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Правописание суффиксов глаголов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268280"/>
            <a:ext cx="8075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 Суффиксы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 ОВА-/-ЕВА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характерны для глаголов, которые в форме 1л.ед.ч.этот суффикс утрачивают (торг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торгую, во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е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воюю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ффиксы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–ЫВА-/-ИВА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оформляющие основу инфинитива, сохраняются в 1л.ед.ч.(воспит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ы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воспит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ы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ю, наст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наст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ю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сключения: застрять – застреваю, продлить – продлева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В форме глаголов прошедшего времени перед суффиксом –Л- пишется та же гласная, что и в основе инфинитива (с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 – с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, вер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 – вер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, вид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 – вид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спользованная литерату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йлова Е.А. Справочник-практикум по русскому языку / К.А.Войлова, Н.Г.Гольцова. – М.: Дрофа, 2005. – 384 с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94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Правописание суффиксов различных частей речи.</a:t>
            </a:r>
            <a:br>
              <a:rPr sz="43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c7c8b"/>
                </a:solidFill>
                <a:latin typeface="Arial"/>
              </a:rPr>
              <a:t>Суффиксы существительных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ИК-/-ЕК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 В суффиксе –ЕК- при изменении слова гласная выпад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ЕЦ-/-ИЦ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 Суффикс –ЕЦ- образует сущ.м.р., -ИЦ- образует сущ.ж.р. (братец, водиц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ЧИК-\-ЩИК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 Суффикс –ЧИК- употребляется после основ на Д, Т, З, С, Ж (наводчик, переплетчик, перевозчик, переписчик, перебежчик). В остальных случаях употребляется суффикс –ЩИК-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мечание: 1. Перед звуком Ч суффикса конечные согласные основы К и Ч заменяются Т (добытчик-добыча, кабатчик-кабак). 2.В заимствованных словах –ЩИК- возможен и после Т (асфальтщик, ремонтщик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0560" y="40428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7c8b"/>
                </a:solidFill>
                <a:latin typeface="Arial"/>
              </a:rPr>
              <a:t>Суффиксы прилагательн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ЕВ-/-ИВ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В безударном положении пишется Е, по ударением – И (дождевой, учтив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К-/-СК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-К- характерен для качественных, -СК- для относительных прилагательных. Если –СК- образует слово, корень которого оканчивается на Д,Т,З,С, Ц (если перед Ц согласный), эти согласные в корне сохраняются (ленинградский, светский); если перед Ц гласный звук, то прилагательное образуется с суффиксом –К-(Елецкий-Елец, немецкий-немец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–СК- образует слово, корень которого оканчивается на К и Ч, они заменяются буквой Ц, а буква с –СК- опускается (батрацкий – батрак, ткацкий – ткач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я: таджикский, узбекский, углич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23640" y="404280"/>
            <a:ext cx="813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c7c8b"/>
                </a:solidFill>
                <a:latin typeface="Arial"/>
              </a:rPr>
              <a:t>Суффиксы местоимений и местоименных наречий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рез дефис пишутся суффиксы местоимений и местоименных наречий –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ТО-, -ЛИБО-, -НИБУДЬ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речия, образованные при помощ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ставки ПО-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уффиксов –ОМУ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-ЕМУ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-К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Ь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пишутся через дефис (по-боевому, по-моему, по-дружески, по-волчьи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Буквы О и Ё в суффиксах после шипящих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суффиксах существительных, прилагательных, наречий после шипящих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под ударением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ишется буква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ч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рубаш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н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; холщ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, еж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; горяч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свеж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укв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Ё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ишется в суффикс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лаголов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ВЫВА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тушёвывать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ществительных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ВК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-ЁР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ноч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в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, дириж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лагательных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Н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копч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радательных причастий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НН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жж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н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 суффиксах причастий и глаголов после шипящ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икогда не может быть буква 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00"/>
                </a:solidFill>
                <a:latin typeface="Franklin Gothic Book"/>
              </a:rPr>
              <a:t>Правописание суффиксов –Н- и –НН-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97000"/>
            <a:ext cx="8002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7c8b"/>
                </a:solidFill>
                <a:latin typeface="Arial"/>
              </a:rPr>
              <a:t>Прилагатель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-Н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В суффиксах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АН-/-ЯН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ИН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есч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-песок, гл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-глина, лебе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-лебед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я: стеклянный, оловянный, деревя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-НН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1. В суффиксах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ОНН-/-ЕНН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 ут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й, революц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 прилагательных, образованных от существительных с основой на –Н, -МЯ (карт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 – картина, племе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й-плем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4c7c8b"/>
                </a:solidFill>
                <a:latin typeface="Franklin Gothic Book"/>
              </a:rPr>
              <a:t>Наречие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наречиях, образованных от прилагательных при помощи суффиксов –О- и –Е-, пишется столько же букв Н, сколько и в прилагательных, от которых они образова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Холод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ый – холод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, исти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ый – исти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неш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й – внеш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, искре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й – искре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611280" y="692280"/>
            <a:ext cx="7786440" cy="8254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c7c8b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4c7c8b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4c7c8b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4c7c8b"/>
                </a:solidFill>
                <a:latin typeface="Arial"/>
              </a:rPr>
              <a:t> в причастиях и отглагольных прилаг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187280" y="1484280"/>
            <a:ext cx="35748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6516720" y="1413000"/>
            <a:ext cx="57132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5"/>
          <p:cNvSpPr/>
          <p:nvPr/>
        </p:nvSpPr>
        <p:spPr>
          <a:xfrm>
            <a:off x="4285440" y="1714680"/>
            <a:ext cx="71640" cy="464328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4357800" y="198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уффиксах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ованн-(-еванн-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ных и кратких форм отглагольных прилагательных: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аршированный, фаршированна (но: фарширована вчер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4500720" y="3714840"/>
            <a:ext cx="45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В полных страдате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астиях прошедшего врем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есть приставка, зависимое слово, образовано от глагола сов. ви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рашенный, крашенный кистью, решё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мни: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ежданный, негаданный, невиданный, неслыханный, жеманный, желанный, чванный, чеканный, медленный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0" y="1989000"/>
            <a:ext cx="400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глагольных прилагательных (нет приставки, зависимого слова, образовано от глагола несов. ви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та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250920" y="378936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ратких причаст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дача решена</a:t>
            </a:r>
            <a:r>
              <a:rPr b="1" lang="ru-RU" sz="1800" spc="-1" strike="noStrike">
                <a:solidFill>
                  <a:srgbClr val="57644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мни: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осажёны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ец)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азваны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рат)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, приданое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о бесприданница)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смыш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4427640" y="34290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кл: кованый, жёваный, клёва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Правописание личных окончаний глаголов и суффиксов причастий настоящего времен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41360"/>
            <a:ext cx="8147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7627f"/>
                </a:solidFill>
                <a:latin typeface="Arial"/>
              </a:rPr>
              <a:t>Окончания спрягаемых глаголов определяются их спряжен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К 1 спряжению ( опорные гласные Е, У/Ю) относятс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ногие глаголы на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еть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ать (-ять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се глаголы на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овать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Ко 2 спряжению  ( опорные гласные И, А/Я) относятс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се глаголы на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ить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, кроме 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брить, стелить, брезжить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емь глаголов на -еть, и четыре на -ать 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(смотр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, в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деть об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деть, ненав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деть, зав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сеть, терп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, верт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; Сл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ы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шать, гнать, дыш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а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, держ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а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Некоторые другие глаголы  на -ать (-ять), у которых ударение падает на окончания, например лежать - он лежит, стоять - мы стои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н спеш?т =&gt; они спеш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т =&gt; он спеш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т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"хотеть"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называют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разноспрягаемы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, т.к. он в ед. ч. спрягается как глагол I спр., а во мн. ч. как глагол II спр.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0:39:40Z</dcterms:created>
  <dc:creator>Admin</dc:creator>
  <dc:description/>
  <dc:language>en-US</dc:language>
  <cp:lastModifiedBy>ZooM</cp:lastModifiedBy>
  <dcterms:modified xsi:type="dcterms:W3CDTF">2013-11-15T18:32:56Z</dcterms:modified>
  <cp:revision>15</cp:revision>
  <dc:subject/>
  <dc:title>Правописание суффиксов различных частей речи. Правописание суффиксов н- И–нн-. Правописание личных окончаний глаголов и суффиксов причастий настоящего времени.</dc:title>
</cp:coreProperties>
</file>