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94D-8E6B-4C19-8465-61EF0ED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E2F-27A8-4CD8-9BD3-7B0EFA2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968-76A6-46A8-99CB-1CD31D98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238-0726-45EB-ACE0-3430B71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29C6-0294-4010-8BA0-86961D4C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A245-2B0C-40AA-9F72-65C01527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E16E-68BA-4F54-BB77-79155CA8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302B-3D30-4C78-A42A-8008307E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13D-A656-4272-B907-F865041F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A5CC-23B0-493A-99ED-7AC87B6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0BD0-9147-48FA-A03D-E4A11A1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261-6F8B-4331-8732-92B70200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DF0-169F-486E-AF88-BD278F33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311-1030-4DC5-B4D5-3E01521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4273-D047-4880-B5C7-3E41D71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DAC3-5957-4787-9A75-3C51A102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F8A-7237-40C8-80CC-302AD5C8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871D-59A4-4B9E-9220-DA7BBF8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779D-AF5D-48C3-B383-B24A019F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54E8-0E47-4B9F-8FC3-B247958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F6C2-ACC2-48FC-8478-446A4C9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E1FD-E76C-475D-B622-B3125BF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821-83B3-4B0C-8603-272B0E5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F5B1-AA29-4C50-98BA-E8EAAED1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3FF1-FC42-4FE1-A913-61922B2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DD87-25DA-45AE-8EBF-8B6AE64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A71C-0CDB-4373-8E8F-7164A48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7ECC-CB89-493C-AAA0-078750B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CD3F-1612-42B7-B403-41DA542D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0635-3883-47CF-804A-68F791BD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D86E-D4DF-4676-9C96-9E9C40A8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4C37-D520-4500-BB53-5C077DB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A23B-B32A-40BA-B009-5B5CCFE7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2AA-51A0-4271-8999-2CDD8C13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7239-A6EC-4815-8335-F2FE7CF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0CD1-08A8-4D1E-9C5C-B08B641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3B86-FCF0-4877-B81A-D6ECD6F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9202-7F78-451D-85B6-8CEF208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6CF7-1131-469B-B47D-03B587C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242A-F12D-4AEA-BDFA-CC53020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A19D-3B72-421F-B172-190CA242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EA5F-D572-4987-A863-E83BF2E2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9E8E-EEE3-421C-A002-6E5B020A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9C9A-2464-4D87-909D-05D66D2D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F45-F8C4-47F1-B05F-404BF2F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D856-5A49-4FEE-BD40-F5220C4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0DAA-5E23-40FA-9208-81BB6FE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D797-F424-4B2E-8BB2-471FF93D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5C41-4AEA-4D8C-88C2-DB4E39E8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C0AC-C61D-4D19-B92A-DB28EC0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D7F1-B85A-44BA-8899-400D908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6AFF2-3E36-44D3-B4D2-2D018C8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DFAC-D436-4DB7-BEC4-DAF6CE9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63D0-C6F4-40B3-B1C6-C10FCCC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6A0C-2F9C-40A0-B492-9F47F3AA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691-8FDB-4266-888D-E4487D9B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7721-B93A-4AC7-9E79-1939543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D18B-825A-4F7E-A3F9-27DC1D41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D4F6-6AAE-4DE2-B994-5E3198F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A46A-45B8-434A-BEC8-AD791E0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008B-430A-42E1-97BA-EFDE5A32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34DA-2EFC-4F11-9C48-DEBA9FB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9DE6-3628-4379-9714-3299D932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9F41-A1C0-42AC-8DD8-0E0440A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2D25-5A74-4AA0-AB44-576F9E3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3BDC-60B0-46AD-B0B6-8BC1AD6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2BB-918A-45EB-90A1-B32B8F65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E512-B16B-4A94-9F0A-8DB3EB70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A74D6-9098-47C0-8B0D-4235546D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D573-EB59-4EE0-8B71-8CB04C59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20C-F5F5-455A-8946-5181CD63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DB3-F691-4B48-83A2-275E22F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FA1-DF44-437F-A383-E6D17578851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4313-95CD-4F13-BE0B-674EDB9FE0E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7E8-5053-41A8-8DCC-BCDE620C24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1C1-6A63-41A7-9949-6ACEE84667A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BA5-9480-4D39-94CC-7A03B59E3F3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2A7-1719-493C-B2EE-6A3785EF1AB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85680" y="1139760"/>
            <a:ext cx="9058320" cy="4864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42560" y="324000"/>
            <a:ext cx="6480360" cy="630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5beab"/>
                </a:solidFill>
                <a:latin typeface="Arial"/>
              </a:rPr>
              <a:t>Задание В4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2195640" y="5575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учитель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крокурналинской сош Трифано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2428920" y="785880"/>
            <a:ext cx="3714840" cy="3988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е причас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428760" y="1785960"/>
            <a:ext cx="4000320" cy="91692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астия настоящ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т основы настоящего времен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857840" y="1785960"/>
            <a:ext cx="4071960" cy="91692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3b3b"/>
                </a:solidFill>
                <a:latin typeface="Arial"/>
              </a:rPr>
              <a:t>Причастия прошедш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(от основы инфинит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42920" y="2928960"/>
            <a:ext cx="207180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2357280" y="2928960"/>
            <a:ext cx="19288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572000" y="2928960"/>
            <a:ext cx="207180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715080" y="2928960"/>
            <a:ext cx="192888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360720" y="3500280"/>
            <a:ext cx="61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у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ю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авая фигурная скобка 20"/>
          <p:cNvSpPr/>
          <p:nvPr/>
        </p:nvSpPr>
        <p:spPr>
          <a:xfrm>
            <a:off x="92880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авая фигурная скобка 21"/>
          <p:cNvSpPr/>
          <p:nvPr/>
        </p:nvSpPr>
        <p:spPr>
          <a:xfrm>
            <a:off x="928800" y="435780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11430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1214280" y="442908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5"/>
          <p:cNvSpPr/>
          <p:nvPr/>
        </p:nvSpPr>
        <p:spPr>
          <a:xfrm>
            <a:off x="2500200" y="350028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авая фигурная скобка 26"/>
          <p:cNvSpPr/>
          <p:nvPr/>
        </p:nvSpPr>
        <p:spPr>
          <a:xfrm>
            <a:off x="300024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авая фигурная скобка 27"/>
          <p:cNvSpPr/>
          <p:nvPr/>
        </p:nvSpPr>
        <p:spPr>
          <a:xfrm>
            <a:off x="3000240" y="42148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8"/>
          <p:cNvSpPr/>
          <p:nvPr/>
        </p:nvSpPr>
        <p:spPr>
          <a:xfrm>
            <a:off x="32148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9"/>
          <p:cNvSpPr/>
          <p:nvPr/>
        </p:nvSpPr>
        <p:spPr>
          <a:xfrm>
            <a:off x="3286080" y="42861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4929120" y="3714840"/>
            <a:ext cx="642960" cy="119124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в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7740720" y="3500280"/>
            <a:ext cx="642960" cy="173988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е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34"/>
          <p:cNvSpPr/>
          <p:nvPr/>
        </p:nvSpPr>
        <p:spPr>
          <a:xfrm>
            <a:off x="6572160" y="3643200"/>
            <a:ext cx="857520" cy="9169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авая фигурная скобка 35"/>
          <p:cNvSpPr/>
          <p:nvPr/>
        </p:nvSpPr>
        <p:spPr>
          <a:xfrm>
            <a:off x="7143840" y="364320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Прямая со стрелкой 37"/>
          <p:cNvCxnSpPr/>
          <p:nvPr/>
        </p:nvCxnSpPr>
        <p:spPr>
          <a:xfrm>
            <a:off x="7358040" y="3929040"/>
            <a:ext cx="35784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Прямая со стрелкой 41"/>
          <p:cNvCxnSpPr>
            <a:stCxn id="278" idx="2"/>
            <a:endCxn id="279" idx="0"/>
          </p:cNvCxnSpPr>
          <p:nvPr/>
        </p:nvCxnSpPr>
        <p:spPr>
          <a:xfrm flipH="1">
            <a:off x="2428200" y="1185480"/>
            <a:ext cx="185796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1" name="Прямая со стрелкой 43"/>
          <p:cNvCxnSpPr>
            <a:stCxn id="278" idx="2"/>
            <a:endCxn id="280" idx="0"/>
          </p:cNvCxnSpPr>
          <p:nvPr/>
        </p:nvCxnSpPr>
        <p:spPr>
          <a:xfrm>
            <a:off x="4285080" y="1185480"/>
            <a:ext cx="260892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Прямая со стрелкой 45"/>
          <p:cNvCxnSpPr>
            <a:stCxn id="279" idx="2"/>
            <a:endCxn id="281" idx="0"/>
          </p:cNvCxnSpPr>
          <p:nvPr/>
        </p:nvCxnSpPr>
        <p:spPr>
          <a:xfrm flipH="1">
            <a:off x="1177200" y="2709360"/>
            <a:ext cx="125172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Прямая со стрелкой 47"/>
          <p:cNvCxnSpPr>
            <a:stCxn id="279" idx="2"/>
            <a:endCxn id="282" idx="0"/>
          </p:cNvCxnSpPr>
          <p:nvPr/>
        </p:nvCxnSpPr>
        <p:spPr>
          <a:xfrm>
            <a:off x="2428920" y="2709360"/>
            <a:ext cx="8928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4" name="Прямая со стрелкой 49"/>
          <p:cNvCxnSpPr>
            <a:stCxn id="280" idx="2"/>
            <a:endCxn id="283" idx="0"/>
          </p:cNvCxnSpPr>
          <p:nvPr/>
        </p:nvCxnSpPr>
        <p:spPr>
          <a:xfrm flipH="1">
            <a:off x="5608080" y="2709360"/>
            <a:ext cx="128628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5" name="Прямая со стрелкой 51"/>
          <p:cNvCxnSpPr>
            <a:stCxn id="280" idx="2"/>
            <a:endCxn id="284" idx="0"/>
          </p:cNvCxnSpPr>
          <p:nvPr/>
        </p:nvCxnSpPr>
        <p:spPr>
          <a:xfrm>
            <a:off x="6893280" y="2709360"/>
            <a:ext cx="7866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глаголов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 Суффиксы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 ОВА-/-Е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арактерны для глаголов, которые в форме 1л.ед.ч.этот суффикс утрачивают (торг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торгую, во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е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ю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ффиксы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–ЫВА-/-И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оформляющие основу инфинитива, сохраняются в 1л.ед.ч.(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,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ключения: застрять – застреваю, продлить – продлева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В форме глаголов прошедшего времени перед суффиксом –Л- пишется та же гласная, что и в основе инфинитива (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спользованная литерату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йлова Е.А. Справочник-практикум по русскому языку / К.А.Войлова, Н.Г.Гольцова. – М.: Дрофа, 2005. – 384 с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94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различных частей речи.</a:t>
            </a:r>
            <a:br>
              <a:rPr sz="43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7c8b"/>
                </a:solidFill>
                <a:latin typeface="Arial"/>
              </a:rPr>
              <a:t>Суффиксы существительных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ИК-/-Е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В суффиксе –ЕК- при изменении слова гласная выпад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ЕЦ-/-ИЦ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ЕЦ- образует сущ.м.р., -ИЦ- образует сущ.ж.р. (братец, води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ЧИК-\-ЩИ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ЧИК- употребляется после основ на Д, Т, З, С, Ж (наводчик, переплетчик, перевозчик, переписчик, перебежчик). В остальных случаях употребляется суффикс –ЩИК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чание: 1. Перед звуком Ч суффикса конечные согласные основы К и Ч заменяются Т (добытчик-добыча, кабатчик-кабак). 2.В заимствованных словах –ЩИК- возможен и после Т (асфальтщик, ремонтщик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0560" y="40428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Суффиксы прилагательн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ЕВ-/-ИВ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В безударном положении пишется Е, по ударением – И (дождевой, учтив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К-/-СК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-К- характерен для качественных, -СК- для относительных прилагательных. Если –СК- образует слово, корень которого оканчивается на Д,Т,З,С, Ц (если перед Ц согласный), эти согласные в корне сохраняются (ленинградский, светский); если перед Ц гласный звук, то прилагательное образуется с суффиксом –К-(Елецкий-Елец, немецкий-немец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–СК- образует слово, корень которого оканчивается на К и Ч, они заменяются буквой Ц, а буква с –СК- опускается (батрацкий – батрак, ткацкий – тка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таджикский, узбекский, углич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3640" y="404280"/>
            <a:ext cx="813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7c8b"/>
                </a:solidFill>
                <a:latin typeface="Arial"/>
              </a:rPr>
              <a:t>Суффиксы местоимений и местоименных нареч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дефис пишутся суффиксы местоимений и местоименных наречий –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ТО-, -ЛИБО-, -НИБУДЬ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речия, образованные при помощ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ставки ПО-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уффиксов –О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Е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К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Ь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пишутся через дефис (по-боевому, по-моему, по-дружески, по-волчьи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Буквы О и Ё в суффиксах после шипящи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уффиксах существительных, прилагательных, наречий после шипящи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под ударением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буква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рубаш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н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; холщ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, 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; горя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св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укв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Ё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в суффикс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лаголов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Ы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тушёвыват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и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-ЁР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но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в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, дири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лага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коп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адательных причастий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ж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суффиксах причастий и глаголов после шипящ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икогда не может быть буква 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–Н- и –НН-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Прилагатель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АН-/-Я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И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песок, гл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глина, лебе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лебед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стеклянный, оловянный, деревя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1. 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ОНН-/-ЕН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ут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й, революц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 прилагательных, образованных от существительных с основой на –Н, -МЯ (карт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 – картина, племе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й-плем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c7c8b"/>
                </a:solidFill>
                <a:latin typeface="Franklin Gothic Book"/>
              </a:rPr>
              <a:t>Нареч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наречиях, образованных от прилагательных при помощи суффиксов –О- и –Е-, пишется столько же букв Н, сколько и в прилагательных, от которых они образова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,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611280" y="692280"/>
            <a:ext cx="7786440" cy="8254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в причастиях и отглагольных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187280" y="1484280"/>
            <a:ext cx="3574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6516720" y="1413000"/>
            <a:ext cx="57132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5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7800" y="198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уффиксах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ванн-(-еванн-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ных и кратких форм отглагольных прилагательных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аршированный, фаршированна (но: фарширована вче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500720" y="3714840"/>
            <a:ext cx="45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В полных страд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астиях прошедшего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есть приставка, зависимое слово, образовано от глагола 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рашенный, крашенный кистью, решё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ежданный, негаданный, невиданный, неслыханный, жеманный, желанный, чванный, чеканный, медленный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0" y="198900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глагольных прилагательных (нет приставки, зависимого слова, образовано от глагола не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а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50920" y="378936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ратких причас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дача решена</a:t>
            </a:r>
            <a:r>
              <a:rPr b="1" lang="ru-RU" sz="1800" spc="-1" strike="noStrike">
                <a:solidFill>
                  <a:srgbClr val="57644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сажё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ец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зва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рат)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, приданое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о бесприданница)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смыш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4427640" y="34290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л: кованый, жёваный, клёва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Правописание личных окончаний глаголов и суффиксов причастий настоящего времен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41360"/>
            <a:ext cx="8147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7627f"/>
                </a:solidFill>
                <a:latin typeface="Arial"/>
              </a:rPr>
              <a:t>Окончания спрягаемых глаголов определяются их спряж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 1 спряжению ( опорные гласные Е, У/Ю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ноги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еть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ать (-я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ова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о 2 спряжению  ( опорные гласные И, А/Я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кроме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брить, стелить, брезж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мь глаголов на -еть, и четыре на -ать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(смотр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 об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нен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з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сеть, терп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ерт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; Сл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ы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шать, гнать, дыш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держ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екоторые другие глаголы  на -ать (-ять), у которых ударение падает на окончания, например лежать - он лежит, стоять - мы стои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н спеш?т =&gt; они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=&gt; он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"хотеть"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называют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зноспрягаемы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т.к. он в ед. ч. спрягается как глагол I спр., а во мн. ч. как глагол II спр.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0:39:40Z</dcterms:created>
  <dc:creator>Admin</dc:creator>
  <dc:description/>
  <dc:language>en-US</dc:language>
  <cp:lastModifiedBy>ZooM</cp:lastModifiedBy>
  <dcterms:modified xsi:type="dcterms:W3CDTF">2013-11-15T18:32:56Z</dcterms:modified>
  <cp:revision>15</cp:revision>
  <dc:subject/>
  <dc:title>Правописание суффиксов различных частей речи. Правописание суффиксов н- И–нн-. Правописание личных окончаний глаголов и суффиксов причастий настоящего времени.</dc:title>
</cp:coreProperties>
</file>