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D5E-6FBD-4B30-AAC1-75ADB0C1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D6C-7C36-4881-8E11-8BB7A9DC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559-0958-478D-A061-110A2C45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662-47D9-4883-93F8-3ACAEC8F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600A-63DF-4DC0-90DD-5BE2FB7C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6312-0CE8-4AF3-A8FC-4ACA386F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9309-B13B-452E-8DB7-CB2A045B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89FD-BD8B-4BB4-93D2-BC5CA952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230C-55C2-446C-863F-D17627F8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2424-8804-457E-9D85-D6EE0B41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0FBF-233C-4BD4-B244-39CC21C9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3E8-3A44-4D5D-9238-CFE0B294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8B78-4F81-4B38-8E0F-D8DF01F8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97FC-7EB7-4D8A-80EF-E06A6AEE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BA79-A321-4A10-A9AF-5921B662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710D-DC0D-4105-A481-A7895E5D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D943-AAEB-44EF-9FF4-856E8EA0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180F9-CF2D-466C-8391-18056479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88AA0-B899-414E-9503-64AA756A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EE703-BA79-4F28-B321-79FF599D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A563A-DAC5-4D3D-A093-2E642D86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0D643-3E98-4ED7-91B3-AC6A477D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07E7-A432-4DE0-A47F-C9436B12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79FD8-863C-4AE9-B901-CA6F0C1E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964E7-05C4-4FCB-BBF0-8F99BEB2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E1C55-AFDF-42D7-BC08-A79FD9C5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E406E-77BB-47F1-B9CB-FA2B0413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BF400-348E-4CD5-81E9-BE4F20A1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50525-25A2-4095-AA5B-14A0CE39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72A36-9314-4199-88F2-B315590D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5A826-B90F-4A73-BAE2-E1795D5F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F7738-974A-42DA-9612-4C983AC0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B1458-76F6-420C-8ECA-D2FF6426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576-3CD7-408F-A7D0-6FCFB71F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53B63-0F71-4922-B6AC-C7ED1D14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8E59C-CE14-4A68-A957-FED2EBDD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B203C-5427-40FF-9805-B9ACFD21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0C80A-026C-4A96-800A-D87DB02E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DF46B-FADC-40E1-9AAE-4DEBA2B8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61EF2-C3E8-4368-8F3C-F330E304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5EF43-0D79-45B3-BCF3-A08296C9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35C0D-1164-4BF4-9172-72CE3F79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147E8-F65F-4594-846C-392742BE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3214B-80C0-455F-A15D-681EF469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3BF-CD5D-49E8-A582-BCA4EA74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2604F-6100-4DA7-907D-45700F09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F31BA-9E31-420F-8008-F43FE1CF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1F0A3-896C-40B9-82BC-F301EA22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3B064-A556-4E2F-AF7C-4D986C48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9AB04-5470-492B-88BE-CE99123F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9EC90-C715-41C0-97AC-E7E59967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80079-3B16-43BE-B538-3AFC5744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86A46-18B0-475E-84CC-26603D18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F9974-44CC-4580-BA6D-7CD0CBE1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C7FD9-D6C9-4ECE-AD56-BF290950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847-266E-47CC-A790-F3D379CB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885D1-1AC1-454D-B849-7C233CD8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D4905-4D27-4955-9F8A-D04F48C6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05567-287E-4AC3-B091-193BEE28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40387-66DD-4736-B432-71471082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92ABE-CBF7-47CB-BBD2-8D961032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46505-3AF2-4A80-B42F-6088F8E1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0DC1D-4BF0-4DA8-969D-8633EF94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2D00D-39EC-4D7C-B8BD-BD24F583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2A823-9AFC-4AE6-A54D-EC9B3F2E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94FE6-E75E-4BA3-A983-8CD3AAD7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6204-39DC-46F9-B39A-F1A28783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25E55-BC47-4964-86B3-1E851E46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8635C-C78A-4B1F-9D3A-3B7495C0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318F5-126D-466B-9DE3-337F6321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2E8-D5A6-4CA4-944E-CD2A7E8F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7AA-ADF5-4DF1-B006-87D7C07A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1FFC-7F7A-407F-A3E3-148CC1FE56F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6F12-899E-402F-BBEA-5A776504881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0D47-90C1-4F5C-99FC-547D91169DE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7983-24CF-4BEC-A1F3-FDEBDE94C83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74F4-5765-40B0-93AB-3A1E1EA6EBE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28F1-78C4-4731-B25C-A58DE3FFB6F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-85680" y="1139760"/>
            <a:ext cx="9058320" cy="48643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042560" y="324000"/>
            <a:ext cx="6480360" cy="630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5beab"/>
                </a:solidFill>
                <a:latin typeface="Arial"/>
              </a:rPr>
              <a:t>Задание В4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2195640" y="55753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учитель русского языка и литерату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крокурналинской сош Трифанова С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2"/>
          <p:cNvSpPr/>
          <p:nvPr/>
        </p:nvSpPr>
        <p:spPr>
          <a:xfrm>
            <a:off x="2428920" y="785880"/>
            <a:ext cx="3714840" cy="39888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зование причас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3"/>
          <p:cNvSpPr/>
          <p:nvPr/>
        </p:nvSpPr>
        <p:spPr>
          <a:xfrm>
            <a:off x="428760" y="1785960"/>
            <a:ext cx="4000320" cy="91692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частия настоящего врем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от основы настоящего времен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4857840" y="1785960"/>
            <a:ext cx="4071960" cy="916920"/>
          </a:xfrm>
          <a:prstGeom prst="rect">
            <a:avLst/>
          </a:prstGeom>
          <a:solidFill>
            <a:srgbClr val="f6f6f6"/>
          </a:solidFill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b3b3b"/>
                </a:solidFill>
                <a:latin typeface="Arial"/>
              </a:rPr>
              <a:t>Причастия прошедшего врем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(от основы инфинитив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142920" y="2928960"/>
            <a:ext cx="2071800" cy="36828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йстви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2357280" y="2928960"/>
            <a:ext cx="1928880" cy="36828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ада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4572000" y="2928960"/>
            <a:ext cx="2071800" cy="368280"/>
          </a:xfrm>
          <a:prstGeom prst="rect">
            <a:avLst/>
          </a:prstGeom>
          <a:solidFill>
            <a:srgbClr val="f6f6f6"/>
          </a:solidFill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действи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6715080" y="2928960"/>
            <a:ext cx="1928880" cy="368280"/>
          </a:xfrm>
          <a:prstGeom prst="rect">
            <a:avLst/>
          </a:prstGeom>
          <a:solidFill>
            <a:srgbClr val="f6f6f6"/>
          </a:solidFill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страдате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10"/>
          <p:cNvSpPr/>
          <p:nvPr/>
        </p:nvSpPr>
        <p:spPr>
          <a:xfrm>
            <a:off x="360720" y="3500280"/>
            <a:ext cx="61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у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ю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а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я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авая фигурная скобка 20"/>
          <p:cNvSpPr/>
          <p:nvPr/>
        </p:nvSpPr>
        <p:spPr>
          <a:xfrm>
            <a:off x="928800" y="3500280"/>
            <a:ext cx="142920" cy="642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642960"/>
              <a:gd name="textAreaBottom" fmla="*/ 6393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Правая фигурная скобка 21"/>
          <p:cNvSpPr/>
          <p:nvPr/>
        </p:nvSpPr>
        <p:spPr>
          <a:xfrm>
            <a:off x="928800" y="4357800"/>
            <a:ext cx="142920" cy="642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642960"/>
              <a:gd name="textAreaBottom" fmla="*/ 6393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23"/>
          <p:cNvSpPr/>
          <p:nvPr/>
        </p:nvSpPr>
        <p:spPr>
          <a:xfrm>
            <a:off x="1143000" y="350028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 гла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п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24"/>
          <p:cNvSpPr/>
          <p:nvPr/>
        </p:nvSpPr>
        <p:spPr>
          <a:xfrm>
            <a:off x="1214280" y="4429080"/>
            <a:ext cx="100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 гла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п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25"/>
          <p:cNvSpPr/>
          <p:nvPr/>
        </p:nvSpPr>
        <p:spPr>
          <a:xfrm>
            <a:off x="2500200" y="3500280"/>
            <a:ext cx="8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Правая фигурная скобка 26"/>
          <p:cNvSpPr/>
          <p:nvPr/>
        </p:nvSpPr>
        <p:spPr>
          <a:xfrm>
            <a:off x="3000240" y="3500280"/>
            <a:ext cx="142920" cy="642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642960"/>
              <a:gd name="textAreaBottom" fmla="*/ 6393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Правая фигурная скобка 27"/>
          <p:cNvSpPr/>
          <p:nvPr/>
        </p:nvSpPr>
        <p:spPr>
          <a:xfrm>
            <a:off x="3000240" y="4214880"/>
            <a:ext cx="142920" cy="6429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642960"/>
              <a:gd name="textAreaBottom" fmla="*/ 6393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28"/>
          <p:cNvSpPr/>
          <p:nvPr/>
        </p:nvSpPr>
        <p:spPr>
          <a:xfrm>
            <a:off x="3214800" y="350028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 гла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п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29"/>
          <p:cNvSpPr/>
          <p:nvPr/>
        </p:nvSpPr>
        <p:spPr>
          <a:xfrm>
            <a:off x="3286080" y="428616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 гла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Ι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пр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31"/>
          <p:cNvSpPr/>
          <p:nvPr/>
        </p:nvSpPr>
        <p:spPr>
          <a:xfrm>
            <a:off x="4929120" y="3714840"/>
            <a:ext cx="642960" cy="119124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в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-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33"/>
          <p:cNvSpPr/>
          <p:nvPr/>
        </p:nvSpPr>
        <p:spPr>
          <a:xfrm>
            <a:off x="7740720" y="3500280"/>
            <a:ext cx="642960" cy="173988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ен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-н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-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34"/>
          <p:cNvSpPr/>
          <p:nvPr/>
        </p:nvSpPr>
        <p:spPr>
          <a:xfrm>
            <a:off x="6572160" y="3643200"/>
            <a:ext cx="857520" cy="91692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-ч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b3b3b"/>
                </a:solidFill>
                <a:latin typeface="Arial"/>
              </a:rPr>
              <a:t>-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авая фигурная скобка 35"/>
          <p:cNvSpPr/>
          <p:nvPr/>
        </p:nvSpPr>
        <p:spPr>
          <a:xfrm>
            <a:off x="7143840" y="3643200"/>
            <a:ext cx="142920" cy="928800"/>
          </a:xfrm>
          <a:custGeom>
            <a:avLst/>
            <a:gdLst>
              <a:gd name="textAreaLeft" fmla="*/ 0 w 142920"/>
              <a:gd name="textAreaRight" fmla="*/ 51480 w 142920"/>
              <a:gd name="textAreaTop" fmla="*/ 3600 h 928800"/>
              <a:gd name="textAreaBottom" fmla="*/ 9252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9" name="Прямая со стрелкой 37"/>
          <p:cNvCxnSpPr/>
          <p:nvPr/>
        </p:nvCxnSpPr>
        <p:spPr>
          <a:xfrm>
            <a:off x="7358040" y="3929040"/>
            <a:ext cx="357840" cy="21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Прямая со стрелкой 41"/>
          <p:cNvCxnSpPr>
            <a:stCxn id="278" idx="2"/>
            <a:endCxn id="279" idx="0"/>
          </p:cNvCxnSpPr>
          <p:nvPr/>
        </p:nvCxnSpPr>
        <p:spPr>
          <a:xfrm flipH="1">
            <a:off x="2428200" y="1185480"/>
            <a:ext cx="1857960" cy="60084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1" name="Прямая со стрелкой 43"/>
          <p:cNvCxnSpPr>
            <a:stCxn id="278" idx="2"/>
            <a:endCxn id="280" idx="0"/>
          </p:cNvCxnSpPr>
          <p:nvPr/>
        </p:nvCxnSpPr>
        <p:spPr>
          <a:xfrm>
            <a:off x="4285080" y="1185480"/>
            <a:ext cx="2608920" cy="60084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Прямая со стрелкой 45"/>
          <p:cNvCxnSpPr>
            <a:stCxn id="279" idx="2"/>
            <a:endCxn id="281" idx="0"/>
          </p:cNvCxnSpPr>
          <p:nvPr/>
        </p:nvCxnSpPr>
        <p:spPr>
          <a:xfrm flipH="1">
            <a:off x="1177200" y="2709360"/>
            <a:ext cx="1251720" cy="2199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Прямая со стрелкой 47"/>
          <p:cNvCxnSpPr>
            <a:stCxn id="279" idx="2"/>
            <a:endCxn id="282" idx="0"/>
          </p:cNvCxnSpPr>
          <p:nvPr/>
        </p:nvCxnSpPr>
        <p:spPr>
          <a:xfrm>
            <a:off x="2428920" y="2709360"/>
            <a:ext cx="892800" cy="2199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4" name="Прямая со стрелкой 49"/>
          <p:cNvCxnSpPr>
            <a:stCxn id="280" idx="2"/>
            <a:endCxn id="283" idx="0"/>
          </p:cNvCxnSpPr>
          <p:nvPr/>
        </p:nvCxnSpPr>
        <p:spPr>
          <a:xfrm flipH="1">
            <a:off x="5608080" y="2709360"/>
            <a:ext cx="1286280" cy="2199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5" name="Прямая со стрелкой 51"/>
          <p:cNvCxnSpPr>
            <a:stCxn id="280" idx="2"/>
            <a:endCxn id="284" idx="0"/>
          </p:cNvCxnSpPr>
          <p:nvPr/>
        </p:nvCxnSpPr>
        <p:spPr>
          <a:xfrm>
            <a:off x="6893280" y="2709360"/>
            <a:ext cx="786600" cy="2199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Franklin Gothic Book"/>
              </a:rPr>
              <a:t>Правописание суффиксов глаголов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268280"/>
            <a:ext cx="8075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. Суффиксы 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- ОВА-/-ЕВА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характерны для глаголов, которые в форме 1л.ед.ч.этот суффикс утрачивают (торг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в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 – торгую, во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ев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 – воюю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уффиксы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–ЫВА-/-ИВА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оформляющие основу инфинитива, сохраняются в 1л.ед.ч.(воспит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ыв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 – воспит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ыв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ю, наста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в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 – наста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ва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ю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сключения: застрять – застреваю, продлить – продлева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 В форме глаголов прошедшего времени перед суффиксом –Л- пишется та же гласная, что и в основе инфинитива (се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я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л – се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я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, вер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л – вер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, вид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л – вид</a:t>
            </a:r>
            <a:r>
              <a:rPr b="0" lang="ru-RU" sz="2600" spc="-1" strike="noStrike">
                <a:solidFill>
                  <a:srgbClr val="ffff00"/>
                </a:solidFill>
                <a:latin typeface="Arial"/>
              </a:rPr>
              <a:t>е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ь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Использованная литератур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йлова Е.А. Справочник-практикум по русскому языку / К.А.Войлова, Н.Г.Гольцова. – М.: Дрофа, 2005. – 384 с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941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Franklin Gothic Book"/>
              </a:rPr>
              <a:t>Правописание суффиксов различных частей речи.</a:t>
            </a:r>
            <a:br>
              <a:rPr sz="43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7928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c7c8b"/>
                </a:solidFill>
                <a:latin typeface="Arial"/>
              </a:rPr>
              <a:t>Суффиксы существительных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-ИК-/-ЕК-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: В суффиксе –ЕК- при изменении слова гласная выпада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-ЕЦ-/-ИЦ-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: Суффикс –ЕЦ- образует сущ.м.р., -ИЦ- образует сущ.ж.р. (братец, водица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-ЧИК-\-ЩИК-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: Суффикс –ЧИК- употребляется после основ на Д, Т, З, С, Ж (наводчик, переплетчик, перевозчик, переписчик, перебежчик). В остальных случаях употребляется суффикс –ЩИК-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мечание: 1. Перед звуком Ч суффикса конечные согласные основы К и Ч заменяются Т (добытчик-добыча, кабатчик-кабак). 2.В заимствованных словах –ЩИК- возможен и после Т (асфальтщик, ремонтщик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50560" y="404280"/>
            <a:ext cx="849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7c8b"/>
                </a:solidFill>
                <a:latin typeface="Arial"/>
              </a:rPr>
              <a:t>Суффиксы прилагательн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ЕВ-/-ИВ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В безударном положении пишется Е, по ударением – И (дождевой, учтивы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К-/-СК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-К- характерен для качественных, -СК- для относительных прилагательных. Если –СК- образует слово, корень которого оканчивается на Д,Т,З,С, Ц (если перед Ц согласный), эти согласные в корне сохраняются (ленинградский, светский); если перед Ц гласный звук, то прилагательное образуется с суффиксом –К-(Елецкий-Елец, немецкий-немец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–СК- образует слово, корень которого оканчивается на К и Ч, они заменяются буквой Ц, а буква с –СК- опускается (батрацкий – батрак, ткацкий – ткач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я: таджикский, узбекский, углич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23640" y="404280"/>
            <a:ext cx="8135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c7c8b"/>
                </a:solidFill>
                <a:latin typeface="Arial"/>
              </a:rPr>
              <a:t>Суффиксы местоимений и местоименных наречий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рез дефис пишутся суффиксы местоимений и местоименных наречий –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ТО-, -ЛИБО-, -НИБУДЬ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речия, образованные при помощи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риставки ПО-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суффиксов –ОМУ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-ЕМУ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-КИ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-ЬИ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 пишутся через дефис (по-боевому, по-моему, по-дружески, по-волчьи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Franklin Gothic Book"/>
              </a:rPr>
              <a:t>Буквы О и Ё в суффиксах после шипящих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125000"/>
            <a:ext cx="8291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суффиксах существительных, прилагательных, наречий после шипящих 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под ударением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ишется буква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уч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к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рубаш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нк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; холщ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в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ый, еж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в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ый; горяч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свеж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Буква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Ё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ишется в суффикса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лаголов 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–ЁВЫВА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тушёвывать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уществительных 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–ЁВК-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-ЁР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ноч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ёвк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а, дириж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ёр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лагательных 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–ЁН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копч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ён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ый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традательных причастий 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–ЁНН-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жж</a:t>
            </a:r>
            <a:r>
              <a:rPr b="0" lang="ru-RU" sz="2600" spc="-1" strike="noStrike">
                <a:solidFill>
                  <a:srgbClr val="f7df56"/>
                </a:solidFill>
                <a:latin typeface="Arial"/>
              </a:rPr>
              <a:t>ённ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ый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В суффиксах причастий и глаголов после шипящи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никогда не может быть буква О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748720" cy="56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00"/>
                </a:solidFill>
                <a:latin typeface="Franklin Gothic Book"/>
              </a:rPr>
              <a:t>Правописание суффиксов –Н- и –НН-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197000"/>
            <a:ext cx="8002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7c8b"/>
                </a:solidFill>
                <a:latin typeface="Arial"/>
              </a:rPr>
              <a:t>Прилагательн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-Н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В суффиксах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–АН-/-ЯН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ИН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есч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ый-песок, гли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ый-глина, лебе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ый-лебедь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я: стеклянный, оловянный, деревя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-НН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1. В суффиксах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–ОНН-/-ЕНН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 ут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й, революц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н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ы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В прилагательных, образованных от существительных с основой на –Н, -МЯ (карти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ый – картина, племе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й-плем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4c7c8b"/>
                </a:solidFill>
                <a:latin typeface="Franklin Gothic Book"/>
              </a:rPr>
              <a:t>Наречие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наречиях, образованных от прилагательных при помощи суффиксов –О- и –Е-, пишется столько же букв Н, сколько и в прилагательных, от которых они образован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Холод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ый – холод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, исти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ый – исти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неш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й – внеш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, искре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й – искре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611280" y="692280"/>
            <a:ext cx="7786440" cy="82548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c7c8b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4c7c8b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4c7c8b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4c7c8b"/>
                </a:solidFill>
                <a:latin typeface="Arial"/>
              </a:rPr>
              <a:t> в причастиях и отглагольных прилагат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1187280" y="1484280"/>
            <a:ext cx="357480" cy="36828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6516720" y="1413000"/>
            <a:ext cx="571320" cy="368280"/>
          </a:xfrm>
          <a:prstGeom prst="rect">
            <a:avLst/>
          </a:prstGeom>
          <a:noFill/>
          <a:ln w="9360">
            <a:solidFill>
              <a:srgbClr val="3a42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5"/>
          <p:cNvSpPr/>
          <p:nvPr/>
        </p:nvSpPr>
        <p:spPr>
          <a:xfrm>
            <a:off x="4285440" y="1714680"/>
            <a:ext cx="71640" cy="464328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4357800" y="1989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уффиксах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ованн-(-еванн-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ных и кратких форм отглагольных прилагательных: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аршированный, фаршированна (но: фарширована вчер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4500720" y="3714840"/>
            <a:ext cx="45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В полных страдатель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астиях прошедшего време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есть приставка, зависимое слово, образовано от глагола сов. вид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рашенный, крашенный кистью, решён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омни: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нежданный, негаданный, невиданный, неслыханный, жеманный, желанный, чванный, чеканный, медленный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8"/>
          <p:cNvSpPr/>
          <p:nvPr/>
        </p:nvSpPr>
        <p:spPr>
          <a:xfrm>
            <a:off x="0" y="1989000"/>
            <a:ext cx="400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тглагольных прилагательных (нет приставки, зависимого слова, образовано от глагола несов. вид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ута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250920" y="378936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ратких причаст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дача решена</a:t>
            </a:r>
            <a:r>
              <a:rPr b="1" lang="ru-RU" sz="1800" spc="-1" strike="noStrike">
                <a:solidFill>
                  <a:srgbClr val="576448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омни: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посажёны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ец)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названы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брат)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, приданое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о бесприданница) </a:t>
            </a: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смыш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10"/>
          <p:cNvSpPr/>
          <p:nvPr/>
        </p:nvSpPr>
        <p:spPr>
          <a:xfrm>
            <a:off x="4427640" y="342900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скл: кованый, жёваный, клёва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2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Franklin Gothic Book"/>
              </a:rPr>
              <a:t>Правописание личных окончаний глаголов и суффиксов причастий настоящего времен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341360"/>
            <a:ext cx="8147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7627f"/>
                </a:solidFill>
                <a:latin typeface="Arial"/>
              </a:rPr>
              <a:t>Окончания спрягаемых глаголов определяются их спряжение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Arial"/>
              </a:rPr>
              <a:t>К 1 спряжению ( опорные гласные Е, У/Ю) относятся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ногие глаголы на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-еть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-ать (-ять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се глаголы на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-овать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Arial"/>
              </a:rPr>
              <a:t>Ко 2 спряжению  ( опорные гласные И, А/Я) относятся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се глаголы на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-ить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, кроме 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брить, стелить, брезжить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емь глаголов на -еть, и четыре на -ать 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(смотр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е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ть, в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и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деть об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и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деть, ненав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и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деть, зав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и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сеть, терп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е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ть, верт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е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ть; Сл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ы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шать, гнать, дыш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а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ть, держ</a:t>
            </a:r>
            <a:r>
              <a:rPr b="1" lang="ru-RU" sz="2100" spc="-1" strike="noStrike">
                <a:solidFill>
                  <a:srgbClr val="00b0f0"/>
                </a:solidFill>
                <a:latin typeface="Arial"/>
              </a:rPr>
              <a:t>а</a:t>
            </a:r>
            <a:r>
              <a:rPr b="0" lang="ru-RU" sz="2100" spc="-1" strike="noStrike">
                <a:solidFill>
                  <a:srgbClr val="00b0f0"/>
                </a:solidFill>
                <a:latin typeface="Arial"/>
              </a:rPr>
              <a:t>ть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Некоторые другие глаголы  на -ать (-ять), у которых ударение падает на окончания, например лежать - он лежит, стоять - мы стои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н спеш?т =&gt; они спеш</a:t>
            </a: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т =&gt; он спеш</a:t>
            </a: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и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т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лагол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"хотеть"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называют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разноспрягаемым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, т.к. он в ед. ч. спрягается как глагол I спр., а во мн. ч. как глагол II спр. 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0:39:40Z</dcterms:created>
  <dc:creator>Admin</dc:creator>
  <dc:description/>
  <dc:language>en-US</dc:language>
  <cp:lastModifiedBy>ZooM</cp:lastModifiedBy>
  <dcterms:modified xsi:type="dcterms:W3CDTF">2013-11-15T18:32:56Z</dcterms:modified>
  <cp:revision>15</cp:revision>
  <dc:subject/>
  <dc:title>Правописание суффиксов различных частей речи. Правописание суффиксов н- И–нн-. Правописание личных окончаний глаголов и суффиксов причастий настоящего времени.</dc:title>
</cp:coreProperties>
</file>