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D76C-48BF-41A0-900A-39D81C446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FF1E-12BB-404E-B5D4-377138AA7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185-BD94-4E00-8A37-E04718AC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B50-D132-43EA-8992-3CCB7DE0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8C6-DF87-4CB5-A2B5-14F20242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7CA-6DA1-4D43-A569-1B489728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759-6EAD-43FF-83E5-0576F611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41C-A0B5-4B41-998A-DD4A8FF7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196-6480-4DDB-B1A4-FDB64390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7BD-8A72-40CC-BDED-2797DC89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328-90A3-4F7C-B52F-0221148B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72A-7390-4D3C-AF55-9090B6B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F5E-7C1B-4FFC-B8B7-BBEABEA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25F-D1E2-4E22-9572-0F52374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ADF4-EC88-4C13-80B3-2C0D14F18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89994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ws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т небольшой, но своеобразный водоем, родился около 10 тыс. лет наза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2010_06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лое море всегда притягивало к себе романтиков, а тех, кто любит природу, Белое море пленяло своей удивительной красо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IMG411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19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MG3849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5486400" cy="418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4016"/>
          <p:cNvPicPr/>
          <p:nvPr/>
        </p:nvPicPr>
        <p:blipFill>
          <a:blip r:embed="rId4"/>
          <a:stretch/>
        </p:blipFill>
        <p:spPr>
          <a:xfrm>
            <a:off x="0" y="4191120"/>
            <a:ext cx="45720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hoto_287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ую зиму в северной части Белого моря гренландские тюлени устраивают лежбища и здесь на свет появляются бель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236756923_n18811424img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едовые поля Белого моря — «родильные дома» гренландских тюлен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beloe_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0492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обитаемых островах Белого моря множество птичьих базаров, где в течение лета морские птицы высиживают яйца и растят птенц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olu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динственное место в России, где гнездятся северные олуш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ka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лония кай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upi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590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упик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normal__MG_12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ага обыкновенная - арктическая нырковая утка, вес которой достигает 3,5 к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лое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адлежит группе морей Северного Ледовитого оке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gaga2"/>
          <p:cNvPicPr/>
          <p:nvPr/>
        </p:nvPicPr>
        <p:blipFill>
          <a:blip r:embed="rId1"/>
          <a:stretch/>
        </p:blipFill>
        <p:spPr>
          <a:xfrm>
            <a:off x="0" y="2133720"/>
            <a:ext cx="662940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d0b3d0b0d0b3d0b0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414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80880" y="57146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Га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80880" y="-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аточно 50-100 граммов их пуха, чтобы сделать хорошо сохраняющую тепло зимнюю шу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img07"/>
          <p:cNvPicPr/>
          <p:nvPr/>
        </p:nvPicPr>
        <p:blipFill>
          <a:blip r:embed="rId3"/>
          <a:stretch/>
        </p:blipFill>
        <p:spPr>
          <a:xfrm>
            <a:off x="5410080" y="434340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005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9000" y="628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Треск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beluh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Белом море обитают киты – белух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delphinapterus_leucas_head_3"/>
          <p:cNvPicPr/>
          <p:nvPr/>
        </p:nvPicPr>
        <p:blipFill>
          <a:blip r:embed="rId1"/>
          <a:stretch/>
        </p:blipFill>
        <p:spPr>
          <a:xfrm>
            <a:off x="1523880" y="1397160"/>
            <a:ext cx="7620120" cy="546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8f42"/>
          <p:cNvPicPr/>
          <p:nvPr/>
        </p:nvPicPr>
        <p:blipFill>
          <a:blip r:embed="rId2"/>
          <a:stretch/>
        </p:blipFill>
        <p:spPr>
          <a:xfrm>
            <a:off x="0" y="0"/>
            <a:ext cx="407664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560" y="380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 "Беломорская белуха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итает вблизи Соловецкого архипелаг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2008_new_year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IMG_5853web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 время погружений встречаются мягкие кораллы,  актинии, губки, морские звезды, крабы, раки-отшельники, морские ежи и крев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sol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ловецк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тр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_20100529_149409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Solov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6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авань Благополучия и Соловецкий монасты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единственное арктическое море, почти полностью лежащее к югу от полярного круг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6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овецкая креп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olovki5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kizhi_vala_6416032844"/>
          <p:cNvPicPr/>
          <p:nvPr/>
        </p:nvPicPr>
        <p:blipFill>
          <a:blip r:embed="rId2"/>
          <a:stretch/>
        </p:blipFill>
        <p:spPr>
          <a:xfrm>
            <a:off x="0" y="0"/>
            <a:ext cx="4626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е море практически везде окружено сушей, поэтому оно относится к группе внутренних море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о является одним из самых маленьких морей нашей стран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6088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90 тысяч к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глубина моря составляет 67 м, максимальная глубина равна 350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0552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о моря имеет сложный рельеф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440" y="233208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за того, что в северной части моря глубина меньше, водообмен глубинными водами с Баренцевым морем весьма затрудн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508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97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има на Белом море длительная и холодн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426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орость ветра в среднем составляет около 4 – 8 м/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феврале средняя температура воздуха составляет – 14 – 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G_95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то короткое и прохлад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том преимущественно прохладная погода, с умеренной влаж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бладает облачная погода, часто идут сильные дожди. В среднем температура воздуха в июле равна + 8 –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9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е море - шельфовое море, возникшее на склоне кристаллическог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алтийского щит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8T03:51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