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E4AF-F5E3-44C5-A39F-B2ADCDBEFA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5897-3DAB-4C52-9F74-EC2768FB4E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8688-C35B-4D99-B6B0-ECBD2995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CE1F-7571-4BFC-8BCF-7E0590D1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CAF-417B-4B0E-8667-0E87444B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A256-11E5-4F4C-ACE5-A4794987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3E0C-55FB-4765-9996-C52038A2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1E9-A0F6-4F71-97FF-F567717B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5F90-B7B8-409F-8407-2B2AE41B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1B00-5A37-4BDE-B9A4-8B10B9F0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4E79-FED7-4502-AD9A-55F564E1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9BD-1C1C-4650-8505-ABAEB674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DC0B-C254-4210-B6D6-B60F4154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E6D-2451-44CC-980B-9C301680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6776-843F-4AAD-BE8D-67E61A832A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489994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ws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тот небольшой, но своеобразный водоем, родился около 10 тыс. лет назад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2010_060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лое море всегда притягивало к себе романтиков, а тех, кто любит природу, Белое море пленяло своей удивительной красот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IMG411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191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IMG3849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5486400" cy="418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IMG4016"/>
          <p:cNvPicPr/>
          <p:nvPr/>
        </p:nvPicPr>
        <p:blipFill>
          <a:blip r:embed="rId4"/>
          <a:stretch/>
        </p:blipFill>
        <p:spPr>
          <a:xfrm>
            <a:off x="0" y="4191120"/>
            <a:ext cx="457200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photo_287_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556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ждую зиму в северной части Белого моря гренландские тюлени устраивают лежбища и здесь на свет появляются бель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1236756923_n18811424img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Ледовые поля Белого моря — «родильные дома» гренландских тюлен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beloe_b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0492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необитаемых островах Белого моря множество птичьих базаров, где в течение лета морские птицы высиживают яйца и растят птенц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olus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динственное место в России, где гнездятся северные олуш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kai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олония кай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tupi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2590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упик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normal__MG_12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ага обыкновенная - арктическая нырковая утка, вес которой достигает 3,5 к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5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елое м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надлежит группе морей Северного Ледовитого океа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gaga2"/>
          <p:cNvPicPr/>
          <p:nvPr/>
        </p:nvPicPr>
        <p:blipFill>
          <a:blip r:embed="rId1"/>
          <a:stretch/>
        </p:blipFill>
        <p:spPr>
          <a:xfrm>
            <a:off x="0" y="2133720"/>
            <a:ext cx="6629400" cy="4724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d0b3d0b0d0b3d0b0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4146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80880" y="57146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Гаг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80880" y="-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статочно 50-100 граммов их пуха, чтобы сделать хорошо сохраняющую тепло зимнюю шуб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img07"/>
          <p:cNvPicPr/>
          <p:nvPr/>
        </p:nvPicPr>
        <p:blipFill>
          <a:blip r:embed="rId3"/>
          <a:stretch/>
        </p:blipFill>
        <p:spPr>
          <a:xfrm>
            <a:off x="5410080" y="4343400"/>
            <a:ext cx="3733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Img005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9000" y="628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Треска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beluha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Белом море обитают киты – белух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delphinapterus_leucas_head_3"/>
          <p:cNvPicPr/>
          <p:nvPr/>
        </p:nvPicPr>
        <p:blipFill>
          <a:blip r:embed="rId1"/>
          <a:stretch/>
        </p:blipFill>
        <p:spPr>
          <a:xfrm>
            <a:off x="1523880" y="1397160"/>
            <a:ext cx="7620120" cy="5460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8f42"/>
          <p:cNvPicPr/>
          <p:nvPr/>
        </p:nvPicPr>
        <p:blipFill>
          <a:blip r:embed="rId2"/>
          <a:stretch/>
        </p:blipFill>
        <p:spPr>
          <a:xfrm>
            <a:off x="0" y="0"/>
            <a:ext cx="4076640" cy="45244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33560" y="3805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 "Беломорская белуха"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52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итает вблизи Соловецкого архипелага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2008_new_yearweb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еверное сияни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IMG_5853web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 время погружений встречаются мягкие кораллы,  актинии, губки, морские звезды, крабы, раки-отшельники, морские ежи и креве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sol_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ловецк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тро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_20100529_1494097832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Solov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69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авань Благополучия и Соловецкий монастыр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единственное арктическое море, почти полностью лежащее к югу от полярного круг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69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овецкая креп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solovki5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kizhi_vala_6416032844"/>
          <p:cNvPicPr/>
          <p:nvPr/>
        </p:nvPicPr>
        <p:blipFill>
          <a:blip r:embed="rId2"/>
          <a:stretch/>
        </p:blipFill>
        <p:spPr>
          <a:xfrm>
            <a:off x="0" y="0"/>
            <a:ext cx="4626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ое море практически везде окружено сушей, поэтому оно относится к группе внутренних море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но является одним из самых маленьких морей нашей страны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56088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= 90 тысяч к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глубина моря составляет 67 м, максимальная глубина равна 350 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05520" y="2743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но моря имеет сложный рельеф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57440" y="233208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-за того, что в северной части моря глубина меньше, водообмен глубинными водами с Баренцевым морем весьма затрудн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508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IMG_97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има на Белом море длительная и холодна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4267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корость ветра в среднем составляет около 4 – 8 м/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феврале средняя температура воздуха составляет – 14 – 1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IMG_95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ето короткое и прохлад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4343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том преимущественно прохладная погода, с умеренной влаж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обладает облачная погода, часто идут сильные дожди. В среднем температура воздуха в июле равна + 8 – 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IMG_92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лое море - шельфовое море, возникшее на склоне кристаллического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алтийского щита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2-08T03:51:0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