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7549-46A5-4A6E-8055-6EE37AB86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1F53-FE84-49EB-A587-760382A9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BF21-16E5-44C4-8498-CDA222FA5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752A-B39F-4F38-93D0-59971A984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C529-D765-4888-A1B2-49D0B86B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D8BA-AD86-4400-8114-9006F4B2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4CE0-1562-4EE0-9DC7-724E4859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7F1B-84B4-4A88-9AE0-5E87304B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21D3-7472-4D6E-B34F-612D6711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0D0E-1412-4393-AFB0-27EF0C67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C35D-0D56-4424-8759-CF88C229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8BBA-BC8B-4B3F-A312-7F0F9808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19CB77-54AE-409B-BF24-85FE94F1DA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0720" y="1077840"/>
            <a:ext cx="8607600" cy="28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7200" spc="-1" strike="noStrike">
                <a:solidFill>
                  <a:srgbClr val="99284c"/>
                </a:solidFill>
                <a:latin typeface="Gabriola"/>
              </a:rPr>
              <a:t>Артриты и артрозы ВНЧС</a:t>
            </a:r>
            <a:endParaRPr b="1" i="1" lang="en-US" sz="7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362120" y="4597560"/>
            <a:ext cx="4817880" cy="224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284c"/>
                </a:solidFill>
                <a:latin typeface="Arial"/>
              </a:rPr>
              <a:t>Выполнила: студентка 5 курса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284c"/>
                </a:solidFill>
                <a:latin typeface="Arial"/>
              </a:rPr>
              <a:t>Группы 090716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99284c"/>
                </a:solidFill>
                <a:latin typeface="Gabriola"/>
              </a:rPr>
              <a:t>Артрит</a:t>
            </a:r>
            <a:endParaRPr b="1" i="1" lang="en-US" sz="48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7e0021"/>
                </a:solidFill>
                <a:latin typeface="Times New Roman"/>
              </a:rPr>
              <a:t>Артрит </a:t>
            </a:r>
            <a:r>
              <a:rPr b="0" i="1" lang="ru-RU" sz="3600" spc="-1" strike="noStrike">
                <a:solidFill>
                  <a:srgbClr val="7e0021"/>
                </a:solidFill>
                <a:latin typeface="Times New Roman"/>
              </a:rPr>
              <a:t>— это воспалительные процессы тканевых структур ВНЧС, которые могут быть инфекционно-аллергические, травматические и реже — специфические.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1376280" y="539640"/>
            <a:ext cx="7623360" cy="66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73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Пальпация височнонижнечелюстного сустава (а) и передней стенки слухового прохода (б).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720720" y="1440000"/>
            <a:ext cx="8636040" cy="54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73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Выслушивание шумов в височно-нижнечелюстном </a:t>
            </a:r>
            <a:br>
              <a:rPr sz="2400"/>
            </a:b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суставе.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2254320" y="1619280"/>
            <a:ext cx="5057640" cy="528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634680"/>
            <a:ext cx="8607600" cy="1390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Устранение отёчности, воспаления, болезненности, восстановление объёма движений височно-нижнечелюстного сустава ускоряется при использовании физиотерапии. (УВЧ, СМТ)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2435400" y="2138400"/>
            <a:ext cx="519264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720720" y="900000"/>
            <a:ext cx="8459640" cy="600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00000" y="28782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Спасибо за внимание!!!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19:12:33Z</dcterms:created>
  <dc:creator>Renesco </dc:creator>
  <dc:description/>
  <dc:language>en-US</dc:language>
  <cp:lastModifiedBy>Iriska</cp:lastModifiedBy>
  <dcterms:modified xsi:type="dcterms:W3CDTF">2012-09-04T18:12:30Z</dcterms:modified>
  <cp:revision>2</cp:revision>
  <dc:subject/>
  <dc:title>Артриты и артрозы ВНЧС</dc:title>
</cp:coreProperties>
</file>