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434-B573-4863-ADAD-6B2C7C77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DE7-7ACF-40A9-BE8C-49B87CF7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B34-6914-4D7B-B390-BFD34319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94B-D1D9-4159-84C4-D5E9F42E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FE3-221F-422E-87CB-0FFB2E16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6BE-5E91-4C99-877F-C629A138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5C2-FCB5-4EE6-ADAB-DD93A10C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8C4-6ED9-4349-8C7B-73458D41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97A-551F-4FC2-B94F-BB7584CF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817-E8EF-4C3B-B6FF-90A85417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AB1-DFDF-4FC0-888C-B7F7F38A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03B-43AF-4D55-8B5C-AFC1D63B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ABD89-B8DA-4133-B9B4-98A1B8AA47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0720" y="1077840"/>
            <a:ext cx="8607600" cy="28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99284c"/>
                </a:solidFill>
                <a:latin typeface="Gabriola"/>
              </a:rPr>
              <a:t>Артриты и артрозы ВНЧС</a:t>
            </a:r>
            <a:endParaRPr b="1" i="1" lang="en-US" sz="7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362120" y="4597560"/>
            <a:ext cx="4817880" cy="224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284c"/>
                </a:solidFill>
                <a:latin typeface="Arial"/>
              </a:rPr>
              <a:t>Выполнила: студентка 5 курс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284c"/>
                </a:solidFill>
                <a:latin typeface="Arial"/>
              </a:rPr>
              <a:t>Группы 09071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99284c"/>
                </a:solidFill>
                <a:latin typeface="Gabriola"/>
              </a:rPr>
              <a:t>Артрит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7e0021"/>
                </a:solidFill>
                <a:latin typeface="Times New Roman"/>
              </a:rPr>
              <a:t>Артрит </a:t>
            </a:r>
            <a:r>
              <a:rPr b="0" i="1" lang="ru-RU" sz="3600" spc="-1" strike="noStrike">
                <a:solidFill>
                  <a:srgbClr val="7e0021"/>
                </a:solidFill>
                <a:latin typeface="Times New Roman"/>
              </a:rPr>
              <a:t>— это воспалительные процессы тканевых структур ВНЧС, которые могут быть инфекционно-аллергические, травматические и реже — специфические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1376280" y="539640"/>
            <a:ext cx="7623360" cy="66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Пальпация височнонижнечелюстного сустава (а) и передней стенки слухового прохода (б)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720720" y="1440000"/>
            <a:ext cx="863604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Выслушивание шумов в височно-нижнечелюстном </a:t>
            </a:r>
            <a:br>
              <a:rPr sz="2400"/>
            </a:b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суставе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254320" y="1619280"/>
            <a:ext cx="5057640" cy="528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34680"/>
            <a:ext cx="8607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Устранение отёчности, воспаления, болезненности, восстановление объёма движений височно-нижнечелюстного сустава ускоряется при использовании физиотерапии. (УВЧ, СМТ)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435400" y="2138400"/>
            <a:ext cx="51926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720720" y="900000"/>
            <a:ext cx="845964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28782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Спасибо за внимание!!!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9:12:33Z</dcterms:created>
  <dc:creator>Renesco </dc:creator>
  <dc:description/>
  <dc:language>en-US</dc:language>
  <cp:lastModifiedBy>Iriska</cp:lastModifiedBy>
  <dcterms:modified xsi:type="dcterms:W3CDTF">2012-09-04T18:12:30Z</dcterms:modified>
  <cp:revision>2</cp:revision>
  <dc:subject/>
  <dc:title>Артриты и артрозы ВНЧС</dc:title>
</cp:coreProperties>
</file>