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18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6.gif" ContentType="image/gif"/>
  <Override PartName="/ppt/media/image7.gif" ContentType="image/gif"/>
  <Override PartName="/ppt/media/image5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0E16-8BAC-4D8A-8F88-6182AD1ED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396C-EECE-47DA-AD75-BC235D5E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E34D-226D-4C81-9A7A-CBB8DEDAB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831D-F29A-4046-96F5-C49799935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A47E5-FF6C-4BAB-BB46-8FFB87921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52E67-E118-4F3B-BEDE-ADE9D72F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E329C-DC9E-428F-B9E1-BAA4D526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4029-3854-4A5B-9F4F-304ADCA5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0484-F48C-4473-88D9-4BF795C2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BF41-BA0B-46EE-8F5E-AAF41AF6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2B1BB-A0EA-48FA-A7D0-361A0593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0AA4-A3E1-4A32-B9B6-EB31A83B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0DE0-9C5D-423B-976E-5770EFDF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2A76-B837-4F7B-A494-A7CAD700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B6FC-E5C0-403E-BD39-DFCB60D0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2EBF-AD49-4610-B6D0-5837F3E72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CE37C-7704-4EA1-9564-C77DF8CA8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64DB-01D4-49D2-AEB8-AB40A4A9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2674-5021-4466-8ADC-C079DCCB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56F5-0860-4177-8AEF-F85FD3E7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D5C4-8468-4036-BC03-99463BDC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7F2B-A021-49F9-B989-C2A25AD4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AFF0-BA06-44EA-8DBB-D78144C3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A9DE-40C5-410D-A129-0EC3A955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D0DC-D665-4E20-9DA4-A6297A2F32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2E50-BBF1-44A1-9A2B-FD438C241B6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153280" cy="2286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Внеклассное мероприятие по теме:</a:t>
            </a:r>
            <a:r>
              <a:rPr b="0" lang="ru-RU" sz="4800" spc="-1" strike="noStrike">
                <a:solidFill>
                  <a:srgbClr val="dbbd71"/>
                </a:solidFill>
                <a:latin typeface="Arial"/>
              </a:rPr>
              <a:t> «Наркомания. Алкоголизм. Курение.»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733920" y="4419360"/>
            <a:ext cx="50292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У ООШ № 4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итель биолог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лингер Александра Викторов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305920" cy="193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Первая медицинская помощь при алкогольном отравлении.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 Если человек без сознания, очистите пальцем его рот, не вызывая рвоту, иначе рвотная масса попадает в горло и он забывает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Расстегните ему одежду, чтобы воздух свободно поступал в легк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Проверьте положение языка, не запал ли он и не загородил ли путь в дыхательное горл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 Уложите пострадавшего на живот и поверните его голову в сторон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. Если все эти действия не помогли привести пострадавшего в чувство, необходимо вызвать «скорую помощь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Picture 4" descr="cvbgdf"/>
          <p:cNvPicPr/>
          <p:nvPr/>
        </p:nvPicPr>
        <p:blipFill>
          <a:blip r:embed="rId1"/>
          <a:stretch/>
        </p:blipFill>
        <p:spPr>
          <a:xfrm>
            <a:off x="7696080" y="5432400"/>
            <a:ext cx="144792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251460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bbd71"/>
                </a:solidFill>
                <a:latin typeface="Arial"/>
              </a:rPr>
              <a:t>От 40 до 60 % умственно отсталых алкоголиков рождается  алкоголиков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dfvgdfg"/>
          <p:cNvPicPr/>
          <p:nvPr/>
        </p:nvPicPr>
        <p:blipFill>
          <a:blip r:embed="rId1"/>
          <a:stretch/>
        </p:blipFill>
        <p:spPr>
          <a:xfrm>
            <a:off x="6248520" y="1981080"/>
            <a:ext cx="2612880" cy="28958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Курение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228960" y="1599840"/>
            <a:ext cx="7162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Табачный дым представляет собой смесь газов и аэрозолей, включающие несколько тысяч различных веществ, наиболее важные из которых – углеводороды, спирты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фенолы, никотин, оксид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углерода, аммиак, оксид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азота, синильная кислота, сероводород, бензапрен, кадмий, мышьяк, хром, формальдегид, радиоактивный поло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2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9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Никотин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один из самых опасных ядов растительного происхождени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тицы (воробьи, голуби) погибают, если к их клюву всего, лишь поднести стеклянную палочку, смоченную никотин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олик погибает о ¼ капли никотина, собака от 1/2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Для человека смертельная доза составляет 50 до 100 мг, или 2-3 капл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Риск заболеть раком от табачного дыма возрастает по ряду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2590920"/>
            <a:ext cx="83822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ассивные курильщики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урящие трубку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урящие сигары –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урящие сигаре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Picture 4" descr="rgdfgdfsg"/>
          <p:cNvPicPr/>
          <p:nvPr/>
        </p:nvPicPr>
        <p:blipFill>
          <a:blip r:embed="rId1"/>
          <a:stretch/>
        </p:blipFill>
        <p:spPr>
          <a:xfrm>
            <a:off x="609480" y="3124080"/>
            <a:ext cx="2133720" cy="16671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dsfvgdf"/>
          <p:cNvPicPr/>
          <p:nvPr/>
        </p:nvPicPr>
        <p:blipFill>
          <a:blip r:embed="rId2"/>
          <a:stretch/>
        </p:blipFill>
        <p:spPr>
          <a:xfrm>
            <a:off x="3200400" y="4800600"/>
            <a:ext cx="185724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58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2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2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2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7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7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bbd71"/>
                </a:solidFill>
                <a:latin typeface="Arial"/>
              </a:rPr>
              <a:t>Самыми  популярными мотивами, по которым люди курят, являются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914400" y="2175840"/>
            <a:ext cx="7315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привычке – 50 %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бы снять напряжение -38 %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бы поддержать компанию -34 %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бы расслабиться  - 33 %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бы отвлечься от неприятных мыслей – 30 %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бы сделать перерыв в работе – 24 %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удовольствия – 24 %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тому что все курят -22 %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бы казаться взрослее – 18%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6" name="Picture 4" descr="047"/>
          <p:cNvPicPr/>
          <p:nvPr/>
        </p:nvPicPr>
        <p:blipFill>
          <a:blip r:embed="rId1"/>
          <a:stretch/>
        </p:blipFill>
        <p:spPr>
          <a:xfrm>
            <a:off x="7238880" y="4343400"/>
            <a:ext cx="19051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9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0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1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2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51920" y="1600200"/>
            <a:ext cx="89917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Как можно избежать зависимост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Нужно ли  бороться с наркоманией,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алкоголизмом, курением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0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9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2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3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2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Факторы влияющие на здоровье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28600" y="12189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660960" indent="-25416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0 % – состояние окружающей природной среды (экологическое благополучие проживания человека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0 % - генетика (наследственность данного человека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0 % - здравоохранени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50 %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- образ жизни (имеется в виду  здоровый образ жизни человека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4" descr="003"/>
          <p:cNvPicPr/>
          <p:nvPr/>
        </p:nvPicPr>
        <p:blipFill>
          <a:blip r:embed="rId1"/>
          <a:stretch/>
        </p:blipFill>
        <p:spPr>
          <a:xfrm>
            <a:off x="5334120" y="1066680"/>
            <a:ext cx="2860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0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1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edgrdfg"/>
          <p:cNvPicPr/>
          <p:nvPr/>
        </p:nvPicPr>
        <p:blipFill>
          <a:blip r:embed="rId1"/>
          <a:stretch/>
        </p:blipFill>
        <p:spPr>
          <a:xfrm>
            <a:off x="7391520" y="2514600"/>
            <a:ext cx="1371600" cy="1981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ghjmhgj"/>
          <p:cNvPicPr/>
          <p:nvPr/>
        </p:nvPicPr>
        <p:blipFill>
          <a:blip r:embed="rId2"/>
          <a:stretch/>
        </p:blipFill>
        <p:spPr>
          <a:xfrm>
            <a:off x="5943600" y="2514600"/>
            <a:ext cx="1444680" cy="1981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sdcsdc"/>
          <p:cNvPicPr/>
          <p:nvPr/>
        </p:nvPicPr>
        <p:blipFill>
          <a:blip r:embed="rId3"/>
          <a:stretch/>
        </p:blipFill>
        <p:spPr>
          <a:xfrm>
            <a:off x="4191120" y="2514600"/>
            <a:ext cx="1752480" cy="1981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sdc"/>
          <p:cNvPicPr/>
          <p:nvPr/>
        </p:nvPicPr>
        <p:blipFill>
          <a:blip r:embed="rId4"/>
          <a:stretch/>
        </p:blipFill>
        <p:spPr>
          <a:xfrm>
            <a:off x="304920" y="2514600"/>
            <a:ext cx="1852560" cy="2057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Canabis"/>
          <p:cNvPicPr/>
          <p:nvPr/>
        </p:nvPicPr>
        <p:blipFill>
          <a:blip r:embed="rId5"/>
          <a:stretch/>
        </p:blipFill>
        <p:spPr>
          <a:xfrm>
            <a:off x="2133720" y="2514600"/>
            <a:ext cx="2057400" cy="20462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4128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bbd71"/>
                </a:solidFill>
                <a:latin typeface="Arial"/>
              </a:rPr>
              <a:t>Всемирная организация здравоохранения      </a:t>
            </a:r>
            <a:br>
              <a:rPr sz="3200"/>
            </a:br>
            <a:r>
              <a:rPr b="0" i="1" lang="ru-RU" sz="3200" spc="-1" strike="noStrike">
                <a:solidFill>
                  <a:srgbClr val="dbbd71"/>
                </a:solidFill>
                <a:latin typeface="Arial"/>
              </a:rPr>
              <a:t>  классификация наркотических средств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4800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ервые три группы  относятся к «истинным» наркотика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04920" y="1981080"/>
          <a:ext cx="8458200" cy="2560680"/>
        </p:xfrm>
        <a:graphic>
          <a:graphicData uri="http://schemas.openxmlformats.org/drawingml/2006/table">
            <a:tbl>
              <a:tblPr/>
              <a:tblGrid>
                <a:gridCol w="1752480"/>
                <a:gridCol w="2133720"/>
                <a:gridCol w="1752480"/>
                <a:gridCol w="1447920"/>
                <a:gridCol w="1371600"/>
              </a:tblGrid>
              <a:tr h="51840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     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ркоти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422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иаты: опий и получаемые из морфина синтетические наркотик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каин, гашиш (марихуана)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фетами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фенамин, эфедрин и др)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лкоголь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котин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Термин «наркотики» в переводе с греческого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narkotikos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означает «приводящий в оцепенение», «сумасшествие»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Наркомания – пристрастие к «классическим» наркотикам (препараты опия, индийской конопли, южноамериканского растения кока и др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Токсикомания – пристрастие к употреблению широкого, довольно беспорядочного и все расширяющегося круга веществ, способных воздействовать на психику, - от разного рода таблеток до  бензин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Наркотические вещества  - это вещества, способные воздействовать на центральную нервную систему, изменяя химическим путем течение нервных процесс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447920" y="4115520"/>
            <a:ext cx="59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Три категории наркотиков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едативные яд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опиум и его алкалоиды, морфин, кодеин, кока, кокаин). Отнесены к  категории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uforica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аллюциногенные средств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юда относится мескалин из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туса, индийская конопля, гашиш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прочие тропеиновые расте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тегория –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antastika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яды сн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 хлорал, барбитураты, табак, бетель, растения содержащие кофеи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4" descr="004"/>
          <p:cNvPicPr/>
          <p:nvPr/>
        </p:nvPicPr>
        <p:blipFill>
          <a:blip r:embed="rId1"/>
          <a:stretch/>
        </p:blipFill>
        <p:spPr>
          <a:xfrm rot="5400000">
            <a:off x="6497640" y="2798640"/>
            <a:ext cx="2743200" cy="21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31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Факты ужасают, </a:t>
            </a: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каждый восьмой подросток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в России является наркоманом (токсикоманом). По статистики, каждый </a:t>
            </a: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наркоман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пособен склонить к употреблению наркотиков в  среднем 15 -17 челове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3" descr="ertyfrgt"/>
          <p:cNvPicPr/>
          <p:nvPr/>
        </p:nvPicPr>
        <p:blipFill>
          <a:blip r:embed="rId1"/>
          <a:stretch/>
        </p:blipFill>
        <p:spPr>
          <a:xfrm>
            <a:off x="4800600" y="3733920"/>
            <a:ext cx="363852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Наиболее опасные  для здоровья  и жизни человека  наркотики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1482480" y="319968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Герои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7283880" y="243756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Каннабис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6173640" y="3276000"/>
            <a:ext cx="18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Амфетамин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2476080" y="449496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Алкоголь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5459040" y="44949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Курение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440640" y="2362320"/>
            <a:ext cx="12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Опиат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9" descr="Canabis"/>
          <p:cNvPicPr/>
          <p:nvPr/>
        </p:nvPicPr>
        <p:blipFill>
          <a:blip r:embed="rId1"/>
          <a:stretch/>
        </p:blipFill>
        <p:spPr>
          <a:xfrm>
            <a:off x="5638680" y="1752480"/>
            <a:ext cx="1524240" cy="14558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dsc"/>
          <p:cNvPicPr/>
          <p:nvPr/>
        </p:nvPicPr>
        <p:blipFill>
          <a:blip r:embed="rId2"/>
          <a:stretch/>
        </p:blipFill>
        <p:spPr>
          <a:xfrm>
            <a:off x="1676520" y="2133720"/>
            <a:ext cx="1285920" cy="942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xcvxcv"/>
          <p:cNvPicPr/>
          <p:nvPr/>
        </p:nvPicPr>
        <p:blipFill>
          <a:blip r:embed="rId3"/>
          <a:stretch/>
        </p:blipFill>
        <p:spPr>
          <a:xfrm>
            <a:off x="609480" y="3581280"/>
            <a:ext cx="1768680" cy="26672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2" descr="vghjkl;"/>
          <p:cNvPicPr/>
          <p:nvPr/>
        </p:nvPicPr>
        <p:blipFill>
          <a:blip r:embed="rId4"/>
          <a:stretch/>
        </p:blipFill>
        <p:spPr>
          <a:xfrm>
            <a:off x="3657600" y="1676520"/>
            <a:ext cx="1752480" cy="2895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3" descr="rtbhb"/>
          <p:cNvPicPr/>
          <p:nvPr/>
        </p:nvPicPr>
        <p:blipFill>
          <a:blip r:embed="rId5"/>
          <a:stretch/>
        </p:blipFill>
        <p:spPr>
          <a:xfrm>
            <a:off x="6400800" y="3581280"/>
            <a:ext cx="2743200" cy="17416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4" descr="ghjmhgj"/>
          <p:cNvPicPr/>
          <p:nvPr/>
        </p:nvPicPr>
        <p:blipFill>
          <a:blip r:embed="rId6"/>
          <a:stretch/>
        </p:blipFill>
        <p:spPr>
          <a:xfrm>
            <a:off x="3505320" y="2057400"/>
            <a:ext cx="20574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2" nodeType="afterEffect" fill="hold" presetClass="exit" presetID="4" presetSubtype="16">
                                  <p:stCondLst>
                                    <p:cond delay="5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6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5" nodeType="afterEffect" fill="hold" presetClass="exit" presetID="4" presetSubtype="16">
                                  <p:stCondLst>
                                    <p:cond delay="5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79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88" nodeType="afterEffect" fill="hold" presetClass="exit" presetID="4" presetSubtype="16">
                                  <p:stCondLst>
                                    <p:cond delay="5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92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96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01" nodeType="afterEffect" fill="hold" presetClass="exit" presetID="4" presetSubtype="16">
                                  <p:stCondLst>
                                    <p:cond delay="5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205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09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14" nodeType="afterEffect" fill="hold" presetClass="exit" presetID="4" presetSubtype="16">
                                  <p:stCondLst>
                                    <p:cond delay="5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218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227" nodeType="afterEffect" fill="hold" presetClass="exit" presetID="4" presetSubtype="16">
                                  <p:stCondLst>
                                    <p:cond delay="5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Под алкоголизмом понимается тяжелое  хроническое заболевание, вызываемо злоупотреблением спиртными напитк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Picture 3" descr="dsfvg"/>
          <p:cNvPicPr/>
          <p:nvPr/>
        </p:nvPicPr>
        <p:blipFill>
          <a:blip r:embed="rId1"/>
          <a:stretch/>
        </p:blipFill>
        <p:spPr>
          <a:xfrm>
            <a:off x="3505320" y="3048120"/>
            <a:ext cx="51814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6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58200" cy="193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Различают три степени опьянения –</a:t>
            </a:r>
            <a:br>
              <a:rPr sz="4000"/>
            </a:b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 легкую, среднюю и тяжелую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3360960" y="3656880"/>
            <a:ext cx="225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редняя степень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262200" y="4571280"/>
            <a:ext cx="22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Тяжелая степень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847800" y="26661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Легкая степень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8T13:44:26Z</dcterms:created>
  <dc:creator>User</dc:creator>
  <dc:description/>
  <dc:language>en-US</dc:language>
  <cp:lastModifiedBy>ZooM</cp:lastModifiedBy>
  <dcterms:modified xsi:type="dcterms:W3CDTF">2013-10-28T11:13:44Z</dcterms:modified>
  <cp:revision>4</cp:revision>
  <dc:subject/>
  <dc:title>Внеклассное мероприятие по теме: «Наркомания. Алкоголизм. Курение.»</dc:title>
</cp:coreProperties>
</file>