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7.gif" ContentType="image/gif"/>
  <Override PartName="/ppt/media/image5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E5A-41AC-4B11-8DCB-AC81F445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108-DA5A-414A-9935-72A97F55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358-E250-4AFD-AD07-D8C4A0C8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482-FF84-4D26-87F3-1DD98CB5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6867-3017-471C-B6A3-B6107085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AA50-B334-41F9-8274-EB101431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1D5F-91DA-4497-A1DD-EA7F256D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CA0F-13F4-4CD3-B3DA-02CF59BE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E0C1-5119-4425-B9DD-FA0AA829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0327-D42D-4F7C-944E-312F8F4D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BA5A-1749-42F6-A520-8218FA83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76FD-FB6D-40D9-B6C6-48BF67F8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7B2A-E21C-481A-BC1B-F03BACD4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D976-145C-40BA-86EC-E008B082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979F-5911-482F-A5A8-ECBE7F5B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C16E-90D1-4B75-B8D2-B1BB0B9A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9C0D-98A4-43F8-8177-AC53E36A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544-FD03-498C-93DA-359EA33B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C05-5817-4D75-8DA6-7C444E57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502-B902-496B-AD3B-AD95A2C3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E5A-B407-4DEE-99D2-C3E74792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B1C-2E6C-49C0-B487-E25E2051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524-B6BE-4A74-A596-6ABC6A64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C79-226A-468A-B23E-C41675DE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8FA5-6D88-4161-9033-C9FA6EA861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CEED-8AB6-44E6-8F8C-EE68C3C68F0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Внеклассное мероприятие по теме: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 «Наркомания. Алкоголизм. Курение.»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733920" y="4419360"/>
            <a:ext cx="5029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У ООШ № 4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биолог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ингер Александра Викто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Первая медицинская помощь при алкогольном отравлении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Если человек без сознания, очистите пальцем его рот, не вызывая рвоту, иначе рвотная масса попадает в горло и он забыв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Расстегните ему одежду, чтобы воздух свободно поступал в лег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роверьте положение языка, не запал ли он и не загородил ли путь в дыхательное гор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Уложите пострадавшего на живот и поверните его голову в сторон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Если все эти действия не помогли привести пострадавшего в чувство, необходимо вызвать «скорую помощь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cvbgdf"/>
          <p:cNvPicPr/>
          <p:nvPr/>
        </p:nvPicPr>
        <p:blipFill>
          <a:blip r:embed="rId1"/>
          <a:stretch/>
        </p:blipFill>
        <p:spPr>
          <a:xfrm>
            <a:off x="7696080" y="5432400"/>
            <a:ext cx="14479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От 40 до 60 % умственно отсталых алкоголиков рождается  алкоголико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dfvgdfg"/>
          <p:cNvPicPr/>
          <p:nvPr/>
        </p:nvPicPr>
        <p:blipFill>
          <a:blip r:embed="rId1"/>
          <a:stretch/>
        </p:blipFill>
        <p:spPr>
          <a:xfrm>
            <a:off x="6248520" y="1981080"/>
            <a:ext cx="2612880" cy="2895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урение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228960" y="159984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абачный дым представляет собой смесь газов и аэрозолей, включающие несколько тысяч различных веществ, наиболее важные из которых – углеводороды, спирт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фенолы, никотин, окси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углерода, аммиак, окс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азота, синильная кислота, сероводород, бензапрен, кадмий, мышьяк, хром, формальдегид, радиоактивный поло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Никотин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один из самых опасных ядов растительного происхождени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тицы (воробьи, голуби) погибают, если к их клюву всего, лишь поднести стеклянную палочку, смоченную никотин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лик погибает о ¼ капли никотина, собака от 1/2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ля человека смертельная доза составляет 50 до 100 мг, или 2-3 кап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иск заболеть раком от табачного дыма возрастает по ряду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ссивные курильщики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урящие трубку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урящие сигары –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урящие сигаре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4" descr="rgdfgdfsg"/>
          <p:cNvPicPr/>
          <p:nvPr/>
        </p:nvPicPr>
        <p:blipFill>
          <a:blip r:embed="rId1"/>
          <a:stretch/>
        </p:blipFill>
        <p:spPr>
          <a:xfrm>
            <a:off x="609480" y="3124080"/>
            <a:ext cx="2133720" cy="1667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dsfvgdf"/>
          <p:cNvPicPr/>
          <p:nvPr/>
        </p:nvPicPr>
        <p:blipFill>
          <a:blip r:embed="rId2"/>
          <a:stretch/>
        </p:blipFill>
        <p:spPr>
          <a:xfrm>
            <a:off x="3200400" y="4800600"/>
            <a:ext cx="185724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Самыми  популярными мотивами, по которым люди курят, являются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914400" y="217584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привычке – 50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снять напряжение -38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поддержать компанию -34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расслабиться  - 33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отвлечься от неприятных мыслей – 30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сделать перерыв в работе – 24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удовольствия – 24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тому что все курят -22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казаться взрослее – 18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4" descr="047"/>
          <p:cNvPicPr/>
          <p:nvPr/>
        </p:nvPicPr>
        <p:blipFill>
          <a:blip r:embed="rId1"/>
          <a:stretch/>
        </p:blipFill>
        <p:spPr>
          <a:xfrm>
            <a:off x="7238880" y="43434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ак можно избежать зависимост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ужно ли  бороться с наркоманией,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алкоголизмом, курение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 влияющие на здоровье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600" y="12189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 % – состояние окружающей природной среды (экологическое благополучие проживания человек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 % - генетика (наследственность данного человек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0 % - здравоохранен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50 %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образ жизни (имеется в виду  здоровый образ жизни человек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003"/>
          <p:cNvPicPr/>
          <p:nvPr/>
        </p:nvPicPr>
        <p:blipFill>
          <a:blip r:embed="rId1"/>
          <a:stretch/>
        </p:blipFill>
        <p:spPr>
          <a:xfrm>
            <a:off x="5334120" y="1066680"/>
            <a:ext cx="2860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edgrdfg"/>
          <p:cNvPicPr/>
          <p:nvPr/>
        </p:nvPicPr>
        <p:blipFill>
          <a:blip r:embed="rId1"/>
          <a:stretch/>
        </p:blipFill>
        <p:spPr>
          <a:xfrm>
            <a:off x="7391520" y="2514600"/>
            <a:ext cx="1371600" cy="1981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ghjmhgj"/>
          <p:cNvPicPr/>
          <p:nvPr/>
        </p:nvPicPr>
        <p:blipFill>
          <a:blip r:embed="rId2"/>
          <a:stretch/>
        </p:blipFill>
        <p:spPr>
          <a:xfrm>
            <a:off x="5943600" y="2514600"/>
            <a:ext cx="144468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sdcsdc"/>
          <p:cNvPicPr/>
          <p:nvPr/>
        </p:nvPicPr>
        <p:blipFill>
          <a:blip r:embed="rId3"/>
          <a:stretch/>
        </p:blipFill>
        <p:spPr>
          <a:xfrm>
            <a:off x="4191120" y="2514600"/>
            <a:ext cx="1752480" cy="1981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sdc"/>
          <p:cNvPicPr/>
          <p:nvPr/>
        </p:nvPicPr>
        <p:blipFill>
          <a:blip r:embed="rId4"/>
          <a:stretch/>
        </p:blipFill>
        <p:spPr>
          <a:xfrm>
            <a:off x="304920" y="2514600"/>
            <a:ext cx="1852560" cy="2057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Canabis"/>
          <p:cNvPicPr/>
          <p:nvPr/>
        </p:nvPicPr>
        <p:blipFill>
          <a:blip r:embed="rId5"/>
          <a:stretch/>
        </p:blipFill>
        <p:spPr>
          <a:xfrm>
            <a:off x="2133720" y="2514600"/>
            <a:ext cx="2057400" cy="2046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bbd71"/>
                </a:solidFill>
                <a:latin typeface="Arial"/>
              </a:rPr>
              <a:t>Всемирная организация здравоохранения      </a:t>
            </a:r>
            <a:br>
              <a:rPr sz="3200"/>
            </a:br>
            <a:r>
              <a:rPr b="0" i="1" lang="ru-RU" sz="3200" spc="-1" strike="noStrike">
                <a:solidFill>
                  <a:srgbClr val="dbbd71"/>
                </a:solidFill>
                <a:latin typeface="Arial"/>
              </a:rPr>
              <a:t>  классификация наркотических средств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ервые три группы  относятся к «истинным» наркотик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1981080"/>
          <a:ext cx="8458200" cy="2560680"/>
        </p:xfrm>
        <a:graphic>
          <a:graphicData uri="http://schemas.openxmlformats.org/drawingml/2006/table">
            <a:tbl>
              <a:tblPr/>
              <a:tblGrid>
                <a:gridCol w="1752480"/>
                <a:gridCol w="2133720"/>
                <a:gridCol w="1752480"/>
                <a:gridCol w="1447920"/>
                <a:gridCol w="1371600"/>
              </a:tblGrid>
              <a:tr h="5184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ркот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2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иаты: опий и получаемые из морфина синтетические наркоти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аин, гашиш (марихуана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фетам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енамин, эфедрин и др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когол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ти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Термин «наркотики» в переводе с греческого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narkotikos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значает «приводящий в оцепенение», «сумасшествие»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аркомания – пристрастие к «классическим» наркотикам (препараты опия, индийской конопли, южноамериканского растения кока и др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Токсикомания – пристрастие к употреблению широкого, довольно беспорядочного и все расширяющегося круга веществ, способных воздействовать на психику, - от разного рода таблеток до  бензи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аркотические вещества  - это вещества, способные воздействовать на центральную нервную систему, изменяя химическим путем течение нервных процесс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447920" y="4115520"/>
            <a:ext cx="59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ри категории наркотиков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едативные яд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опиум и его алкалоиды, морфин, кодеин, кока, кокаин). Отнесены к  категори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uforica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аллюциногенные средств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юда относится мескалин и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туса, индийская конопля, гашиш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прочие тропеиновые раст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егория –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antastik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ды с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хлорал, барбитураты, табак, бетель, растения содержащие кофе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004"/>
          <p:cNvPicPr/>
          <p:nvPr/>
        </p:nvPicPr>
        <p:blipFill>
          <a:blip r:embed="rId1"/>
          <a:stretch/>
        </p:blipFill>
        <p:spPr>
          <a:xfrm rot="5400000">
            <a:off x="6497640" y="2798640"/>
            <a:ext cx="274320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Факты ужасают,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каждый восьмой подросток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в России является наркоманом (токсикоманом). По статистики, каждый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наркоман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пособен склонить к употреблению наркотиков в  среднем 15 -17 челов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3" descr="ertyfrgt"/>
          <p:cNvPicPr/>
          <p:nvPr/>
        </p:nvPicPr>
        <p:blipFill>
          <a:blip r:embed="rId1"/>
          <a:stretch/>
        </p:blipFill>
        <p:spPr>
          <a:xfrm>
            <a:off x="4800600" y="3733920"/>
            <a:ext cx="36385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Наиболее опасные  для здоровья  и жизни человека  наркотики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482480" y="31996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Герои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283880" y="24375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ннабис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173640" y="327600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мфетами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476080" y="449496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лкогол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5459040" y="44949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урен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40640" y="23623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пиат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9" descr="Canabis"/>
          <p:cNvPicPr/>
          <p:nvPr/>
        </p:nvPicPr>
        <p:blipFill>
          <a:blip r:embed="rId1"/>
          <a:stretch/>
        </p:blipFill>
        <p:spPr>
          <a:xfrm>
            <a:off x="5638680" y="1752480"/>
            <a:ext cx="1524240" cy="1455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dsc"/>
          <p:cNvPicPr/>
          <p:nvPr/>
        </p:nvPicPr>
        <p:blipFill>
          <a:blip r:embed="rId2"/>
          <a:stretch/>
        </p:blipFill>
        <p:spPr>
          <a:xfrm>
            <a:off x="1676520" y="2133720"/>
            <a:ext cx="1285920" cy="942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xcvxcv"/>
          <p:cNvPicPr/>
          <p:nvPr/>
        </p:nvPicPr>
        <p:blipFill>
          <a:blip r:embed="rId3"/>
          <a:stretch/>
        </p:blipFill>
        <p:spPr>
          <a:xfrm>
            <a:off x="609480" y="3581280"/>
            <a:ext cx="1768680" cy="2667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vghjkl;"/>
          <p:cNvPicPr/>
          <p:nvPr/>
        </p:nvPicPr>
        <p:blipFill>
          <a:blip r:embed="rId4"/>
          <a:stretch/>
        </p:blipFill>
        <p:spPr>
          <a:xfrm>
            <a:off x="3657600" y="1676520"/>
            <a:ext cx="1752480" cy="2895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rtbhb"/>
          <p:cNvPicPr/>
          <p:nvPr/>
        </p:nvPicPr>
        <p:blipFill>
          <a:blip r:embed="rId5"/>
          <a:stretch/>
        </p:blipFill>
        <p:spPr>
          <a:xfrm>
            <a:off x="6400800" y="3581280"/>
            <a:ext cx="2743200" cy="1741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ghjmhgj"/>
          <p:cNvPicPr/>
          <p:nvPr/>
        </p:nvPicPr>
        <p:blipFill>
          <a:blip r:embed="rId6"/>
          <a:stretch/>
        </p:blipFill>
        <p:spPr>
          <a:xfrm>
            <a:off x="3505320" y="2057400"/>
            <a:ext cx="2057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xit" presetID="4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" nodeType="afterEffect" fill="hold" presetClass="exit" presetID="4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8" nodeType="afterEffect" fill="hold" presetClass="exit" presetID="4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1" nodeType="afterEffect" fill="hold" presetClass="exit" presetID="4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05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" nodeType="afterEffect" fill="hold" presetClass="exit" presetID="4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27" nodeType="afterEffect" fill="hold" presetClass="exit" presetID="4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д алкоголизмом понимается тяжелое  хроническое заболевание, вызываемо злоупотреблением спиртными напит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dsfvg"/>
          <p:cNvPicPr/>
          <p:nvPr/>
        </p:nvPicPr>
        <p:blipFill>
          <a:blip r:embed="rId1"/>
          <a:stretch/>
        </p:blipFill>
        <p:spPr>
          <a:xfrm>
            <a:off x="3505320" y="3048120"/>
            <a:ext cx="5181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Различают три степени опьянения –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 легкую, среднюю и тяжелую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360960" y="365688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редняя степе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262200" y="4571280"/>
            <a:ext cx="22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яжелая степе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847800" y="26661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егкая степе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3:44:26Z</dcterms:created>
  <dc:creator>User</dc:creator>
  <dc:description/>
  <dc:language>en-US</dc:language>
  <cp:lastModifiedBy>ZooM</cp:lastModifiedBy>
  <dcterms:modified xsi:type="dcterms:W3CDTF">2013-10-28T11:13:44Z</dcterms:modified>
  <cp:revision>4</cp:revision>
  <dc:subject/>
  <dc:title>Внеклассное мероприятие по теме: «Наркомания. Алкоголизм. Курение.»</dc:title>
</cp:coreProperties>
</file>