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40.jpeg" ContentType="image/jpeg"/>
  <Override PartName="/ppt/media/image1.wmf" ContentType="image/x-wmf"/>
  <Override PartName="/ppt/media/image28.png" ContentType="image/png"/>
  <Override PartName="/ppt/media/image38.jpeg" ContentType="image/jpeg"/>
  <Override PartName="/ppt/media/image41.jpeg" ContentType="image/jpeg"/>
  <Override PartName="/ppt/media/image39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127D8-C69D-4206-A5B6-99864FCC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59CDB-024A-426F-B02F-D77B3E48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F07C6-ACF3-4C71-9331-A08B82E8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66465-FB75-450A-A152-F72FB013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38762-EF1E-4128-BD82-E7F9A164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8722A-2431-40EE-BEA7-5BE84723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EEBDD-E4C2-49D5-9449-7B32ED58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E9CF8-5C04-4F5C-8823-BECEDC54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BCA35-CB2E-43CA-B92C-56E12A2E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6C767-3EE7-44ED-892B-2FD565F0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2082F-5028-4A02-BCD0-06C565CF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FBB68-BA4B-4C2E-878A-692B3CDD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4390D-3A7E-47B4-BA48-339C47B0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C261A-E576-4BE5-98B7-7DCC27D9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7B994-D4DD-42BD-8C09-7F281E9F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AED95-B070-45FB-9943-1AEFEF21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C17CF-8D83-4489-8D72-2AEBFF2C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3291A-2AA2-430E-B2A0-6B4E620E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A2F9E-38A9-4712-9CEF-DB9D011F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2675A-255F-4360-B1F3-59EDE841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C9218-3BDE-487B-BFBF-F23CC7DD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7075B-2C50-462C-AD59-ED015EC0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2A082-06A7-45BB-9870-81A07200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3B3BC-1DDF-43EC-BB50-63C0E6AA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DFDF4-822B-4025-AF4B-15AA9376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D7C5D-CEE0-42D2-A4A4-4ACC2A6B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D7895-32DB-407E-A44A-E69EC1E3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D279F-4AAC-4C14-8E71-387A4990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669B5-A5E3-4AD5-AA86-65A6DB86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881DD-B1C8-4EF4-984E-C368F709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41C8C-48DF-4E70-953E-ED3D0225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A6FC9-398D-4A3E-AF1D-E7E37ECB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B1037-B306-440E-B7B1-1923F4C1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112B1-2BCC-4257-8D51-17A1F68E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B9E4-0C94-4EAF-97E2-A7F8A709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5CC50-8E4F-4E3F-A3D2-9E2C5A25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8D9C1-D4A2-4A01-BE77-C1FFD9DF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AED7B-6EC1-467F-86DB-BDC801C5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2911B-3DFE-412A-8CED-37A4692E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B696A-E974-48CB-BAE2-44C5A627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48F7C-122C-4601-BF07-4D5CA814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829D4-7AE3-4E4A-A5A2-15BC792C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36B8F-7A5C-44A1-AC69-D40C3F4B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2DAE1-E6A1-4AD3-A77B-4C653543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8D5B5-E4D9-4381-8675-4C87C971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C593-1B1C-4CF9-B4B7-9C7053F8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DD529-AF93-4AA0-A2B7-2A45CA32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BF2BE-DE76-45E0-8F0E-61895B38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037A1-D501-4316-8FE6-CCB2EF3A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7AA70-CF52-40CB-985F-BE628207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E41AD-2463-4DCC-84EE-EA439200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BC47E5-769C-4296-B678-90B0662D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DCA2BD-B5A7-46C0-85F6-2722F8FA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3C2D8F-A664-43D9-9405-D464CEEF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9D8862-5960-4EA4-A47C-C582E162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2A1C24-F57D-47FD-82A3-6580025B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0EAC-784E-4EAC-BC7E-D42FE3F6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6988AF-DCB2-44FD-8676-FB9B474D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3315AD-A92F-4E4D-A62E-F4C73ACD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4DCA90-D5CC-47FF-8763-9973EC16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A7A056-1EA5-483E-864D-03CA7CD2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F29E4A-6A46-4D93-98E7-EE1CA3A4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630107-AF17-4106-AF8E-CA984D25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046385-BB6E-4101-B5DB-BEAFE134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5EAAD8-1B42-4F2F-8435-CB030AC3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C312C7-C09F-4CA9-8386-DF66A999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CFCD85-5883-4A75-BEA5-F7A132D3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DAE3-8A9E-4901-8031-8DE1C903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55762-64DE-46A7-BA71-A7F1025D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381992-AC0C-4C66-A449-71AD3CD9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E640EB-4076-498D-A9D2-5AEEC54D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4E5F29-F48B-464F-BAC3-6C61ADB2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E1A9D8-89AA-459E-B0BD-1EBDD42B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F684B9-59D4-42FF-AA39-B77194B7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6D05C-5062-4BC2-B836-F288A59D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A38FFC-C5DE-4308-8A58-982BFC9C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354D50-69F5-4616-8918-C8A12365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2B1CB2-C3E7-44ED-94D4-7371DFDB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81B6-C01A-48AD-9158-F10F2D06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76B655-AEB2-466B-8EBE-D9A1D4AA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BA2E80-B16D-4974-B300-66CBEF8E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E43A41-AE9F-487E-9ABC-F81F5CAD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89DBB-CB9E-4896-86B3-E8EDDB1E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841A09-CDD8-417F-A300-2E685718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F7DBBF-7DD8-48FD-A79D-6929514F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4018A1-D198-4AEE-91E2-DC333D9B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C4B1E3-779C-4DDC-BDE6-7E75528A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440BD0-F45D-4297-83AF-AF9D20AB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0217FC-DA3F-43D6-999D-B689FD5F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7BB7-F869-4943-9EDB-65A0BDD3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C2D5E0-0F95-4962-9E82-7685BF2B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18FAFD-A1D3-407B-8A97-97B6702F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B08B4F-37FE-4A80-88B2-222C9A4E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55A458-3EB4-49F1-8F9B-07D64D22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1E2624-72DE-484E-85FB-517CDCB8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201E0F-AC58-43A2-AF63-CBFAB424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115420-0D19-4C2A-9B61-820086E2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035934-147C-45D6-819A-52B66AF0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62FF68-509E-49C8-830A-6B80002A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06581C-11CB-47BA-AB31-B8B05BA6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327F-8CFA-489D-AE0B-FB49A8C8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2CF02A-CA93-451B-8B0B-D2532718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468DC5-B1CD-4883-B909-7D7472C4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59B881-41C9-4B4E-AE41-BE44E238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8DC7F1-6AD5-4275-A8FC-8B5E5118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777D22-6AF3-4B03-A6CF-3C286FDF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454566-16E9-417C-8EDF-47254257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6241C8-A7BA-488C-B5A5-B76A9888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7EF3DE-72A1-4857-B0BC-9EC82285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1E8252-34B0-44A1-954E-C2AD86BD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B435A2-6F42-48FF-977B-DA2D454B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3E7FE-DFB9-41F4-A362-A1DFB168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756D-AEC4-4682-A2F5-D01372C8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950BB8-0A7A-42F3-B37D-AB17D417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BEA10E-E584-4C01-B280-604845EC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778120-4287-4C9E-871B-EC020A5F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CB7AA7-A848-4AA3-9C4E-F24089EA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AD4D7B-2AF5-4997-AED2-FF7FFDBC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DC757E-A725-4755-AAEB-539F478B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D65CCD-385F-4B57-B453-A3EEFE73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0318E6-871F-4BDC-A6A6-464F716E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D61D64-6E57-451D-9059-A46CD537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054B68-672C-4979-8D16-90C89579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E4D0-89A0-4368-AD99-E3E1FC3B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0951AF-7AF0-4680-957B-F5206706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01D9FE-7107-4DE2-BE32-39E5B5AD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59F8F8-7DBB-487C-91DA-55B28CCE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2E6EC7-8016-45D0-9A79-AF8F7742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4CF1BF-CFDB-48A9-9F80-D6C1F77E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5B04A1-F11C-4E8E-857A-449AC05E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A2D3E7-464E-42E1-AEDD-B409CCC8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613DB0-25B2-404A-90E7-528F7D5D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CB9C7D-0D50-45F2-AE6B-776C8406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340D1C-F8EF-405B-8EDE-EC0B07D1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A8BD-0E28-428F-BFCE-BE6F7AFB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26E00F-5319-4A46-B6B6-8E9C8DEC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FDF5C0-28E0-438D-BE05-1A994584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1A5DB5-58B4-473D-ACDD-8B5BD6F9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079FED-7466-4212-9712-C6E53CA4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884036-445E-4132-B482-19E9F8CA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C23B48-0F15-45A1-B722-EC18F7B0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812F88-6701-4ECE-A2FC-29110203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F2C398-71D0-426C-89DB-42AB400A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41E8CE-8482-4CC9-8A97-9ACF83F8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606E13-6560-4C9C-A719-3B722653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5732-9281-429F-A80B-7C997255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9F5B3E-3682-424F-B9F2-39BDADB0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329058-FCBD-496F-B479-C3F19833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A05F3E-1728-4545-B89E-D53106D0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8BF8E7-F4F2-4F24-8FE8-44DCD670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D80C27-F790-4269-9D27-9C50583B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CA346B-62AE-4837-B2DD-5E6E49AC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F44379-6E3E-4701-B080-476ADB6E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536577-CF0E-47FC-ADFA-E1972A35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FD73D3-1167-43A4-88E4-C69D31B4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00644D-28F5-4125-AEEF-DA1ED1BD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62BC-CD99-4553-952C-29FDF5B5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B18030-2A4E-487C-A9D2-4F42281C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7D8FEA-4764-4EB7-B827-72DD6F21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7D52F7-8809-44CD-9851-C0A62437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AC7910-7CFB-4695-BF70-A74EE865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21CF6E-47F3-4A55-A229-322F06EC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5C51B8-85C6-40F1-9328-4D4AF834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BE5E98-571B-4368-985C-E60C20EB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446AC1-7644-40ED-ACCE-9E437F88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46BEEE-E65E-42AE-B438-4A7FE9FC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9A23DE-4E90-4E79-8B75-663C9412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9B519-78C4-496F-A4CA-290127B4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06DC16-E791-41BE-BA31-F05C4600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1F2246-29B1-4502-AE6B-6A112599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02139A-FFB9-4D41-B596-B7F7ADB6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1F0705-FB61-43E4-8722-1408F6C1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67077A-27D5-45A7-BC25-64C32BB6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E22195-C58C-46C7-9EF3-55894572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EDDEF1-8592-4E75-A719-7033DF8D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4AF9A5-2A4C-4B44-ABF5-8CDEA1DD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BC7C85-2149-45E2-86AA-21320F25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5C086B-A1AC-4127-9685-61539E71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A0593-6469-4516-BCBC-3C01CA65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F93CCF-8CB6-43E2-ADBD-96A6407F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8A90CC-C64F-45D4-98B1-F4132EB7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4A9699-C065-4163-BAD9-0DA90101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378964-C127-40C2-950A-E70ADEFB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05FD66-7C2F-4989-BDB3-5B03640A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DD52A9-55A7-4932-9B52-25FE2482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0C7CE5-C3C2-4CB1-BFD7-7304A2F8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6EA97C-1B67-449B-9EC7-94578146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1FD125-4C91-4510-B758-933D2AB8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AF50B1-FC06-484C-9941-B6EE8E44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44CD1-4A62-4A1B-A7E3-93A45D2B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208359-3AB0-48DB-88E8-55C662A0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012B34-5C2F-4D37-BB34-4A12EAC2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7A5D10-2329-4888-B39F-7E8DD9A4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E803FC-530A-4D0A-A978-60C6545E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295C7C-69A7-44FC-8960-7CA80DD1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069A5A-FAE5-4C96-A69D-D7B88EC6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EDF716-2F1C-4558-982E-77951066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B9C892-2E3C-4489-9482-96B548A1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32256B-DA2B-4807-B33B-387D7867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DFAA00-AD17-4226-A8EF-4FAA6129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CC860-E505-47BF-9AE0-E022338E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F5B9D0-9BA1-48F8-A667-DB6089DF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07D446-97A6-4954-A751-90AD6A2F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1AFA0F-561F-44D2-9C10-27956DC2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90F890-7FF3-45F4-92EA-EA96F30C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417F53-BEAE-41B1-8E4F-1A98924D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A71C16-154F-4F40-8C82-78581405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9E4822-A9B3-46F5-A18B-18D72399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F74C69-9E02-44A9-BFF1-91F963FB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0319FA-6053-41AD-9CC6-AC354F8D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ECDB47-4514-42FE-89C9-A430F6EC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4B414-FD72-411B-A856-1DB3D151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45E002-9CF6-4236-BDE7-2468C3F6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DD7802-347C-4A90-9E50-21C536F1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6E8AE6-5C2A-4DDD-B683-EB85C72D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DE234D-9D2F-4E6F-9701-14A02A2C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4F3912-B383-4746-B5A3-C15E3DB8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6F73B1-176A-43DA-BD9C-1EA1C154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97652D-2E5C-4AE4-9180-C3CBD5C7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97E4DC-EAC9-4446-99CA-FD2755AB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D03C48-35A9-48C8-A028-9C4E631E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A19E39-A1C2-4C13-A5DE-A0B948F3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21981-AA94-4761-BCFC-386CC03F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53A9F-057F-4D79-8F33-F6DDA692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9FE050-2CA4-41BF-8636-E6505184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579E3F-0A86-4499-A3A2-8042F450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695887-9895-451A-9912-EC119D81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3FD90F-AD39-47FF-85EE-86E437E7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8486AC-4B87-485B-B517-AFE72EF2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4CC2D9-AEF1-4266-B028-CCD33ED8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BA04E1-ECEF-499B-8E6E-2FB3D569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0C33B1-106A-4AA9-892B-CF2B12B5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B1C5A8-2B13-425E-B5BA-ED259CAF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D5FEB4-CC8A-4180-AA5E-D2348E24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6D09F-2B82-4868-9367-1CE11529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CE8B87-8641-4028-B59E-DA6DD3E7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086F34-D137-4A2A-8704-B02DBD82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A3681A-5566-4BE0-95AC-2B1434A4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79EB7-C466-41CD-81F0-9C414D29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8974A-A151-49A8-ACAB-BB3FA56A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5C823-10C6-4F0F-BBAB-FFFE61E4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B717F-EB05-46C6-B9D1-C5D6B43B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382C9-BED3-456F-8513-84E549FB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99A340-7378-48B5-BDD0-87C949DA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F84E67-E567-4804-99E9-21BEA85A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0C5F3A-DD3B-4668-B756-0E559204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009A1-8064-44FB-8AAB-D2A58918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F627C4-1148-4A71-9C76-6BD13FC8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F06BEB-BABF-4A01-A724-1F5F13F2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6B526E-B16E-4823-9BDB-30F461A8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B132CC-5612-439F-9053-A7B70188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7EC56B-9F16-41C3-B942-D4FAE47D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E6323B-8841-4801-A40E-FDBFA9B4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3F597F-C705-40F7-8840-E904B3BB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1D1FE5-A606-4972-BB69-E4457086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2C8CD3-20E0-4218-AA09-BB41A4BE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7A6EB-B6F6-4F1A-B6BB-50810298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C1E55-13AF-4CE7-9BE7-A7EF029D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38F25-3AD9-4955-9B74-0D5F226C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B8F5F-D39E-4D5F-9699-F8ADABE4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8C244-53C2-40DE-BA78-5D10BF92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F5238-A4C0-4EF4-BE04-56EB14F1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451B3-4B2A-47CB-972F-7A5C610C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C9B20-4064-4EBE-8BA6-F704CC37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8AC16-2FB0-4630-B582-7C067039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7942C-A486-47FE-A2D8-9D733B2D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91D4C-A8E6-4752-95FB-8A49293E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105D2-EE82-4F2B-8035-11786F26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1D990-DC24-4EF4-9D4A-45088B6D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60E89-E5FE-4D2C-AAE1-8B9C02F3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79405-C9D5-472D-B058-86495B85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E0667-607A-4117-927E-3240462F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0E1CC-2F05-46C5-9F36-93A9B635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A12F2-C52E-456C-A436-EF332A3B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7593A-8511-4E15-BBFC-9D5C88B5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819BE-66C3-4ACC-B996-65E9A08C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37310-B06B-4C1C-8643-9607C4A7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F74D8-E24F-49D3-83F3-0E4D3431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48D97-8C8B-486C-A5C2-484E013D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BD909-47C2-49A3-987C-903E2E13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C8796-069B-4AF4-A520-C18890DF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DB907-14E5-410D-85CD-0385C833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46739-4A85-4F57-8D3B-4486E61F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8D27D-57A5-4731-AEE1-CAE44D49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A4427-DBFC-4511-BDBA-C791DBCD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8264A-F8A6-43BE-97CB-FCA42949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A53AD-D317-4D9E-B6CD-EAC19125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4DAC2-2AFE-40C2-8320-6691DF0E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F5F5D-EDA7-4928-92B8-88B37A45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41742-8C69-4E42-9360-D6BEB935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AF08E-4C3B-4A40-B92B-B78D86FA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F230D-E2AC-41C3-BEF4-9E54045D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222DA-D1AA-417A-93A5-C3005F34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861A6-88A9-4DB8-8140-156319C0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1CCBA-B418-4C79-B1F2-0DB44BAB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59F01-AF9C-451D-B715-48325BDC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95EE6-B431-4FB0-8B78-788513DF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41A6B-7385-44BB-A774-0829842D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28E0A-688C-42AF-B6C7-35B00309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E756C-AACF-46AC-A849-FFF877F5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FFE1C-8C01-4F40-90EB-4D038C29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A48A-2EC3-4719-A2B6-DEF9FCF2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622F0-96EB-4B72-86D1-332784C1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6D9BF-012E-475E-AADE-CC42E6CA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7CF04-63AB-4980-9E21-D6E4470F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8C1A8-6CE1-478C-ACB5-5472E0F6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63AE9-816F-49BA-9891-C0613D9E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3437E-9BDD-401D-96CE-0D056E35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19C02-10AA-4B04-A135-6869DCDC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212D5-FD4A-4327-8D37-5299E09B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95352-884C-4CC7-9164-1E0A3C8A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24D6E-891D-4EED-B539-41634F52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4BFC-2060-485D-AED5-EF1492093A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1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1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PlaceHolder 1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Num" idx="3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9830-D5D9-4207-8094-BBC1A06EC0D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6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6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7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AD3E-7580-471A-8A8C-0D96F62D9C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5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5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6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5E35-B88E-4E29-82A6-9D21CA55237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4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9FCF-B130-4928-9C94-4A560B9F6E7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10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758C-30A0-4561-8DFA-1B909A965EB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6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7" name="PlaceHolder 1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5E8E-A5EA-414C-B75C-C32B23287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1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dt" idx="4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 type="ftr" idx="4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 type="sldNum" idx="4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8022-99DA-4AC9-AB44-289791E3A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6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4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5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E215-A8B4-46DB-A0BB-3ACDDBA654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6" name="PlaceHolder 1"/>
          <p:cNvSpPr>
            <a:spLocks noGrp="1"/>
          </p:cNvSpPr>
          <p:nvPr>
            <p:ph type="dt" idx="5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ftr" idx="5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 type="sldNum" idx="5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FFB5-2A40-4304-91B4-145FC250D9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1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4044-A96A-4873-B8BA-3B612CAF3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19C8-99CF-47A5-8419-AA1A7D60A6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7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44B2-07D1-4FF8-813D-6921A6833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6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6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6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01E9-3E9B-4C65-B476-4990E698E2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58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58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58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dt" idx="6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 type="ftr" idx="6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 type="sldNum" idx="6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E30B-3347-45BA-9ED3-447A753D438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4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35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6074-6A15-4335-A3F1-15DC9D6732E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8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79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1" name="PlaceHolder 1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37C5-5F3A-4C04-9AE3-FFEA1767090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72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72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2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72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73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73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73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73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74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74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74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74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75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75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76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76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7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7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7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8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8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79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9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79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9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0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80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80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80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81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81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81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82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2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82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82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83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3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805F-E1B8-41FD-849E-D40350534F17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89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89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90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90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90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90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90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1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1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1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2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92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92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92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93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93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93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94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94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94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95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95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95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95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96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96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96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7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7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97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7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97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7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97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98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98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98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99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99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99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00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00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0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00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00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1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1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01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E304-7BEA-4701-BB62-D7C060A2A5B6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652C-A5D1-4F1B-A85E-F52685D6EB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6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6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6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1517-8512-4C31-9F48-04F6886212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2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5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52C1-3BFA-47B8-8DD7-A628139E484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9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0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C3A4-BCB0-45E6-A0F1-471A2E5E100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7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8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9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9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1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79B9-AE47-47A4-B31F-54510C904B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7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8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9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9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1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790E-3A13-4209-95F7-73EF5A8800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6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6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7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2385-5442-4DFF-85CF-F2C56EE5147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0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0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6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9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96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От Екатеринодара к Краснодару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зентация создана учителем начальных классов МОУ СОШ №2 Сентаевой С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bd71"/>
                </a:solidFill>
                <a:latin typeface="Arial"/>
              </a:rPr>
              <a:t>Главной улицей города стала улица Красная, что означает «красивая», «лучшая», «парадная». Это название она носит до сих пор. Первый трамвай Бельгийского производства был пущен 10 декабря 1900г</a:t>
            </a:r>
            <a:endParaRPr b="0" lang="en-US" sz="1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96" name="" descr=""/>
          <p:cNvPicPr/>
          <p:nvPr/>
        </p:nvPicPr>
        <p:blipFill>
          <a:blip r:embed="rId1"/>
          <a:stretch/>
        </p:blipFill>
        <p:spPr>
          <a:xfrm>
            <a:off x="611280" y="1960560"/>
            <a:ext cx="3024000" cy="4897440"/>
          </a:xfrm>
          <a:prstGeom prst="rect">
            <a:avLst/>
          </a:prstGeom>
          <a:ln w="0">
            <a:noFill/>
          </a:ln>
        </p:spPr>
      </p:pic>
      <p:pic>
        <p:nvPicPr>
          <p:cNvPr id="2097" name="" descr=""/>
          <p:cNvPicPr/>
          <p:nvPr/>
        </p:nvPicPr>
        <p:blipFill>
          <a:blip r:embed="rId2"/>
          <a:stretch/>
        </p:blipFill>
        <p:spPr>
          <a:xfrm>
            <a:off x="4427640" y="1600200"/>
            <a:ext cx="3940200" cy="2406600"/>
          </a:xfrm>
          <a:prstGeom prst="rect">
            <a:avLst/>
          </a:prstGeom>
          <a:ln w="0">
            <a:noFill/>
          </a:ln>
        </p:spPr>
      </p:pic>
      <p:pic>
        <p:nvPicPr>
          <p:cNvPr id="2098" name="" descr=""/>
          <p:cNvPicPr/>
          <p:nvPr/>
        </p:nvPicPr>
        <p:blipFill>
          <a:blip r:embed="rId3"/>
          <a:stretch/>
        </p:blipFill>
        <p:spPr>
          <a:xfrm>
            <a:off x="4356000" y="4221000"/>
            <a:ext cx="4048200" cy="24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Заводы Аведовых являлись крупнейшими в маслобойной промышленности не только Кубанской области, но и всей России. Сейчас это завод МЖК Краснодарский.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00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960720" cy="5184720"/>
          </a:xfrm>
          <a:prstGeom prst="rect">
            <a:avLst/>
          </a:prstGeom>
          <a:ln w="0">
            <a:noFill/>
          </a:ln>
        </p:spPr>
      </p:pic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 Особое развитие получили отрасли, перерабатывающие продукцию сельского хозяйства, в первую очередь - мукомольная и маслобойная. Их продукция пользовалась огромным спросом в России и за рубежом. Екатеринодар стал центром этого производ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Общий вид города. Северная сторон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03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561440" cy="4608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7" dur="2000" fill="hold"/>
                                        <p:tgtEl>
                                          <p:spTgt spid="2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bbd71"/>
                </a:solidFill>
                <a:latin typeface="Arial"/>
              </a:rPr>
              <a:t>Окончание Кавказкой войны 1864 г. способствовало преобразованию Екатеринодара в город гражданский. В 1887г стала действовать Тихорецко –Екатеринодарская линия и в 1888г открывается Новороссийская ветвь Владикавказской дороги.  Отстраиваются новые улицы: Екатерининская – сейчас улица Мира, дом купцов Тарасовых построен в 1813 г – сейчас это улица Советская.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05" name="" descr=""/>
          <p:cNvPicPr/>
          <p:nvPr/>
        </p:nvPicPr>
        <p:blipFill>
          <a:blip r:embed="rId1"/>
          <a:stretch/>
        </p:blipFill>
        <p:spPr>
          <a:xfrm>
            <a:off x="820800" y="1600200"/>
            <a:ext cx="3311640" cy="2185920"/>
          </a:xfrm>
          <a:prstGeom prst="rect">
            <a:avLst/>
          </a:prstGeom>
          <a:ln w="0">
            <a:noFill/>
          </a:ln>
        </p:spPr>
      </p:pic>
      <p:pic>
        <p:nvPicPr>
          <p:cNvPr id="2106" name="" descr=""/>
          <p:cNvPicPr/>
          <p:nvPr/>
        </p:nvPicPr>
        <p:blipFill>
          <a:blip r:embed="rId2"/>
          <a:stretch/>
        </p:blipFill>
        <p:spPr>
          <a:xfrm>
            <a:off x="4978440" y="1600200"/>
            <a:ext cx="3376440" cy="2185920"/>
          </a:xfrm>
          <a:prstGeom prst="rect">
            <a:avLst/>
          </a:prstGeom>
          <a:ln w="0">
            <a:noFill/>
          </a:ln>
        </p:spPr>
      </p:pic>
      <p:pic>
        <p:nvPicPr>
          <p:cNvPr id="2107" name="" descr=""/>
          <p:cNvPicPr/>
          <p:nvPr/>
        </p:nvPicPr>
        <p:blipFill>
          <a:blip r:embed="rId3"/>
          <a:stretch/>
        </p:blipFill>
        <p:spPr>
          <a:xfrm>
            <a:off x="746280" y="3941640"/>
            <a:ext cx="3458880" cy="2189160"/>
          </a:xfrm>
          <a:prstGeom prst="rect">
            <a:avLst/>
          </a:prstGeom>
          <a:ln w="0">
            <a:noFill/>
          </a:ln>
        </p:spPr>
      </p:pic>
      <p:pic>
        <p:nvPicPr>
          <p:cNvPr id="2108" name="" descr=""/>
          <p:cNvPicPr/>
          <p:nvPr/>
        </p:nvPicPr>
        <p:blipFill>
          <a:blip r:embed="rId4"/>
          <a:stretch/>
        </p:blipFill>
        <p:spPr>
          <a:xfrm>
            <a:off x="4944960" y="3941640"/>
            <a:ext cx="3444840" cy="2189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bd71"/>
                </a:solidFill>
                <a:latin typeface="Arial"/>
              </a:rPr>
              <a:t>Правление Черноморской – Кубанской железной дороги</a:t>
            </a:r>
            <a:endParaRPr b="0" lang="en-US" sz="1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10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72360" cy="525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Дом наказного атамана Че6рноморского казачьего войска Я.Г.Кухаренко. Построен в середине 19 века. В настоящее время здесь находится Литературный музей Кубани.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12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697800" cy="446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Триумфальная Александровская арка, водружённая в честь посещения Екатеринодара царём Александром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III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. Архитектор В.А.Филипов. Арка разобрана в 1928 г.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14" name="" descr=""/>
          <p:cNvPicPr/>
          <p:nvPr/>
        </p:nvPicPr>
        <p:blipFill>
          <a:blip r:embed="rId1"/>
          <a:stretch/>
        </p:blipFill>
        <p:spPr>
          <a:xfrm>
            <a:off x="612720" y="1627200"/>
            <a:ext cx="7845480" cy="4367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cc"/>
                </a:solidFill>
                <a:latin typeface="Tahoma"/>
              </a:rPr>
              <a:t>С 1874 г и на долгие годы, вплоть до окончательного роспуска их в 1920 г., городские думы Екатеринодара несли на себе главный груз решения городских проблем, благодаря заботам их гласных город постепенно преображался и хорошел.</a:t>
            </a:r>
            <a:endParaRPr b="0" lang="en-US" sz="17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16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3333600" cy="2171520"/>
          </a:xfrm>
          <a:prstGeom prst="rect">
            <a:avLst/>
          </a:prstGeom>
          <a:ln w="0">
            <a:noFill/>
          </a:ln>
        </p:spPr>
      </p:pic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реди екатеринодарцев имелось немало любителей театрального искусств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городе были открыты музыкальные классы и музыкальное училище им. Н.А.Римского - Корсако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спехи в развитии изобразительного искусства в Екатеринодаре связаны с именами кубанских художников Е.И. Посполитаки, П.С. Косолапа, Р.И. Колесникова и, в первую очередь, увлеченного любителя живописи и коллекционера Ф.А. Коваленко. В 1903 г. Федор Акимович Коваленко передал в дар городу собранную им замечательную коллекцию картин. Так в городе появилась картинная галерея (в настоящее время Художественный музей им. Ф.А. Коваленк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8" name="" descr=""/>
          <p:cNvPicPr/>
          <p:nvPr/>
        </p:nvPicPr>
        <p:blipFill>
          <a:blip r:embed="rId2"/>
          <a:stretch/>
        </p:blipFill>
        <p:spPr>
          <a:xfrm>
            <a:off x="1692360" y="3645000"/>
            <a:ext cx="22795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Кармалин Николай Николаевич (1824-1900). Наказный атаман ККВ и начальник Кубанской области в 1873-1882 гг. Внес большой вклад в становление город-ского самоуправления в Екатеринодаре, широко способствовал развитию здесь просвещения. Инициатор проведения Новороссийской ветви Владикавказской дороги, обеспечившей стабильное и быстрое развитие города.</a:t>
            </a:r>
            <a:endParaRPr b="0" lang="en-US" sz="1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0" name="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38163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ец XIX-начало XX вв. в истории нашего города отмечен многими яркими событиями. Начинает свою работу ОЛИКО (Общество любителей изучения Кубанской области), объединившее в своих рядах энтузиастов изучения края. Создается Екатеринодарское отделение Императорского Русского Музыкального Общества. Возрождается Кубанское Экономическое общество, проведшее в Екатеринодаре несколько крупных сельскохозяйственных выставок. Открывается первая городская публичная библиотека имени А.С. Пушкина. Активную деятельность разворачивают десятки благотворительных обществ. В новый век город вступает в числе 15 городов России, имеющих электрический трамва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ервый отряд казаков под командованием полковника Саввы Белого, следовавший морем, высадился в августе 1792 года на берегу Тамани. Сегодня на этом месте стоит памятник казакам – черноморца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4" name="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25797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В 1896 г. Кубанское казачье войско торжественно отметило свое 200-летие. С этим событием связано появление в городе двух замечательных памятников. 9 сентября 1896 г. Был заложен памятник Екатерине II, по проекту замечательного российского скульптора М.О. Микешина, а в 1897 г. был открыт обелиск 200-летию Кубанского казачьего войска, сооруженный на средства Екатеринодарской городской думы по проекту В.А. Филиппов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24" name="" descr=""/>
          <p:cNvPicPr/>
          <p:nvPr/>
        </p:nvPicPr>
        <p:blipFill>
          <a:blip r:embed="rId1"/>
          <a:stretch/>
        </p:blipFill>
        <p:spPr>
          <a:xfrm>
            <a:off x="826920" y="2344680"/>
            <a:ext cx="3333960" cy="3641760"/>
          </a:xfrm>
          <a:prstGeom prst="rect">
            <a:avLst/>
          </a:prstGeom>
          <a:ln w="0">
            <a:noFill/>
          </a:ln>
        </p:spPr>
      </p:pic>
      <p:pic>
        <p:nvPicPr>
          <p:cNvPr id="2125" name="" descr=""/>
          <p:cNvPicPr/>
          <p:nvPr/>
        </p:nvPicPr>
        <p:blipFill>
          <a:blip r:embed="rId2"/>
          <a:stretch/>
        </p:blipFill>
        <p:spPr>
          <a:xfrm>
            <a:off x="5867280" y="2271600"/>
            <a:ext cx="2235240" cy="3792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Малама Яков Дмитриевич (1841-1912). Наказный атаман Кубанского казачьего войска и начальник Кубанской области в 1892-1904 гг. На период его руководства областью выпал наибольший культурный и общественный подъем в жизни Екатеринодара к. XIX-нач. ХХ вв.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7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960720" cy="504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лагоприятные условия на Кубани имелись и для развития консервного производства. Самые крупные консервные фабрики были сосредоточены в Екатеринодаре. В 1914 г. 6 екатеринодарских фабрик дали продукции почти на полмиллиона pyб. Это были фабрики А.А. Коваленко, Е.Ф. Губкиной, Т-ва Агарунова, Градинарова, Петкова и Иванова. Производили они традиционные для юга овощные и фруктовые консервы, а также консервы из кефали, судака, осетрины, которые отправлялись даже на Дальний Восто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тущая экономика края требовала развития строительной промышленности. Здесь вне конкуренции находилась продукция екатеринодарских кирпично-черепичных заводов Н.К. Селитренниковой и Лю Трахова, отмеченная многими наградам на областных и кавказских выставка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реди первых на Кубани металлообрабатывающих заводов был завод Карла Гусника (осн. В 1886 г.). В основном здесь занимались ремонтом и частично производством земледельческих машин, изготавливали оборудование для небольших мельниц и маслобоен. В 1911 г. завод получил на Ростовской и Ставропольской выставках две золотые медали (за трансмиссию, чугунное и медное литье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11 г. Русско-Кубанская промышленная и нефтяная кампания построила в Екатеринодаре машиностроительного завода «Кубаноль» (в настоящее время завод им. Седина). Это было первое в России предприятие по производству машин и инструментов для глубокого бурен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Кубанские выставки стали незаурядным явлением в культурной и экономической жизни города.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3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65440" cy="4033800"/>
          </a:xfrm>
          <a:prstGeom prst="rect">
            <a:avLst/>
          </a:prstGeom>
          <a:ln w="0">
            <a:noFill/>
          </a:ln>
        </p:spPr>
      </p:pic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 началу ХХ в. Екатеринодар стал и одним из крупнейших торговых центров Северного Кавказа. Как пишет профессор В.Н. Ратушняк, Екатеринодар «подобно гигантскому магниту стягивал к себе товарные излишки сельского хозяйства со всех сторон обширного края». Только на екатеринодарский хлебный рынок ежегодно прибывало до 350 тыс. подвод, доставляющих до 14 млн. пудов хлеба и семечек. Один из современников писал, что с середины июля и до октября, т.е. в разгар хлебного сезона, «бывают такие громадные привозы зерна и подсолнечного семени, что фуры едва могут помещаться на площади рынка, а также бывают такие случаи, что, не говоря уже о мелких хлеботорговцев, но и более крупных не достает денег рассчитываться с привозителями за купленные у них зерновые продукты и потому некоторым продавцам приходится по дню, нередко и по два дня ожидать получения расчета за проданный товар»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716000" y="-360"/>
            <a:ext cx="40388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род Екатеринодар перестал существовать 7декабря 1920г. Начиналась история Краснодар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тория собственно Краснодара насчитывает уже более 80 лет. Почти столетие! Трудно в нескольких строках передать все, что происходило с городом за эти десятилетия. Индустриализация, Большой террор, немецкая оккупация, послевоенное восстановл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950-е романтика целины, на освоение которой отправились сотни краснодарцев, открытие Краснодарского телецентра и первая телепередача на Кубани, В Первомайской роще открылась краевая сельскохозяйственная выставка кубанская ВДНХ, принят проект планировки и застройки Краснодар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959 по данным Всесоюзной переписи в Краснодаре проживало уже 313 110 человек. 1960-е - открылся стадион «Кубань», вместо Нового рынка появился Кооперативный, утверждены мероприятия по благоустройству улицы Красной, принято решение о строительстве бульвара от ул. Крестьянской (ныне Хакурате) до Одесско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5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2880000" cy="3095640"/>
          </a:xfrm>
          <a:prstGeom prst="rect">
            <a:avLst/>
          </a:prstGeom>
          <a:ln w="0">
            <a:noFill/>
          </a:ln>
        </p:spPr>
      </p:pic>
      <p:pic>
        <p:nvPicPr>
          <p:cNvPr id="2136" name="" descr=""/>
          <p:cNvPicPr/>
          <p:nvPr/>
        </p:nvPicPr>
        <p:blipFill>
          <a:blip r:embed="rId2"/>
          <a:stretch/>
        </p:blipFill>
        <p:spPr>
          <a:xfrm>
            <a:off x="3276720" y="476280"/>
            <a:ext cx="1433520" cy="2187720"/>
          </a:xfrm>
          <a:prstGeom prst="rect">
            <a:avLst/>
          </a:prstGeom>
          <a:ln w="0">
            <a:noFill/>
          </a:ln>
        </p:spPr>
      </p:pic>
      <p:pic>
        <p:nvPicPr>
          <p:cNvPr id="2137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4076640" cy="2523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апомни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1920- 1924 гг- центр Кубано- Черноморской области;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1924 -1930гг-центр Кубанского округа;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1924 – 1935гг-центр Краснодарского района;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С 13.09.1937г  -центр Краснодарского края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40" name="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2374920" cy="2079720"/>
          </a:xfrm>
          <a:prstGeom prst="rect">
            <a:avLst/>
          </a:prstGeom>
          <a:ln w="0">
            <a:noFill/>
          </a:ln>
        </p:spPr>
      </p:pic>
      <p:pic>
        <p:nvPicPr>
          <p:cNvPr id="2141" name="" descr=""/>
          <p:cNvPicPr/>
          <p:nvPr/>
        </p:nvPicPr>
        <p:blipFill>
          <a:blip r:embed="rId2"/>
          <a:stretch/>
        </p:blipFill>
        <p:spPr>
          <a:xfrm>
            <a:off x="4140360" y="2565360"/>
            <a:ext cx="4716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Войсковой собор во имя Воскресения Господня освещён в 1802 г. Разобран  в 1876 – 1879 гг из-за ветхости.</a:t>
            </a:r>
            <a:endParaRPr b="0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торой отряд во главе с атаманом Захарием Чепегой, двигаясь по суше, подошёл к Ейскому укреплению. Перезимовав, весной казаки подошли к высокому берегу Кубани. В урочище Карасунский округ они построили укрепление, начали устраивать свой быт, построили походную церковь. Здесь начинался строиться город Екатеринода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7" name="" descr=""/>
          <p:cNvPicPr/>
          <p:nvPr/>
        </p:nvPicPr>
        <p:blipFill>
          <a:blip r:embed="rId1"/>
          <a:stretch/>
        </p:blipFill>
        <p:spPr>
          <a:xfrm>
            <a:off x="804960" y="1955880"/>
            <a:ext cx="334332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В таких хатах жили первые переселенцы на Кубани. Месторасположение первых 40 куреней – поселений ,получивших в последствии название станиц, определялось по жребию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9" name="" descr=""/>
          <p:cNvPicPr/>
          <p:nvPr/>
        </p:nvPicPr>
        <p:blipFill>
          <a:blip r:embed="rId1"/>
          <a:stretch/>
        </p:blipFill>
        <p:spPr>
          <a:xfrm>
            <a:off x="984240" y="1600200"/>
            <a:ext cx="2984400" cy="2189160"/>
          </a:xfrm>
          <a:prstGeom prst="rect">
            <a:avLst/>
          </a:prstGeom>
          <a:ln w="0">
            <a:noFill/>
          </a:ln>
        </p:spPr>
      </p:pic>
      <p:pic>
        <p:nvPicPr>
          <p:cNvPr id="2080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2895840" cy="2185920"/>
          </a:xfrm>
          <a:prstGeom prst="rect">
            <a:avLst/>
          </a:prstGeom>
          <a:ln w="0">
            <a:noFill/>
          </a:ln>
        </p:spPr>
      </p:pic>
      <p:pic>
        <p:nvPicPr>
          <p:cNvPr id="2081" name="" descr=""/>
          <p:cNvPicPr/>
          <p:nvPr/>
        </p:nvPicPr>
        <p:blipFill>
          <a:blip r:embed="rId3"/>
          <a:stretch/>
        </p:blipFill>
        <p:spPr>
          <a:xfrm>
            <a:off x="1077840" y="3940200"/>
            <a:ext cx="2795760" cy="2190600"/>
          </a:xfrm>
          <a:prstGeom prst="rect">
            <a:avLst/>
          </a:prstGeom>
          <a:ln w="0">
            <a:noFill/>
          </a:ln>
        </p:spPr>
      </p:pic>
      <p:pic>
        <p:nvPicPr>
          <p:cNvPr id="2082" name="" descr=""/>
          <p:cNvPicPr/>
          <p:nvPr/>
        </p:nvPicPr>
        <p:blipFill>
          <a:blip r:embed="rId4"/>
          <a:stretch/>
        </p:blipFill>
        <p:spPr>
          <a:xfrm>
            <a:off x="4427640" y="4005360"/>
            <a:ext cx="1434960" cy="2187360"/>
          </a:xfrm>
          <a:prstGeom prst="rect">
            <a:avLst/>
          </a:prstGeom>
          <a:ln w="0">
            <a:noFill/>
          </a:ln>
        </p:spPr>
      </p:pic>
      <p:pic>
        <p:nvPicPr>
          <p:cNvPr id="2083" name="" descr=""/>
          <p:cNvPicPr/>
          <p:nvPr/>
        </p:nvPicPr>
        <p:blipFill>
          <a:blip r:embed="rId5"/>
          <a:stretch/>
        </p:blipFill>
        <p:spPr>
          <a:xfrm>
            <a:off x="6443640" y="3686040"/>
            <a:ext cx="19242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Екатерининская церковь  построена в 1814 г казаком Минского куреня Петром Кучером. Стояла на территории современного Свято – </a:t>
            </a:r>
            <a:br>
              <a:rPr sz="1600"/>
            </a:b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Екатерининского собора. В 1914 г была перенесена на кладбище в пригород Сады(ныне - п. Калинино), где и сгорела. 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5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8836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Сумароков-Эльстон Феликс Николаевич (1820-1877). Наказный атаман ККВ и начальник Кубанской области в 1863-1873 гг. В этот период произошло преоб-разование Екатеринодара в гражданский город. Сумароков-Эльстон приложил много усилий для осуществления этой кардинальной перемены в жизни города и для перестройки всей жизни области на мирный лад после окончания Кавказской войны.</a:t>
            </a:r>
            <a:r>
              <a:rPr b="1" lang="ru-RU" sz="1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87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4165560" cy="4681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Торжественный вынос регалий Кубанского казачьего войска и парад войсковых частей у Алексанрда – Невского войскового собора. Собор был заложен в 1853 г и освещён в 1872 г, а в 1932 г  был взорван большевиками.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89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335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bd71"/>
                </a:solidFill>
                <a:latin typeface="Arial"/>
              </a:rPr>
              <a:t>Фото сторожевой вышки, стоявшей на месте современного кинотеатра Аврора. </a:t>
            </a:r>
            <a:endParaRPr b="0" lang="en-US" sz="1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860 г. Черноморское войско было преобразовано в Кубанское казачье войско, а Черномория в Кубанскую область, с площадью более 81 тыс. кв. км. Екатеринодар стал центром (в первую очередь - военно-административным) обла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селенцам предоставлялись льготы  и пособия от казны. Первыми в 1862 г в Закубанье  заселились 11 станиц. После отмены крепостного права на Кубань переселяются тысячи крестьян из различных губерний России. Это способствовало экономическому рост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а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2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465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610920" y="333000"/>
            <a:ext cx="815796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фициальное  «открытие» Екатеринодара состоялось 6 июля 1867 года. Население насчитывало 14167 человек, из них 9632 человека являлись казаками Кубанского Казачьего войска. Желающие могли оставться в городе и нести все установленные городские и земские повинности, а остальные – переселяются в другие станицы Черномории. В городе пожелало остаться 78 казачьих сем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перь путь на Кубань открывался почти всем желающим. Темпы роста населения Екатеринодара впечатляют. Менее через десять лет оно удвоилось и в 1876 г. составило уже 32,5 тыс. человек. За последующие двадцать лет городское население вновь удвоилось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90г. 48, 3%- представители казачества, 51,7%- лица невойскового  сословия, в том числе горцы - 7,8%, крестьяне, старожилы – 9,7%, иногородние – 34,2%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данным Всероссийской переписи 1897 г., в Екатеринодаре насчитывалось 65 606 жителей (34 494 мужчин и 31 112 женщин). Среди них уроженцев самого города насчитывалось 24 874 чел., других районов Кубани 5 495, остальные жители являлись уроженцами разных губерний России, а 1 043 других государст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2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2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2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2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15:15:41Z</dcterms:created>
  <dc:creator>ВИТАЛИК</dc:creator>
  <dc:description/>
  <dc:language>en-US</dc:language>
  <cp:lastModifiedBy>Марина</cp:lastModifiedBy>
  <dcterms:modified xsi:type="dcterms:W3CDTF">2007-11-14T12:01:21Z</dcterms:modified>
  <cp:revision>5</cp:revision>
  <dc:subject/>
  <dc:title>Поклон родной земле.</dc:title>
</cp:coreProperties>
</file>