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40.jpeg" ContentType="image/jpeg"/>
  <Override PartName="/ppt/media/image1.wmf" ContentType="image/x-wmf"/>
  <Override PartName="/ppt/media/image28.png" ContentType="image/png"/>
  <Override PartName="/ppt/media/image38.jpeg" ContentType="image/jpeg"/>
  <Override PartName="/ppt/media/image41.jpeg" ContentType="image/jpeg"/>
  <Override PartName="/ppt/media/image39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7E781-8AED-4983-B955-02059E34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D2B92-A35C-4ADC-B306-CFBA586E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CD832-6054-477B-818F-D9783823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F7B1B-A56C-4CE3-8BF5-640BF9E8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B6EF7-A305-4CA4-AABD-93047B29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B34B3-0948-4B87-B403-7E14672F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FFC05-33E2-4A05-A6AC-92A26031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F2F13-5E28-494A-809D-4DD9CEA5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15882-8A68-4C59-8FD4-EFAC2F8D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46D6C-A78B-45E6-8D52-01C480F4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7FDFD-F1AC-4725-A338-FC442419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8586B-D09D-4D5F-B6CA-EC56CFAB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0A0A-469D-4554-AD8E-37250A5A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287F6-6D42-4060-85EC-D006997C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0FED1-39D6-4F16-9BD2-7EF65A9B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CA079-B5C1-4DFB-85B2-E297E922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3713B-9420-4C8D-8F29-306CBB5B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0E02D-2E2F-4627-B548-42ACB6D8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75B9C-9467-4492-8D99-95956686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378B9-31F8-4DFE-BF4D-0C81280A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62662-BACC-43B2-BF83-4E7E2D45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5D03F-EC80-47F8-801A-0706C8A6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3C4AA-1164-4F2F-B18C-941C7C2F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CEE6B-C065-44B0-A93B-BAEA031F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345A2-9DE5-4B0A-99B2-940C5DD6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9A86A-5445-4F21-B549-86E9B439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D187F-397E-40F2-A3AF-2027B9BE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4F909-71B4-4790-9B02-AA173AFC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09588-98AA-44EC-85A8-C47B6F2C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8BF20-955D-42D8-9A70-D13BB9C7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39541-AD7F-4A9B-BA71-FC797051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7668A-EC4D-4D4E-BBEE-86614184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7F938-957F-434F-AF7C-E5166A32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21BAC-3BEC-4538-BD8D-8B678149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EA8E-D870-4124-ACA0-E7D9A327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835C1-2D29-4D72-B971-43ADA301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B7571-A511-4F31-9994-FC555BC3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3FDAB-A8EE-4A0B-AC67-01003BBD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88414-C755-4B74-A8DC-FA338651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DBD65-5113-42C3-909E-C9E09DAE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E3142-2A1B-4A3A-90EF-D20E226A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54D02-DB8A-4F2C-B252-A4462B74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13D07-C269-4005-9973-D633AFF8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22DE6-F61C-4360-949F-DDBD5242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AA4D5-0AAB-493A-A24C-0D3BC452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B57C-8AC5-433C-BADD-1833DB43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0BAF5-72AB-47A4-855D-805C2F65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491EC-4B33-4ED3-8FF9-6EF19FC3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C3E6B-E1CD-419B-B043-3174E7E4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570B8-1E9B-4DBE-9317-5E2789A8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F91FD-759C-4CED-B1F7-293B2956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D2EE04-E560-4E1A-A2DA-000A3F17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E9F76B-76C1-4A50-BE04-3806884C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6EF809-37B3-4000-BD8D-02C22AC9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D163C3-15FF-4C2C-B67E-71DBB89A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E841F9-825C-4C72-805B-7201AA5F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089B-E468-40E7-A2DD-98F2AC4C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C7613F-4ED7-42C7-B9EF-7613CD01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B6DE0E-BEEE-4910-A3B2-59AA9BE6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894745-C0DF-4E80-9B94-5E47379A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90134F-E611-4192-ACB6-B2FEC4C8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AD0D3C-FDEC-4D20-8C48-35DA4004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8CD736-F605-41BC-BF90-FEC7F32F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C6C938-5A13-4504-98FC-1F60CDDA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BFA4C-7BD6-42E2-B73D-5631CE1F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253DE-5476-48DA-82D6-B8EB11CA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97ED69-C01B-4462-981A-BC24FF55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92F3-DA30-4B1E-9F82-9E565953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CC11F-2E12-4B72-8B55-CAFD05EF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1A7736-ECB7-4D8F-B770-0CC858A4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768DAF-E6FD-4499-B2F7-9CD05398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B130C-457F-4DD0-B048-025340AD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8A007-5546-4698-86E7-AF7FAAC8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CB114F-5094-4FF5-B5A0-DCA082E3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EE5DAB-673D-4180-BD44-2CD4C2F6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BF2087-86FC-4210-9D03-C7EAC17F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336DE2-3CD2-4F9C-A296-5CBCA83E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EB7DDA-5127-40F0-AD95-5D6312EC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A210-1E2D-4553-B4D9-4F4D5E0C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FF112-9F90-40DB-9F32-613C2EA3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0B2D6-73C8-43C7-90AE-D68BD4AC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C1CA3-5E13-434D-BA9F-B737B2BF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9A98FB-738D-45B9-9283-1794DD2F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74FE22-03A6-4FC4-BDCB-228A16E2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8C260B-F397-4C15-A35D-12D22943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A17A9F-DC54-41C3-97D7-CE3A10E0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7850AF-40C7-496D-8032-27F97C42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E1446E-2B93-4B5E-B6F2-A75FFD84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4C8C12-F01A-4C55-AA22-5FD6B346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FEB1-9A39-4CB8-BC68-BB7C1193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7B3741-08E6-46FD-8362-48C7AE0C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978B0B-A79F-4E4B-BC43-47BD9D2E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D85DA6-90D7-4471-BD5E-BB4593E2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9DAD32-EB8F-4441-BF79-6678C8F9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91C8E4-E2BB-455B-A89E-8B3A97B4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2A453C-7954-4E77-83E8-D980202C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C2581F-4D3D-42E7-935E-DEAF47C4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81D80E-3702-4F21-871C-E6C67421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29479-D3D4-446F-9E02-6E7DB64E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86E77A-363B-49B0-B13F-85A11B7F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E4FF-E505-4ED1-978D-0C14EA3F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D17CC-E73B-4E16-9FEE-E3EFE5D1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9B886A-6E5E-4BA4-A294-E4F3633E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3168A7-B9F9-48B6-BEE4-2F4FF496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BA874D-08B9-4293-9D58-861EE4EB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005BC6-14DD-4948-8B16-A971A619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B02D75-DC8B-488F-9B8A-D2191CAC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98466E-39C2-4567-BE6A-0603A174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0A432C-F350-4E01-9B61-72C51669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27598B-F718-4865-BAB1-C8CB998D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F95947-21BF-4BE6-8CAC-C19E76DA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51101-CFB7-43F3-B09A-E7E3F530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BB25-A51B-41D1-AE0A-79F93A8A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EA6728-0537-4927-BB96-7BB1E465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3DDB83-2399-40ED-BBBE-6D3AD493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B692E8-2916-4826-8545-95969AAD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C5F178-DD40-4C71-9904-05F415BA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DADA2B-FCFF-41A2-ABC6-2F9624A6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263E9F-605C-41F7-A8E9-8E77B5EF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62A6AF-ECF1-400E-8BCB-2A4F4246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3D1264-29EF-4251-A58C-91F825D8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BC042D-C77A-42D2-8984-7A568946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19182F-888B-49DA-A0CB-26F0A4AF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9839-1B52-46D5-8FAF-115AD66B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820585-6EF9-4A89-BA66-37EF0E1B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9A8ACF-583A-40AF-A430-D634E890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23DA62-BEF3-42FC-AD4A-9FF240CD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A7FB67-59DA-41BF-9DFF-3107D1A6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E8AE44-8A66-4DF3-ACFF-64AE4165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45B0E7-8AA8-4C0B-842C-10FAAD5E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75E7A5-10EE-4BD4-B72B-A98B59B1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BAD208-00E3-416F-B0EE-35BC7AC8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7996B1-EB27-4356-80CD-D17A7B25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ABD536-51F3-4885-AB5B-ED7125CB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1252-BF0F-49DF-BC23-CDD7C014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9DB309-C50E-41B6-94A6-67DE8FD1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00F950-765E-457A-8E81-3373C85E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E8B35E-E3E4-4884-95AB-5E5D7D8C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57A40F-7142-444E-94C2-A772DBA9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837A9F-B3E3-47FA-8E18-45A8A884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8F31E4-4D9F-47B1-83D6-ABA6C568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467A6F-86DA-4CAC-BEFE-721AC485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6A71CE-C8EF-4A71-89DE-CFD5F43B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A2D5E3-CA33-4D72-BAE2-5FABC397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22B07C-B1BF-411D-B0C7-26F69133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55EC-157F-42EE-9446-4DCCBAD8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B133C8-8C01-4B8A-ADFF-971761AC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616CD5-2806-45B5-A3A3-023E0BD2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06D346-03A7-4440-94E8-97FDD67D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90F72C-BD57-4C51-9980-324B8F22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6B38DC-A649-42D6-97A1-EADF43C1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E8234A-3E5D-4EDB-9269-3775C9AF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ADB4AC-87D8-4703-9305-AF53F8DD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CB05D2-7648-43B9-B15F-917A739D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89E804-F3F3-4A52-A5F5-AF7742DE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29BCBC-7D06-4A66-8C2E-BA003C7E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1F18-84B0-4FB1-AE6C-7AF06FA6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C02B9E-FBC3-44C0-822D-93289EA0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BC6F08-B1B7-4EFE-96DC-FFA256E1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6B5702-661B-4889-BB84-21607E96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927A2E-6D8B-4EEF-AF40-DF9B1F48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86DE75-7820-4D06-9093-28808E96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033C59-63BA-4894-A546-450BEFB3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C5A573-9F53-4438-857F-B25E6D56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75E018-4E0C-4E78-B72C-74606979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10208F-ABCB-4D91-95E4-16798272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870B4D-9C09-4538-BEE0-FBD4C743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9C6CB-7D2E-4D0F-9C67-F417303A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DBD74C-C9C1-42C8-9C93-F0EFE095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D04B63-0917-4201-ADCC-20CE8FD8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B8929E-BFBC-49FB-A9DE-B952CC39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081F76-228A-4B9A-B4BA-4C0FD815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FC25D3-8554-4D71-82A6-DE09150A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22D1F2-5331-42F8-847F-464C4CEF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E3D0F2-77EA-4959-B651-A6F2E575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69B22A-A09B-45D9-8D24-45CC7B12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DCA45F-C262-43CB-9E9B-78FFD4A1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0F24A8-D27A-494E-8632-F9A0F5F1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55AD9-D66C-4792-B7AA-5453BEFD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490CE3-5E26-4517-B584-D41CC614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CC2D2F-9935-4FDF-90C3-B9B746D0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A4983F-D13A-42F6-BD08-C5682190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D901D5-9BFA-4831-A09A-6A47C170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E08877-CE46-4C94-9878-910EC41C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84369C-A991-4241-959E-47995343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734D62-EDF5-4E34-B217-2A801857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71F436-F971-44AA-B1AB-B1732757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B8B385-A41B-4A2F-87F4-5E4D9141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73491F-60B6-4C8F-B45E-68D2C956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3D7ED-E6E3-463A-B801-DB3F0C8D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3E5E0C-6362-422A-B019-171049FE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52F4F1-6211-4A7E-A325-C7E7E8EE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F4FEE6-F7E6-4312-9041-B79FF082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C5F469-DE28-47C5-B57A-E22D4FF6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7B5E06-DB7B-4E52-9B52-4A7E25DD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BEAAD0-0A69-470E-AB09-546CF3DA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489B13-09C1-429D-81C9-22B30059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AE726A-319D-4F9F-BE6F-D977AC4E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4090FE-9180-4C46-A5A3-33D50554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7A706F-338A-4CE8-ACB0-AE7AC96C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18FB8-2774-497E-82E7-D67D17E0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5B8E84-FBDC-4253-9FAD-36EA4F7D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8F3560-CA5F-4B45-B886-8A45F76D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5E1EA6-6B30-4EA6-92FC-B5F1AC1C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BFFA37-C72B-48D8-953B-5F30BF53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951880-01DE-4B35-B326-1D3CB86C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D4CE6B-79F6-442E-A810-4ED6BD80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87E350-B727-46B9-8FA5-24BCB6FD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12C4B9-563F-41A2-B308-1048A053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E5E62A-DA62-451A-B456-2A0461AC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5BEB0D-69CC-45F8-820D-8A722FBB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B4857-B603-4617-AF01-6961DC32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F9F589-80F5-4BE8-9DFB-3F9F9FE9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D6439C-2189-4001-B6F5-752B8BE0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EE38C4-4E70-42C8-BF18-E7DFBF5A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3DF11E-D54B-4D29-A4D7-DCC7E216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0E8763-B8BE-4872-A86D-7100771D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FB84B6-8129-47D2-88FD-39C0DB9B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176503-B9B1-4526-A839-E8017CF1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0C3DC8-0CDF-47DB-AEFF-AE88E0C4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CF7301-4185-4642-91F5-8B8999BF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1B9FF8-E224-4174-8437-1E2DB389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980D7-8BC0-43FC-B84E-4B4E73E4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6F49A-338A-45D1-9E56-6F8E7020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47B832-09DF-41BF-BEAC-1D298A5E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E14164-E484-4DAA-B844-421DB18B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D64213-313E-45E4-8FE9-E1F50775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915D00-18A3-4357-9E7C-DC9D625E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06C55B-013D-4A22-9C94-9B3E1C9B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B331E5-FDAE-4924-8A02-65EED852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CDBBF9-69F0-4C80-B9E6-62B36D76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44776C-92DF-4009-97EB-E14DD355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E1481C-3D43-4278-A824-6310BB10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989757-EB59-4D4C-A8D6-5C049555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EB24D-5423-4A5D-A547-4CBDE30D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BF7D8B-064A-43B3-9505-D2A08664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96B0E2-C033-41E6-9B98-258AFECC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34D938-0735-476E-B70D-301C81DF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4BA66-7163-443B-8FB4-A3044BE8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D30FB-E43C-41E8-93D7-B038B15B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CBF4D-3442-4539-911E-4DC9AC9D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DC8F5-413D-41DE-BCFA-5A2A1B27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14030-5D3A-4959-ABC8-D0192B28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29EFAF-524A-471E-9489-25D9A433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CAAF53-6F6D-4467-A44C-D3AAD19B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38C35B-2B84-4CB7-8AC9-738B0DDD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C9DAC-AF06-4817-8C5A-281AAAC0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A0261C-2279-4B37-8E23-277079B4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6FA7F-9ECA-4E47-BE34-BA803148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177D03-65A4-4BD5-A066-C1063885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1219E-380F-43C3-9167-BF07C4AF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AF1B2E-BC7D-4D62-9C56-CD49EF31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BEEE2D-69AC-4FA1-BED6-D8D17F34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112C35-8119-4DE3-AEA6-887479CA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1B742A-658B-4776-9A6F-938CD4BB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12AB95-965E-45FC-9FA1-E64B4822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9A400-3D7D-48B3-9917-5DF536E4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E74F9-6086-4C28-9CDC-F9BBD783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1E487-D502-44F7-8329-7D81CD32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1A3FC-AE1D-4C69-AA8F-DF68E442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0747B-F53D-404E-8420-D9096768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683C2-50F8-4F85-80A0-24ACD12A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060F8-C8B6-4113-A7B7-5F9BB805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560D7-4F8C-4C23-BF23-2D60D55E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E2B73-78E6-4934-B2CD-89F54D8A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1FA4D-B259-44A5-8BF1-228A8753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D92A1-62B2-4A20-8D2D-1B1A7552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0E0A9-D51B-4FB5-AB0E-502F5BFF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F1D0A-8BEF-48A4-A55F-A2510D08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0D94D-30DF-49E3-95B1-569D7E55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4F7C6-B2DF-4FB4-97F7-0C45B4B4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34856-5797-495C-9BF9-841C3CE7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E9399-8DF5-4064-95FE-ECF9FC4B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01046-289F-4267-9D2C-98C1DBAE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3C075-D3BF-4BAA-AE89-50D0F4A7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F83A8-151B-4852-8FB8-F72B061F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39194-320B-4B58-9F11-69976314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1424E-4C1F-4FC6-9B29-A0757333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EB7DD-85BD-4F0C-A66F-9341EB90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E4997-A5F5-4445-9E84-4A776A53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962CC-0924-48FB-8D34-368D658D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DFE16-CFE3-4849-8034-EF472F66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85E5E-75DC-4A7E-B836-920554FD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50D31-E946-4220-A871-5F97D99C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1474C-59F4-4488-8E14-95C67275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77BE6-0B02-44B0-8ED3-B8DCF1CB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1D62F-2FC0-4DB0-8A9D-5F0662DE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803A8-E65B-4BD0-A0FD-507409E9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8C29F-042C-4229-AA2B-FD5704A6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A0936-E8F0-4E4B-A60D-5FE5046F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F52C3-1F97-4413-984A-24F9D338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12BCC-9F5C-42E5-9F7A-3DC4EB8E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D9E4E-884B-46A1-A36E-7BE5E07E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97FCA-86D1-4436-A3CE-53036B61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43B0D-4397-4CCA-B3E5-D78CFC61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760B2-75A9-43B1-83DE-6D91F15E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FDF8B-1013-4269-828F-DAB301A3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6E482-E8DC-49E6-91FD-FF20A8A1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91472-0920-4D9B-958D-B2AD397C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6BED9-7297-4792-AE05-E7745C7E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F3008-74B7-432C-A16C-17B0613A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E0EE0-B373-400B-ACD2-418D3B80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17E88-4755-4FC5-BF59-9185EC86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D520C-AC99-47C9-82A6-E9374F7B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351F2-6865-47EB-9E2C-07737098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CFF9E-C747-4EF6-AA95-EB16EE7A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DAF37-EB7A-4963-92E0-FDB20A47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A051E-1135-4D32-85F4-25A478C7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9EFDB-94A2-4972-9D1A-CA302CCF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E323F-A622-4DF2-AD3A-A5648D88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A5043-1C46-418E-A1A7-32FF0B59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8962F-57E0-4B07-BAD7-4638DCA0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85.xml"/><Relationship Id="rId32" Type="http://schemas.openxmlformats.org/officeDocument/2006/relationships/slideLayout" Target="../slideLayouts/slideLayout86.xml"/><Relationship Id="rId33" Type="http://schemas.openxmlformats.org/officeDocument/2006/relationships/slideLayout" Target="../slideLayouts/slideLayout87.xml"/><Relationship Id="rId34" Type="http://schemas.openxmlformats.org/officeDocument/2006/relationships/slideLayout" Target="../slideLayouts/slideLayout88.xml"/><Relationship Id="rId35" Type="http://schemas.openxmlformats.org/officeDocument/2006/relationships/slideLayout" Target="../slideLayouts/slideLayout89.xml"/><Relationship Id="rId36" Type="http://schemas.openxmlformats.org/officeDocument/2006/relationships/slideLayout" Target="../slideLayouts/slideLayout90.xml"/><Relationship Id="rId37" Type="http://schemas.openxmlformats.org/officeDocument/2006/relationships/slideLayout" Target="../slideLayouts/slideLayout91.xml"/><Relationship Id="rId38" Type="http://schemas.openxmlformats.org/officeDocument/2006/relationships/slideLayout" Target="../slideLayouts/slideLayout92.xml"/><Relationship Id="rId39" Type="http://schemas.openxmlformats.org/officeDocument/2006/relationships/slideLayout" Target="../slideLayouts/slideLayout93.xml"/><Relationship Id="rId40" Type="http://schemas.openxmlformats.org/officeDocument/2006/relationships/slideLayout" Target="../slideLayouts/slideLayout94.xml"/><Relationship Id="rId41" Type="http://schemas.openxmlformats.org/officeDocument/2006/relationships/slideLayout" Target="../slideLayouts/slideLayout95.xml"/><Relationship Id="rId4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1046-6A63-4197-8C39-88EE359916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1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1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Num" idx="3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525A-F9A4-4D9C-A301-A0A70F9EF5C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6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6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7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05E7-9A6E-4E6D-A874-92FA9A2D93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5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5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6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D7FD-C131-42E3-A391-E67323EE90B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4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D8CA-EB70-401B-951B-305E9345955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0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7EEF-CB87-41EC-B0CD-B0537ECB4AE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6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7" name="PlaceHolder 1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7305-94E0-4BFD-A652-A7D19A6B0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1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dt" idx="4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 type="ftr" idx="4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41FE-E161-4ABC-8F58-112DAECE4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6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4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5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70CE-2E74-40F6-B395-7CA0B00BFD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6" name="PlaceHolder 1"/>
          <p:cNvSpPr>
            <a:spLocks noGrp="1"/>
          </p:cNvSpPr>
          <p:nvPr>
            <p:ph type="dt" idx="5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ftr" idx="5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 type="sldNum" idx="5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70DE-CFF5-4883-8DBD-B03FBF1C50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1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3D55-9279-41DD-A8EA-293D0ADF6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8C13-7779-436E-8A90-6573957A16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7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28C3-DE9F-48AC-B5B4-C4D59BD02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6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6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6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B455-1057-4C1B-95E3-21FD1829A4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58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58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58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dt" idx="6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 type="ftr" idx="6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 type="sldNum" idx="6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90BF-CB34-48D6-AF8B-A5D1425AAAD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4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35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D599-9B58-4E2C-88F8-11ED4176B62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8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79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1" name="PlaceHolder 1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EA8F-FA03-4230-A22B-87C1BB16716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72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2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2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72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73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73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73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73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74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74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74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74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75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75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76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76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7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7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7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7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8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8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79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9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79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9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0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80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80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80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81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81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81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2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2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82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82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83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3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0136-3B6F-4E3F-8FBE-17859648A897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89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89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90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90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90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90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90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1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1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1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2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92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92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92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93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93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93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94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94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94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4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95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95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95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95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96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96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96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7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7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97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7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97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7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97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98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98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98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99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99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99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00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00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0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00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00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1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01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0860-EA9F-436F-BF8C-CD8098034E5B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697F-62E9-4B19-BC7A-06C0A83192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6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6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6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8711-CD85-4DEB-B4F6-273CB78FB2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2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2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5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E5D1-F713-405B-8F59-B07B364F4A0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9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0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2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8108-B324-4BB5-8387-4B14437CD9A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7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1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2FD9-36F5-4684-A207-58E233D199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7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8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9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9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1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E947-6C3A-4D12-9806-AE8BCFDB6F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1"/>
    <p:sldLayoutId id="2147483741" r:id="rId32"/>
    <p:sldLayoutId id="2147483742" r:id="rId33"/>
    <p:sldLayoutId id="2147483743" r:id="rId34"/>
    <p:sldLayoutId id="2147483744" r:id="rId35"/>
    <p:sldLayoutId id="2147483745" r:id="rId36"/>
    <p:sldLayoutId id="2147483746" r:id="rId37"/>
    <p:sldLayoutId id="2147483747" r:id="rId38"/>
    <p:sldLayoutId id="2147483748" r:id="rId39"/>
    <p:sldLayoutId id="2147483749" r:id="rId40"/>
    <p:sldLayoutId id="2147483750" r:id="rId41"/>
    <p:sldLayoutId id="2147483751" r:id="rId4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6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6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7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44ED-D875-4268-9FB9-E0AE9CDBB70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0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0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6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96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От Екатеринодара к Краснодару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зентация создана учителем начальных классов МОУ СОШ №2 Сентаевой С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bd71"/>
                </a:solidFill>
                <a:latin typeface="Arial"/>
              </a:rPr>
              <a:t>Главной улицей города стала улица Красная, что означает «красивая», «лучшая», «парадная». Это название она носит до сих пор. Первый трамвай Бельгийского производства был пущен 10 декабря 1900г</a:t>
            </a:r>
            <a:endParaRPr b="0" lang="en-US" sz="1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096" name="" descr=""/>
          <p:cNvPicPr/>
          <p:nvPr/>
        </p:nvPicPr>
        <p:blipFill>
          <a:blip r:embed="rId1"/>
          <a:stretch/>
        </p:blipFill>
        <p:spPr>
          <a:xfrm>
            <a:off x="611280" y="1960560"/>
            <a:ext cx="3024000" cy="4897440"/>
          </a:xfrm>
          <a:prstGeom prst="rect">
            <a:avLst/>
          </a:prstGeom>
          <a:ln w="0">
            <a:noFill/>
          </a:ln>
        </p:spPr>
      </p:pic>
      <p:pic>
        <p:nvPicPr>
          <p:cNvPr id="2097" name="" descr=""/>
          <p:cNvPicPr/>
          <p:nvPr/>
        </p:nvPicPr>
        <p:blipFill>
          <a:blip r:embed="rId2"/>
          <a:stretch/>
        </p:blipFill>
        <p:spPr>
          <a:xfrm>
            <a:off x="4427640" y="1600200"/>
            <a:ext cx="3940200" cy="2406600"/>
          </a:xfrm>
          <a:prstGeom prst="rect">
            <a:avLst/>
          </a:prstGeom>
          <a:ln w="0">
            <a:noFill/>
          </a:ln>
        </p:spPr>
      </p:pic>
      <p:pic>
        <p:nvPicPr>
          <p:cNvPr id="2098" name="" descr=""/>
          <p:cNvPicPr/>
          <p:nvPr/>
        </p:nvPicPr>
        <p:blipFill>
          <a:blip r:embed="rId3"/>
          <a:stretch/>
        </p:blipFill>
        <p:spPr>
          <a:xfrm>
            <a:off x="4356000" y="4221000"/>
            <a:ext cx="4048200" cy="24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e5ff"/>
                </a:solidFill>
                <a:latin typeface="Garamond"/>
              </a:rPr>
              <a:t>Заводы Аведовых являлись крупнейшими в маслобойной промышленности не только Кубанской области, но и всей России. Сейчас это завод МЖК Краснодарский.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00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960720" cy="5184720"/>
          </a:xfrm>
          <a:prstGeom prst="rect">
            <a:avLst/>
          </a:prstGeom>
          <a:ln w="0">
            <a:noFill/>
          </a:ln>
        </p:spPr>
      </p:pic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 Особое развитие получили отрасли, перерабатывающие продукцию сельского хозяйства, в первую очередь - мукомольная и маслобойная. Их продукция пользовалась огромным спросом в России и за рубежом. Екатеринодар стал центром этого производ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Общий вид города. Северная сторона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03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561440" cy="4608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7" dur="2000" fill="hold"/>
                                        <p:tgtEl>
                                          <p:spTgt spid="2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bbd71"/>
                </a:solidFill>
                <a:latin typeface="Arial"/>
              </a:rPr>
              <a:t>Окончание Кавказкой войны 1864 г. способствовало преобразованию Екатеринодара в город гражданский. В 1887г стала действовать Тихорецко –Екатеринодарская линия и в 1888г открывается Новороссийская ветвь Владикавказской дороги.  Отстраиваются новые улицы: Екатерининская – сейчас улица Мира, дом купцов Тарасовых построен в 1813 г – сейчас это улица Советская.</a:t>
            </a:r>
            <a:endParaRPr b="0" lang="en-US" sz="1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05" name="" descr=""/>
          <p:cNvPicPr/>
          <p:nvPr/>
        </p:nvPicPr>
        <p:blipFill>
          <a:blip r:embed="rId1"/>
          <a:stretch/>
        </p:blipFill>
        <p:spPr>
          <a:xfrm>
            <a:off x="820800" y="1600200"/>
            <a:ext cx="3311640" cy="2185920"/>
          </a:xfrm>
          <a:prstGeom prst="rect">
            <a:avLst/>
          </a:prstGeom>
          <a:ln w="0">
            <a:noFill/>
          </a:ln>
        </p:spPr>
      </p:pic>
      <p:pic>
        <p:nvPicPr>
          <p:cNvPr id="2106" name="" descr=""/>
          <p:cNvPicPr/>
          <p:nvPr/>
        </p:nvPicPr>
        <p:blipFill>
          <a:blip r:embed="rId2"/>
          <a:stretch/>
        </p:blipFill>
        <p:spPr>
          <a:xfrm>
            <a:off x="4978440" y="1600200"/>
            <a:ext cx="3376440" cy="2185920"/>
          </a:xfrm>
          <a:prstGeom prst="rect">
            <a:avLst/>
          </a:prstGeom>
          <a:ln w="0">
            <a:noFill/>
          </a:ln>
        </p:spPr>
      </p:pic>
      <p:pic>
        <p:nvPicPr>
          <p:cNvPr id="2107" name="" descr=""/>
          <p:cNvPicPr/>
          <p:nvPr/>
        </p:nvPicPr>
        <p:blipFill>
          <a:blip r:embed="rId3"/>
          <a:stretch/>
        </p:blipFill>
        <p:spPr>
          <a:xfrm>
            <a:off x="746280" y="3941640"/>
            <a:ext cx="3458880" cy="2189160"/>
          </a:xfrm>
          <a:prstGeom prst="rect">
            <a:avLst/>
          </a:prstGeom>
          <a:ln w="0">
            <a:noFill/>
          </a:ln>
        </p:spPr>
      </p:pic>
      <p:pic>
        <p:nvPicPr>
          <p:cNvPr id="2108" name="" descr=""/>
          <p:cNvPicPr/>
          <p:nvPr/>
        </p:nvPicPr>
        <p:blipFill>
          <a:blip r:embed="rId4"/>
          <a:stretch/>
        </p:blipFill>
        <p:spPr>
          <a:xfrm>
            <a:off x="4944960" y="3941640"/>
            <a:ext cx="3444840" cy="218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bd71"/>
                </a:solidFill>
                <a:latin typeface="Arial"/>
              </a:rPr>
              <a:t>Правление Черноморской – Кубанской железной дороги</a:t>
            </a:r>
            <a:endParaRPr b="0" lang="en-US" sz="1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10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72360" cy="525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Дом наказного атамана Че6рноморского казачьего войска Я.Г.Кухаренко. Построен в середине 19 века. В настоящее время здесь находится Литературный музей Кубани.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12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697800" cy="446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Триумфальная Александровская арка, водружённая в честь посещения Екатеринодара царём Александром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III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. Архитектор В.А.Филипов. Арка разобрана в 1928 г.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14" name="" descr=""/>
          <p:cNvPicPr/>
          <p:nvPr/>
        </p:nvPicPr>
        <p:blipFill>
          <a:blip r:embed="rId1"/>
          <a:stretch/>
        </p:blipFill>
        <p:spPr>
          <a:xfrm>
            <a:off x="612720" y="1627200"/>
            <a:ext cx="7845480" cy="4367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cc"/>
                </a:solidFill>
                <a:latin typeface="Tahoma"/>
              </a:rPr>
              <a:t>С 1874 г и на долгие годы, вплоть до окончательного роспуска их в 1920 г., городские думы Екатеринодара несли на себе главный груз решения городских проблем, благодаря заботам их гласных город постепенно преображался и хорошел.</a:t>
            </a:r>
            <a:endParaRPr b="0" lang="en-US" sz="17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16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3333600" cy="2171520"/>
          </a:xfrm>
          <a:prstGeom prst="rect">
            <a:avLst/>
          </a:prstGeom>
          <a:ln w="0">
            <a:noFill/>
          </a:ln>
        </p:spPr>
      </p:pic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и екатеринодарцев имелось немало любителей театрального искусств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городе были открыты музыкальные классы и музыкальное училище им. Н.А.Римского - Корсако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спехи в развитии изобразительного искусства в Екатеринодаре связаны с именами кубанских художников Е.И. Посполитаки, П.С. Косолапа, Р.И. Колесникова и, в первую очередь, увлеченного любителя живописи и коллекционера Ф.А. Коваленко. В 1903 г. Федор Акимович Коваленко передал в дар городу собранную им замечательную коллекцию картин. Так в городе появилась картинная галерея (в настоящее время Художественный музей им. Ф.А. Коваленк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8" name="" descr=""/>
          <p:cNvPicPr/>
          <p:nvPr/>
        </p:nvPicPr>
        <p:blipFill>
          <a:blip r:embed="rId2"/>
          <a:stretch/>
        </p:blipFill>
        <p:spPr>
          <a:xfrm>
            <a:off x="1692360" y="3645000"/>
            <a:ext cx="22795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Кармалин Николай Николаевич (1824-1900). Наказный атаман ККВ и начальник Кубанской области в 1873-1882 гг. Внес большой вклад в становление город-ского самоуправления в Екатеринодаре, широко способствовал развитию здесь просвещения. Инициатор проведения Новороссийской ветви Владикавказской дороги, обеспечившей стабильное и быстрое развитие города.</a:t>
            </a:r>
            <a:endParaRPr b="0" lang="en-US" sz="1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0" name="" descr=""/>
          <p:cNvPicPr/>
          <p:nvPr/>
        </p:nvPicPr>
        <p:blipFill>
          <a:blip r:embed="rId1"/>
          <a:stretch/>
        </p:blipFill>
        <p:spPr>
          <a:xfrm>
            <a:off x="2195640" y="1773360"/>
            <a:ext cx="38163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ец XIX-начало XX вв. в истории нашего города отмечен многими яркими событиями. Начинает свою работу ОЛИКО (Общество любителей изучения Кубанской области), объединившее в своих рядах энтузиастов изучения края. Создается Екатеринодарское отделение Императорского Русского Музыкального Общества. Возрождается Кубанское Экономическое общество, проведшее в Екатеринодаре несколько крупных сельскохозяйственных выставок. Открывается первая городская публичная библиотека имени А.С. Пушкина. Активную деятельность разворачивают десятки благотворительных обществ. В новый век город вступает в числе 15 городов России, имеющих электрический трамва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ервый отряд казаков под командованием полковника Саввы Белого, следовавший морем, высадился в августе 1792 года на берегу Тамани. Сегодня на этом месте стоит памятник казакам – черноморца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4" name="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25797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ahoma"/>
              </a:rPr>
              <a:t>В 1896 г. Кубанское казачье войско торжественно отметило свое 200-летие. С этим событием связано появление в городе двух замечательных памятников. 9 сентября 1896 г. Был заложен памятник Екатерине II, по проекту замечательного российского скульптора М.О. Микешина, а в 1897 г. был открыт обелиск 200-летию Кубанского казачьего войска, сооруженный на средства Екатеринодарской городской думы по проекту В.А. Филиппов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24" name="" descr=""/>
          <p:cNvPicPr/>
          <p:nvPr/>
        </p:nvPicPr>
        <p:blipFill>
          <a:blip r:embed="rId1"/>
          <a:stretch/>
        </p:blipFill>
        <p:spPr>
          <a:xfrm>
            <a:off x="826920" y="2344680"/>
            <a:ext cx="3333960" cy="3641760"/>
          </a:xfrm>
          <a:prstGeom prst="rect">
            <a:avLst/>
          </a:prstGeom>
          <a:ln w="0">
            <a:noFill/>
          </a:ln>
        </p:spPr>
      </p:pic>
      <p:pic>
        <p:nvPicPr>
          <p:cNvPr id="2125" name="" descr=""/>
          <p:cNvPicPr/>
          <p:nvPr/>
        </p:nvPicPr>
        <p:blipFill>
          <a:blip r:embed="rId2"/>
          <a:stretch/>
        </p:blipFill>
        <p:spPr>
          <a:xfrm>
            <a:off x="5867280" y="2271600"/>
            <a:ext cx="2235240" cy="3792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7d47d"/>
                </a:solidFill>
                <a:latin typeface="Arial"/>
              </a:rPr>
              <a:t>Малама Яков Дмитриевич (1841-1912). Наказный атаман Кубанского казачьего войска и начальник Кубанской области в 1892-1904 гг. На период его руководства областью выпал наибольший культурный и общественный подъем в жизни Екатеринодара к. XIX-нач. ХХ вв.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7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960720" cy="504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агоприятные условия на Кубани имелись и для развития консервного производства. Самые крупные консервные фабрики были сосредоточены в Екатеринодаре. В 1914 г. 6 екатеринодарских фабрик дали продукции почти на полмиллиона pyб. Это были фабрики А.А. Коваленко, Е.Ф. Губкиной, Т-ва Агарунова, Градинарова, Петкова и Иванова. Производили они традиционные для юга овощные и фруктовые консервы, а также консервы из кефали, судака, осетрины, которые отправлялись даже на Дальний Восто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тущая экономика края требовала развития строительной промышленности. Здесь вне конкуренции находилась продукция екатеринодарских кирпично-черепичных заводов Н.К. Селитренниковой и Лю Трахова, отмеченная многими наградам на областных и кавказских выставка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и первых на Кубани металлообрабатывающих заводов был завод Карла Гусника (осн. В 1886 г.). В основном здесь занимались ремонтом и частично производством земледельческих машин, изготавливали оборудование для небольших мельниц и маслобоен. В 1911 г. завод получил на Ростовской и Ставропольской выставках две золотые медали (за трансмиссию, чугунное и медное литье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1911 г. Русско-Кубанская промышленная и нефтяная кампания построила в Екатеринодаре машиностроительного завода «Кубаноль» (в настоящее время завод им. Седина). Это было первое в России предприятие по производству машин и инструментов для глубокого бурен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Кубанские выставки стали незаурядным явлением в культурной и экономической жизни города.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3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65440" cy="4033800"/>
          </a:xfrm>
          <a:prstGeom prst="rect">
            <a:avLst/>
          </a:prstGeom>
          <a:ln w="0">
            <a:noFill/>
          </a:ln>
        </p:spPr>
      </p:pic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 началу ХХ в. Екатеринодар стал и одним из крупнейших торговых центров Северного Кавказа. Как пишет профессор В.Н. Ратушняк, Екатеринодар «подобно гигантскому магниту стягивал к себе товарные излишки сельского хозяйства со всех сторон обширного края». Только на екатеринодарский хлебный рынок ежегодно прибывало до 350 тыс. подвод, доставляющих до 14 млн. пудов хлеба и семечек. Один из современников писал, что с середины июля и до октября, т.е. в разгар хлебного сезона, «бывают такие громадные привозы зерна и подсолнечного семени, что фуры едва могут помещаться на площади рынка, а также бывают такие случаи, что, не говоря уже о мелких хлеботорговцев, но и более крупных не достает денег рассчитываться с привозителями за купленные у них зерновые продукты и потому некоторым продавцам приходится по дню, нередко и по два дня ожидать получения расчета за проданный товар»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716000" y="-360"/>
            <a:ext cx="40388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род Екатеринодар перестал существовать 7декабря 1920г. Начиналась история Краснодар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тория собственно Краснодара насчитывает уже более 80 лет. Почти столетие! Трудно в нескольких строках передать все, что происходило с городом за эти десятилетия. Индустриализация, Большой террор, немецкая оккупация, послевоенное восстановл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950-е романтика целины, на освоение которой отправились сотни краснодарцев, открытие Краснодарского телецентра и первая телепередача на Кубани, В Первомайской роще открылась краевая сельскохозяйственная выставка кубанская ВДНХ, принят проект планировки и застройки Краснодар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959 по данным Всесоюзной переписи в Краснодаре проживало уже 313 110 человек. 1960-е - открылся стадион «Кубань», вместо Нового рынка появился Кооперативный, утверждены мероприятия по благоустройству улицы Красной, принято решение о строительстве бульвара от ул. Крестьянской (ныне Хакурате) до Одесско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5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2880000" cy="3095640"/>
          </a:xfrm>
          <a:prstGeom prst="rect">
            <a:avLst/>
          </a:prstGeom>
          <a:ln w="0">
            <a:noFill/>
          </a:ln>
        </p:spPr>
      </p:pic>
      <p:pic>
        <p:nvPicPr>
          <p:cNvPr id="2136" name="" descr=""/>
          <p:cNvPicPr/>
          <p:nvPr/>
        </p:nvPicPr>
        <p:blipFill>
          <a:blip r:embed="rId2"/>
          <a:stretch/>
        </p:blipFill>
        <p:spPr>
          <a:xfrm>
            <a:off x="3276720" y="476280"/>
            <a:ext cx="1433520" cy="2187720"/>
          </a:xfrm>
          <a:prstGeom prst="rect">
            <a:avLst/>
          </a:prstGeom>
          <a:ln w="0">
            <a:noFill/>
          </a:ln>
        </p:spPr>
      </p:pic>
      <p:pic>
        <p:nvPicPr>
          <p:cNvPr id="2137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4076640" cy="2523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апомни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1920- 1924 гг- центр Кубано- Черноморской области;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1924 -1930гг-центр Кубанского округа;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1924 – 1935гг-центр Краснодарского района;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С 13.09.1937г  -центр Краснодарского края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40" name="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2374920" cy="2079720"/>
          </a:xfrm>
          <a:prstGeom prst="rect">
            <a:avLst/>
          </a:prstGeom>
          <a:ln w="0">
            <a:noFill/>
          </a:ln>
        </p:spPr>
      </p:pic>
      <p:pic>
        <p:nvPicPr>
          <p:cNvPr id="2141" name="" descr=""/>
          <p:cNvPicPr/>
          <p:nvPr/>
        </p:nvPicPr>
        <p:blipFill>
          <a:blip r:embed="rId2"/>
          <a:stretch/>
        </p:blipFill>
        <p:spPr>
          <a:xfrm>
            <a:off x="4140360" y="2565360"/>
            <a:ext cx="4716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Войсковой собор во имя Воскресения Господня освещён в 1802 г. Разобран  в 1876 – 1879 гг из-за ветхости.</a:t>
            </a: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торой отряд во главе с атаманом Захарием Чепегой, двигаясь по суше, подошёл к Ейскому укреплению. Перезимовав, весной казаки подошли к высокому берегу Кубани. В урочище Карасунский округ они построили укрепление, начали устраивать свой быт, построили походную церковь. Здесь начинался строиться город Екатеринода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7" name="" descr=""/>
          <p:cNvPicPr/>
          <p:nvPr/>
        </p:nvPicPr>
        <p:blipFill>
          <a:blip r:embed="rId1"/>
          <a:stretch/>
        </p:blipFill>
        <p:spPr>
          <a:xfrm>
            <a:off x="804960" y="1955880"/>
            <a:ext cx="33433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В таких хатах жили первые переселенцы на Кубани. Месторасположение первых 40 куреней – поселений ,получивших в последствии название станиц, определялось по жребию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9" name="" descr=""/>
          <p:cNvPicPr/>
          <p:nvPr/>
        </p:nvPicPr>
        <p:blipFill>
          <a:blip r:embed="rId1"/>
          <a:stretch/>
        </p:blipFill>
        <p:spPr>
          <a:xfrm>
            <a:off x="984240" y="1600200"/>
            <a:ext cx="2984400" cy="2189160"/>
          </a:xfrm>
          <a:prstGeom prst="rect">
            <a:avLst/>
          </a:prstGeom>
          <a:ln w="0">
            <a:noFill/>
          </a:ln>
        </p:spPr>
      </p:pic>
      <p:pic>
        <p:nvPicPr>
          <p:cNvPr id="2080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2895840" cy="2185920"/>
          </a:xfrm>
          <a:prstGeom prst="rect">
            <a:avLst/>
          </a:prstGeom>
          <a:ln w="0">
            <a:noFill/>
          </a:ln>
        </p:spPr>
      </p:pic>
      <p:pic>
        <p:nvPicPr>
          <p:cNvPr id="2081" name="" descr=""/>
          <p:cNvPicPr/>
          <p:nvPr/>
        </p:nvPicPr>
        <p:blipFill>
          <a:blip r:embed="rId3"/>
          <a:stretch/>
        </p:blipFill>
        <p:spPr>
          <a:xfrm>
            <a:off x="1077840" y="3940200"/>
            <a:ext cx="2795760" cy="2190600"/>
          </a:xfrm>
          <a:prstGeom prst="rect">
            <a:avLst/>
          </a:prstGeom>
          <a:ln w="0">
            <a:noFill/>
          </a:ln>
        </p:spPr>
      </p:pic>
      <p:pic>
        <p:nvPicPr>
          <p:cNvPr id="2082" name="" descr=""/>
          <p:cNvPicPr/>
          <p:nvPr/>
        </p:nvPicPr>
        <p:blipFill>
          <a:blip r:embed="rId4"/>
          <a:stretch/>
        </p:blipFill>
        <p:spPr>
          <a:xfrm>
            <a:off x="4427640" y="4005360"/>
            <a:ext cx="1434960" cy="2187360"/>
          </a:xfrm>
          <a:prstGeom prst="rect">
            <a:avLst/>
          </a:prstGeom>
          <a:ln w="0">
            <a:noFill/>
          </a:ln>
        </p:spPr>
      </p:pic>
      <p:pic>
        <p:nvPicPr>
          <p:cNvPr id="2083" name="" descr=""/>
          <p:cNvPicPr/>
          <p:nvPr/>
        </p:nvPicPr>
        <p:blipFill>
          <a:blip r:embed="rId5"/>
          <a:stretch/>
        </p:blipFill>
        <p:spPr>
          <a:xfrm>
            <a:off x="6443640" y="3686040"/>
            <a:ext cx="19242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Екатерининская церковь  построена в 1814 г казаком Минского куреня Петром Кучером. Стояла на территории современного Свято – </a:t>
            </a:r>
            <a:br>
              <a:rPr sz="1600"/>
            </a:b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Екатерининского собора. В 1914 г была перенесена на кладбище в пригород Сады(ныне - п. Калинино), где и сгорела. 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5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8836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Сумароков-Эльстон Феликс Николаевич (1820-1877). Наказный атаман ККВ и начальник Кубанской области в 1863-1873 гг. В этот период произошло преоб-разование Екатеринодара в гражданский город. Сумароков-Эльстон приложил много усилий для осуществления этой кардинальной перемены в жизни города и для перестройки всей жизни области на мирный лад после окончания Кавказской войны.</a:t>
            </a:r>
            <a:r>
              <a:rPr b="1" lang="ru-RU" sz="1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87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4165560" cy="4681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Торжественный вынос регалий Кубанского казачьего войска и парад войсковых частей у Алексанрда – Невского войскового собора. Собор был заложен в 1853 г и освещён в 1872 г, а в 1932 г  был взорван большевиками.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89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335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bd71"/>
                </a:solidFill>
                <a:latin typeface="Arial"/>
              </a:rPr>
              <a:t>Фото сторожевой вышки, стоявшей на месте современного кинотеатра Аврора. </a:t>
            </a:r>
            <a:endParaRPr b="0" lang="en-US" sz="1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1860 г. Черноморское войско было преобразовано в Кубанское казачье войско, а Черномория в Кубанскую область, с площадью более 81 тыс. кв. км. Екатеринодар стал центром (в первую очередь - военно-административным) обла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селенцам предоставлялись льготы  и пособия от казны. Первыми в 1862 г в Закубанье  заселились 11 станиц. После отмены крепостного права на Кубань переселяются тысячи крестьян из различных губерний России. Это способствовало экономическому рост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а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2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465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610920" y="333000"/>
            <a:ext cx="815796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фициальное  «открытие» Екатеринодара состоялось 6 июля 1867 года. Население насчитывало 14167 человек, из них 9632 человека являлись казаками Кубанского Казачьего войска. Желающие могли оставться в городе и нести все установленные городские и земские повинности, а остальные – переселяются в другие станицы Черномории. В городе пожелало остаться 78 казачьих сем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перь путь на Кубань открывался почти всем желающим. Темпы роста населения Екатеринодара впечатляют. Менее через десять лет оно удвоилось и в 1876 г. составило уже 32,5 тыс. человек. За последующие двадцать лет городское население вновь удвоилось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90г. 48, 3%- представители казачества, 51,7%- лица невойскового  сословия, в том числе горцы - 7,8%, крестьяне, старожилы – 9,7%, иногородние – 34,2%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данным Всероссийской переписи 1897 г., в Екатеринодаре насчитывалось 65 606 жителей (34 494 мужчин и 31 112 женщин). Среди них уроженцев самого города насчитывалось 24 874 чел., других районов Кубани 5 495, остальные жители являлись уроженцами разных губерний России, а 1 043 других государст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2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2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2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2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15:15:41Z</dcterms:created>
  <dc:creator>ВИТАЛИК</dc:creator>
  <dc:description/>
  <dc:language>en-US</dc:language>
  <cp:lastModifiedBy>Марина</cp:lastModifiedBy>
  <dcterms:modified xsi:type="dcterms:W3CDTF">2007-11-14T12:01:21Z</dcterms:modified>
  <cp:revision>5</cp:revision>
  <dc:subject/>
  <dc:title>Поклон родной земле.</dc:title>
</cp:coreProperties>
</file>