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.wmf" ContentType="image/x-wmf"/>
  <Override PartName="/ppt/media/image28.png" ContentType="image/png"/>
  <Override PartName="/ppt/media/image38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819D-B885-445A-B9E0-DBE65271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F354-6F9C-42F7-8C9A-410B76F7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A7E8B-3A6A-4D76-B034-0B035B85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0607-F353-46C0-8688-E9DF174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0CD13-F6E9-4442-9110-018A548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5E8FA-270F-4BC9-826F-B78F8CC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4BD1A-3594-4ECB-99F2-D036EFC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B3272-0708-4C09-89B4-6523369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753C4-8179-4323-BE67-FCB66F58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1F787-49FA-4E8C-ACE9-41DABA82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C0CF5-6FD8-49D8-961A-51047C2F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A1A40-E952-4B1E-8017-BC21A3B2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C91D-DF4F-4F66-A30C-911E401D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D1A89-609C-4D3A-8B67-A43B9BE4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90185-5A8A-4B99-B690-837AD1C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04988-A925-4805-886B-CFA39AEB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4CB2D-D072-402D-BAFC-8318ED9A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BF94A-DAB0-49AB-BCBD-D6C3E3F3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E4BC8-2D2C-494D-B702-D0B6FFA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ED133-C360-4BE5-9FC2-7555E58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5F938-BDC2-45D7-9C36-AEC89A9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45FCC-A433-41DF-9CDB-7FACA0C3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44EDF-0640-4AD3-8B4F-853A7D7A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2B60-31B3-43A4-9329-5665A994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674F-CA05-428D-B01B-F66C05CF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9D0C0-66FC-47D0-A1EA-0AE37046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1B87C-9151-4B76-913A-2A634E8D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2D4A2-742D-4EB0-A550-8C798B5A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4CA19-D9A7-4C36-978D-E71BE945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08A7C-2D40-4C22-96E1-7B58FFA4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90F28-893E-4B58-8585-12188898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658DE-857C-4FFE-9AC5-58A9376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05B40-C992-43AA-A246-F0922A4A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71E32-B59E-4042-924D-24AE173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1D4-2469-4675-BC20-7CF00072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89B07-6FE9-4894-9978-F9F9BF2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DC08A-3467-4117-9CDE-E0F5B854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2D6DA-B188-4CB6-9491-F9912901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21310-2C39-4B80-87F8-71FA9542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64A52-6833-48A9-9241-BE00ADEC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9ADD6-407B-49F1-BECB-9CE151CD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4FBD3-2203-430F-9D8D-B95CD32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3982A-61AB-4094-ABF6-D02F4B85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E9448-5BFF-42AF-9086-FAF47625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CE300-23BA-4D67-89B5-A891B194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37D2-3421-4531-AF9E-8522679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5B829-7B46-417B-B317-7F644C8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98A7E-18A9-4F8D-A0ED-14B8B8FB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EB67E-2B25-44D9-8034-239ECD64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DDB14-DC80-4B69-BE2D-4C012527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B5C03-84C0-4B82-A422-5E50EAB6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EA7E3F-9ED2-4899-9998-C2220779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F71384-014F-4A74-8356-97EA24BC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A3E751-A60F-4729-8EC9-1D8229E5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69E6CA-2325-47BA-A585-02837DCF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9A441C-B8A7-4E7A-8BDA-29810BA0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5CE4-C3FD-41DE-862A-ACFF20F8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91392-8BB2-4F4B-86EE-03FE8BF8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45DBB5-9396-4288-8483-96A22FC3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57D8BC-D3D4-4B5A-B861-D04BF1F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2AB657-C53C-4C58-B6E7-52EA742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0FC376-25AA-4113-9751-47AEFEA0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BADE51-4716-41DB-AB9C-F3CF2F41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2720C6-1320-4352-BE12-1AEAFB20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A22A8-E758-4FAB-B6CC-642AF19C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D546F-2913-4C26-AD0D-4CC33E08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41B71-95B2-4AB6-A32B-7FB2D1B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A6B8-7D63-4233-A121-778FBC9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3E9A2-A432-410F-AA8F-DAC9DD15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2E59E-90E5-48A3-9DED-BCA667F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3126C-51A1-4F30-8BEB-D7A97AE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93602-79C1-41A5-9DEE-6FC68F1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1AAFF-BEAF-4400-98A7-511C9A5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01DD6-D29B-4127-B16D-8F2F353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CEEDE-5D91-4DF3-A7E7-4FDE76C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D71DA-EB68-441F-A5EA-35FACB11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9421E-041F-4892-82C3-E0F5A630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C41A4-6205-45EC-9099-DB48E81E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5861-DD6F-4575-AAAD-814988A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69F06-C068-49B3-8BAB-DA73D45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0A70A-C8C4-4EBA-B1BE-20DCE48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03FF8-CE2D-4341-B57A-D13B8A01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F3CB3-C54E-4903-97ED-645B07E1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C61D9-C119-4BD9-A685-C3C3301D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43C09-2E24-44B1-A660-1982D98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B0F78-F65F-4DEC-8343-1459926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89004-9BFD-4C7D-88B2-F8AD0E4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D9083-BEC8-4523-B9E8-4463BF6E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6903D-F5AC-4955-9317-35C635CA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80F-9371-45B7-A4B5-CDF190A4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CE57D-7757-411A-A048-FC7D9A2D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CBC50-FA7E-4B65-B19C-EEBECEE5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92B60-1C99-44DC-9413-2A7EC224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100B0-3065-4AFD-8F05-3E174B03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74D86-68C6-4562-A3AC-F8CEF86C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4D72D-4C6B-4D00-8FAF-BB2E94DE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ECE56-95F7-4911-A0DA-BE47E91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B075A-2B28-493D-A83E-3B45003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C7244-26EF-468B-B10A-556E695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CABB9-16C3-434D-8DAE-AB9ADEA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3802-49E2-45B3-9436-33A4D523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55853-8FA3-41EF-88E4-377078E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E37FE-4BB1-4611-847C-13284801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39633-E015-4CBC-A823-358B867C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57A31-B03C-4919-9425-4BEB24C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06C84E-7193-45F4-B2C4-127E8E3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2DEC6-5CA1-437A-9F02-9D6C0DD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6498A-3E95-469E-A0DA-1E8142B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36C6F-3514-4538-AA66-677850B4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B9122-FEF8-4F7A-B247-CAD45302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5851C-9E34-4BC0-B224-0730AE2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B860-E3D7-4E98-A977-3A3CCEF7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1CD9-190C-49D9-8C4B-C68FD37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BD9DC-E203-460D-BDE8-3752891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1B6E2-FAB4-4337-9DE0-E6A2D19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8F2A9-2618-4978-B42A-72C03F12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34147-F95F-4D05-BC25-EEED589F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5AB7D-94E3-4169-A2BD-F3B30E83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D55C6-E7CD-4EDB-A275-6FE7D741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69AF4-29DC-475C-A107-A5BC8AA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DCA45-680C-4F3D-B18F-52218EB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2B741-0EB0-4570-936D-45612DF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50EB7-A707-49EB-9D6E-57936B0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A962-1A05-49DB-8568-744ADE7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5565B-B294-4444-B417-5BE6A708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73A3C-A91B-432F-A6AC-DC1D53C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40D3C-AE70-4FFF-A4B0-7F7A95D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3778A-35B0-4C00-B784-12F9457D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29F7C-335D-4048-9AC9-CDF4D216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E3968-65B7-409D-9CBD-6878B953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F3FB6-318A-47E0-BEC7-01E1E387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FEF4F-4806-4497-B61C-4B24D674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E342F-4F4C-407B-BFC3-7DF747B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C4E78-CCC7-48E1-A352-955EA5CD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237A-A115-40EA-9C67-6E7DB719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AF30A-282F-4953-9A72-8E3FBAE9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A630E-4BE4-4554-A242-14181957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52EBA-B99A-4D7E-A410-7E72199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1F721-E8C0-4BB2-9979-97191D3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0C29D-E442-44A5-B361-84BCDDA5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0D127-0FEE-414A-85F6-5DEFABA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ED529-D9B9-4B7B-9404-CFB5B9BC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5F7E00-863C-469A-BA65-FE64532F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67169-BFBC-4775-94A7-A1C4CAFA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BB7C1-A1B1-40C3-A941-4B409E2E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E403-0D3A-4D58-9C41-80711EF6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F44A2-843A-4FC3-8514-6ECF0A7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15975-EFB8-441E-8E23-01F623E9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972D7-5305-4E2D-9BAF-8316412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2694D-8E5C-4586-9297-0B58F2C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35BD6-E197-448A-A911-5297974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5A228-BEF1-4A09-92DB-0CD4039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53E264-857D-4D99-BE54-392870F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5D9A1-C200-453C-9705-3FB22D5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33F2E-A876-486B-8A86-A886BDB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EC498-62BF-4760-817D-AF5A1E3E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249C-B881-4C51-95B7-AD5568BE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25CF9-3EF9-4CFA-9490-7C74BB30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B91F9-E72B-4518-A5DF-6F99B959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7AD6A-660C-466B-921B-C2A07A97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10E7D-4AB9-4BB2-B1EB-D76BB4F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56F36-F252-4FDE-AAC8-3BCCA56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B85C2-B540-45DC-819E-5828C79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BC2F7-CA07-4677-B673-C7A992BC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97946-BBA0-4911-A396-74A9304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ED271-B288-4F6B-A700-CFEDBA1B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B4A34-436D-45E4-8FDF-408DC6F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013A-248B-49CD-B889-6E361C20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51A62-9DA4-47BB-A3C9-336840EE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CADCC-7A1D-4000-9FB1-D0B93091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47E32-02DE-490E-8014-C07CFD71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B653F7-5B0A-4FB5-8C80-885BAC6D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59F27E-30BD-488B-B040-A82647DC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27963-8BC6-43CC-9FE7-B75651F6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F9817-85F1-4C0F-B4C1-4BB1249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1BE31-F70F-4CD9-B2E4-6ECB5559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42B7F-BE9E-41F6-9806-F01FBDDE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A85447-7F83-4B33-BD45-B422A13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205A-3989-4A40-8D71-AE573904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F76775-C106-45B7-B6D7-A76721F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7D1863-C214-435E-9700-C5F8558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4EEAC-138F-4A80-97CC-2FFEE24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EEF061-F1D0-4325-8949-2DB0831D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83483-B7FE-4C7F-BEB7-FA3C7F52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22CFE-D0E1-460C-93AA-E59CB0E4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921A31-E66F-4DBA-B7DE-9D75C5C9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0A7903-2964-47EC-9A3F-A0480CDA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7F477-FF50-4828-B94C-D5268885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F14EAE-7DC5-400B-B590-F84ADA2A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FE12-FCB6-4570-9E05-EDA270CC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941A25-5A25-4095-9DC7-0A0E5E66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10EC80-61EB-4C8B-970D-AD80067F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EBB03F-160C-4098-BFA8-F2F6C3B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FDBD68-9372-4F82-8949-F41A76E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CF87FE-6A98-4C56-9C62-14F5AC30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C8E019-D367-409B-9C2F-EEED6CA0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D3D454-2FBB-41C3-9E35-704A6FF4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18A8E6-9B14-4ABF-91F4-6F2237F2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48EDC7-9055-41B2-A95F-25DB6017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75ABFD-0272-4DF4-BB56-73F3682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2B25-C075-46C1-97DE-297EDECE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9593EC-1057-4837-9BC3-BE67E6D9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23A465-83F5-47E8-A76A-EED59ECC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370D31-E029-48E1-B696-FFA21B9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A72E63-8396-4BB0-A5D8-78E7DAC5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2B4A27-140F-4917-81D6-45E06D63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7A1C56-0AB5-4097-800C-F1468B3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3C2A8A-2FA0-44EB-B9EA-DB3B64D9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04E1A1-21EA-4C5F-A8ED-FF20E6F1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18B30E-E997-4623-AE4B-CB145DD0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2C0CBB-9755-4250-9797-D54D4B87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E517-4E96-4ABB-B184-0FD04975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4CAADF-23FC-4467-ABA9-9E6EEA6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6F66C1-3844-4AB8-91E1-42499C0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2B61CD-B8AF-4C9C-9D05-4613C20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0C0DEB-3050-4DC6-898D-311D9379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473819-9C04-49E3-800B-4D63277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099746-E1B3-401B-8A5E-6B66060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585A0D-0223-44A5-BD21-F63B3ED2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5C4C15-30B9-4BB4-A071-6104655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B65656-701E-4AA9-87EF-A664A749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55C956-608D-4862-ABF3-C15B3411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8DD4-9D57-4722-9A84-3F746FFA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5163-7105-40DB-8A87-98E30A7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F78335-33A4-4EF3-98B5-F38FED30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F16129-DBCB-48E7-8CB8-CB87DA7D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5BD91F-C9C7-41D5-9335-59C564A6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E719F3-A6C9-421D-9516-F1C6525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BA2A71-ABE3-473A-902D-236AF363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643AB5-FD6E-4D96-991D-3841A27A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29C07B-7D8D-4DF4-99B0-ACF1FA1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032B3D-6233-4266-991B-CD9BF7F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C65F55-BE4B-4943-AE50-17202A4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EFEDCA-80FD-46B3-9A9C-FE506ED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BC1E-0CBC-420F-B7D7-5CCBA127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2C5117-83A0-441F-8BF9-F4905945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BA6E0C-67B0-488C-AC6F-D1D0E93B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566505-5A9B-4E88-B91F-DFB7FDEB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5E5A-F6E8-445A-949A-8B7E3AC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0346-4FA0-43B0-BB8F-C9D2270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EA14-6F51-4747-B082-EBB74347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2C66-A6EB-44FB-8F96-9C6C4B3E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6FFA-9FF5-4B65-A703-0F16169A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53A18-AFCE-4162-8BC3-A03C4632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CA1AF-38F0-4C85-8C82-76DFD96F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90A9E-5076-4816-A341-94376B26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AA11-6F84-4359-A3FC-4448471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606E5-BDEA-46BE-B7DE-90EB4614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B0665-9CFA-42DF-AF37-E617F273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95076-F2DA-4238-A599-BAF2511A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C5462-27B9-46A3-8D3A-1938078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7866D-1F69-4DD9-A7D8-E0DA3E97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BEAB9-004D-443B-ACA7-7D7E80CB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955D7-2726-4E03-BFDF-9997D2F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F5E4A-01A1-4383-AEF0-8CC74EB6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C9B74-A3EF-4EED-BC57-BB1A40EF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077AB-A6FD-4066-B7C0-DA4C3CFF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34B3-8157-4AC3-9DD2-544825B2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1CEE-AD35-4D9E-ACE8-191C43F6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82EF0-6396-4B7D-AB0E-C4F6B86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9FF9-E0BF-4C07-A825-46C7B973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C52E-2E5D-4E52-8BD7-2F5849A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02D0C-4A9F-4BF5-A68E-A2AAA319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D658-405C-4F4F-B83D-6500BD5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6C85-396B-4FF9-A29B-7A8BCFA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157C-F1D8-4279-9A24-480F795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9871A-B348-4C06-94EA-BE64891A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BF37-498B-4BFB-926A-B6942C33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DE55-B3AB-4800-A2C9-89AE86F9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0FBB-34A4-4AC5-9497-0F3352C3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B7F6-8DC4-4CBF-9C8F-D8EADCE0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2A7C-C724-444E-AF2A-FFEDF58E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512E2-CE08-4339-80E8-CE7B0EE7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B27A4-BA78-4C8F-BB4C-F9E8DE2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77F60-631E-46E5-88B5-EF59D64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CC4D-FB5A-418C-AFFD-6722D745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8263-970D-41FC-BC4B-5706C4A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5C4E-5C22-44D9-A2B9-692ED5A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E602-1C3A-455A-AA30-99F89BC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3719-3166-4265-8026-C7A2F81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EFFFE-277F-4808-A6E0-A95E680B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5DC7C-AFD2-47DC-8EA6-02D166F8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F112-B1D9-4AD2-9198-00D66791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797B-ABC7-4900-8809-00585ECD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4AC9A-3EB3-490D-8CDB-17F99F57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06C27-BB16-440D-9AF9-8E4A8F23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79CA0-1C5F-4DFE-869C-63808629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D0AED-E71B-4192-9E47-A45A524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01CCF-7C64-479A-AA75-5A097715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02A1-E051-4188-B186-37B0601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D4D4-57D2-4C00-9131-CBCE9A2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03E49-1394-4593-B3EF-DED7815A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DD8B-7708-4C4C-9322-44CAB41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ED79-9C04-4CF1-AC88-A2BA2382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723AA-178D-4C92-9F29-0F84284C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619D-27CB-46EB-A0DA-D4AF87C0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82829-9583-4642-9E9A-7CD553F0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C9E0-8441-41BE-9227-78BC28B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D2C27-E43F-4293-95BF-CB38540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E795-4B8E-46E3-88B7-C1A487C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59AC0-C2BC-4514-94DC-73355A88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0ECE-0D32-409A-810E-8C63566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22F7-0E45-472E-B0EB-DA50D103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AAA69-78DA-4D41-A537-6CE1E08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D72F4-EFAF-4CB0-8056-E1D9E61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574B4-25E3-41C3-9D1E-06CC855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651CA-3C52-4EBB-9CAF-97B433AF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5FCD-7457-4B88-9306-3CB66EDD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8508E-4E31-4E29-8B4B-55F909C9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093CE-2B9E-4D4A-B3A6-E9D555BA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A6287-2B87-4594-AE57-1A564C8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DDD1C-F55A-412F-9959-544C747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3842-FEFF-42AA-AF91-25DA73DE7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1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1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A016-1766-441F-BFB5-3030A17214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6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7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0466-AC3B-44B8-A275-C7DA5E2749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C77-81D2-4472-8B1D-095E20EB9B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4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B1A-CF58-4B0B-B67F-D91E043F64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0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F8F3-4E15-4582-BCE8-0B8CDDDF12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95B9-13C4-43E8-815F-D59B19CC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080-B812-4184-8AE9-074FD23C8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6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438B-3851-49E9-9884-A21E87075F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dt" idx="5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ftr" idx="5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 type="sldNum" idx="5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096-F5A1-4992-9B02-4774B2C19D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1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834-463C-41AE-BFD8-85E8F708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5047-3E57-4E9C-93A3-AFE7C5CFC7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7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6C53-99C2-4CD0-97EE-E5CF44D5D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6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6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B87C-160B-4D7F-A09B-AE53A8B569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8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8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33D-7805-48D6-BB6C-3E322437070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3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72A-3FF3-4E58-A655-5EE858BCDD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5A5B-7A71-411D-9F7E-C3622A7CC3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7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7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8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8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FE3E-2207-467F-8087-40EA1A5B855F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8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8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9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9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9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9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9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9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9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9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9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9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9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9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9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9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9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9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9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9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9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9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9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9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9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9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9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9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0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0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0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0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E22-74CD-488A-A87C-E4AFE98B165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AF2D-2CED-4D3A-9268-452D02B6F7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AD04-6391-4392-ACE5-1677DA9429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2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5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4873-9BF7-4E8F-8C8F-5279C474C3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9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0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EAC4-5E49-40AC-A471-46C459D338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3067-F13B-4ED0-B597-4F1F8A8901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92A-0569-46C4-BF2B-EBC37A1F3F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6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7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7AB1-C8D9-4AF4-A8BE-CE627D5949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0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9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От Екатеринодара к Краснодару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 создана учителем начальных классов МОУ СОШ №2 Сентаевой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Главной улицей города стала улица Красная, что означает «красивая», «лучшая», «парадная». Это название она носит до сих пор. Первый трамвай Бельгийского производства был пущен 10 декабря 1900г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6" name="" descr=""/>
          <p:cNvPicPr/>
          <p:nvPr/>
        </p:nvPicPr>
        <p:blipFill>
          <a:blip r:embed="rId1"/>
          <a:stretch/>
        </p:blipFill>
        <p:spPr>
          <a:xfrm>
            <a:off x="611280" y="1960560"/>
            <a:ext cx="3024000" cy="4897440"/>
          </a:xfrm>
          <a:prstGeom prst="rect">
            <a:avLst/>
          </a:prstGeom>
          <a:ln w="0">
            <a:noFill/>
          </a:ln>
        </p:spPr>
      </p:pic>
      <p:pic>
        <p:nvPicPr>
          <p:cNvPr id="2097" name="" descr=""/>
          <p:cNvPicPr/>
          <p:nvPr/>
        </p:nvPicPr>
        <p:blipFill>
          <a:blip r:embed="rId2"/>
          <a:stretch/>
        </p:blipFill>
        <p:spPr>
          <a:xfrm>
            <a:off x="4427640" y="1600200"/>
            <a:ext cx="3940200" cy="240660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3"/>
          <a:stretch/>
        </p:blipFill>
        <p:spPr>
          <a:xfrm>
            <a:off x="4356000" y="4221000"/>
            <a:ext cx="40482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Заводы Аведовых являлись крупнейшими в маслобойной промышленности не только Кубанской области, но и всей России. Сейчас это завод МЖК Краснодарский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60720" cy="518472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Особое развитие получили отрасли, перерабатывающие продукцию сельского хозяйства, в первую очередь - мукомольная и маслобойная. Их продукция пользовалась огромным спросом в России и за рубежом. Екатеринодар стал центром этого произво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бщий вид города. Северная сторон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03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6144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2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bd71"/>
                </a:solidFill>
                <a:latin typeface="Arial"/>
              </a:rPr>
              <a:t>Окончание Кавказкой войны 1864 г. способствовало преобразованию Екатеринодара в город гражданский. В 1887г стала действовать Тихорецко –Екатеринодарская линия и в 1888г открывается Новороссийская ветвь Владикавказской дороги.  Отстраиваются новые улицы: Екатерининская – сейчас улица Мира, дом купцов Тарасовых построен в 1813 г – сейчас это улица Советская.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3311640" cy="2185920"/>
          </a:xfrm>
          <a:prstGeom prst="rect">
            <a:avLst/>
          </a:prstGeom>
          <a:ln w="0">
            <a:noFill/>
          </a:ln>
        </p:spPr>
      </p:pic>
      <p:pic>
        <p:nvPicPr>
          <p:cNvPr id="2106" name="" descr=""/>
          <p:cNvPicPr/>
          <p:nvPr/>
        </p:nvPicPr>
        <p:blipFill>
          <a:blip r:embed="rId2"/>
          <a:stretch/>
        </p:blipFill>
        <p:spPr>
          <a:xfrm>
            <a:off x="4978440" y="1600200"/>
            <a:ext cx="3376440" cy="2185920"/>
          </a:xfrm>
          <a:prstGeom prst="rect">
            <a:avLst/>
          </a:prstGeom>
          <a:ln w="0">
            <a:noFill/>
          </a:ln>
        </p:spPr>
      </p:pic>
      <p:pic>
        <p:nvPicPr>
          <p:cNvPr id="2107" name="" descr=""/>
          <p:cNvPicPr/>
          <p:nvPr/>
        </p:nvPicPr>
        <p:blipFill>
          <a:blip r:embed="rId3"/>
          <a:stretch/>
        </p:blipFill>
        <p:spPr>
          <a:xfrm>
            <a:off x="746280" y="3941640"/>
            <a:ext cx="3458880" cy="2189160"/>
          </a:xfrm>
          <a:prstGeom prst="rect">
            <a:avLst/>
          </a:prstGeom>
          <a:ln w="0">
            <a:noFill/>
          </a:ln>
        </p:spPr>
      </p:pic>
      <p:pic>
        <p:nvPicPr>
          <p:cNvPr id="2108" name="" descr=""/>
          <p:cNvPicPr/>
          <p:nvPr/>
        </p:nvPicPr>
        <p:blipFill>
          <a:blip r:embed="rId4"/>
          <a:stretch/>
        </p:blipFill>
        <p:spPr>
          <a:xfrm>
            <a:off x="4944960" y="3941640"/>
            <a:ext cx="344484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Правление Черноморской – Кубанской железной дороги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10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Дом наказного атамана Че6рноморского казачьего войска Я.Г.Кухаренко. Построен в середине 19 века. В настоящее время здесь находится Литературный музей Кубани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1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4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умфальная Александровская арка, водружённая в честь посещения Екатеринодара царём Александром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 Архитектор В.А.Филипов. Арка разобрана в 1928 г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4" name="" descr=""/>
          <p:cNvPicPr/>
          <p:nvPr/>
        </p:nvPicPr>
        <p:blipFill>
          <a:blip r:embed="rId1"/>
          <a:stretch/>
        </p:blipFill>
        <p:spPr>
          <a:xfrm>
            <a:off x="612720" y="1627200"/>
            <a:ext cx="7845480" cy="4367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cc"/>
                </a:solidFill>
                <a:latin typeface="Tahoma"/>
              </a:rPr>
              <a:t>С 1874 г и на долгие годы, вплоть до окончательного роспуска их в 1920 г., городские думы Екатеринодара несли на себе главный груз решения городских проблем, благодаря заботам их гласных город постепенно преображался и хорошел.</a:t>
            </a:r>
            <a:endParaRPr b="0" lang="en-US" sz="1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6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333600" cy="2171520"/>
          </a:xfrm>
          <a:prstGeom prst="rect">
            <a:avLst/>
          </a:prstGeom>
          <a:ln w="0">
            <a:noFill/>
          </a:ln>
        </p:spPr>
      </p:pic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екатеринодарцев имелось немало любителей театрального искусств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городе были открыты музыкальные классы и музыкальное училище им. Н.А.Римского - Корсако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пехи в развитии изобразительного искусства в Екатеринодаре связаны с именами кубанских художников Е.И. Посполитаки, П.С. Косолапа, Р.И. Колесникова и, в первую очередь, увлеченного любителя живописи и коллекционера Ф.А. Коваленко. В 1903 г. Федор Акимович Коваленко передал в дар городу собранную им замечательную коллекцию картин. Так в городе появилась картинная галерея (в настоящее время Художественный музей им. Ф.А. Коваленк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8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2279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армалин Николай Николаевич (1824-1900). Наказный атаман ККВ и начальник Кубанской области в 1873-1882 гг. Внес большой вклад в становление город-ского самоуправления в Екатеринодаре, широко способствовал развитию здесь просвещения. Инициатор проведения Новороссийской ветви Владикавказской дороги, обеспечившей стабильное и быстрое развитие города.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ец XIX-начало XX вв. в истории нашего города отмечен многими яркими событиями. Начинает свою работу ОЛИКО (Общество любителей изучения Кубанской области), объединившее в своих рядах энтузиастов изучения края. Создается Екатеринодарское отделение Императорского Русского Музыкального Общества. Возрождается Кубанское Экономическое общество, проведшее в Екатеринодаре несколько крупных сельскохозяйственных выставок. Открывается первая городская публичная библиотека имени А.С. Пушкина. Активную деятельность разворачивают десятки благотворительных обществ. В новый век город вступает в числе 15 городов России, имеющих электрический трамва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вый отряд казаков под командованием полковника Саввы Белого, следовавший морем, высадился в августе 1792 года на берегу Тамани. Сегодня на этом месте стоит памятник казакам – черноморца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25797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 1896 г. Кубанское казачье войско торжественно отметило свое 200-летие. С этим событием связано появление в городе двух замечательных памятников. 9 сентября 1896 г. Был заложен памятник Екатерине II, по проекту замечательного российского скульптора М.О. Микешина, а в 1897 г. был открыт обелиск 200-летию Кубанского казачьего войска, сооруженный на средства Екатеринодарской городской думы по проекту В.А. Филиппо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826920" y="2344680"/>
            <a:ext cx="3333960" cy="3641760"/>
          </a:xfrm>
          <a:prstGeom prst="rect">
            <a:avLst/>
          </a:prstGeom>
          <a:ln w="0">
            <a:noFill/>
          </a:ln>
        </p:spPr>
      </p:pic>
      <p:pic>
        <p:nvPicPr>
          <p:cNvPr id="2125" name="" descr=""/>
          <p:cNvPicPr/>
          <p:nvPr/>
        </p:nvPicPr>
        <p:blipFill>
          <a:blip r:embed="rId2"/>
          <a:stretch/>
        </p:blipFill>
        <p:spPr>
          <a:xfrm>
            <a:off x="5867280" y="2271600"/>
            <a:ext cx="2235240" cy="3792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Малама Яков Дмитриевич (1841-1912). Наказный атаман Кубанского казачьего войска и начальник Кубанской области в 1892-1904 гг. На период его руководства областью выпал наибольший культурный и общественный подъем в жизни Екатеринодара к. XIX-нач. ХХ вв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7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96072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приятные условия на Кубани имелись и для развития консервного производства. Самые крупные консервные фабрики были сосредоточены в Екатеринодаре. В 1914 г. 6 екатеринодарских фабрик дали продукции почти на полмиллиона pyб. Это были фабрики А.А. Коваленко, Е.Ф. Губкиной, Т-ва Агарунова, Градинарова, Петкова и Иванова. Производили они традиционные для юга овощные и фруктовые консервы, а также консервы из кефали, судака, осетрины, которые отправлялись даже на Дальний Вост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тущая экономика края требовала развития строительной промышленности. Здесь вне конкуренции находилась продукция екатеринодарских кирпично-черепичных заводов Н.К. Селитренниковой и Лю Трахова, отмеченная многими наградам на областных и кавказских выставк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первых на Кубани металлообрабатывающих заводов был завод Карла Гусника (осн. В 1886 г.). В основном здесь занимались ремонтом и частично производством земледельческих машин, изготавливали оборудование для небольших мельниц и маслобоен. В 1911 г. завод получил на Ростовской и Ставропольской выставках две золотые медали (за трансмиссию, чугунное и медное литье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1 г. Русско-Кубанская промышленная и нефтяная кампания построила в Екатеринодаре машиностроительного завода «Кубаноль» (в настоящее время завод им. Седина). Это было первое в России предприятие по производству машин и инструментов для глубокого буре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Кубанские выставки стали незаурядным явлением в культурной и экономической жизни города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65440" cy="4033800"/>
          </a:xfrm>
          <a:prstGeom prst="rect">
            <a:avLst/>
          </a:prstGeom>
          <a:ln w="0">
            <a:noFill/>
          </a:ln>
        </p:spPr>
      </p:pic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началу ХХ в. Екатеринодар стал и одним из крупнейших торговых центров Северного Кавказа. Как пишет профессор В.Н. Ратушняк, Екатеринодар «подобно гигантскому магниту стягивал к себе товарные излишки сельского хозяйства со всех сторон обширного края». Только на екатеринодарский хлебный рынок ежегодно прибывало до 350 тыс. подвод, доставляющих до 14 млн. пудов хлеба и семечек. Один из современников писал, что с середины июля и до октября, т.е. в разгар хлебного сезона, «бывают такие громадные привозы зерна и подсолнечного семени, что фуры едва могут помещаться на площади рынка, а также бывают такие случаи, что, не говоря уже о мелких хлеботорговцев, но и более крупных не достает денег рассчитываться с привозителями за купленные у них зерновые продукты и потому некоторым продавцам приходится по дню, нередко и по два дня ожидать получения расчета за проданный товар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716000" y="-360"/>
            <a:ext cx="4038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род Екатеринодар перестал существовать 7декабря 1920г. Начиналась история Краснода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рия собственно Краснодара насчитывает уже более 80 лет. Почти столетие! Трудно в нескольких строках передать все, что происходило с городом за эти десятилетия. Индустриализация, Большой террор, немецкая оккупация, послевоенн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0-е романтика целины, на освоение которой отправились сотни краснодарцев, открытие Краснодарского телецентра и первая телепередача на Кубани, В Первомайской роще открылась краевая сельскохозяйственная выставка кубанская ВДНХ, принят проект планировки и застройки Краснодар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9 по данным Всесоюзной переписи в Краснодаре проживало уже 313 110 человек. 1960-е - открылся стадион «Кубань», вместо Нового рынка появился Кооперативный, утверждены мероприятия по благоустройству улицы Красной, принято решение о строительстве бульвара от ул. Крестьянской (ныне Хакурате) до Одесс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880000" cy="3095640"/>
          </a:xfrm>
          <a:prstGeom prst="rect">
            <a:avLst/>
          </a:prstGeom>
          <a:ln w="0">
            <a:noFill/>
          </a:ln>
        </p:spPr>
      </p:pic>
      <p:pic>
        <p:nvPicPr>
          <p:cNvPr id="2136" name="" descr=""/>
          <p:cNvPicPr/>
          <p:nvPr/>
        </p:nvPicPr>
        <p:blipFill>
          <a:blip r:embed="rId2"/>
          <a:stretch/>
        </p:blipFill>
        <p:spPr>
          <a:xfrm>
            <a:off x="3276720" y="476280"/>
            <a:ext cx="1433520" cy="2187720"/>
          </a:xfrm>
          <a:prstGeom prst="rect">
            <a:avLst/>
          </a:prstGeom>
          <a:ln w="0">
            <a:noFill/>
          </a:ln>
        </p:spPr>
      </p:pic>
      <p:pic>
        <p:nvPicPr>
          <p:cNvPr id="2137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4076640" cy="252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помни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0- 1924 гг- центр Кубано- Черноморской области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4 -1930гг-центр Кубанского округа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4 – 1935гг-центр Краснодарского района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С 13.09.1937г  -центр Краснодарского края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40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2374920" cy="2079720"/>
          </a:xfrm>
          <a:prstGeom prst="rect">
            <a:avLst/>
          </a:prstGeom>
          <a:ln w="0">
            <a:noFill/>
          </a:ln>
        </p:spPr>
      </p:pic>
      <p:pic>
        <p:nvPicPr>
          <p:cNvPr id="2141" name="" descr=""/>
          <p:cNvPicPr/>
          <p:nvPr/>
        </p:nvPicPr>
        <p:blipFill>
          <a:blip r:embed="rId2"/>
          <a:stretch/>
        </p:blipFill>
        <p:spPr>
          <a:xfrm>
            <a:off x="4140360" y="2565360"/>
            <a:ext cx="471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Войсковой собор во имя Воскресения Господня освещён в 1802 г. Разобран  в 1876 – 1879 гг из-за ветхости.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торой отряд во главе с атаманом Захарием Чепегой, двигаясь по суше, подошёл к Ейскому укреплению. Перезимовав, весной казаки подошли к высокому берегу Кубани. В урочище Карасунский округ они построили укрепление, начали устраивать свой быт, построили походную церковь. Здесь начинался строиться город Екатеринод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7" name="" descr=""/>
          <p:cNvPicPr/>
          <p:nvPr/>
        </p:nvPicPr>
        <p:blipFill>
          <a:blip r:embed="rId1"/>
          <a:stretch/>
        </p:blipFill>
        <p:spPr>
          <a:xfrm>
            <a:off x="804960" y="1955880"/>
            <a:ext cx="3343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В таких хатах жили первые переселенцы на Кубани. Месторасположение первых 40 куреней – поселений ,получивших в последствии название станиц, определялось по жребию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9" name="" descr=""/>
          <p:cNvPicPr/>
          <p:nvPr/>
        </p:nvPicPr>
        <p:blipFill>
          <a:blip r:embed="rId1"/>
          <a:stretch/>
        </p:blipFill>
        <p:spPr>
          <a:xfrm>
            <a:off x="984240" y="1600200"/>
            <a:ext cx="2984400" cy="2189160"/>
          </a:xfrm>
          <a:prstGeom prst="rect">
            <a:avLst/>
          </a:prstGeom>
          <a:ln w="0">
            <a:noFill/>
          </a:ln>
        </p:spPr>
      </p:pic>
      <p:pic>
        <p:nvPicPr>
          <p:cNvPr id="2080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895840" cy="2185920"/>
          </a:xfrm>
          <a:prstGeom prst="rect">
            <a:avLst/>
          </a:prstGeom>
          <a:ln w="0">
            <a:noFill/>
          </a:ln>
        </p:spPr>
      </p:pic>
      <p:pic>
        <p:nvPicPr>
          <p:cNvPr id="2081" name="" descr=""/>
          <p:cNvPicPr/>
          <p:nvPr/>
        </p:nvPicPr>
        <p:blipFill>
          <a:blip r:embed="rId3"/>
          <a:stretch/>
        </p:blipFill>
        <p:spPr>
          <a:xfrm>
            <a:off x="1077840" y="3940200"/>
            <a:ext cx="2795760" cy="2190600"/>
          </a:xfrm>
          <a:prstGeom prst="rect">
            <a:avLst/>
          </a:prstGeom>
          <a:ln w="0">
            <a:noFill/>
          </a:ln>
        </p:spPr>
      </p:pic>
      <p:pic>
        <p:nvPicPr>
          <p:cNvPr id="2082" name="" descr=""/>
          <p:cNvPicPr/>
          <p:nvPr/>
        </p:nvPicPr>
        <p:blipFill>
          <a:blip r:embed="rId4"/>
          <a:stretch/>
        </p:blipFill>
        <p:spPr>
          <a:xfrm>
            <a:off x="4427640" y="4005360"/>
            <a:ext cx="1434960" cy="2187360"/>
          </a:xfrm>
          <a:prstGeom prst="rect">
            <a:avLst/>
          </a:prstGeom>
          <a:ln w="0">
            <a:noFill/>
          </a:ln>
        </p:spPr>
      </p:pic>
      <p:pic>
        <p:nvPicPr>
          <p:cNvPr id="2083" name="" descr=""/>
          <p:cNvPicPr/>
          <p:nvPr/>
        </p:nvPicPr>
        <p:blipFill>
          <a:blip r:embed="rId5"/>
          <a:stretch/>
        </p:blipFill>
        <p:spPr>
          <a:xfrm>
            <a:off x="6443640" y="3686040"/>
            <a:ext cx="1924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Екатерининская церковь  построена в 1814 г казаком Минского куреня Петром Кучером. Стояла на территории современного Свято – </a:t>
            </a: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Екатерининского собора. В 1914 г была перенесена на кладбище в пригород Сады(ныне - п. Калинино), где и сгорела.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8836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Сумароков-Эльстон Феликс Николаевич (1820-1877). Наказный атаман ККВ и начальник Кубанской области в 1863-1873 гг. В этот период произошло преоб-разование Екатеринодара в гражданский город. Сумароков-Эльстон приложил много усилий для осуществления этой кардинальной перемены в жизни города и для перестройки всей жизни области на мирный лад после окончания Кавказской войны.</a:t>
            </a:r>
            <a:r>
              <a:rPr b="1" lang="ru-RU" sz="1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65560" cy="4681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оржественный вынос регалий Кубанского казачьего войска и парад войсковых частей у Алексанрда – Невского войскового собора. Собор был заложен в 1853 г и освещён в 1872 г, а в 1932 г  был взорван большевиками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89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5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Фото сторожевой вышки, стоявшей на месте современного кинотеатра Аврора. 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860 г. Черноморское войско было преобразовано в Кубанское казачье войско, а Черномория в Кубанскую область, с площадью более 81 тыс. кв. км. Екатеринодар стал центром (в первую очередь - военно-административным) обла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еленцам предоставлялись льготы  и пособия от казны. Первыми в 1862 г в Закубанье  заселились 11 станиц. После отмены крепостного права на Кубань переселяются тысячи крестьян из различных губерний России. Это способствовало экономическому рост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6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10920" y="333000"/>
            <a:ext cx="81579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фициальное  «открытие» Екатеринодара состоялось 6 июля 1867 года. Население насчитывало 14167 человек, из них 9632 человека являлись казаками Кубанского Казачьего войска. Желающие могли оставться в городе и нести все установленные городские и земские повинности, а остальные – переселяются в другие станицы Черномории. В городе пожелало остаться 78 казачьих сем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перь путь на Кубань открывался почти всем желающим. Темпы роста населения Екатеринодара впечатляют. Менее через десять лет оно удвоилось и в 1876 г. составило уже 32,5 тыс. человек. За последующие двадцать лет городское население вновь удвоилос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90г. 48, 3%- представители казачества, 51,7%- лица невойскового  сословия, в том числе горцы - 7,8%, крестьяне, старожилы – 9,7%, иногородние – 34,2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данным Всероссийской переписи 1897 г., в Екатеринодаре насчитывалось 65 606 жителей (34 494 мужчин и 31 112 женщин). Среди них уроженцев самого города насчитывалось 24 874 чел., других районов Кубани 5 495, остальные жители являлись уроженцами разных губерний России, а 1 043 других государ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5:15:41Z</dcterms:created>
  <dc:creator>ВИТАЛИК</dc:creator>
  <dc:description/>
  <dc:language>en-US</dc:language>
  <cp:lastModifiedBy>Марина</cp:lastModifiedBy>
  <dcterms:modified xsi:type="dcterms:W3CDTF">2007-11-14T12:01:21Z</dcterms:modified>
  <cp:revision>5</cp:revision>
  <dc:subject/>
  <dc:title>Поклон родной земле.</dc:title>
</cp:coreProperties>
</file>