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19F-8AAA-400D-A689-58FACB05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706-2FE3-4C63-82E2-945FEBA7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D43-D8EC-40AB-A871-F06B149B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47B-3154-49D1-BD58-BBEDDA8B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279-8690-404A-818B-87A29D87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9EA-737A-4A65-8237-C679233E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365-0067-4837-8268-223C4B63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85F-3F93-4906-A84A-BDC05C6A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131-3A45-4B7A-8850-F0BEF6E5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AF9-18E2-4EB7-8F3C-DB69159B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CC0-C125-45D2-A315-B6904B33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E66-A853-4AB2-AE3A-701A67B1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B6FE-8B56-4C98-B697-21D921747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Однолетние цветков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flower_beds_and_borders_01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657600" y="5638680"/>
            <a:ext cx="4708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охия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4492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100400" y="59040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х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колеус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838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268880" y="60199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леу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Perilla-nankinskaya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888720" y="60958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ерил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e49a7a95cf8d1a8c404d0476423bfcbe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5059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117680" y="62485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лещеви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Вьющи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ипомея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192560" y="62485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Ипом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Вьющи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96202_html_m344f1986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4732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3813840" y="60199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астур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овров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041000" y="6172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ортул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0_12100_ff989f36_XL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овров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1" descr="Alternanthera_dentata_'Purple_Knight'"/>
          <p:cNvPicPr/>
          <p:nvPr/>
        </p:nvPicPr>
        <p:blipFill>
          <a:blip r:embed="rId1"/>
          <a:stretch/>
        </p:blipFill>
        <p:spPr>
          <a:xfrm>
            <a:off x="1143000" y="1143000"/>
            <a:ext cx="7086600" cy="4832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2"/>
          <p:cNvSpPr/>
          <p:nvPr/>
        </p:nvSpPr>
        <p:spPr>
          <a:xfrm>
            <a:off x="3962520" y="609588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Альтернант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Сухоц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целлозия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5052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887280" y="62485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еллоз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Сухоц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гомфрена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5078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193280" y="62485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Гомфр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днолетние цветковые растения размножаются в основном семе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Semena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Некоторые однолетники могут размножаться вегетативным способ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d10b5049dcea"/>
          <p:cNvPicPr/>
          <p:nvPr/>
        </p:nvPicPr>
        <p:blipFill>
          <a:blip r:embed="rId1"/>
          <a:stretch/>
        </p:blipFill>
        <p:spPr>
          <a:xfrm>
            <a:off x="5181480" y="17524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322"/>
          <p:cNvPicPr/>
          <p:nvPr/>
        </p:nvPicPr>
        <p:blipFill>
          <a:blip r:embed="rId2"/>
          <a:stretch/>
        </p:blipFill>
        <p:spPr>
          <a:xfrm>
            <a:off x="685800" y="1828800"/>
            <a:ext cx="4257720" cy="4495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1454040" y="1371600"/>
            <a:ext cx="67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апример, петуния может размножаться черенкование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Среди однолетников можно выдели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расивоцветущ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декоративнолистве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вьющие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овров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сухоцв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0_66aca_5839123b_L"/>
          <p:cNvPicPr/>
          <p:nvPr/>
        </p:nvPicPr>
        <p:blipFill>
          <a:blip r:embed="rId1"/>
          <a:stretch/>
        </p:blipFill>
        <p:spPr>
          <a:xfrm>
            <a:off x="3733920" y="2819520"/>
            <a:ext cx="4800600" cy="350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tcvet60"/>
          <p:cNvPicPr/>
          <p:nvPr/>
        </p:nvPicPr>
        <p:blipFill>
          <a:blip r:embed="rId2"/>
          <a:stretch/>
        </p:blipFill>
        <p:spPr>
          <a:xfrm>
            <a:off x="838080" y="4572000"/>
            <a:ext cx="23623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965400" y="61722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ету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Petunya çiçeği resmi - Petunia image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zinnia-big"/>
          <p:cNvPicPr/>
          <p:nvPr/>
        </p:nvPicPr>
        <p:blipFill>
          <a:blip r:embed="rId1"/>
          <a:stretch/>
        </p:blipFill>
        <p:spPr>
          <a:xfrm>
            <a:off x="609480" y="1371600"/>
            <a:ext cx="380376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LSZIN14596_3"/>
          <p:cNvPicPr/>
          <p:nvPr/>
        </p:nvPicPr>
        <p:blipFill>
          <a:blip r:embed="rId2"/>
          <a:stretch/>
        </p:blipFill>
        <p:spPr>
          <a:xfrm>
            <a:off x="4572000" y="13716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3795120" y="59799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ин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osmos-Flower-Wallpaper-1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4724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116240" y="6019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см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marigold"/>
          <p:cNvPicPr/>
          <p:nvPr/>
        </p:nvPicPr>
        <p:blipFill>
          <a:blip r:embed="rId1"/>
          <a:stretch/>
        </p:blipFill>
        <p:spPr>
          <a:xfrm>
            <a:off x="1371600" y="1295280"/>
            <a:ext cx="6781680" cy="4629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66120" y="59436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Бархат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цинерармия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622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963960" y="59436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инера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6:09:47Z</dcterms:created>
  <dc:creator>Irina May</dc:creator>
  <dc:description/>
  <dc:language>en-US</dc:language>
  <cp:lastModifiedBy>Пользователь</cp:lastModifiedBy>
  <dcterms:modified xsi:type="dcterms:W3CDTF">2014-01-26T19:03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