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9EE-44AB-4593-AAC1-100F44E6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0AF-5A97-4AEF-B87B-BD714724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D1E-B700-49E7-B9B9-BB4A3500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CF7-99E5-45D1-AA97-9A83C5B7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7B82-CC99-4BA1-B04B-72D8BFE4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77CA-258D-4291-B24C-F1E5A367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570A-7FF1-4966-B508-E9547F48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24AB-490D-4E39-9038-222519BE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CFF3-586A-4BBD-8CE7-E55E079B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B0D4-B429-41B2-BBCA-E8AEFDFE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8A5C-02B9-4580-9B2B-D066DEC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F7F-4786-4F15-93B5-57EDDCCC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1150-80E8-4210-90DC-3B5ED0A2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6F0B-EFC6-44DA-9824-2B8F0C8C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A2E7-4931-4042-8C88-B88A568F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D8C7-8744-496B-B2E6-C6498731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8A22-3AFD-490B-B8EE-ACA4C0BC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E1D-3270-4D5F-B8F4-D93C66F5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B33-B65B-4842-A8DE-5E0EE00A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6BC-7040-4C6B-9203-4BF1E7E3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EF9-7891-4BE2-8F55-B4A60388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1A0-4768-4083-B063-2CA8C493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504-6368-4DFB-B4B2-745F5559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708-E21E-41A9-A0DC-5C906570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4585-A842-4741-85B0-53F2172D00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DE2F-A7FC-4CAA-A31D-87EA79A8C2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чевидное невероятно!</a:t>
            </a:r>
            <a:br>
              <a:rPr sz="32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аботу выполнили: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Губайдуллина Эльвира,10а класс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Гриднева Ольга,10д класс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уководитель: Пьянченко Н.В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4360" y="1916280"/>
            <a:ext cx="7991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ожиданная матема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роектирование неоднознач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9274" t="0" r="0" b="5994"/>
          <a:stretch/>
        </p:blipFill>
        <p:spPr>
          <a:xfrm>
            <a:off x="1332000" y="1557360"/>
            <a:ext cx="6408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И это он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99308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Доказательство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4832"/>
          <a:stretch/>
        </p:blipFill>
        <p:spPr>
          <a:xfrm>
            <a:off x="1258920" y="1557360"/>
            <a:ext cx="7200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513ad"/>
                </a:solidFill>
                <a:latin typeface="Times New Roman"/>
              </a:rPr>
              <a:t>Водопа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277" b="13415"/>
          <a:stretch/>
        </p:blipFill>
        <p:spPr>
          <a:xfrm>
            <a:off x="2124000" y="765000"/>
            <a:ext cx="511200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Удивительн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160440" cy="468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067280" y="2349360"/>
            <a:ext cx="482580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imes New Roman"/>
              </a:rPr>
              <a:t>Еще есть вещи способные нас удивлять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технический прогресс достиг небывалого развития, и все таки есть моменты, которые заставляют нас удивля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628640"/>
            <a:ext cx="4022640" cy="37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762120"/>
            <a:ext cx="79246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ем вам,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дивляясь, познавать мир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О, СТЕРЕОМЕТРИЯ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13ad"/>
                </a:solidFill>
                <a:latin typeface="Arial"/>
              </a:rPr>
              <a:t>Стереометрия - это раздел геометрии, в котором изучаются свойства фигур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13ad"/>
                </a:solidFill>
                <a:latin typeface="Arial"/>
              </a:rPr>
              <a:t>Слово «стереометрия» происходит от греческих слов «стереос» - объемный, пространственный и «метрео» - измер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133720"/>
            <a:ext cx="2057400" cy="2438280"/>
          </a:xfrm>
          <a:prstGeom prst="cube">
            <a:avLst>
              <a:gd name="adj" fmla="val 25000"/>
            </a:avLst>
          </a:prstGeom>
          <a:solidFill>
            <a:srgbClr val="71f5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4800600"/>
            <a:ext cx="914400" cy="1214280"/>
          </a:xfrm>
          <a:prstGeom prst="can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imes New Roman"/>
              </a:rPr>
              <a:t>Удивляйтесь! И мир будет прекраснее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9000"/>
            <a:ext cx="81342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возможны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еугольни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нроуз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Невероятно, но факт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Невозможный треугольник – один из удивительных математических парадоксов. При первом взгляде на него ни на секунду невозможно усомниться в его реальности. Однако это только иллюзия обман. А саму возможность такой иллюзии объяснит вам матема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ознать можно и удивляясь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Arial"/>
              </a:rPr>
              <a:t>УДИВЛЕНИЕ – М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ff"/>
                </a:solidFill>
                <a:latin typeface="Arial"/>
              </a:rPr>
              <a:t>ПОЗНАНИЯ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168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00320" y="5013360"/>
            <a:ext cx="2943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реометр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3933720"/>
            <a:ext cx="2143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альност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35640" y="3860640"/>
            <a:ext cx="32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ектиров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00000" y="1773360"/>
            <a:ext cx="7243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угольник Пенроузов возможен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Это он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11885"/>
          <a:stretch/>
        </p:blipFill>
        <p:spPr>
          <a:xfrm>
            <a:off x="826920" y="1700280"/>
            <a:ext cx="7561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_triang2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роекция точки на плоск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1724"/>
          <a:stretch/>
        </p:blipFill>
        <p:spPr>
          <a:xfrm>
            <a:off x="4932360" y="2060640"/>
            <a:ext cx="3527280" cy="3673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492360" y="2205000"/>
            <a:ext cx="71640" cy="14436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19076"/>
          <a:stretch/>
        </p:blipFill>
        <p:spPr>
          <a:xfrm>
            <a:off x="611280" y="2060640"/>
            <a:ext cx="4176720" cy="360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491160" y="2263680"/>
            <a:ext cx="71640" cy="71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898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4:07:10Z</dcterms:created>
  <dc:creator>Надежда Викторовна</dc:creator>
  <dc:description/>
  <dc:language>en-US</dc:language>
  <cp:lastModifiedBy>Администратор</cp:lastModifiedBy>
  <dcterms:modified xsi:type="dcterms:W3CDTF">2006-03-02T10:58:20Z</dcterms:modified>
  <cp:revision>47</cp:revision>
  <dc:subject/>
  <dc:title>НЕОЖИДАННАЯ МАТЕМАТИКА</dc:title>
</cp:coreProperties>
</file>