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EF7-2434-4A09-8745-C46AC3E0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AD7-69BE-4C67-8978-ABE5FD43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46F-01B0-48DE-BA78-0A2ABFF8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0F9-1BC8-4AFA-B3EE-A23E3404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EE3-6936-4773-9FF7-E0CCE9B2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86CC-29A7-40D7-AFDB-DF2EC824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ADB5-B211-4E44-BCC1-A8821159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ACE6-59A0-4F0F-A7FD-7736F5C6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30EE-62B3-4672-8F95-C6D84A2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B673-00E5-41FE-A291-3C20FF0C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61C-B40C-4944-82D7-DA65AE36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B74-DD28-43D7-820E-3D4E182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A651-022A-4597-BB3E-E23A2196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3729-29BB-453C-ABC7-31DD9EC4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132-84F6-4FB6-82D5-6DFEE6E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DEE8-1065-4D52-8FF1-B3FE03C6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0757-C66F-4EC7-A61F-0E709ACD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4B2-0564-4DC9-ADE2-01DA98E1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B6F-4943-4666-BB4D-257ADB84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973-1E74-4865-908C-00CED21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523-4A05-4EAD-B5A0-FA19E06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42B-9431-4ED7-8AC1-C2587C9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09E-C299-4C26-B369-4032B6F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C10-D14E-4928-A2E4-8FDA3C8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BCCC-34C1-4434-B494-00213CD57D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0F9F-7527-422B-977C-F1B3038F1F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чевидное невероятно!</a:t>
            </a:r>
            <a:br>
              <a:rPr sz="32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аботу выполнили: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Губайдуллина Эльвира,10а класс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Гриднева Ольга,10д класс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уководитель: Пьянченко Н.В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1916280"/>
            <a:ext cx="7991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ожиданная мате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роектирование неоднознач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9274" t="0" r="0" b="5994"/>
          <a:stretch/>
        </p:blipFill>
        <p:spPr>
          <a:xfrm>
            <a:off x="1332000" y="1557360"/>
            <a:ext cx="640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И это он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930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Доказательство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4832"/>
          <a:stretch/>
        </p:blipFill>
        <p:spPr>
          <a:xfrm>
            <a:off x="1258920" y="1557360"/>
            <a:ext cx="7200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513ad"/>
                </a:solidFill>
                <a:latin typeface="Times New Roman"/>
              </a:rPr>
              <a:t>Водопа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277" b="13415"/>
          <a:stretch/>
        </p:blipFill>
        <p:spPr>
          <a:xfrm>
            <a:off x="2124000" y="765000"/>
            <a:ext cx="511200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Удивительн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160440" cy="468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067280" y="2349360"/>
            <a:ext cx="482580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Еще есть вещи способные нас удивлять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технический прогресс достиг небывалого развития, и все таки есть моменты, которые заставляют нас удивл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628640"/>
            <a:ext cx="4022640" cy="37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762120"/>
            <a:ext cx="79246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вам,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ивляясь, познавать ми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О, СТЕРЕОМЕТРИЯ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13ad"/>
                </a:solidFill>
                <a:latin typeface="Arial"/>
              </a:rPr>
              <a:t>Стереометрия - это раздел геометрии, в котором изучаются свойства фигур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13ad"/>
                </a:solidFill>
                <a:latin typeface="Arial"/>
              </a:rPr>
              <a:t>Слово «стереометрия» происходит от греческих слов «стереос» - объемный, пространственный и «метрео» - изме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133720"/>
            <a:ext cx="2057400" cy="2438280"/>
          </a:xfrm>
          <a:prstGeom prst="cube">
            <a:avLst>
              <a:gd name="adj" fmla="val 25000"/>
            </a:avLst>
          </a:prstGeom>
          <a:solidFill>
            <a:srgbClr val="71f5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800600"/>
            <a:ext cx="914400" cy="1214280"/>
          </a:xfrm>
          <a:prstGeom prst="can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Удивляйтесь! И мир будет прекраснее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9000"/>
            <a:ext cx="81342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возможны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еуголь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нроуз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Невероятно, но факт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Невозможный треугольник – один из удивительных математических парадоксов. При первом взгляде на него ни на секунду невозможно усомниться в его реальности. Однако это только иллюзия обман. А саму возможность такой иллюзии объяснит вам матема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ознать можно и удивляясь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УДИВЛЕНИЕ – 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ПОЗНАНИЯ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168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00320" y="5013360"/>
            <a:ext cx="2943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реомет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3933720"/>
            <a:ext cx="2143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альнос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35640" y="3860640"/>
            <a:ext cx="32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иров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0000" y="1773360"/>
            <a:ext cx="7243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 Пенроузов возможен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Это он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11885"/>
          <a:stretch/>
        </p:blipFill>
        <p:spPr>
          <a:xfrm>
            <a:off x="826920" y="1700280"/>
            <a:ext cx="7561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_triang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роекция точки на плоск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1724"/>
          <a:stretch/>
        </p:blipFill>
        <p:spPr>
          <a:xfrm>
            <a:off x="4932360" y="2060640"/>
            <a:ext cx="3527280" cy="3673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492360" y="2205000"/>
            <a:ext cx="71640" cy="14436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19076"/>
          <a:stretch/>
        </p:blipFill>
        <p:spPr>
          <a:xfrm>
            <a:off x="611280" y="206064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91160" y="2263680"/>
            <a:ext cx="7164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898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4:07:10Z</dcterms:created>
  <dc:creator>Надежда Викторовна</dc:creator>
  <dc:description/>
  <dc:language>en-US</dc:language>
  <cp:lastModifiedBy>Администратор</cp:lastModifiedBy>
  <dcterms:modified xsi:type="dcterms:W3CDTF">2006-03-02T10:58:20Z</dcterms:modified>
  <cp:revision>47</cp:revision>
  <dc:subject/>
  <dc:title>НЕОЖИДАННАЯ МАТЕМАТИКА</dc:title>
</cp:coreProperties>
</file>