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gif" ContentType="image/gif"/>
  <Override PartName="/ppt/media/image7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2.jpeg" ContentType="image/jpeg"/>
  <Override PartName="/ppt/media/image8.png" ContentType="image/png"/>
  <Override PartName="/ppt/media/image11.jpeg" ContentType="image/jpe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980F3-9741-46F7-8662-6DB272166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4BF10-29AA-42E7-9A3D-3C1F79E5A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F2D0B-B590-435B-A5EE-30DDCA4E5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65B5B-50BD-4404-9E8D-BBBA7C09D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4022D-ADEE-4639-8D7E-BA26AFFE4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43CB8-3DA4-47C5-A0C3-C67169EE6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FC526-5523-400D-BD1E-A41C72290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30AF5-A9F0-48A9-A970-E9D2FEB64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62BDE-D777-456D-AED3-82A3A3A48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0C7F3-63B4-4DF6-8687-4AFE5E45D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95C99-B17A-48DC-B1B5-4655BD3A2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FDC14-F6F4-4337-957A-64CFBD38D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BA662-7442-408D-9E5E-DA86D1B17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9D3B9-17C7-4AB6-9E89-9AE999981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12C96-E776-44D7-9DB3-F36BA8231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78ACF-69C6-4C0C-AAAC-E7349039A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43DEC-95D4-45DC-A4A8-E7766166A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2744F-7F5F-49E5-85DE-6BAA9A9C4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54F50-59C3-4DE3-A85D-56B891312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9F5EB-79EE-45F3-9D10-2CAB013F1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6F7F9-A83A-4A50-A6D4-2FE8CB7E0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28602-B5CC-43E3-810B-BA3782F5A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DAC37-1E65-44EF-A626-803D0165E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86D4E-0275-418F-8BB0-270A7F502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C1804-34F5-4AF8-A780-21694F301A4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36216-F202-41BD-B3CC-E88D6C1A472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581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Очевидное невероятно!</a:t>
            </a:r>
            <a:br>
              <a:rPr sz="3200"/>
            </a:br>
            <a:br>
              <a:rPr sz="3800"/>
            </a:br>
            <a:br>
              <a:rPr sz="3800"/>
            </a:br>
            <a:br>
              <a:rPr sz="3800"/>
            </a:br>
            <a:br>
              <a:rPr sz="3800"/>
            </a:br>
            <a:br>
              <a:rPr sz="3800"/>
            </a:br>
            <a:br>
              <a:rPr sz="3800"/>
            </a:br>
            <a:r>
              <a:rPr b="0" lang="en-US" sz="2800" spc="-1" strike="noStrike">
                <a:solidFill>
                  <a:srgbClr val="330033"/>
                </a:solidFill>
                <a:latin typeface="Times New Roman"/>
              </a:rPr>
              <a:t>Работу выполнили:</a:t>
            </a:r>
            <a:br>
              <a:rPr sz="2800"/>
            </a:br>
            <a:r>
              <a:rPr b="0" lang="en-US" sz="2800" spc="-1" strike="noStrike">
                <a:solidFill>
                  <a:srgbClr val="330033"/>
                </a:solidFill>
                <a:latin typeface="Times New Roman"/>
              </a:rPr>
              <a:t>Губайдуллина Эльвира,10а класс</a:t>
            </a:r>
            <a:br>
              <a:rPr sz="2800"/>
            </a:br>
            <a:r>
              <a:rPr b="0" lang="en-US" sz="2800" spc="-1" strike="noStrike">
                <a:solidFill>
                  <a:srgbClr val="330033"/>
                </a:solidFill>
                <a:latin typeface="Times New Roman"/>
              </a:rPr>
              <a:t>Гриднева Ольга,10д класс</a:t>
            </a:r>
            <a:br>
              <a:rPr sz="2800"/>
            </a:br>
            <a:r>
              <a:rPr b="0" lang="en-US" sz="2800" spc="-1" strike="noStrike">
                <a:solidFill>
                  <a:srgbClr val="330033"/>
                </a:solidFill>
                <a:latin typeface="Times New Roman"/>
              </a:rPr>
              <a:t>Руководитель: Пьянченко Н.В. </a:t>
            </a:r>
            <a:br>
              <a:rPr sz="2800"/>
            </a:b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684360" y="1916280"/>
            <a:ext cx="7991280" cy="21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Неожиданная математика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90033"/>
                </a:solidFill>
                <a:latin typeface="Times New Roman"/>
              </a:rPr>
              <a:t>Проектирование неоднозначно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rcRect l="9274" t="0" r="0" b="5994"/>
          <a:stretch/>
        </p:blipFill>
        <p:spPr>
          <a:xfrm>
            <a:off x="1332000" y="1557360"/>
            <a:ext cx="6408720" cy="47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90033"/>
                </a:solidFill>
                <a:latin typeface="Times New Roman"/>
              </a:rPr>
              <a:t>И это он!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838080" y="1600200"/>
            <a:ext cx="7993080" cy="452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90033"/>
                </a:solidFill>
                <a:latin typeface="Times New Roman"/>
              </a:rPr>
              <a:t>Доказательство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rcRect l="0" t="0" r="0" b="4832"/>
          <a:stretch/>
        </p:blipFill>
        <p:spPr>
          <a:xfrm>
            <a:off x="1258920" y="1557360"/>
            <a:ext cx="7200720" cy="489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4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2513ad"/>
                </a:solidFill>
                <a:latin typeface="Times New Roman"/>
              </a:rPr>
              <a:t>Водопад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rcRect l="0" t="0" r="1277" b="13415"/>
          <a:stretch/>
        </p:blipFill>
        <p:spPr>
          <a:xfrm>
            <a:off x="2124000" y="765000"/>
            <a:ext cx="5112000" cy="583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90033"/>
                </a:solidFill>
                <a:latin typeface="Times New Roman"/>
              </a:rPr>
              <a:t>Удивительно!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684360" y="1557360"/>
            <a:ext cx="3160440" cy="468000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4067280" y="2349360"/>
            <a:ext cx="4825800" cy="303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990033"/>
                </a:solidFill>
                <a:latin typeface="Times New Roman"/>
              </a:rPr>
              <a:t>Еще есть вещи способные нас удивлять!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87152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6600ff"/>
                </a:solidFill>
                <a:latin typeface="Arial"/>
              </a:rPr>
              <a:t>технический прогресс достиг небывалого развития, и все таки есть моменты, которые заставляют нас удивлять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914400" y="1628640"/>
            <a:ext cx="4022640" cy="3751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762120" y="762120"/>
            <a:ext cx="7924680" cy="487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Желаем вам, 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удивляясь, познавать мир!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90033"/>
                </a:solidFill>
                <a:latin typeface="Times New Roman"/>
              </a:rPr>
              <a:t>О, СТЕРЕОМЕТРИЯ!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205740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513ad"/>
                </a:solidFill>
                <a:latin typeface="Arial"/>
              </a:rPr>
              <a:t>Стереометрия - это раздел геометрии, в котором изучаются свойства фигур в пространств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513ad"/>
                </a:solidFill>
                <a:latin typeface="Arial"/>
              </a:rPr>
              <a:t>Слово «стереометрия» происходит от греческих слов «стереос» - объемный, пространственный и «метрео» - измеря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2133720"/>
            <a:ext cx="2057400" cy="2438280"/>
          </a:xfrm>
          <a:prstGeom prst="cube">
            <a:avLst>
              <a:gd name="adj" fmla="val 25000"/>
            </a:avLst>
          </a:prstGeom>
          <a:solidFill>
            <a:srgbClr val="71f57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543800" y="4800600"/>
            <a:ext cx="914400" cy="1214280"/>
          </a:xfrm>
          <a:prstGeom prst="can">
            <a:avLst>
              <a:gd name="adj" fmla="val 25000"/>
            </a:avLst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990033"/>
                </a:solidFill>
                <a:latin typeface="Times New Roman"/>
              </a:rPr>
              <a:t>Удивляйтесь! И мир будет прекраснее!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1989000"/>
            <a:ext cx="8134200" cy="28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Невозможный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треугольник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Пенроузов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90033"/>
                </a:solidFill>
                <a:latin typeface="Times New Roman"/>
              </a:rPr>
              <a:t>Невероятно, но факт!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ff"/>
                </a:solidFill>
                <a:latin typeface="Arial"/>
              </a:rPr>
              <a:t>Невозможный треугольник – один из удивительных математических парадоксов. При первом взгляде на него ни на секунду невозможно усомниться в его реальности. Однако это только иллюзия обман. А саму возможность такой иллюзии объяснит вам математик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90033"/>
                </a:solidFill>
                <a:latin typeface="Times New Roman"/>
              </a:rPr>
              <a:t>Познать можно и удивляясь!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87152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6600ff"/>
                </a:solidFill>
                <a:latin typeface="Arial"/>
              </a:rPr>
              <a:t>УДИВЛЕНИЕ – М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6600ff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6600ff"/>
                </a:solidFill>
                <a:latin typeface="Arial"/>
              </a:rPr>
              <a:t>ПОЗНАНИЯ</a:t>
            </a:r>
            <a:r>
              <a:rPr b="0" lang="en-US" sz="2400" spc="-1" strike="noStrike">
                <a:solidFill>
                  <a:srgbClr val="6600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66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66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6600ff"/>
                </a:solidFill>
                <a:latin typeface="Arial"/>
              </a:rPr>
              <a:t>Аристот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187280" y="1628640"/>
            <a:ext cx="3168720" cy="439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???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3100320" y="5013360"/>
            <a:ext cx="294336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тереометрия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55640" y="3933720"/>
            <a:ext cx="214308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реальность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435640" y="3860640"/>
            <a:ext cx="32400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роектирование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900000" y="1773360"/>
            <a:ext cx="724392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реугольник Пенроузов возможен?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90033"/>
                </a:solidFill>
                <a:latin typeface="Times New Roman"/>
              </a:rPr>
              <a:t>Это он!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rcRect l="0" t="0" r="0" b="11885"/>
          <a:stretch/>
        </p:blipFill>
        <p:spPr>
          <a:xfrm>
            <a:off x="826920" y="1700280"/>
            <a:ext cx="7561440" cy="453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r_triang2" descr=""/>
          <p:cNvPicPr/>
          <p:nvPr/>
        </p:nvPicPr>
        <p:blipFill>
          <a:blip r:embed="rId1"/>
          <a:stretch/>
        </p:blipFill>
        <p:spPr>
          <a:xfrm>
            <a:off x="1600200" y="609480"/>
            <a:ext cx="52578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90033"/>
                </a:solidFill>
                <a:latin typeface="Times New Roman"/>
              </a:rPr>
              <a:t>Проекция точки на плоскость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11724"/>
          <a:stretch/>
        </p:blipFill>
        <p:spPr>
          <a:xfrm>
            <a:off x="4932360" y="2060640"/>
            <a:ext cx="3527280" cy="36734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3492360" y="2205000"/>
            <a:ext cx="71640" cy="144360"/>
          </a:xfrm>
          <a:prstGeom prst="flowChartConnector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rcRect l="0" t="0" r="0" b="19076"/>
          <a:stretch/>
        </p:blipFill>
        <p:spPr>
          <a:xfrm>
            <a:off x="611280" y="2060640"/>
            <a:ext cx="4176720" cy="360036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6491160" y="2263680"/>
            <a:ext cx="71640" cy="7164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589800" y="206064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3T14:07:10Z</dcterms:created>
  <dc:creator>Надежда Викторовна</dc:creator>
  <dc:description/>
  <dc:language>en-US</dc:language>
  <cp:lastModifiedBy>Администратор</cp:lastModifiedBy>
  <dcterms:modified xsi:type="dcterms:W3CDTF">2006-03-02T10:58:20Z</dcterms:modified>
  <cp:revision>47</cp:revision>
  <dc:subject/>
  <dc:title>НЕОЖИДАННАЯ МАТЕМАТИКА</dc:title>
</cp:coreProperties>
</file>