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74A-A163-4350-B6DD-E5374830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E4D-7E2E-4D7A-814D-24EF23E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084-6452-4629-945B-E444B6DC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817-FA19-444F-87D8-B0E0753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E48-619C-4021-9398-A1E0499C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4B2-EDD4-4669-A3AB-6F39EF8B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9AE-5932-437C-908B-CE66DBB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BD3-B6AF-483A-97B4-E37CACCD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C4F-3FBF-4097-90E0-ECCD102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D88-D771-4442-9D4C-5281A3B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1D2-F35F-449E-B1F5-D9B062D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1AB-1D87-4272-A116-7782864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A1C-E226-4657-9AEB-61E06F3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572-9AFB-4CB5-90B0-2EBA7D6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294-B8A5-4C9D-8A19-7AA9AD9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64C-871B-4386-BB11-972416DE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B3D9-8603-4BB1-B7F3-6B7F1C0A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267-FBA0-434B-B8EB-87BF2C7B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4FC-3D37-4463-B7B8-558DB4B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422-9908-42B2-8B5F-CC94B2B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832-5B4B-429A-8CA1-7297731F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BB1-BB0C-463D-A210-16B41E2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62F-C0C4-4B2C-96AA-7EC83F6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01C-6449-4DC4-9045-13802B6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C514-0431-41A7-BA0A-73BCD27874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9DC-6F8C-4DBB-9CBB-6F0667F5D5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hyperlink" Target="file:///index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835280" y="1484280"/>
            <a:ext cx="597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Тема уро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«АЛГОРИТМЫ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040" y="609300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"/>
              </a:rPr>
              <a:t>© Нечаева Ольга Ивановна 2006 год</a:t>
            </a:r>
            <a:r>
              <a:rPr b="0" lang="en-US" sz="1400" spc="-1" strike="noStrike">
                <a:solidFill>
                  <a:srgbClr val="6a953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692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49360"/>
            <a:ext cx="662472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ПОСОБЫ ОПИСАНИЯ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268280"/>
            <a:ext cx="76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Так часто бывает, что алгоритм составляет один автор, а пишет программу другой человек. Алгоритмы бывают очень сложными и большими по объему. Бывает, что над алгоритмом трудятся сразу несколько человек. Учитывая все эти причины и еще ряд других, алгоритмы записывают или описывают на бумажных  или электронных носит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2000" y="3573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Словами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Например, распорядок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Графически (блок-схемой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Так делают программи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Алгоритмическим языком (псевдокод)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– это учебный язык. Он применяется во многих тестах по инфор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Табл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3068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Как можно описать алгорит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77080" y="3308400"/>
            <a:ext cx="1147680" cy="1222200"/>
            <a:chOff x="6877080" y="3308400"/>
            <a:chExt cx="1147680" cy="122220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6877080" y="3308400"/>
              <a:ext cx="1147680" cy="1222200"/>
            </a:xfrm>
            <a:prstGeom prst="rect">
              <a:avLst/>
            </a:prstGeom>
            <a:ln w="28440">
              <a:solidFill>
                <a:srgbClr val="714b25"/>
              </a:solidFill>
              <a:miter/>
            </a:ln>
          </p:spPr>
        </p:pic>
        <p:sp>
          <p:nvSpPr>
            <p:cNvPr id="186" name=""/>
            <p:cNvSpPr/>
            <p:nvPr/>
          </p:nvSpPr>
          <p:spPr>
            <a:xfrm>
              <a:off x="6877080" y="4513320"/>
              <a:ext cx="1147680" cy="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85000" y="4237560"/>
              <a:ext cx="0" cy="27576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724360" y="4913280"/>
            <a:ext cx="1700280" cy="1200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9760" y="609300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04640"/>
            <a:ext cx="5040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ОСНОВНЫЕ БЛОКИ</a:t>
            </a:r>
            <a:r>
              <a:rPr b="0" lang="en-US" sz="24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2349360"/>
            <a:ext cx="2087640" cy="503280"/>
          </a:xfrm>
          <a:prstGeom prst="flowChartTerminator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2492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чало/конец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429000"/>
            <a:ext cx="2087640" cy="863640"/>
          </a:xfrm>
          <a:prstGeom prst="flowChartInputOutput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4724280"/>
            <a:ext cx="2087640" cy="936720"/>
          </a:xfrm>
          <a:prstGeom prst="flowChartProcess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501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Обработку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6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вод/вывод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ГРАФИЧЕСКОГО ОПИСАНИЯ  АЛГОРИТМА</a:t>
            </a:r>
            <a:r>
              <a:rPr b="1" lang="en-US" sz="18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162864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162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Что ими обозна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760" y="609300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2205000"/>
            <a:ext cx="2087640" cy="1008000"/>
          </a:xfrm>
          <a:prstGeom prst="flowChartDecision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3716280"/>
            <a:ext cx="2087640" cy="863640"/>
          </a:xfrm>
          <a:prstGeom prst="flowChartPreparation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084640"/>
            <a:ext cx="2087640" cy="865440"/>
          </a:xfrm>
          <a:prstGeom prst="flowChartPredefinedProcess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492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роверку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393372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5c2e"/>
                </a:solidFill>
                <a:latin typeface="Verdana"/>
              </a:rPr>
              <a:t>Начало цикла 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FOR/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530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одпро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404640"/>
            <a:ext cx="5040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ОСНОВНЫЕ БЛОКИ</a:t>
            </a:r>
            <a:r>
              <a:rPr b="0" lang="en-US" sz="24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ГРАФИЧЕСКОГО ОПИСАНИЯ  АЛГОРИТМА</a:t>
            </a:r>
            <a:r>
              <a:rPr b="1" lang="en-US" sz="18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55736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Что ими обозна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8723160" y="63691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7315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5469" y="3794"/>
                </a:lnTo>
                <a:lnTo>
                  <a:pt x="5469" y="17806"/>
                </a:lnTo>
                <a:lnTo>
                  <a:pt x="3807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5640" y="1364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476280"/>
            <a:ext cx="5688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ОДЕРЖАНИЕ</a:t>
            </a:r>
            <a:r>
              <a:rPr b="1" lang="en-US" sz="2000" spc="-1" strike="noStrike">
                <a:solidFill>
                  <a:srgbClr val="ffffd7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1389240"/>
            <a:ext cx="58323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История возникнов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Понятие алгори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Пример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5" action="ppaction://hlinksldjump"/>
              </a:rPr>
              <a:t>Исполнител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6" action="ppaction://hlinksldjump"/>
              </a:rPr>
              <a:t>Что такое пр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7" action="ppaction://hlinksldjump"/>
              </a:rPr>
              <a:t>Свойства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8" action="ppaction://hlinksldjump"/>
              </a:rPr>
              <a:t>Тип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9" action="ppaction://hlinksldjump"/>
              </a:rPr>
              <a:t>Способы описания алгоритмов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0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1" action="ppaction://hlinksldjump"/>
              </a:rPr>
              <a:t>Основные блоки графического описания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680" y="616572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389240"/>
            <a:ext cx="583236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3" action="ppaction://hlinksldjump"/>
              </a:rPr>
              <a:t>История возникнов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Arial"/>
              </a:rPr>
              <a:t>Понятие алгори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Пример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Исполнител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Что такое пр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Свойства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Тип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Способы описания алгоритмов</a:t>
            </a:r>
            <a:r>
              <a:rPr b="1" lang="en-US" sz="2400" spc="-1" strike="noStrike">
                <a:solidFill>
                  <a:srgbClr val="987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Основные блоки графического описания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00360" y="476280"/>
            <a:ext cx="38876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НЕМНОГО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125360"/>
            <a:ext cx="50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основатель алгебры, от его имени произошел термин «алгорит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В мировой науке он был известен своим трактатом по математике, основанном на  позиционном принципе. Благодаря переводу этого труда с арабского на латинский язык, «арабские» цифры навсегда вошли в мировую математику.  Имя автора в латинизированной форме Algorismus и Algorithmus первоначально дало название правилам четырех арифметический действий, при десятичной системе с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Впоследствии слово «алгоритм» стало обозначать всякий регулярный процесс, за конечное число шагов дающий решение определённого класса зада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355760"/>
            <a:ext cx="2539800" cy="3441600"/>
          </a:xfrm>
          <a:prstGeom prst="rect">
            <a:avLst/>
          </a:prstGeom>
          <a:ln w="38160">
            <a:solidFill>
              <a:srgbClr val="8d5e2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39640" y="5013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7000"/>
                </a:solidFill>
                <a:latin typeface="Arial"/>
              </a:rPr>
              <a:t>Аль-Хорез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7000"/>
                </a:solidFill>
                <a:latin typeface="Arial"/>
              </a:rPr>
              <a:t>(786—850 гг. н.э.) </a:t>
            </a: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6560" y="16225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Arial Black"/>
              </a:rPr>
              <a:t>Алгоритм — это совокупность правил выполнения определенных действий, обеспечивающих решени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404640"/>
            <a:ext cx="30258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А Л Г О 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56536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 жизни мы постоянно выполняем разные алгорит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1680" y="623736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997360"/>
            <a:ext cx="43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a5c2e"/>
                </a:solidFill>
                <a:latin typeface="Verdana"/>
              </a:rPr>
              <a:t>Составляем</a:t>
            </a:r>
            <a:r>
              <a:rPr b="0" lang="en-US" sz="1600" spc="-1" strike="noStrike">
                <a:solidFill>
                  <a:srgbClr val="8a5c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8a5c2e"/>
                </a:solidFill>
                <a:latin typeface="Verdana"/>
              </a:rPr>
              <a:t>распорядок дня, чтобы многое успе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457440" cy="3035160"/>
          </a:xfrm>
          <a:prstGeom prst="rect">
            <a:avLst/>
          </a:prstGeom>
          <a:ln w="28440">
            <a:solidFill>
              <a:srgbClr val="987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741840"/>
            <a:ext cx="3097440" cy="2422440"/>
          </a:xfrm>
          <a:prstGeom prst="rect">
            <a:avLst/>
          </a:prstGeom>
          <a:ln w="28440">
            <a:solidFill>
              <a:srgbClr val="987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258920" y="10526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981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онятие алгоритм – одно из фундаментальных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 инфор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620640"/>
            <a:ext cx="532908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ИМЕРЫ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8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Достаем кулинарную книгу и строго следуем  рецепту, написанному в ней, чтобы блюдо удалось и можно было угостить своих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4437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Соблюдаем правила дорожного движения при переходе через у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286000" cy="2946600"/>
          </a:xfrm>
          <a:prstGeom prst="rect">
            <a:avLst/>
          </a:prstGeom>
          <a:ln w="38160">
            <a:solidFill>
              <a:srgbClr val="714b25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3357720"/>
            <a:ext cx="3810240" cy="2234880"/>
          </a:xfrm>
          <a:prstGeom prst="rect">
            <a:avLst/>
          </a:prstGeom>
          <a:ln w="38160">
            <a:solidFill>
              <a:srgbClr val="714b25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8160" y="487440"/>
            <a:ext cx="49172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ИСПОЛНИТЕЛИ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341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Алгоритм составляется с учетом исполнителя. Исполнителем может быть человек, автомат,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516720" y="2637000"/>
            <a:ext cx="1800360" cy="157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2067120" cy="181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159084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87280" y="2637000"/>
            <a:ext cx="4915080" cy="267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476280"/>
            <a:ext cx="32414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0040" y="1052640"/>
            <a:ext cx="65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аждый исполнитель имеет свою систему команд (С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7343640" cy="642600"/>
          </a:xfrm>
          <a:prstGeom prst="rect">
            <a:avLst/>
          </a:prstGeom>
          <a:noFill/>
          <a:ln w="57240">
            <a:solidFill>
              <a:srgbClr val="98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Arial Black"/>
              </a:rPr>
              <a:t>Программа — это алгоритм, записанный на языке ис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276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ассмотрим пример: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возьмем учебного исполнителя Черепашку. Пусть этот исполнитель имеет три команды: вперед(1 см), направо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, налево 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7840" y="321300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Исходное положение исполн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7708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2692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5120" y="4437000"/>
            <a:ext cx="43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од программы будет выглядеть так: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лево 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(1 см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 1 см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право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(1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3716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акой код программы надо написать, чтобы Черепашка начертила букву </a:t>
            </a: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221000"/>
            <a:ext cx="1584360" cy="2089440"/>
          </a:xfrm>
          <a:prstGeom prst="rect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84720" y="4334040"/>
            <a:ext cx="1428840" cy="1809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4240" y="625140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ВОЙСТВА 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76200" y="1125360"/>
            <a:ext cx="49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(Требования к составлению алгорит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700280"/>
            <a:ext cx="71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Дискрет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Процесс решения задачи должен быть разбит на последовательность отдельных ша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Однозначность (точность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Команды алгоритма должны быть точно определены (например, нельзя написать 3-4 стакана муки, надо указать 3 стака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езультатив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После выполнения всех команд алгоритма, должен быть получен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Универсальность (массовость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Важное свойство при решении задач на ЭВМ. Алгоритм должен быть применим для решения ни одной конкретной задачи, а для некоторого класса задач. Например, для решения квадратного уравнения с разными коэффициент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Понят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Алгоритм должен быть написан на языке понятном исполн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19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Линейный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Команды такого алгоритма выполняются последовательно сверху вниз.</a:t>
            </a:r>
            <a:br>
              <a:rPr sz="1800"/>
            </a:b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Например, нахождение гипотенузы прямоугольного треугольника по двум его катетам</a:t>
            </a:r>
            <a:r>
              <a:rPr b="0" lang="en-US" sz="1800" spc="-1" strike="noStrike">
                <a:solidFill>
                  <a:srgbClr val="8a5c2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49360"/>
            <a:ext cx="475308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ТИПЫ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565360"/>
            <a:ext cx="52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азветвляющийся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В зависимости от поставленного условия алгоритм позволяет выбрать один из вариантов решения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Примерами могут быть нахождение корней квадратного уравнения или богатырь на распутье из русских сказок</a:t>
            </a:r>
            <a:r>
              <a:rPr b="0" i="1" lang="en-US" sz="1800" spc="-1" strike="noStrike">
                <a:solidFill>
                  <a:srgbClr val="8a5c2e"/>
                </a:solidFill>
                <a:latin typeface="Verdan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Циклический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В алгоритме встречаются повторяющиеся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Например, при заучивании стихотворения вам приходится перечитывать и повторять одни и те же ст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91120" y="2387520"/>
            <a:ext cx="2973240" cy="3373920"/>
            <a:chOff x="5991120" y="2387520"/>
            <a:chExt cx="2973240" cy="337392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6588000" y="2978280"/>
              <a:ext cx="16207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362720" y="2387520"/>
              <a:ext cx="0" cy="69840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0720" y="4633920"/>
              <a:ext cx="0" cy="64296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52920" y="3857760"/>
              <a:ext cx="0" cy="118728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0280" y="3786120"/>
              <a:ext cx="342720" cy="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8960" y="3786120"/>
              <a:ext cx="0" cy="121608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67320" y="3871800"/>
              <a:ext cx="30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1120" y="3376440"/>
              <a:ext cx="9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напра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0120" y="336240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нале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2120" y="5484960"/>
              <a:ext cx="15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прям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7:35:22Z</dcterms:created>
  <dc:creator>*</dc:creator>
  <dc:description/>
  <dc:language>en-US</dc:language>
  <cp:lastModifiedBy>*</cp:lastModifiedBy>
  <dcterms:modified xsi:type="dcterms:W3CDTF">2006-12-21T07:52:44Z</dcterms:modified>
  <cp:revision>228</cp:revision>
  <dc:subject/>
  <dc:title>Алгоритмы</dc:title>
</cp:coreProperties>
</file>