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2A-01EC-4AC7-A5DC-49D2DAA7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89F-AD32-4295-9A2E-AC65A05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C11-E487-44C5-8F6F-F4AA28CC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69B-8FA4-4C72-A391-52DCB235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7A0-513B-4EE3-A162-76042051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CE3-75AF-4081-84C4-BF8976F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AA6-20C0-4D9F-B65D-693B266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F011-E5AA-4F9C-8D28-BBA9046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0A54-C900-4836-851F-0F727C8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716-B7CF-44AF-A175-E493DE8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3FC-F066-447D-ACF2-3B07F59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9D1-2774-4E84-AD78-6C5C45F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C22-156C-4B37-B07D-8981E3F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4C4-154B-4145-9463-2216AF3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47B5-31F4-4BFB-8918-3BFEFD8F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4385-1209-4678-93E4-AB618B9F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7933-01F5-42A2-B6D8-90CD93F1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5EC-372D-43D1-A3D9-3069ABCD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A19-0901-49DA-8288-5C6C744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AC9-3DCF-45BF-BBB4-023CA35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10C-A7BD-46DA-B789-3BEBDA9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3EC-07A5-4368-8B49-ABF0BE8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9BA-63FA-4B5F-8CC0-0CBC752E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90A-A03D-4BB3-B76C-9CC6AD3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E3B-B31D-4874-8F06-0FFA630954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EB3F-0AFD-47DA-8EFB-B43B85BCA5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hyperlink" Target="file:///index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835280" y="1484280"/>
            <a:ext cx="597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Тема уро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«АЛГОРИТМЫ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040" y="609300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"/>
              </a:rPr>
              <a:t>© Нечаева Ольга Ивановна 2006 год</a:t>
            </a:r>
            <a:r>
              <a:rPr b="0" lang="en-US" sz="1400" spc="-1" strike="noStrike">
                <a:solidFill>
                  <a:srgbClr val="6a953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692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49360"/>
            <a:ext cx="662472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ПОСОБЫ ОПИСАНИЯ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268280"/>
            <a:ext cx="76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Так часто бывает, что алгоритм составляет один автор, а пишет программу другой человек. Алгоритмы бывают очень сложными и большими по объему. Бывает, что над алгоритмом трудятся сразу несколько человек. Учитывая все эти причины и еще ряд других, алгоритмы записывают или описывают на бумажных  или электронных носит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2000" y="3573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Словами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Например, распорядок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Графически (блок-схемой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Так делают программи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Алгоритмическим языком (псевдокод)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– это учебный язык. Он применяется во многих тестах по инфор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Табл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3068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Как можно описать алгорит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77080" y="3308400"/>
            <a:ext cx="1147680" cy="1222200"/>
            <a:chOff x="6877080" y="3308400"/>
            <a:chExt cx="1147680" cy="122220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6877080" y="3308400"/>
              <a:ext cx="1147680" cy="1222200"/>
            </a:xfrm>
            <a:prstGeom prst="rect">
              <a:avLst/>
            </a:prstGeom>
            <a:ln w="28440">
              <a:solidFill>
                <a:srgbClr val="714b25"/>
              </a:solidFill>
              <a:miter/>
            </a:ln>
          </p:spPr>
        </p:pic>
        <p:sp>
          <p:nvSpPr>
            <p:cNvPr id="186" name=""/>
            <p:cNvSpPr/>
            <p:nvPr/>
          </p:nvSpPr>
          <p:spPr>
            <a:xfrm>
              <a:off x="6877080" y="4513320"/>
              <a:ext cx="1147680" cy="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85000" y="4237560"/>
              <a:ext cx="0" cy="27576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724360" y="4913280"/>
            <a:ext cx="1700280" cy="1200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9760" y="609300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04640"/>
            <a:ext cx="5040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ОСНОВНЫЕ БЛОКИ</a:t>
            </a:r>
            <a:r>
              <a:rPr b="0" lang="en-US" sz="24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2349360"/>
            <a:ext cx="2087640" cy="503280"/>
          </a:xfrm>
          <a:prstGeom prst="flowChartTerminator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2492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чало/конец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429000"/>
            <a:ext cx="2087640" cy="863640"/>
          </a:xfrm>
          <a:prstGeom prst="flowChartInputOutput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4724280"/>
            <a:ext cx="2087640" cy="936720"/>
          </a:xfrm>
          <a:prstGeom prst="flowChartProcess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501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Обработку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6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вод/вывод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ГРАФИЧЕСКОГО ОПИСАНИЯ  АЛГОРИТМА</a:t>
            </a:r>
            <a:r>
              <a:rPr b="1" lang="en-US" sz="18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162864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162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Что ими обозна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760" y="609300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2205000"/>
            <a:ext cx="2087640" cy="1008000"/>
          </a:xfrm>
          <a:prstGeom prst="flowChartDecision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3716280"/>
            <a:ext cx="2087640" cy="863640"/>
          </a:xfrm>
          <a:prstGeom prst="flowChartPreparation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084640"/>
            <a:ext cx="2087640" cy="865440"/>
          </a:xfrm>
          <a:prstGeom prst="flowChartPredefinedProcess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492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роверку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393372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5c2e"/>
                </a:solidFill>
                <a:latin typeface="Verdana"/>
              </a:rPr>
              <a:t>Начало цикла 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FOR/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530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одпро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404640"/>
            <a:ext cx="5040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ОСНОВНЫЕ БЛОКИ</a:t>
            </a:r>
            <a:r>
              <a:rPr b="0" lang="en-US" sz="24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ГРАФИЧЕСКОГО ОПИСАНИЯ  АЛГОРИТМА</a:t>
            </a:r>
            <a:r>
              <a:rPr b="1" lang="en-US" sz="1800" spc="-1" strike="noStrike">
                <a:solidFill>
                  <a:srgbClr val="ffffd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55736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Б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Что ими обозна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8723160" y="63691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7315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5469" y="3794"/>
                </a:lnTo>
                <a:lnTo>
                  <a:pt x="5469" y="17806"/>
                </a:lnTo>
                <a:lnTo>
                  <a:pt x="3807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5640" y="1364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476280"/>
            <a:ext cx="568836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ОДЕРЖАНИЕ</a:t>
            </a:r>
            <a:r>
              <a:rPr b="1" lang="en-US" sz="2000" spc="-1" strike="noStrike">
                <a:solidFill>
                  <a:srgbClr val="ffffd7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1389240"/>
            <a:ext cx="58323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История возникнов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Понятие алгори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Пример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5" action="ppaction://hlinksldjump"/>
              </a:rPr>
              <a:t>Исполнител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6" action="ppaction://hlinksldjump"/>
              </a:rPr>
              <a:t>Что такое пр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7" action="ppaction://hlinksldjump"/>
              </a:rPr>
              <a:t>Свойства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8" action="ppaction://hlinksldjump"/>
              </a:rPr>
              <a:t>Тип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9" action="ppaction://hlinksldjump"/>
              </a:rPr>
              <a:t>Способы описания алгоритмов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0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1" action="ppaction://hlinksldjump"/>
              </a:rPr>
              <a:t>Основные блоки графического описания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680" y="616572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389240"/>
            <a:ext cx="583236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3" action="ppaction://hlinksldjump"/>
              </a:rPr>
              <a:t>История возникнов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a5c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Arial"/>
              </a:rPr>
              <a:t>Понятие алгорит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Пример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Исполнител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Что такое пр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Свойства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Типы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Способы описания алгоритмов</a:t>
            </a:r>
            <a:r>
              <a:rPr b="1" lang="en-US" sz="2400" spc="-1" strike="noStrike">
                <a:solidFill>
                  <a:srgbClr val="987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Основные блоки графического описания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87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7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00360" y="476280"/>
            <a:ext cx="38876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НЕМНОГО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125360"/>
            <a:ext cx="50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основатель алгебры, от его имени произошел термин «алгорит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В мировой науке он был известен своим трактатом по математике, основанном на  позиционном принципе. Благодаря переводу этого труда с арабского на латинский язык, «арабские» цифры навсегда вошли в мировую математику.  Имя автора в латинизированной форме Algorismus и Algorithmus первоначально дало название правилам четырех арифметический действий, при десятичной системе с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Впоследствии слово «алгоритм» стало обозначать всякий регулярный процесс, за конечное число шагов дающий решение определённого класса зада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355760"/>
            <a:ext cx="2539800" cy="3441600"/>
          </a:xfrm>
          <a:prstGeom prst="rect">
            <a:avLst/>
          </a:prstGeom>
          <a:ln w="38160">
            <a:solidFill>
              <a:srgbClr val="8d5e2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39640" y="5013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7000"/>
                </a:solidFill>
                <a:latin typeface="Arial"/>
              </a:rPr>
              <a:t>Аль-Хорез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7000"/>
                </a:solidFill>
                <a:latin typeface="Arial"/>
              </a:rPr>
              <a:t>(786—850 гг. н.э.) </a:t>
            </a:r>
            <a:r>
              <a:rPr b="0" lang="ru-RU" sz="1800" spc="-1" strike="noStrike">
                <a:solidFill>
                  <a:srgbClr val="9870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6560" y="16225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Arial Black"/>
              </a:rPr>
              <a:t>Алгоритм — это совокупность правил выполнения определенных действий, обеспечивающих решени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404640"/>
            <a:ext cx="302580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А Л Г О 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56536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 жизни мы постоянно выполняем разные алгорит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1680" y="623736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997360"/>
            <a:ext cx="43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a5c2e"/>
                </a:solidFill>
                <a:latin typeface="Verdana"/>
              </a:rPr>
              <a:t>Составляем</a:t>
            </a:r>
            <a:r>
              <a:rPr b="0" lang="en-US" sz="1600" spc="-1" strike="noStrike">
                <a:solidFill>
                  <a:srgbClr val="8a5c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8a5c2e"/>
                </a:solidFill>
                <a:latin typeface="Verdana"/>
              </a:rPr>
              <a:t>распорядок дня, чтобы многое успе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457440" cy="3035160"/>
          </a:xfrm>
          <a:prstGeom prst="rect">
            <a:avLst/>
          </a:prstGeom>
          <a:ln w="28440">
            <a:solidFill>
              <a:srgbClr val="987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741840"/>
            <a:ext cx="3097440" cy="2422440"/>
          </a:xfrm>
          <a:prstGeom prst="rect">
            <a:avLst/>
          </a:prstGeom>
          <a:ln w="28440">
            <a:solidFill>
              <a:srgbClr val="987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258920" y="10526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981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Понятие алгоритм – одно из фундаментальных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 инфор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620640"/>
            <a:ext cx="532908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ИМЕРЫ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8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Достаем кулинарную книгу и строго следуем  рецепту, написанному в ней, чтобы блюдо удалось и можно было угостить своих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4437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Соблюдаем правила дорожного движения при переходе через у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286000" cy="2946600"/>
          </a:xfrm>
          <a:prstGeom prst="rect">
            <a:avLst/>
          </a:prstGeom>
          <a:ln w="38160">
            <a:solidFill>
              <a:srgbClr val="714b25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3357720"/>
            <a:ext cx="3810240" cy="2234880"/>
          </a:xfrm>
          <a:prstGeom prst="rect">
            <a:avLst/>
          </a:prstGeom>
          <a:ln w="38160">
            <a:solidFill>
              <a:srgbClr val="714b25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8160" y="487440"/>
            <a:ext cx="49172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ИСПОЛНИТЕЛИ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341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Алгоритм составляется с учетом исполнителя. Исполнителем может быть человек, автомат,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516720" y="2637000"/>
            <a:ext cx="1800360" cy="157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2067120" cy="181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159084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87280" y="2637000"/>
            <a:ext cx="4915080" cy="267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476280"/>
            <a:ext cx="324144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0040" y="1052640"/>
            <a:ext cx="65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аждый исполнитель имеет свою систему команд (С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7343640" cy="642600"/>
          </a:xfrm>
          <a:prstGeom prst="rect">
            <a:avLst/>
          </a:prstGeom>
          <a:noFill/>
          <a:ln w="57240">
            <a:solidFill>
              <a:srgbClr val="98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Arial Black"/>
              </a:rPr>
              <a:t>Программа — это алгоритм, записанный на языке ис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276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ассмотрим пример: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возьмем учебного исполнителя Черепашку. Пусть этот исполнитель имеет три команды: вперед(1 см), направо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, налево 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7840" y="321300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Исходное положение исполн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7708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2692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5120" y="4437000"/>
            <a:ext cx="43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од программы будет выглядеть так: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лево 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(1 см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 1 см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направо(90</a:t>
            </a:r>
            <a:r>
              <a:rPr b="0" lang="en-US" sz="1800" spc="-1" strike="noStrike" baseline="30000">
                <a:solidFill>
                  <a:srgbClr val="8a5c2e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вперед(1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3716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Какой код программы надо написать, чтобы Черепашка начертила букву </a:t>
            </a: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221000"/>
            <a:ext cx="1584360" cy="2089440"/>
          </a:xfrm>
          <a:prstGeom prst="rect">
            <a:avLst/>
          </a:prstGeom>
          <a:noFill/>
          <a:ln w="381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84720" y="4334040"/>
            <a:ext cx="1428840" cy="1809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4240" y="625140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 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СВОЙСТВА 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76200" y="1125360"/>
            <a:ext cx="49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(Требования к составлению алгорит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700280"/>
            <a:ext cx="71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Дискрет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Процесс решения задачи должен быть разбит на последовательность отдельных ша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Однозначность (точность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Команды алгоритма должны быть точно определены (например, нельзя написать 3-4 стакана муки, надо указать 3 стака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езультатив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После выполнения всех команд алгоритма, должен быть получен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Универсальность (массовость)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Важное свойство при решении задач на ЭВМ. Алгоритм должен быть применим для решения ни одной конкретной задачи, а для некоторого класса задач. Например, для решения квадратного уравнения с разными коэффициент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a5c2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Понятность.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 Алгоритм должен быть написан на языке понятном исполн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189000"/>
            <a:ext cx="8785440" cy="64800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8d5e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19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Линейный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Команды такого алгоритма выполняются последовательно сверху вниз.</a:t>
            </a:r>
            <a:br>
              <a:rPr sz="1800"/>
            </a:b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Например, нахождение гипотенузы прямоугольного треугольника по двум его катетам</a:t>
            </a:r>
            <a:r>
              <a:rPr b="0" lang="en-US" sz="1800" spc="-1" strike="noStrike">
                <a:solidFill>
                  <a:srgbClr val="8a5c2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49360"/>
            <a:ext cx="4753080" cy="459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7"/>
                </a:solidFill>
                <a:latin typeface="Verdana"/>
              </a:rPr>
              <a:t>ТИПЫ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880" y="6113520"/>
            <a:ext cx="36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©</a:t>
            </a:r>
            <a:r>
              <a:rPr b="1" lang="en-US" sz="1800" spc="-1" strike="noStrike">
                <a:solidFill>
                  <a:srgbClr val="6a953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6a953f"/>
                </a:solidFill>
                <a:latin typeface="Courier New Cyr"/>
              </a:rPr>
              <a:t>Нечаева Ольга Ивановна 200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1236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565360"/>
            <a:ext cx="522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Разветвляющийся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В зависимости от поставленного условия алгоритм позволяет выбрать один из вариантов решения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Примерами могут быть нахождение корней квадратного уравнения или богатырь на распутье из русских сказок</a:t>
            </a:r>
            <a:r>
              <a:rPr b="0" i="1" lang="en-US" sz="1800" spc="-1" strike="noStrike">
                <a:solidFill>
                  <a:srgbClr val="8a5c2e"/>
                </a:solidFill>
                <a:latin typeface="Verdan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5c2e"/>
                </a:solidFill>
                <a:latin typeface="Verdana"/>
              </a:rPr>
              <a:t>Циклический</a:t>
            </a:r>
            <a:r>
              <a:rPr b="0" lang="en-US" sz="1800" spc="-1" strike="noStrike">
                <a:solidFill>
                  <a:srgbClr val="8a5c2e"/>
                </a:solidFill>
                <a:latin typeface="Verdana"/>
              </a:rPr>
              <a:t>. В алгоритме встречаются повторяющиеся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a5c2e"/>
                </a:solidFill>
                <a:latin typeface="Arial"/>
              </a:rPr>
              <a:t>Например, при заучивании стихотворения вам приходится перечитывать и повторять одни и те же ст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352000" y="6381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a935c"/>
          </a:solidFill>
          <a:ln w="9360">
            <a:solidFill>
              <a:srgbClr val="714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91120" y="2387520"/>
            <a:ext cx="2973240" cy="3373920"/>
            <a:chOff x="5991120" y="2387520"/>
            <a:chExt cx="2973240" cy="337392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6588000" y="2978280"/>
              <a:ext cx="162072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362720" y="2387520"/>
              <a:ext cx="0" cy="69840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0720" y="4633920"/>
              <a:ext cx="0" cy="64296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52920" y="3857760"/>
              <a:ext cx="0" cy="118728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0280" y="3786120"/>
              <a:ext cx="342720" cy="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8960" y="3786120"/>
              <a:ext cx="0" cy="1216080"/>
            </a:xfrm>
            <a:prstGeom prst="line">
              <a:avLst/>
            </a:prstGeom>
            <a:ln w="28440">
              <a:solidFill>
                <a:srgbClr val="714b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67320" y="3871800"/>
              <a:ext cx="30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1120" y="3376440"/>
              <a:ext cx="9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напра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0120" y="336240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нале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2120" y="5484960"/>
              <a:ext cx="15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Verdana"/>
                </a:rPr>
                <a:t>прям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7:35:22Z</dcterms:created>
  <dc:creator>*</dc:creator>
  <dc:description/>
  <dc:language>en-US</dc:language>
  <cp:lastModifiedBy>*</cp:lastModifiedBy>
  <dcterms:modified xsi:type="dcterms:W3CDTF">2006-12-21T07:52:44Z</dcterms:modified>
  <cp:revision>228</cp:revision>
  <dc:subject/>
  <dc:title>Алгоритмы</dc:title>
</cp:coreProperties>
</file>