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312-9E51-4318-BB71-235B29C9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3EB-4A01-4FA7-BDDD-DD544BC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8FF-663C-4E78-8064-930F65DD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65D-A7D2-45FF-91F6-A807DE24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26942-030F-4615-BF49-98AC6153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05FA-E446-4381-95CF-91F71A3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5FDB1-3CA2-4DD6-BC46-85D347E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482A0-4E38-4D89-A595-73B8BB9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55C66-637E-4361-90F8-461654F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4247-B650-4536-9957-993929A8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4CC44-E84D-4C33-A275-61B78AA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527-D73C-444E-95A7-07772A8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AB8DD-5626-4B9C-83FB-E1BFB834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6A5E-13C2-42EF-9476-FB6D749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7E352-733E-4A40-8E47-EE29E98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75C7-DE69-4D45-9D65-7540CCFE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378B-56FD-49AA-BD75-190DCB2E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565-5B21-4E0C-A9C3-504542D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E4A-F791-454F-AADF-D4CF3E9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080-05BB-4C1A-ACC4-5AC0A81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03E-14A5-4C98-A2AF-C43510B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D82-A91A-4ECD-8B94-EFB4C6A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B44-7B98-46FB-B089-8343C25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2EC-F4E8-4398-8853-599FA5D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01C5-DB21-4C06-A1F8-2253A1137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FA0-F6B3-4A4E-99F6-5EA13D0B51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45720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847"/>
                </a:solidFill>
                <a:latin typeface="Arial"/>
              </a:rPr>
              <a:t>Тема: «Прямая и отрезок. Луч и угол. Сравнение и  измерение отрезков и углов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47920" y="44956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 начале 20 века великий французский архитектор Ле Корбюзье сказал: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« Я думаю, что никогда до настоящего времени мы не жили</a:t>
            </a: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  в такой геометрический период.   </a:t>
            </a: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сё вокруг – геометр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1.На прямой отмечены точки А,В,С,Д,Е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а)Какие из данных точек принадлежат отрезку АД, но не принадлежат отрезку СЕ?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б)Отметьте точку К так, чтобы выполнялись условия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К     АЕ, К     ВД, Д     СК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в)Проведите прямую, которая пересекала бы отрезки АД и С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Дан угол АОВ и точка С, не лежащая в его внутренней обл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Постройте луч СД, который пересекал бы лучи ОА и 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Постройте развернутый угол 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Какие из точек А,В,С лежат во внутренней области угла КО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289080" cy="2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289080" cy="2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890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сследуйте, сколько точек пересечения могут иметь три прямые?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ассмотрите все возможные случаи и сделайте соответствующие рисунк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1вариант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На прямой отмечены точки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 так ,что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N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=4 дм,  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=9 дм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кой может быть длина отрезка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NK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ариант.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Луч ВД делит прямой угол АВС на два угла, градусные меры которых относятся как 5:4. Найдите образовавшиеся углы.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80880" y="304920"/>
            <a:ext cx="7010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Вставь пропущенное слово: «Через любые две точки можно провести ... ; и при том только одн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2.Математический зн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3.Название книги, в которой впервые был систематизирован геометрический матери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4.Геометрическая фиг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5.Кто из учёных назвал геометрию воображаем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6.Как называется сооружение Хеоп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7.Древнегреческий математ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8.Часть прямой, ограниченная двумя точ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9.Угол, градусная мера которого меньше 90 граду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0.Кому принадлежат слова: «В геометрии нет царской дороги!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1.Четырёхугольник, но не квадр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2890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76320" y="457200"/>
            <a:ext cx="9067680" cy="5397480"/>
            <a:chOff x="76320" y="457200"/>
            <a:chExt cx="9067680" cy="5397480"/>
          </a:xfrm>
        </p:grpSpPr>
        <p:sp>
          <p:nvSpPr>
            <p:cNvPr id="135" name="AutoShape 3"/>
            <p:cNvSpPr/>
            <p:nvPr/>
          </p:nvSpPr>
          <p:spPr>
            <a:xfrm>
              <a:off x="76320" y="457200"/>
              <a:ext cx="906768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374616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178160" y="12128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460980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04180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547344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590544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633708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4178160" y="7808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460980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504180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547344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5905440" y="780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201888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>
              <a:off x="1587240" y="121284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504180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504180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460980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4178160" y="164448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746160" y="164448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245088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288252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3314520" y="12128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374616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460980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>
              <a:off x="4178160" y="207648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>
              <a:off x="2018880" y="207648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>
              <a:off x="245088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288252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>
              <a:off x="331452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>
              <a:off x="590544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>
              <a:off x="5473440" y="1644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4178160" y="250812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36"/>
            <p:cNvSpPr/>
            <p:nvPr/>
          </p:nvSpPr>
          <p:spPr>
            <a:xfrm>
              <a:off x="374616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37"/>
            <p:cNvSpPr/>
            <p:nvPr/>
          </p:nvSpPr>
          <p:spPr>
            <a:xfrm>
              <a:off x="331452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38"/>
            <p:cNvSpPr/>
            <p:nvPr/>
          </p:nvSpPr>
          <p:spPr>
            <a:xfrm>
              <a:off x="288252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39"/>
            <p:cNvSpPr/>
            <p:nvPr/>
          </p:nvSpPr>
          <p:spPr>
            <a:xfrm>
              <a:off x="245088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40"/>
            <p:cNvSpPr/>
            <p:nvPr/>
          </p:nvSpPr>
          <p:spPr>
            <a:xfrm>
              <a:off x="201888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1"/>
            <p:cNvSpPr/>
            <p:nvPr/>
          </p:nvSpPr>
          <p:spPr>
            <a:xfrm>
              <a:off x="158724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42"/>
            <p:cNvSpPr/>
            <p:nvPr/>
          </p:nvSpPr>
          <p:spPr>
            <a:xfrm>
              <a:off x="11556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46098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44"/>
            <p:cNvSpPr/>
            <p:nvPr/>
          </p:nvSpPr>
          <p:spPr>
            <a:xfrm>
              <a:off x="590544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45"/>
            <p:cNvSpPr/>
            <p:nvPr/>
          </p:nvSpPr>
          <p:spPr>
            <a:xfrm>
              <a:off x="5473440" y="20764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6"/>
            <p:cNvSpPr/>
            <p:nvPr/>
          </p:nvSpPr>
          <p:spPr>
            <a:xfrm>
              <a:off x="504180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47"/>
            <p:cNvSpPr/>
            <p:nvPr/>
          </p:nvSpPr>
          <p:spPr>
            <a:xfrm>
              <a:off x="291960" y="250812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48"/>
            <p:cNvSpPr/>
            <p:nvPr/>
          </p:nvSpPr>
          <p:spPr>
            <a:xfrm>
              <a:off x="723600" y="2508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49"/>
            <p:cNvSpPr/>
            <p:nvPr/>
          </p:nvSpPr>
          <p:spPr>
            <a:xfrm>
              <a:off x="331452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50"/>
            <p:cNvSpPr/>
            <p:nvPr/>
          </p:nvSpPr>
          <p:spPr>
            <a:xfrm>
              <a:off x="374616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51"/>
            <p:cNvSpPr/>
            <p:nvPr/>
          </p:nvSpPr>
          <p:spPr>
            <a:xfrm>
              <a:off x="547344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52"/>
            <p:cNvSpPr/>
            <p:nvPr/>
          </p:nvSpPr>
          <p:spPr>
            <a:xfrm>
              <a:off x="4178160" y="294012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53"/>
            <p:cNvSpPr/>
            <p:nvPr/>
          </p:nvSpPr>
          <p:spPr>
            <a:xfrm>
              <a:off x="460980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4178160" y="337176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374616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6"/>
            <p:cNvSpPr/>
            <p:nvPr/>
          </p:nvSpPr>
          <p:spPr>
            <a:xfrm>
              <a:off x="331452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57"/>
            <p:cNvSpPr/>
            <p:nvPr/>
          </p:nvSpPr>
          <p:spPr>
            <a:xfrm>
              <a:off x="2882520" y="337176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7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58"/>
            <p:cNvSpPr/>
            <p:nvPr/>
          </p:nvSpPr>
          <p:spPr>
            <a:xfrm>
              <a:off x="2450880" y="294012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59"/>
            <p:cNvSpPr/>
            <p:nvPr/>
          </p:nvSpPr>
          <p:spPr>
            <a:xfrm>
              <a:off x="2882520" y="294012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60"/>
            <p:cNvSpPr/>
            <p:nvPr/>
          </p:nvSpPr>
          <p:spPr>
            <a:xfrm>
              <a:off x="590544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61"/>
            <p:cNvSpPr/>
            <p:nvPr/>
          </p:nvSpPr>
          <p:spPr>
            <a:xfrm>
              <a:off x="547344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504180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63"/>
            <p:cNvSpPr/>
            <p:nvPr/>
          </p:nvSpPr>
          <p:spPr>
            <a:xfrm>
              <a:off x="460980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64"/>
            <p:cNvSpPr/>
            <p:nvPr/>
          </p:nvSpPr>
          <p:spPr>
            <a:xfrm>
              <a:off x="4178160" y="380376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65"/>
            <p:cNvSpPr/>
            <p:nvPr/>
          </p:nvSpPr>
          <p:spPr>
            <a:xfrm>
              <a:off x="3746160" y="380376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8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66"/>
            <p:cNvSpPr/>
            <p:nvPr/>
          </p:nvSpPr>
          <p:spPr>
            <a:xfrm>
              <a:off x="4609800" y="3371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7"/>
            <p:cNvSpPr/>
            <p:nvPr/>
          </p:nvSpPr>
          <p:spPr>
            <a:xfrm>
              <a:off x="2450880" y="466740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10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68"/>
            <p:cNvSpPr/>
            <p:nvPr/>
          </p:nvSpPr>
          <p:spPr>
            <a:xfrm>
              <a:off x="2882520" y="423540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9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69"/>
            <p:cNvSpPr/>
            <p:nvPr/>
          </p:nvSpPr>
          <p:spPr>
            <a:xfrm>
              <a:off x="331452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70"/>
            <p:cNvSpPr/>
            <p:nvPr/>
          </p:nvSpPr>
          <p:spPr>
            <a:xfrm>
              <a:off x="374616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71"/>
            <p:cNvSpPr/>
            <p:nvPr/>
          </p:nvSpPr>
          <p:spPr>
            <a:xfrm>
              <a:off x="4178160" y="423540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72"/>
            <p:cNvSpPr/>
            <p:nvPr/>
          </p:nvSpPr>
          <p:spPr>
            <a:xfrm>
              <a:off x="460980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5041800" y="4235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6337080" y="38037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75"/>
            <p:cNvSpPr/>
            <p:nvPr/>
          </p:nvSpPr>
          <p:spPr>
            <a:xfrm>
              <a:off x="37461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76"/>
            <p:cNvSpPr/>
            <p:nvPr/>
          </p:nvSpPr>
          <p:spPr>
            <a:xfrm>
              <a:off x="3314520" y="5099040"/>
              <a:ext cx="431640" cy="431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11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7"/>
            <p:cNvSpPr/>
            <p:nvPr/>
          </p:nvSpPr>
          <p:spPr>
            <a:xfrm>
              <a:off x="460980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78"/>
            <p:cNvSpPr/>
            <p:nvPr/>
          </p:nvSpPr>
          <p:spPr>
            <a:xfrm>
              <a:off x="4178160" y="466740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9"/>
            <p:cNvSpPr/>
            <p:nvPr/>
          </p:nvSpPr>
          <p:spPr>
            <a:xfrm>
              <a:off x="374616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0"/>
            <p:cNvSpPr/>
            <p:nvPr/>
          </p:nvSpPr>
          <p:spPr>
            <a:xfrm>
              <a:off x="331452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1"/>
            <p:cNvSpPr/>
            <p:nvPr/>
          </p:nvSpPr>
          <p:spPr>
            <a:xfrm>
              <a:off x="2882520" y="46674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2"/>
            <p:cNvSpPr/>
            <p:nvPr/>
          </p:nvSpPr>
          <p:spPr>
            <a:xfrm>
              <a:off x="590544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83"/>
            <p:cNvSpPr/>
            <p:nvPr/>
          </p:nvSpPr>
          <p:spPr>
            <a:xfrm>
              <a:off x="547344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4"/>
            <p:cNvSpPr/>
            <p:nvPr/>
          </p:nvSpPr>
          <p:spPr>
            <a:xfrm>
              <a:off x="504180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85"/>
            <p:cNvSpPr/>
            <p:nvPr/>
          </p:nvSpPr>
          <p:spPr>
            <a:xfrm>
              <a:off x="460980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86"/>
            <p:cNvSpPr/>
            <p:nvPr/>
          </p:nvSpPr>
          <p:spPr>
            <a:xfrm>
              <a:off x="4178160" y="5099040"/>
              <a:ext cx="431640" cy="431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7"/>
            <p:cNvSpPr/>
            <p:nvPr/>
          </p:nvSpPr>
          <p:spPr>
            <a:xfrm>
              <a:off x="633708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88"/>
            <p:cNvSpPr/>
            <p:nvPr/>
          </p:nvSpPr>
          <p:spPr>
            <a:xfrm>
              <a:off x="763272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89"/>
            <p:cNvSpPr/>
            <p:nvPr/>
          </p:nvSpPr>
          <p:spPr>
            <a:xfrm>
              <a:off x="676908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0"/>
            <p:cNvSpPr/>
            <p:nvPr/>
          </p:nvSpPr>
          <p:spPr>
            <a:xfrm>
              <a:off x="720072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91"/>
            <p:cNvSpPr/>
            <p:nvPr/>
          </p:nvSpPr>
          <p:spPr>
            <a:xfrm>
              <a:off x="80643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92"/>
            <p:cNvSpPr/>
            <p:nvPr/>
          </p:nvSpPr>
          <p:spPr>
            <a:xfrm>
              <a:off x="8496360" y="50990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1-02-24T17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