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0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E4FF-BCD1-4042-B4DA-D98D357C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BA95-EBEF-4DE1-875D-B1919F2C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B806-D79B-4588-8005-B96D49E7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3BAD-2559-4701-99BB-F015F58B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CC17-0D45-4448-8933-E40A93E2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CADB-06C8-456F-B00B-A58FAA00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DBFB-5066-41ED-B6B4-34CB2BD2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87E3-5045-4C43-8D67-77DC8EB5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6BE2-B49B-4F24-8167-7B28D1C6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B444-1D0E-4674-AF10-DC57CA71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405-2B23-4156-8ECB-25AF2633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F639-3DE6-48C6-8BC4-F6A18995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D65A-73DA-42AA-9E9D-A81072BEF5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85920" y="785880"/>
            <a:ext cx="6929280" cy="45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8e40"/>
                </a:solidFill>
                <a:latin typeface="Times New Roman"/>
                <a:ea typeface="Times New Roman"/>
              </a:rPr>
              <a:t>Лес и человек </a:t>
            </a:r>
            <a:br>
              <a:rPr sz="4800"/>
            </a:br>
            <a:r>
              <a:rPr b="1" lang="ru-RU" sz="2000" spc="-1" strike="noStrike">
                <a:solidFill>
                  <a:srgbClr val="008e40"/>
                </a:solidFill>
                <a:latin typeface="Times New Roman"/>
                <a:ea typeface="Times New Roman"/>
              </a:rPr>
              <a:t>Окружающий мир 4 класс </a:t>
            </a:r>
            <a:br>
              <a:rPr sz="4800"/>
            </a:br>
            <a:br>
              <a:rPr sz="8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вецова Нина Анатольевна </a:t>
            </a:r>
            <a:br>
              <a:rPr sz="8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атегори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Лицей имени Г.Ф.Атякшева»  </a:t>
            </a:r>
            <a:br>
              <a:rPr sz="8000"/>
            </a:b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2428920" y="564372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Югорск,  ХМАО-Ю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48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ое дерево является символом Росси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428840" y="1857240"/>
            <a:ext cx="6672240" cy="442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 дерев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ое, стройное, с желтовато-красноватой или бурой корой. Ветви только на вершине. Хвоинки длинные, расположены попарно. Шишки маленькие, округл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sosna3"/>
          <p:cNvPicPr/>
          <p:nvPr/>
        </p:nvPicPr>
        <p:blipFill>
          <a:blip r:embed="rId1"/>
          <a:stretch/>
        </p:blipFill>
        <p:spPr>
          <a:xfrm>
            <a:off x="4643280" y="692280"/>
            <a:ext cx="4032360" cy="503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животное умеет прыгать с дерева на дере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1643040" y="1643040"/>
            <a:ext cx="6381720" cy="47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4560" y="404640"/>
            <a:ext cx="7272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является санитаром лес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357200" y="1285920"/>
            <a:ext cx="6786720" cy="50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4920" y="26028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животное умеет не только прыгать, но и ле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504"/>
          <p:cNvPicPr/>
          <p:nvPr/>
        </p:nvPicPr>
        <p:blipFill>
          <a:blip r:embed="rId1"/>
          <a:stretch/>
        </p:blipFill>
        <p:spPr>
          <a:xfrm>
            <a:off x="1000080" y="1428840"/>
            <a:ext cx="6815160" cy="51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0" y="500040"/>
            <a:ext cx="9358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лодами, какого дерева являются жёлуди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4786200" y="2571840"/>
            <a:ext cx="3786480" cy="2840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285840" y="2571840"/>
            <a:ext cx="4257720" cy="28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447840" y="276120"/>
            <a:ext cx="808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знай хвойные деревья по веточкам и шишкам. Пронумеруй рису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0" y="141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Ель. 2. Сосна. 3. Кедровая сосна. 4. Пихта. 5. Листвен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шишка1"/>
          <p:cNvPicPr/>
          <p:nvPr/>
        </p:nvPicPr>
        <p:blipFill>
          <a:blip r:embed="rId1"/>
          <a:stretch/>
        </p:blipFill>
        <p:spPr>
          <a:xfrm>
            <a:off x="179280" y="2852640"/>
            <a:ext cx="1692360" cy="2838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шишка2"/>
          <p:cNvPicPr/>
          <p:nvPr/>
        </p:nvPicPr>
        <p:blipFill>
          <a:blip r:embed="rId2"/>
          <a:stretch/>
        </p:blipFill>
        <p:spPr>
          <a:xfrm>
            <a:off x="1979640" y="2851200"/>
            <a:ext cx="1682640" cy="2833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шишка3"/>
          <p:cNvPicPr/>
          <p:nvPr/>
        </p:nvPicPr>
        <p:blipFill>
          <a:blip r:embed="rId3"/>
          <a:stretch/>
        </p:blipFill>
        <p:spPr>
          <a:xfrm>
            <a:off x="3780000" y="2851200"/>
            <a:ext cx="1682640" cy="2833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шишка4"/>
          <p:cNvPicPr/>
          <p:nvPr/>
        </p:nvPicPr>
        <p:blipFill>
          <a:blip r:embed="rId4"/>
          <a:stretch/>
        </p:blipFill>
        <p:spPr>
          <a:xfrm>
            <a:off x="5580000" y="2851200"/>
            <a:ext cx="1666800" cy="2833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шишка5"/>
          <p:cNvPicPr/>
          <p:nvPr/>
        </p:nvPicPr>
        <p:blipFill>
          <a:blip r:embed="rId5"/>
          <a:stretch/>
        </p:blipFill>
        <p:spPr>
          <a:xfrm>
            <a:off x="7367760" y="2852640"/>
            <a:ext cx="1668240" cy="283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000"/>
                            </p:stCondLst>
                            <p:childTnLst>
                              <p:par>
                                <p:cTn id="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58760" y="276120"/>
            <a:ext cx="87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знай лиственные деревья по листьям и плодам. Пронумеруй рису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58760" y="1770120"/>
            <a:ext cx="87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Дуб. 2. Клён. 3. Липа. 4. Ясень. 5. Вя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лист1"/>
          <p:cNvPicPr/>
          <p:nvPr/>
        </p:nvPicPr>
        <p:blipFill>
          <a:blip r:embed="rId1"/>
          <a:stretch/>
        </p:blipFill>
        <p:spPr>
          <a:xfrm>
            <a:off x="73080" y="2924280"/>
            <a:ext cx="1762200" cy="233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лист2"/>
          <p:cNvPicPr/>
          <p:nvPr/>
        </p:nvPicPr>
        <p:blipFill>
          <a:blip r:embed="rId2"/>
          <a:stretch/>
        </p:blipFill>
        <p:spPr>
          <a:xfrm>
            <a:off x="1908000" y="2921040"/>
            <a:ext cx="1694160" cy="2333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лист3"/>
          <p:cNvPicPr/>
          <p:nvPr/>
        </p:nvPicPr>
        <p:blipFill>
          <a:blip r:embed="rId3"/>
          <a:stretch/>
        </p:blipFill>
        <p:spPr>
          <a:xfrm>
            <a:off x="3664080" y="2921040"/>
            <a:ext cx="1628640" cy="2333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лист4"/>
          <p:cNvPicPr/>
          <p:nvPr/>
        </p:nvPicPr>
        <p:blipFill>
          <a:blip r:embed="rId4"/>
          <a:stretch/>
        </p:blipFill>
        <p:spPr>
          <a:xfrm>
            <a:off x="5364000" y="2921040"/>
            <a:ext cx="1762200" cy="2333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лист5"/>
          <p:cNvPicPr/>
          <p:nvPr/>
        </p:nvPicPr>
        <p:blipFill>
          <a:blip r:embed="rId5"/>
          <a:stretch/>
        </p:blipFill>
        <p:spPr>
          <a:xfrm>
            <a:off x="7236000" y="2924280"/>
            <a:ext cx="1728720" cy="23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6"/>
          <p:cNvSpPr/>
          <p:nvPr/>
        </p:nvSpPr>
        <p:spPr>
          <a:xfrm>
            <a:off x="0" y="2286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гадай загадки и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згадаешь кроссвор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Кроссворд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57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"/>
          <p:cNvSpPr/>
          <p:nvPr/>
        </p:nvSpPr>
        <p:spPr>
          <a:xfrm>
            <a:off x="866160" y="1785960"/>
            <a:ext cx="770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с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родная зона лесо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03120" y="928800"/>
            <a:ext cx="8840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Русская красавица, стоит на поляне, в зеленой кофточке, в белом сарафан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 большой цветной ковёр села эскадрилья, то откроет, то закроет расписные крыль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У меня ходули – не страшны болота, лягушат найду ли – вот моя забо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Есть в реке работни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 столяры, не плотники, а выстроят плотину – хоть пиши карти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Листья падают с осин,  мчится в небе острый кл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57120" y="571680"/>
            <a:ext cx="8301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 шесте весёлый дом, с круглым маленьким окном, чтоб уснули дети, дом качает ветер, на крыльце поёт отец - он и лётчик, и певец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Поранил ты в походе ногу, усталость не даёт идти, нагнис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лдатик у дороги готов помочь тебе в пу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 С ветки на тропинку, с травки на былинку, прыгает пружинка - зеленая спи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 Белым шариком пушистым я красуюсь в поле чистом. Дунул легкий ветерок – и остался стебелё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 Брат собаки этот серый, а разбойник самый пер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58760" y="131760"/>
            <a:ext cx="898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89488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5"/>
          <p:cNvSpPr/>
          <p:nvPr/>
        </p:nvSpPr>
        <p:spPr>
          <a:xfrm>
            <a:off x="0" y="28584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 Природная зона лесов состоит из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1071720" y="2357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яти частей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вух частей;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рех частей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68544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Самую большую территорию занимаю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2590560"/>
            <a:ext cx="82580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мешанные лес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войные лес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ироколиственные лес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В тайге расту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804888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676080" indent="-676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ихты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ли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ственницы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6080" indent="-676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убы, сосны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л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6080" indent="-676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резы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пы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ственн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В Красную книгу занесены следующие животные лесной пол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3643200"/>
            <a:ext cx="9144000" cy="29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вцебык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рж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зовая чайк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аснозобая казарка;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ечет;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ерх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ист;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рж;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юлень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.Охрана лесо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о…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7120" y="2590560"/>
            <a:ext cx="8786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639000" indent="-63900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язанность государств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39000" indent="-63900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язанность государства и долг каждого гражданин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39000" indent="-63900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бота самих обитателей лес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лиц – турнир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 знаю ле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1680" y="428760"/>
            <a:ext cx="6922800" cy="96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ой лес мы называем тайго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428920" y="1785960"/>
            <a:ext cx="4786200" cy="471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0:06:00Z</dcterms:created>
  <dc:creator>class11</dc:creator>
  <dc:description/>
  <dc:language>en-US</dc:language>
  <cp:lastModifiedBy>Олег</cp:lastModifiedBy>
  <dcterms:modified xsi:type="dcterms:W3CDTF">2011-11-17T17:19:37Z</dcterms:modified>
  <cp:revision>112</cp:revision>
  <dc:subject/>
  <dc:title>ЛЕС И ЧЕЛОВЕК</dc:title>
</cp:coreProperties>
</file>