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E13-85A8-4670-BA9F-03399B88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B9B-B296-4F5A-AD63-578A57D7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A98-9CC6-45A7-B2D7-F1940CD9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B9E-92F9-42F1-856B-E54C7BAD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AC56-6BE5-4F9E-9B4A-986BE498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D5BC-CF01-40C6-81E3-23EB6D34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9484-C27E-4B71-A482-7B3C739F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F5DA-2992-40BB-8898-85F882F7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84E5-0EB5-411F-8178-A6B08360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BFC9-76FC-43CA-A70D-3E3CB218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9A92-D345-4B87-A703-23B708B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FFA-0495-456B-B3C9-3657AD73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309A-8CFB-459A-9FBC-43C132F8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4658-216B-4BB1-A8D5-578B68AC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30EE-E37E-434D-8849-DD660488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0E4D-8F7B-49D8-97F1-D1CFC4CF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118B-CFEA-4970-B980-63A7F9F7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D6B-7EC8-4619-AC76-EE066E8D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7D1-A878-474B-ACC6-96BAC586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45C-FDA9-482C-A00F-DC363CE9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1C3-34B6-4C08-8E68-CD37E431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B08-341C-4411-9314-D935BBA9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DC2-8B19-4448-B408-01A8C22C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2A7-0234-4830-B3A5-0359175A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B81E-BF88-44B6-A0A2-A2895596A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F6DF-4AB4-4C6E-939E-68121325F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нутренние устройства П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исковод и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D-RO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транспортировки данных между удаленным компьютерами используются гибкие диски (дискеты) и компакт-диск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D-RO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записи и чтения данных, размещенных на дискетах, служит дисковод. Для чтения компакт дисков служат дисководы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D-RO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оммуникационных порт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связи с другими устройствами (принтером, сканером, клавиатурой, мышью …) компьютер оснащается портами. Порт – это сложное устройство, имеющее свои микросхем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римеры портов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COM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(последовательный порт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LTP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(параллельный порт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USB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(последовательный с высокой производительностью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S/2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(универсальный для подключения мыши и клавиатуры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нутренние устройства П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нутренними считаются устройства, располагающиеся в системном бло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460872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атеринская пла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теринская плата – самая большая плата ПК. На ней располагаются магистрали, связывающие процессор с оперативной памятью, - так называемые шины. К шинам материнской платы подключаются также все прочие внутренние устройства компьютера. Управляет работой материнской платы микропроцессорный набор микросхем – так называемый чипс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цессо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кропроцессор – основная микросхема ПК. Все вычисления выполняются в ней. Основная характеристика процессора – тактовая частота. Чем выше тактовая частота, тем выше производительность компьюте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перативна память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ивная память (ОЗУ), предназначена для хранения информации, изготавливается в виде модулей памя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ивную память можно представить как обширный массив ячеек, в которых хранятся данные и команды в то время, когда компьютер включен.Процессор может обратится к любой ячейки памяти. Важнейшей характеристикой модулей памяти является быстродейств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Жесткий дис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002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я длительного хранения данных и программ широко применяются жесткие диски (винчестеры). Выключение питания компьютера не приводит к очистке внешней памяти. Жесткий диск – это не один диск, а пакет (набор) дисков с магнитным покрытием, вращающихся на общей оси. Основным параметром является емкость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змеряемая в гигабай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деоадапте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Видеоадаптер – внутренне устройство, устанавливается в один из разъемов материнской платы, и служит для обработки информации, поступающей от процессора или из ОЗУ на монитор, а также для выработки управляющих сигналов. Современные видеоадаптеры имеют собственный вычислительный процессор (видеопроцессор), который снижает нагрузку на основной процессор при построении сложных изображ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вуковой адапте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удно представить современный компьютер молчаливым, без возможности услышать сигналы, музыку, речь. Так как наша речь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и музыка) достаточна, сложна и это приводит к большой загрузке процессора во время её вывода, то появилась необходимость в разгрузке звукового ввода и вывода. Для этого и служит звуковая карта. Вместе со звуковой картой обычно используются специальные звуковые колонки или реже наушн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етевая кар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тевая карта (или карта связи по локальной сети) служит для связи компьютеров в пределах одного предприятия, отдела или помещения находящихся на расстоянии не более 150 метров друг от друг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ым параметром сетевой карты является скорость передачи информации и измеряется она в мегабайтах в секунду. Типовая норма от 10  до 100 мегабайт в секун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23:34:53Z</dcterms:created>
  <dc:creator>eMachines</dc:creator>
  <dc:description/>
  <dc:language>en-US</dc:language>
  <cp:lastModifiedBy>eMachines</cp:lastModifiedBy>
  <dcterms:modified xsi:type="dcterms:W3CDTF">2011-09-20T23:35:29Z</dcterms:modified>
  <cp:revision>1</cp:revision>
  <dc:subject/>
  <dc:title>Внутренние устройства П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020000000000010250300207f7000400038000</vt:lpwstr>
  </property>
</Properties>
</file>