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5A5-233C-49B9-BE22-F1055771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69F-1F0E-4F88-88CC-71309506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262-F909-4B20-99F6-AC021B17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890-9F0E-4A96-B6A6-7D8DA4FF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471E-1363-4DD6-9CAC-91BDD485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C67D-9A35-4F63-ACA8-50EEB0B7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D722-13FC-4D7E-9FE1-EFBF11EE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F03C-0794-42D8-BEFE-8D34F9CD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3271-B3F5-45CE-A439-B301283F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DC12-DB30-411A-A6E3-AFE9AEB9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BACB-77E5-4576-AB38-8B4BDED0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4D5-2B90-4277-B322-B1CB0ADF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A55D-1891-463A-ADBC-C79CB5BA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487C-4F44-4DF4-867A-9BAD5BDF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2C76-23F1-428A-8A2C-F680C8D0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1D5C-FA1D-4FFB-BB4C-9B3FBBDD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9A97-8447-4831-AEA5-EB749A4E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24A-135F-450F-8780-27FD2DD9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40B-F29F-44CF-9AFB-64CDFC30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588-70F6-4552-A825-6D2BCC47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C4F-F089-4EE5-A25A-F47BE673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34C-9610-4E94-9269-0BD96C0A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4B9-959F-4482-9B0B-5A067B3F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611-27F1-4F92-B223-4BDCC48D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3965-9A23-4E7C-A732-4DDE8F273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A256-98CB-4D23-ABAB-FCB701735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нутренние устройства П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исковод и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D-RO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транспортировки данных между удаленным компьютерами используются гибкие диски (дискеты) и компакт-диск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D-RO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записи и чтения данных, размещенных на дискетах, служит дисковод. Для чтения компакт дисков служат дисководы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D-RO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оммуникационных порты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связи с другими устройствами (принтером, сканером, клавиатурой, мышью …) компьютер оснащается портами. Порт – это сложное устройство, имеющее свои микросхем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римеры портов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COM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(последовательный порт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LTP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(параллельный порт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USB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(последовательный с высокой производительностью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S/2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(универсальный для подключения мыши и клавиатуры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нутренние устройства П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нутренними считаются устройства, располагающиеся в системном бло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460872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атеринская пла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теринская плата – самая большая плата ПК. На ней располагаются магистрали, связывающие процессор с оперативной памятью, - так называемые шины. К шинам материнской платы подключаются также все прочие внутренние устройства компьютера. Управляет работой материнской платы микропроцессорный набор микросхем – так называемый чипс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цессо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кропроцессор – основная микросхема ПК. Все вычисления выполняются в ней. Основная характеристика процессора – тактовая частота. Чем выше тактовая частота, тем выше производительность компьюте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перативна память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ивная память (ОЗУ), предназначена для хранения информации, изготавливается в виде модулей памя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ивную память можно представить как обширный массив ячеек, в которых хранятся данные и команды в то время, когда компьютер включен.Процессор может обратится к любой ячейки памяти. Важнейшей характеристикой модулей памяти является быстродейств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Жесткий дис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002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я длительного хранения данных и программ широко применяются жесткие диски (винчестеры). Выключение питания компьютера не приводит к очистке внешней памяти. Жесткий диск – это не один диск, а пакет (набор) дисков с магнитным покрытием, вращающихся на общей оси. Основным параметром является емкость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змеряемая в гигабай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деоадапте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Видеоадаптер – внутренне устройство, устанавливается в один из разъемов материнской платы, и служит для обработки информации, поступающей от процессора или из ОЗУ на монитор, а также для выработки управляющих сигналов. Современные видеоадаптеры имеют собственный вычислительный процессор (видеопроцессор), который снижает нагрузку на основной процессор при построении сложных изображ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вуковой адапте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удно представить современный компьютер молчаливым, без возможности услышать сигналы, музыку, речь. Так как наша речь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и музыка) достаточна, сложна и это приводит к большой загрузке процессора во время её вывода, то появилась необходимость в разгрузке звукового ввода и вывода. Для этого и служит звуковая карта. Вместе со звуковой картой обычно используются специальные звуковые колонки или реже наушн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етевая кар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тевая карта (или карта связи по локальной сети) служит для связи компьютеров в пределах одного предприятия, отдела или помещения находящихся на расстоянии не более 150 метров друг от друг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ым параметром сетевой карты является скорость передачи информации и измеряется она в мегабайтах в секунду. Типовая норма от 10  до 100 мегабайт в секун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23:34:53Z</dcterms:created>
  <dc:creator>eMachines</dc:creator>
  <dc:description/>
  <dc:language>en-US</dc:language>
  <cp:lastModifiedBy>eMachines</cp:lastModifiedBy>
  <dcterms:modified xsi:type="dcterms:W3CDTF">2011-09-20T23:35:29Z</dcterms:modified>
  <cp:revision>1</cp:revision>
  <dc:subject/>
  <dc:title>Внутренние устройства П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020000000000010250300207f7000400038000</vt:lpwstr>
  </property>
</Properties>
</file>