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4.wmf" ContentType="image/x-wmf"/>
  <Override PartName="/ppt/media/image22.wmf" ContentType="image/x-wmf"/>
  <Override PartName="/ppt/media/image20.jpeg" ContentType="image/jpeg"/>
  <Override PartName="/ppt/media/image21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.png" ContentType="image/png"/>
  <Override PartName="/ppt/media/image12.wmf" ContentType="image/x-wmf"/>
  <Override PartName="/ppt/media/image10.wmf" ContentType="image/x-wmf"/>
  <Override PartName="/ppt/media/image31.jpeg" ContentType="image/jpeg"/>
  <Override PartName="/ppt/media/image25.jpeg" ContentType="image/jpeg"/>
  <Override PartName="/ppt/media/image2.png" ContentType="image/png"/>
  <Override PartName="/ppt/media/image7.jpeg" ContentType="image/jpeg"/>
  <Override PartName="/ppt/media/image34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wmf" ContentType="image/x-wmf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28.jpeg" ContentType="image/jpeg"/>
  <Override PartName="/ppt/media/image23.wmf" ContentType="image/x-wmf"/>
  <Override PartName="/ppt/media/image18.wmf" ContentType="image/x-wmf"/>
  <Override PartName="/ppt/media/image36.jpeg" ContentType="image/jpeg"/>
  <Override PartName="/ppt/media/image9.wmf" ContentType="image/x-wmf"/>
  <Override PartName="/ppt/media/image13.jpeg" ContentType="image/jpeg"/>
  <Override PartName="/ppt/media/image3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B79-6463-427D-BBAA-50A47FCC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787D-A9A2-481D-82B8-38C066D6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BD6-03AE-4723-B807-2060B4E2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D3ED-907C-4311-AF22-969462C1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0094-C1E5-4F99-B429-B654B21B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6A52-D8CE-481B-9576-965B7BB2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475D-2515-4CE7-99F1-EF328AF6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A059-0B92-4B90-89DB-2DED4885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7DF-FD44-4A0C-8CDD-6ABA83B2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7B92-C133-4FF3-82A2-41538B9F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8E9-C74D-4EF4-8AE2-C371F2BB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A13-EF05-4AAF-86F9-221BD247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CB3C-E2D6-4DE2-9F75-7389500EFF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1/1a/KKosaEfa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2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258920" y="692280"/>
            <a:ext cx="7200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рок - конференция</a:t>
            </a:r>
            <a:endParaRPr b="0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Человек как житель</a:t>
            </a:r>
            <a:endParaRPr b="0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иосферы"</a:t>
            </a:r>
            <a:endParaRPr b="0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324000" y="260280"/>
            <a:ext cx="842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ст народонаселения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79" name="Object 6"/>
          <p:cNvGraphicFramePr/>
          <p:nvPr/>
        </p:nvGraphicFramePr>
        <p:xfrm>
          <a:off x="0" y="1395360"/>
          <a:ext cx="914400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95360"/>
                    <a:ext cx="9144000" cy="5462640"/>
                  </a:xfrm>
                  <a:prstGeom prst="rect">
                    <a:avLst/>
                  </a:prstGeom>
                  <a:ln w="28440">
                    <a:solidFill>
                      <a:srgbClr val="00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Вид Черняховска сверху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971640" y="476280"/>
            <a:ext cx="770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менение состава атмосфе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j0149887"/>
          <p:cNvPicPr/>
          <p:nvPr/>
        </p:nvPicPr>
        <p:blipFill>
          <a:blip r:embed="rId1"/>
          <a:stretch/>
        </p:blipFill>
        <p:spPr>
          <a:xfrm>
            <a:off x="2627280" y="404640"/>
            <a:ext cx="3382920" cy="3216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j0187423"/>
          <p:cNvPicPr/>
          <p:nvPr/>
        </p:nvPicPr>
        <p:blipFill>
          <a:blip r:embed="rId2"/>
          <a:stretch/>
        </p:blipFill>
        <p:spPr>
          <a:xfrm>
            <a:off x="6048360" y="0"/>
            <a:ext cx="3095640" cy="3411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j0195812"/>
          <p:cNvPicPr/>
          <p:nvPr/>
        </p:nvPicPr>
        <p:blipFill>
          <a:blip r:embed="rId3"/>
          <a:stretch/>
        </p:blipFill>
        <p:spPr>
          <a:xfrm>
            <a:off x="0" y="333360"/>
            <a:ext cx="2241720" cy="3191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j0285360"/>
          <p:cNvPicPr/>
          <p:nvPr/>
        </p:nvPicPr>
        <p:blipFill>
          <a:blip r:embed="rId4"/>
          <a:stretch/>
        </p:blipFill>
        <p:spPr>
          <a:xfrm>
            <a:off x="826920" y="4076640"/>
            <a:ext cx="2592720" cy="2421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j0297185"/>
          <p:cNvPicPr/>
          <p:nvPr/>
        </p:nvPicPr>
        <p:blipFill>
          <a:blip r:embed="rId5"/>
          <a:stretch/>
        </p:blipFill>
        <p:spPr>
          <a:xfrm>
            <a:off x="4500720" y="3789360"/>
            <a:ext cx="464328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загрязнители атм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835520"/>
                <a:gridCol w="339408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fr-FR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арн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с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fr-FR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        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fr-FR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аз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       NO</a:t>
                      </a:r>
                      <a:r>
                        <a:rPr b="0" lang="fr-FR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торхлоруглеводород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оксины (фреон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ыль, дым и др. примес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ение энергетической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мос рак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32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826920" y="549360"/>
            <a:ext cx="7848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шение энергетическо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блем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язный 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42-1024"/>
          <p:cNvPicPr/>
          <p:nvPr/>
        </p:nvPicPr>
        <p:blipFill>
          <a:blip r:embed="rId1"/>
          <a:stretch/>
        </p:blipFill>
        <p:spPr>
          <a:xfrm>
            <a:off x="-181080" y="0"/>
            <a:ext cx="9753840" cy="7029360"/>
          </a:xfrm>
          <a:prstGeom prst="rect">
            <a:avLst/>
          </a:prstGeom>
          <a:ln w="0">
            <a:noFill/>
          </a:ln>
        </p:spPr>
      </p:pic>
      <p:sp>
        <p:nvSpPr>
          <p:cNvPr id="104" name="WordArt 7"/>
          <p:cNvSpPr txBox="1"/>
          <p:nvPr/>
        </p:nvSpPr>
        <p:spPr>
          <a:xfrm rot="21303000">
            <a:off x="317160" y="376200"/>
            <a:ext cx="882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блемы загрязнения твердыми отход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кращение биологического разнообраз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0" y="2790720"/>
          <a:ext cx="57592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90720"/>
                    <a:ext cx="57592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Picture 5" descr="j0332364"/>
          <p:cNvPicPr/>
          <p:nvPr/>
        </p:nvPicPr>
        <p:blipFill>
          <a:blip r:embed="rId3"/>
          <a:stretch/>
        </p:blipFill>
        <p:spPr>
          <a:xfrm>
            <a:off x="6300720" y="1413000"/>
            <a:ext cx="1830600" cy="147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j0304933"/>
          <p:cNvPicPr/>
          <p:nvPr/>
        </p:nvPicPr>
        <p:blipFill>
          <a:blip r:embed="rId4"/>
          <a:stretch/>
        </p:blipFill>
        <p:spPr>
          <a:xfrm>
            <a:off x="468360" y="1125360"/>
            <a:ext cx="1819080" cy="1668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Копия 048"/>
          <p:cNvPicPr/>
          <p:nvPr/>
        </p:nvPicPr>
        <p:blipFill>
          <a:blip r:embed="rId5"/>
          <a:stretch/>
        </p:blipFill>
        <p:spPr>
          <a:xfrm>
            <a:off x="5867280" y="3213000"/>
            <a:ext cx="29624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чезли в Калининградск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видов редких позвоноч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ухар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бьиный сыч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зоворо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хлатый жавороно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олобый сорокопу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я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ая но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Изображение:KKosaEf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71280"/>
            <a:ext cx="9144000" cy="71006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хранение биологического разнообр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24000" y="1484280"/>
            <a:ext cx="88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азники Калининградской обла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мен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йско-Краснополя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осел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ве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штинец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омов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ю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циональный парк – Куршская к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место и роль человека как жителя биосферы в эволюции и сохранении био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ледить историю взаимоотношений человека и био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ся с основными экологическими пробле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знать роль знаний биологии, экологии в решении глобальных проблем соврем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bear"/>
          <p:cNvPicPr/>
          <p:nvPr/>
        </p:nvPicPr>
        <p:blipFill>
          <a:blip r:embed="rId1"/>
          <a:stretch/>
        </p:blipFill>
        <p:spPr>
          <a:xfrm>
            <a:off x="0" y="1413000"/>
            <a:ext cx="4884840" cy="468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sobolsm"/>
          <p:cNvPicPr/>
          <p:nvPr/>
        </p:nvPicPr>
        <p:blipFill>
          <a:blip r:embed="rId2"/>
          <a:stretch/>
        </p:blipFill>
        <p:spPr>
          <a:xfrm>
            <a:off x="4859280" y="1413000"/>
            <a:ext cx="4284720" cy="4680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7"/>
          <p:cNvSpPr txBox="1"/>
          <p:nvPr/>
        </p:nvSpPr>
        <p:spPr>
          <a:xfrm>
            <a:off x="684360" y="404640"/>
            <a:ext cx="792000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дкие виды живот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gagarsm"/>
          <p:cNvPicPr/>
          <p:nvPr/>
        </p:nvPicPr>
        <p:blipFill>
          <a:blip r:embed="rId2"/>
          <a:stretch/>
        </p:blipFill>
        <p:spPr>
          <a:xfrm>
            <a:off x="3857760" y="1916280"/>
            <a:ext cx="2009520" cy="1993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gussm"/>
          <p:cNvPicPr/>
          <p:nvPr/>
        </p:nvPicPr>
        <p:blipFill>
          <a:blip r:embed="rId3"/>
          <a:stretch/>
        </p:blipFill>
        <p:spPr>
          <a:xfrm>
            <a:off x="6443640" y="1700280"/>
            <a:ext cx="2089080" cy="3241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kazarsm"/>
          <p:cNvPicPr/>
          <p:nvPr/>
        </p:nvPicPr>
        <p:blipFill>
          <a:blip r:embed="rId4"/>
          <a:stretch/>
        </p:blipFill>
        <p:spPr>
          <a:xfrm>
            <a:off x="755640" y="1773360"/>
            <a:ext cx="2448000" cy="331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sovasm"/>
          <p:cNvPicPr/>
          <p:nvPr/>
        </p:nvPicPr>
        <p:blipFill>
          <a:blip r:embed="rId5"/>
          <a:stretch/>
        </p:blipFill>
        <p:spPr>
          <a:xfrm>
            <a:off x="3492360" y="450864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129" name="WordArt 8"/>
          <p:cNvSpPr txBox="1"/>
          <p:nvPr/>
        </p:nvSpPr>
        <p:spPr>
          <a:xfrm>
            <a:off x="468360" y="476280"/>
            <a:ext cx="8207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>
                    <a:alpha val="68000"/>
                  </a:srgbClr>
                </a:solidFill>
                <a:latin typeface="Arial"/>
              </a:rPr>
              <a:t>Редкие виды пти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>
                  <a:alpha val="68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4THSUN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2340000" y="3213000"/>
            <a:ext cx="7128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 связано со вс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 должно куда-то деват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знает лучш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 все надо плат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1187280" y="189000"/>
            <a:ext cx="7129800" cy="19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сновные законы эколог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20040712_a2000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HPIM0995"/>
          <p:cNvPicPr/>
          <p:nvPr/>
        </p:nvPicPr>
        <p:blipFill>
          <a:blip r:embed="rId1"/>
          <a:stretch/>
        </p:blipFill>
        <p:spPr>
          <a:xfrm>
            <a:off x="-10261440" y="-1395360"/>
            <a:ext cx="21640680" cy="101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250920" y="1600200"/>
            <a:ext cx="8435880" cy="30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стовые зад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ружочках, которые соответствуют правильному ответу, поставьте знак +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не относят к экологическим проблемам глобального характ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ительство го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язнение атмосферы и водое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ушение азонового слоя Зем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заповедников, заказников, национальных па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проблемы обеспечивают устойчивое развитие биосфе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твращение загрязнения окружающе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хранение видового разнообр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новых видов в эко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щение численности хищников в эко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является основной задачей рационального управления природными ресурс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ительство го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ождение оптимальных способов эксплуатации естественных и искусственных эко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нсификация хозяйственной деятельности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объемов добычи полезных ископае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cc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не относят к экологическим проблемам глобального характе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ительство го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рязнение атмосферы и водое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ушение азонового слоя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заповедников, заказников, национальных пар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 проблемы обеспечивают устойчивое развитие биосфе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отвращение загрязнения окружающе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ение видового разнооб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дрение новых видов в эко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кращение численности хищников в эко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является основной задачей рационального управления природными ресурс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ительство г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ждение оптимальных способов эксплуатации естественных и искусственных эко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нсификация хозяйственной деятельност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ие объемов добычи полезных ископае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 изучения материал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И. Вернадский о роли человека в биосф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ль человека в биосфере на начальном этапе его стано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воздействия человеческого общества на природу и его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 глобального характера и способы их преода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ятие «обратная связь» как прием для характеристики устойчивости эко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tudent3"/>
          <p:cNvPicPr/>
          <p:nvPr/>
        </p:nvPicPr>
        <p:blipFill>
          <a:blip r:embed="rId2"/>
          <a:stretch/>
        </p:blipFill>
        <p:spPr>
          <a:xfrm>
            <a:off x="0" y="0"/>
            <a:ext cx="1628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дущие специалисты из разных областей биологической нау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: Кунн Ольга, Юрчик Светлана, Антипина Анастасия, Мушкарев Дмитр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: Бойко Сергей, Волык Серг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: Ромейко Е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граф: Астапов Алек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трофизик: Коробкин Серг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ты: Ядренцева Анастасия, Костенко Станисл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heer03"/>
          <p:cNvPicPr/>
          <p:nvPr/>
        </p:nvPicPr>
        <p:blipFill>
          <a:blip r:embed="rId1"/>
          <a:stretch/>
        </p:blipFill>
        <p:spPr>
          <a:xfrm>
            <a:off x="0" y="0"/>
            <a:ext cx="1989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08000" y="27432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И. Вернадский о роли человека в биосф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ческий разум и организованная им деятельность меняют ход природных процессов в такой степени, как меняют их другие известные нам проявления энергии, но меняют по – новом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л биогеохимическую роль человека в биосфере как особую функцию живого, «новую геологическую силу, которой никогда еще не существовало на нашей планете в таком размер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36-1"/>
          <p:cNvPicPr/>
          <p:nvPr/>
        </p:nvPicPr>
        <p:blipFill>
          <a:blip r:embed="rId1"/>
          <a:stretch/>
        </p:blipFill>
        <p:spPr>
          <a:xfrm>
            <a:off x="0" y="0"/>
            <a:ext cx="3348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324000" y="333360"/>
            <a:ext cx="8569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чальный этап становл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еловека в биосфер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" name="Picture 5" descr="История11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4360" y="1700280"/>
            <a:ext cx="2663640" cy="43210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59" name="Picture 6" descr="История18"/>
          <p:cNvPicPr/>
          <p:nvPr/>
        </p:nvPicPr>
        <p:blipFill>
          <a:blip r:embed="rId2">
            <a:lum bright="12000"/>
          </a:blip>
          <a:srcRect l="4509" t="7917" r="51795" b="52582"/>
          <a:stretch/>
        </p:blipFill>
        <p:spPr>
          <a:xfrm>
            <a:off x="3419640" y="1700280"/>
            <a:ext cx="5292720" cy="43210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Рисунок2"/>
          <p:cNvPicPr/>
          <p:nvPr/>
        </p:nvPicPr>
        <p:blipFill>
          <a:blip r:embed="rId2"/>
          <a:stretch/>
        </p:blipFill>
        <p:spPr>
          <a:xfrm>
            <a:off x="0" y="0"/>
            <a:ext cx="4033800" cy="3713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Рисунок3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3645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Рисунок4"/>
          <p:cNvPicPr/>
          <p:nvPr/>
        </p:nvPicPr>
        <p:blipFill>
          <a:blip r:embed="rId4"/>
          <a:stretch/>
        </p:blipFill>
        <p:spPr>
          <a:xfrm>
            <a:off x="2627280" y="3645000"/>
            <a:ext cx="3960720" cy="3213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7093080" y="4005360"/>
            <a:ext cx="863640" cy="1871640"/>
          </a:xfrm>
          <a:custGeom>
            <a:avLst/>
            <a:gdLst>
              <a:gd name="textAreaLeft" fmla="*/ 115560 w 863640"/>
              <a:gd name="textAreaRight" fmla="*/ 748080 w 863640"/>
              <a:gd name="textAreaTop" fmla="*/ 327600 h 1871640"/>
              <a:gd name="textAreaBottom" fmla="*/ 13572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 rot="14109600">
            <a:off x="394920" y="4221000"/>
            <a:ext cx="1954080" cy="1112760"/>
          </a:xfrm>
          <a:custGeom>
            <a:avLst/>
            <a:gdLst>
              <a:gd name="textAreaLeft" fmla="*/ 380880 w 1954080"/>
              <a:gd name="textAreaRight" fmla="*/ 1377720 w 1954080"/>
              <a:gd name="textAreaTop" fmla="*/ 149040 h 1112760"/>
              <a:gd name="textAreaBottom" fmla="*/ 963720 h 1112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20" hR="21600" stAng="10800000" swAng="5400000"/>
                <a:lnTo>
                  <a:pt x="11020" y="0"/>
                </a:lnTo>
                <a:arcTo wR="8420" hR="21600" stAng="-5400000" swAng="2867560"/>
                <a:lnTo>
                  <a:pt x="21118" y="14400"/>
                </a:lnTo>
                <a:lnTo>
                  <a:pt x="18140" y="21600"/>
                </a:lnTo>
                <a:lnTo>
                  <a:pt x="14198" y="14400"/>
                </a:lnTo>
                <a:lnTo>
                  <a:pt x="16358" y="14400"/>
                </a:lnTo>
                <a:arcTo wR="8420" hR="21600" stAng="-2532440" swAng="-2658406"/>
                <a:lnTo>
                  <a:pt x="9720" y="259"/>
                </a:lnTo>
                <a:arcTo wR="8420" hR="21600" stAng="-5609154" swAng="-5190846"/>
                <a:close/>
              </a:path>
              <a:path fill="darkenLess" w="21600" h="21600">
                <a:moveTo>
                  <a:pt x="0" y="21600"/>
                </a:moveTo>
                <a:arcTo wR="8420" hR="21600" stAng="10800000" swAng="5400000"/>
                <a:lnTo>
                  <a:pt x="8420" y="0"/>
                </a:lnTo>
                <a:arcTo wR="8420" hR="21600" stAng="-5400000" swAng="209154"/>
                <a:lnTo>
                  <a:pt x="9720" y="259"/>
                </a:lnTo>
                <a:arcTo wR="8420" hR="21600" stAng="-5609154" swAng="-519084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4067280" y="2133720"/>
            <a:ext cx="1008000" cy="503280"/>
          </a:xfrm>
          <a:prstGeom prst="leftRightArrow">
            <a:avLst>
              <a:gd name="adj1" fmla="val 50000"/>
              <a:gd name="adj2" fmla="val 398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0755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4540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6"/>
          <p:cNvSpPr txBox="1"/>
          <p:nvPr/>
        </p:nvSpPr>
        <p:spPr>
          <a:xfrm>
            <a:off x="539640" y="189000"/>
            <a:ext cx="784872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озрастающая роль человека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биосфере и ее сущ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сре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изменение состава атм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парниковый эфф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истощение азонового сл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закисление природных с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щение природных ресур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истощение природных ископа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деградация растительного покрова (вырубка   лес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 обеднение видового разнооб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395280" y="189000"/>
            <a:ext cx="8505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логические проблемы современности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лобального характера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Picture 5" descr="Рисунок3"/>
          <p:cNvPicPr/>
          <p:nvPr/>
        </p:nvPicPr>
        <p:blipFill>
          <a:blip r:embed="rId1"/>
          <a:stretch/>
        </p:blipFill>
        <p:spPr>
          <a:xfrm>
            <a:off x="6227640" y="1413000"/>
            <a:ext cx="2665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2:04:51Z</dcterms:created>
  <dc:creator>User</dc:creator>
  <dc:description/>
  <dc:language>en-US</dc:language>
  <cp:lastModifiedBy>Коля</cp:lastModifiedBy>
  <dcterms:modified xsi:type="dcterms:W3CDTF">2013-03-22T14:58:40Z</dcterms:modified>
  <cp:revision>14</cp:revision>
  <dc:subject/>
  <dc:title>Слайд 1</dc:title>
</cp:coreProperties>
</file>