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.png" ContentType="image/png"/>
  <Override PartName="/ppt/media/image12.wmf" ContentType="image/x-wmf"/>
  <Override PartName="/ppt/media/image10.wmf" ContentType="image/x-wmf"/>
  <Override PartName="/ppt/media/image31.jpeg" ContentType="image/jpeg"/>
  <Override PartName="/ppt/media/image25.jpeg" ContentType="image/jpeg"/>
  <Override PartName="/ppt/media/image2.png" ContentType="image/png"/>
  <Override PartName="/ppt/media/image7.jpeg" ContentType="image/jpeg"/>
  <Override PartName="/ppt/media/image34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wmf" ContentType="image/x-wmf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18.wmf" ContentType="image/x-wmf"/>
  <Override PartName="/ppt/media/image36.jpeg" ContentType="image/jpeg"/>
  <Override PartName="/ppt/media/image9.wmf" ContentType="image/x-wmf"/>
  <Override PartName="/ppt/media/image13.jpeg" ContentType="image/jpeg"/>
  <Override PartName="/ppt/media/image3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CAB-56C9-4D3A-9234-6B71D130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8B7-9375-479E-8BEC-58FB4D15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993-694C-4488-9A7E-243C1FDD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E9D-73ED-429F-9F8B-0D7F5580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93B-F757-41B7-8296-13320EAD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9BF-506D-47F6-929F-B44D2407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A3C-E07A-417A-BC12-027384E8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546-6DF2-4045-BAFD-BE3C1577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B2C-4E57-4E16-BEF4-32BC89A7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B74-53F1-4B26-A247-37312334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501-AE83-4B80-B430-5E0598BA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A7E-FC65-4D7D-BDB9-79DC1880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1749-D695-42C2-9990-C01E2A1C9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1/1a/KKosaEfa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258920" y="692280"/>
            <a:ext cx="7200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- конференция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Человек как житель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иосферы"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324000" y="260280"/>
            <a:ext cx="84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ст народонаселения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79" name="Object 6"/>
          <p:cNvGraphicFramePr/>
          <p:nvPr/>
        </p:nvGraphicFramePr>
        <p:xfrm>
          <a:off x="0" y="1395360"/>
          <a:ext cx="914400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95360"/>
                    <a:ext cx="9144000" cy="5462640"/>
                  </a:xfrm>
                  <a:prstGeom prst="rect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Вид Черняховска сверху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971640" y="476280"/>
            <a:ext cx="770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менение состава атмосфе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j0149887"/>
          <p:cNvPicPr/>
          <p:nvPr/>
        </p:nvPicPr>
        <p:blipFill>
          <a:blip r:embed="rId1"/>
          <a:stretch/>
        </p:blipFill>
        <p:spPr>
          <a:xfrm>
            <a:off x="2627280" y="404640"/>
            <a:ext cx="3382920" cy="3216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187423"/>
          <p:cNvPicPr/>
          <p:nvPr/>
        </p:nvPicPr>
        <p:blipFill>
          <a:blip r:embed="rId2"/>
          <a:stretch/>
        </p:blipFill>
        <p:spPr>
          <a:xfrm>
            <a:off x="6048360" y="0"/>
            <a:ext cx="3095640" cy="341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j0195812"/>
          <p:cNvPicPr/>
          <p:nvPr/>
        </p:nvPicPr>
        <p:blipFill>
          <a:blip r:embed="rId3"/>
          <a:stretch/>
        </p:blipFill>
        <p:spPr>
          <a:xfrm>
            <a:off x="0" y="333360"/>
            <a:ext cx="2241720" cy="319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j0285360"/>
          <p:cNvPicPr/>
          <p:nvPr/>
        </p:nvPicPr>
        <p:blipFill>
          <a:blip r:embed="rId4"/>
          <a:stretch/>
        </p:blipFill>
        <p:spPr>
          <a:xfrm>
            <a:off x="826920" y="4076640"/>
            <a:ext cx="2592720" cy="242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j0297185"/>
          <p:cNvPicPr/>
          <p:nvPr/>
        </p:nvPicPr>
        <p:blipFill>
          <a:blip r:embed="rId5"/>
          <a:stretch/>
        </p:blipFill>
        <p:spPr>
          <a:xfrm>
            <a:off x="4500720" y="3789360"/>
            <a:ext cx="46432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загрязнители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835520"/>
                <a:gridCol w="339408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fr-FR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арн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с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fr-FR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fr-FR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аз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       NO</a:t>
                      </a:r>
                      <a:r>
                        <a:rPr b="0" lang="fr-FR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орхлоруглеводород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оксины (фреон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ыль, дым и др. примес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 энергетической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ос рак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32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826920" y="549360"/>
            <a:ext cx="7848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ение энергетическо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язный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42-1024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7029360"/>
          </a:xfrm>
          <a:prstGeom prst="rect">
            <a:avLst/>
          </a:prstGeom>
          <a:ln w="0">
            <a:noFill/>
          </a:ln>
        </p:spPr>
      </p:pic>
      <p:sp>
        <p:nvSpPr>
          <p:cNvPr id="104" name="WordArt 7"/>
          <p:cNvSpPr txBox="1"/>
          <p:nvPr/>
        </p:nvSpPr>
        <p:spPr>
          <a:xfrm rot="21303000">
            <a:off x="317160" y="376200"/>
            <a:ext cx="88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блемы загрязнения твердыми отход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кращение биологического разнообраз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0" y="2790720"/>
          <a:ext cx="57592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90720"/>
                    <a:ext cx="57592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5" descr="j0332364"/>
          <p:cNvPicPr/>
          <p:nvPr/>
        </p:nvPicPr>
        <p:blipFill>
          <a:blip r:embed="rId3"/>
          <a:stretch/>
        </p:blipFill>
        <p:spPr>
          <a:xfrm>
            <a:off x="6300720" y="1413000"/>
            <a:ext cx="1830600" cy="147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304933"/>
          <p:cNvPicPr/>
          <p:nvPr/>
        </p:nvPicPr>
        <p:blipFill>
          <a:blip r:embed="rId4"/>
          <a:stretch/>
        </p:blipFill>
        <p:spPr>
          <a:xfrm>
            <a:off x="468360" y="1125360"/>
            <a:ext cx="1819080" cy="1668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Копия 048"/>
          <p:cNvPicPr/>
          <p:nvPr/>
        </p:nvPicPr>
        <p:blipFill>
          <a:blip r:embed="rId5"/>
          <a:stretch/>
        </p:blipFill>
        <p:spPr>
          <a:xfrm>
            <a:off x="5867280" y="3213000"/>
            <a:ext cx="29624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чезли в Калининград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видов редких позвоноч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ухар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ьиный сыч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зоворо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хлатый жаворон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лобый сорокоп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я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ая н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Изображение:KKosaEf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71280"/>
            <a:ext cx="9144000" cy="7100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хранение биологического разнооб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24000" y="1484280"/>
            <a:ext cx="88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зники Калининградской обл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е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йско-Краснополя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осел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ве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штине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мов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ю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циональный парк – Куршская к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место и роль человека как жителя биосферы в эволюции и сохранении био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ледить историю взаимоотношений человека и био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экологическими пробле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ть роль знаний биологии, экологии в решении глобальных проблем сов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bear"/>
          <p:cNvPicPr/>
          <p:nvPr/>
        </p:nvPicPr>
        <p:blipFill>
          <a:blip r:embed="rId1"/>
          <a:stretch/>
        </p:blipFill>
        <p:spPr>
          <a:xfrm>
            <a:off x="0" y="1413000"/>
            <a:ext cx="4884840" cy="468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sobolsm"/>
          <p:cNvPicPr/>
          <p:nvPr/>
        </p:nvPicPr>
        <p:blipFill>
          <a:blip r:embed="rId2"/>
          <a:stretch/>
        </p:blipFill>
        <p:spPr>
          <a:xfrm>
            <a:off x="4859280" y="1413000"/>
            <a:ext cx="428472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684360" y="404640"/>
            <a:ext cx="79200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дкие виды живот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gagarsm"/>
          <p:cNvPicPr/>
          <p:nvPr/>
        </p:nvPicPr>
        <p:blipFill>
          <a:blip r:embed="rId2"/>
          <a:stretch/>
        </p:blipFill>
        <p:spPr>
          <a:xfrm>
            <a:off x="3857760" y="1916280"/>
            <a:ext cx="2009520" cy="1993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gussm"/>
          <p:cNvPicPr/>
          <p:nvPr/>
        </p:nvPicPr>
        <p:blipFill>
          <a:blip r:embed="rId3"/>
          <a:stretch/>
        </p:blipFill>
        <p:spPr>
          <a:xfrm>
            <a:off x="6443640" y="1700280"/>
            <a:ext cx="2089080" cy="324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kazarsm"/>
          <p:cNvPicPr/>
          <p:nvPr/>
        </p:nvPicPr>
        <p:blipFill>
          <a:blip r:embed="rId4"/>
          <a:stretch/>
        </p:blipFill>
        <p:spPr>
          <a:xfrm>
            <a:off x="755640" y="1773360"/>
            <a:ext cx="2448000" cy="331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sovasm"/>
          <p:cNvPicPr/>
          <p:nvPr/>
        </p:nvPicPr>
        <p:blipFill>
          <a:blip r:embed="rId5"/>
          <a:stretch/>
        </p:blipFill>
        <p:spPr>
          <a:xfrm>
            <a:off x="3492360" y="450864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29" name="WordArt 8"/>
          <p:cNvSpPr txBox="1"/>
          <p:nvPr/>
        </p:nvSpPr>
        <p:spPr>
          <a:xfrm>
            <a:off x="468360" y="476280"/>
            <a:ext cx="8207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>
                    <a:alpha val="68000"/>
                  </a:srgbClr>
                </a:solidFill>
                <a:latin typeface="Arial"/>
              </a:rPr>
              <a:t>Редкие виды пти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>
                  <a:alpha val="68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4THSUN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340000" y="3213000"/>
            <a:ext cx="712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 связано со вс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 должно куда-то дева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знает луч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все надо плат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1187280" y="189000"/>
            <a:ext cx="712980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сновные законы эколог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20040712_a2000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HPIM0995"/>
          <p:cNvPicPr/>
          <p:nvPr/>
        </p:nvPicPr>
        <p:blipFill>
          <a:blip r:embed="rId1"/>
          <a:stretch/>
        </p:blipFill>
        <p:spPr>
          <a:xfrm>
            <a:off x="-10261440" y="-1395360"/>
            <a:ext cx="21640680" cy="101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250920" y="1600200"/>
            <a:ext cx="8435880" cy="30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стовые зад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ружочках, которые соответствуют правильному ответу, поставьте знак +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не относят к экологическим проблемам глобального характ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ительство го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атмосферы и водое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ение азонового слоя Зем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заповедников, заказников, национальных па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проблемы обеспечивают устойчивое развитие биосфе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твращение загрязнения окружающе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ение видового разнооб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новых видов в эко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численности хищников в эко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является основной задачей рационального управления природными ресурс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ительство го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ждение оптимальных способов эксплуатации естественных и искусственных эко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фикация хозяйственной деятельности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объемов добычи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cc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е относят к экологическим проблемам глобального характ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ительство г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атмосферы и водое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азонового слоя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заповедников, заказников, национальных пар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проблемы обеспечивают устойчивое развитие биосфе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отвращение загрязнения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е видового разнооб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дрение новых видов в эко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ращение численности хищников в эко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является основной задачей рационального управления природными ресурс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ительство г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ждение оптимальных способов эксплуатации естественных и искусственных эко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фикация хозяйственной деятельност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объемов добычи полезных ископае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изучения материал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о роли человека в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ль человека в биосфере на начальном этапе его стан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воздействия человеческого общества на природу и его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 глобального характера и способы их преода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«обратная связь» как прием для характеристики устойчивости эко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tudent3"/>
          <p:cNvPicPr/>
          <p:nvPr/>
        </p:nvPicPr>
        <p:blipFill>
          <a:blip r:embed="rId2"/>
          <a:stretch/>
        </p:blipFill>
        <p:spPr>
          <a:xfrm>
            <a:off x="0" y="0"/>
            <a:ext cx="1628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дущие специалисты из разных областей биологической нау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: Кунн Ольга, Юрчик Светлана, Антипина Анастасия, Мушкарев Дмитр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: Бойко Сергей, Волык Серг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: Ромейко Е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граф: Астапов Алек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трофизик: Коробкин Серг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ты: Ядренцева Анастасия, Костенко Станисл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heer03"/>
          <p:cNvPicPr/>
          <p:nvPr/>
        </p:nvPicPr>
        <p:blipFill>
          <a:blip r:embed="rId1"/>
          <a:stretch/>
        </p:blipFill>
        <p:spPr>
          <a:xfrm>
            <a:off x="0" y="0"/>
            <a:ext cx="1989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о роли человека в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ческий разум и организованная им деятельность меняют ход природных процессов в такой степени, как меняют их другие известные нам проявления энергии, но меняют по – новом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л биогеохимическую роль человека в биосфере как особую функцию живого, «новую геологическую силу, которой никогда еще не существовало на нашей планете в таком разме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36-1"/>
          <p:cNvPicPr/>
          <p:nvPr/>
        </p:nvPicPr>
        <p:blipFill>
          <a:blip r:embed="rId1"/>
          <a:stretch/>
        </p:blipFill>
        <p:spPr>
          <a:xfrm>
            <a:off x="0" y="0"/>
            <a:ext cx="3348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324000" y="333360"/>
            <a:ext cx="856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чальный этап станов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ловека в биосфер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Picture 5" descr="История1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4360" y="1700280"/>
            <a:ext cx="2663640" cy="43210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59" name="Picture 6" descr="История18"/>
          <p:cNvPicPr/>
          <p:nvPr/>
        </p:nvPicPr>
        <p:blipFill>
          <a:blip r:embed="rId2">
            <a:lum bright="12000"/>
          </a:blip>
          <a:srcRect l="4509" t="7917" r="51795" b="52582"/>
          <a:stretch/>
        </p:blipFill>
        <p:spPr>
          <a:xfrm>
            <a:off x="3419640" y="1700280"/>
            <a:ext cx="5292720" cy="43210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Рисунок2"/>
          <p:cNvPicPr/>
          <p:nvPr/>
        </p:nvPicPr>
        <p:blipFill>
          <a:blip r:embed="rId2"/>
          <a:stretch/>
        </p:blipFill>
        <p:spPr>
          <a:xfrm>
            <a:off x="0" y="0"/>
            <a:ext cx="4033800" cy="371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Рисунок3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364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Рисунок4"/>
          <p:cNvPicPr/>
          <p:nvPr/>
        </p:nvPicPr>
        <p:blipFill>
          <a:blip r:embed="rId4"/>
          <a:stretch/>
        </p:blipFill>
        <p:spPr>
          <a:xfrm>
            <a:off x="2627280" y="3645000"/>
            <a:ext cx="3960720" cy="3213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7093080" y="4005360"/>
            <a:ext cx="863640" cy="1871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327600 h 1871640"/>
              <a:gd name="textAreaBottom" fmla="*/ 13572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 rot="14109600">
            <a:off x="394920" y="4221000"/>
            <a:ext cx="1954080" cy="1112760"/>
          </a:xfrm>
          <a:custGeom>
            <a:avLst/>
            <a:gdLst>
              <a:gd name="textAreaLeft" fmla="*/ 380880 w 1954080"/>
              <a:gd name="textAreaRight" fmla="*/ 1377720 w 1954080"/>
              <a:gd name="textAreaTop" fmla="*/ 149040 h 1112760"/>
              <a:gd name="textAreaBottom" fmla="*/ 963720 h 1112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20" hR="21600" stAng="10800000" swAng="5400000"/>
                <a:lnTo>
                  <a:pt x="11020" y="0"/>
                </a:lnTo>
                <a:arcTo wR="8420" hR="21600" stAng="-5400000" swAng="2867560"/>
                <a:lnTo>
                  <a:pt x="21118" y="14400"/>
                </a:lnTo>
                <a:lnTo>
                  <a:pt x="18140" y="21600"/>
                </a:lnTo>
                <a:lnTo>
                  <a:pt x="14198" y="14400"/>
                </a:lnTo>
                <a:lnTo>
                  <a:pt x="16358" y="14400"/>
                </a:lnTo>
                <a:arcTo wR="8420" hR="21600" stAng="-2532440" swAng="-2658406"/>
                <a:lnTo>
                  <a:pt x="9720" y="259"/>
                </a:lnTo>
                <a:arcTo wR="8420" hR="21600" stAng="-5609154" swAng="-5190846"/>
                <a:close/>
              </a:path>
              <a:path fill="darkenLess" w="21600" h="21600">
                <a:moveTo>
                  <a:pt x="0" y="21600"/>
                </a:moveTo>
                <a:arcTo wR="8420" hR="21600" stAng="10800000" swAng="5400000"/>
                <a:lnTo>
                  <a:pt x="8420" y="0"/>
                </a:lnTo>
                <a:arcTo wR="8420" hR="21600" stAng="-5400000" swAng="209154"/>
                <a:lnTo>
                  <a:pt x="9720" y="259"/>
                </a:lnTo>
                <a:arcTo wR="8420" hR="21600" stAng="-5609154" swAng="-519084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4067280" y="2133720"/>
            <a:ext cx="1008000" cy="503280"/>
          </a:xfrm>
          <a:prstGeom prst="leftRightArrow">
            <a:avLst>
              <a:gd name="adj1" fmla="val 50000"/>
              <a:gd name="adj2" fmla="val 398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075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454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6"/>
          <p:cNvSpPr txBox="1"/>
          <p:nvPr/>
        </p:nvSpPr>
        <p:spPr>
          <a:xfrm>
            <a:off x="539640" y="189000"/>
            <a:ext cx="78487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зрастающая роль человека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иосфере и ее сущ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сре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зменение состава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арниковый эфф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истощение азонового сл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закисление природных с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щение природных рес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истощение природных ископ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еградация растительного покрова (вырубка   ле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обеднение видового разнооб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395280" y="189000"/>
            <a:ext cx="85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 проблемы современности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обального характера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5" descr="Рисунок3"/>
          <p:cNvPicPr/>
          <p:nvPr/>
        </p:nvPicPr>
        <p:blipFill>
          <a:blip r:embed="rId1"/>
          <a:stretch/>
        </p:blipFill>
        <p:spPr>
          <a:xfrm>
            <a:off x="6227640" y="1413000"/>
            <a:ext cx="2665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2:04:51Z</dcterms:created>
  <dc:creator>User</dc:creator>
  <dc:description/>
  <dc:language>en-US</dc:language>
  <cp:lastModifiedBy>Коля</cp:lastModifiedBy>
  <dcterms:modified xsi:type="dcterms:W3CDTF">2013-03-22T14:58:40Z</dcterms:modified>
  <cp:revision>14</cp:revision>
  <dc:subject/>
  <dc:title>Слайд 1</dc:title>
</cp:coreProperties>
</file>