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5.jpeg" ContentType="image/jpeg"/>
  <Override PartName="/ppt/media/image32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10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.gif" ContentType="image/gif"/>
  <Override PartName="/ppt/media/image21.jpeg" ContentType="image/jpeg"/>
  <Override PartName="/ppt/media/image29.png" ContentType="image/png"/>
  <Override PartName="/ppt/media/image33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34.png" ContentType="image/png"/>
  <Override PartName="/ppt/media/image22.jpeg" ContentType="image/jpeg"/>
  <Override PartName="/ppt/media/image9.png" ContentType="image/png"/>
  <Override PartName="/ppt/media/image37.gif" ContentType="image/gif"/>
  <Override PartName="/ppt/media/image20.jpeg" ContentType="image/jpeg"/>
  <Override PartName="/ppt/media/image6.png" ContentType="image/png"/>
  <Override PartName="/ppt/media/image36.png" ContentType="image/png"/>
  <Override PartName="/ppt/media/image18.jpeg" ContentType="image/jpeg"/>
  <Override PartName="/ppt/media/image28.png" ContentType="image/png"/>
  <Override PartName="/ppt/media/image7.jpeg" ContentType="image/jpeg"/>
  <Override PartName="/ppt/media/image16.jpeg" ContentType="image/jpeg"/>
  <Override PartName="/ppt/media/image17.png" ContentType="image/png"/>
  <Override PartName="/ppt/media/image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DB25-8419-43EB-8962-96984A500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455-D5CB-4939-BA93-2A3A019D5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0BDC-9BBB-4AC1-83D4-123566195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1A6-F7BF-4795-842F-ED7EB438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3D7-77B7-44BD-88F0-AFDF4C91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EFA-EB73-4B53-BC68-0F651E68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C7F-7DB0-4478-B992-3D289218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136-BD0A-4310-B60A-474963E9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6B3-8D2E-4A22-B724-B2E30469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ED2-E835-49D8-849E-C88CC14F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8C1-043D-42AA-AEA2-21B280F3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CB1-3416-4BE9-A0DD-D58ECDCB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B78-F15F-4EBF-AD32-D0D45DDB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230-BAE1-4756-85CC-3A26684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05C-06FB-4B2D-B09F-FAF8FCD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1AC6-6574-4F83-AFBB-DC74DF7BE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0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4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Урок литературного чтения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М.М.Зощенко «Ел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Театральные маски"/>
          <p:cNvPicPr/>
          <p:nvPr/>
        </p:nvPicPr>
        <p:blipFill>
          <a:blip r:embed="rId1"/>
          <a:stretch/>
        </p:blipFill>
        <p:spPr>
          <a:xfrm>
            <a:off x="1042920" y="333360"/>
            <a:ext cx="1704960" cy="1400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Большие анимированные новогодние ёлки (20шт.)"/>
          <p:cNvPicPr/>
          <p:nvPr/>
        </p:nvPicPr>
        <p:blipFill>
          <a:blip r:embed="rId2"/>
          <a:stretch/>
        </p:blipFill>
        <p:spPr>
          <a:xfrm>
            <a:off x="6300720" y="3933720"/>
            <a:ext cx="19494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формоза\Pictures\елка5 - копия.jpg"/>
          <p:cNvPicPr/>
          <p:nvPr/>
        </p:nvPicPr>
        <p:blipFill>
          <a:blip r:embed="rId1"/>
          <a:stretch/>
        </p:blipFill>
        <p:spPr>
          <a:xfrm>
            <a:off x="1763640" y="189000"/>
            <a:ext cx="1944720" cy="257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формоза\Pictures\елка5.jpg"/>
          <p:cNvPicPr/>
          <p:nvPr/>
        </p:nvPicPr>
        <p:blipFill>
          <a:blip r:embed="rId2"/>
          <a:stretch/>
        </p:blipFill>
        <p:spPr>
          <a:xfrm>
            <a:off x="5796000" y="189000"/>
            <a:ext cx="194004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900000" y="2852640"/>
          <a:ext cx="7632720" cy="3598920"/>
        </p:xfrm>
        <a:graphic>
          <a:graphicData uri="http://schemas.openxmlformats.org/drawingml/2006/table">
            <a:tbl>
              <a:tblPr/>
              <a:tblGrid>
                <a:gridCol w="4017960"/>
                <a:gridCol w="3614760"/>
              </a:tblGrid>
              <a:tr h="714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ёля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инь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Прямоугольник 6"/>
          <p:cNvSpPr/>
          <p:nvPr/>
        </p:nvSpPr>
        <p:spPr>
          <a:xfrm>
            <a:off x="2053800" y="3645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о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5652360" y="364500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ило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1628640" y="414972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, длинновяз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5005800" y="4076640"/>
            <a:ext cx="348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ивительно малень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1483920" y="472428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ительно бой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6230520" y="4724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х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2"/>
          <p:cNvSpPr/>
          <p:nvPr/>
        </p:nvSpPr>
        <p:spPr>
          <a:xfrm>
            <a:off x="1550160" y="5157720"/>
            <a:ext cx="30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гла высоко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3"/>
          <p:cNvSpPr/>
          <p:nvPr/>
        </p:nvSpPr>
        <p:spPr>
          <a:xfrm>
            <a:off x="5003640" y="5157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чего нельзя дос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4"/>
          <p:cNvSpPr/>
          <p:nvPr/>
        </p:nvSpPr>
        <p:spPr>
          <a:xfrm>
            <a:off x="1551960" y="558972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ментально съе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5"/>
          <p:cNvSpPr/>
          <p:nvPr/>
        </p:nvSpPr>
        <p:spPr>
          <a:xfrm>
            <a:off x="5794200" y="558972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усыв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1838520" y="6093000"/>
            <a:ext cx="22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церемон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7"/>
          <p:cNvSpPr/>
          <p:nvPr/>
        </p:nvSpPr>
        <p:spPr>
          <a:xfrm>
            <a:off x="5515560" y="602136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уть не зарев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:\Users\формоза\Pictures\елка1.jpg"/>
          <p:cNvPicPr/>
          <p:nvPr/>
        </p:nvPicPr>
        <p:blipFill>
          <a:blip r:embed="rId1"/>
          <a:stretch/>
        </p:blipFill>
        <p:spPr>
          <a:xfrm>
            <a:off x="1979640" y="311040"/>
            <a:ext cx="5184720" cy="62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Users\формоза\Pictures\елка6.jpg"/>
          <p:cNvPicPr/>
          <p:nvPr/>
        </p:nvPicPr>
        <p:blipFill>
          <a:blip r:embed="rId1"/>
          <a:stretch/>
        </p:blipFill>
        <p:spPr>
          <a:xfrm>
            <a:off x="1619280" y="109440"/>
            <a:ext cx="604836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Users\формоза\Pictures\елка4.jpg"/>
          <p:cNvPicPr/>
          <p:nvPr/>
        </p:nvPicPr>
        <p:blipFill>
          <a:blip r:embed="rId1"/>
          <a:stretch/>
        </p:blipFill>
        <p:spPr>
          <a:xfrm>
            <a:off x="2340000" y="333360"/>
            <a:ext cx="51134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формоза\Pictures\елка5.jpg"/>
          <p:cNvPicPr/>
          <p:nvPr/>
        </p:nvPicPr>
        <p:blipFill>
          <a:blip r:embed="rId1"/>
          <a:stretch/>
        </p:blipFill>
        <p:spPr>
          <a:xfrm>
            <a:off x="1012680" y="981000"/>
            <a:ext cx="73393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формоза\Pictures\елка.jpg"/>
          <p:cNvPicPr/>
          <p:nvPr/>
        </p:nvPicPr>
        <p:blipFill>
          <a:blip r:embed="rId1"/>
          <a:stretch/>
        </p:blipFill>
        <p:spPr>
          <a:xfrm>
            <a:off x="1722600" y="333360"/>
            <a:ext cx="55861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Users\формоза\Pictures\елка 6.jpg"/>
          <p:cNvPicPr/>
          <p:nvPr/>
        </p:nvPicPr>
        <p:blipFill>
          <a:blip r:embed="rId1"/>
          <a:stretch/>
        </p:blipFill>
        <p:spPr>
          <a:xfrm>
            <a:off x="2124000" y="404640"/>
            <a:ext cx="46087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9" descr="7028_d"/>
          <p:cNvPicPr/>
          <p:nvPr/>
        </p:nvPicPr>
        <p:blipFill>
          <a:blip r:embed="rId1"/>
          <a:srcRect l="0" t="0" r="0" b="14583"/>
          <a:stretch/>
        </p:blipFill>
        <p:spPr>
          <a:xfrm>
            <a:off x="1476360" y="-171360"/>
            <a:ext cx="5904000" cy="6913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logentry-14-1197334868"/>
          <p:cNvPicPr/>
          <p:nvPr/>
        </p:nvPicPr>
        <p:blipFill>
          <a:blip r:embed="rId2"/>
          <a:stretch/>
        </p:blipFill>
        <p:spPr>
          <a:xfrm rot="817800">
            <a:off x="2669760" y="2857680"/>
            <a:ext cx="1084320" cy="147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321_3"/>
          <p:cNvPicPr/>
          <p:nvPr/>
        </p:nvPicPr>
        <p:blipFill>
          <a:blip r:embed="rId3">
            <a:lum bright="-6000"/>
          </a:blip>
          <a:stretch/>
        </p:blipFill>
        <p:spPr>
          <a:xfrm rot="1995600">
            <a:off x="4932000" y="3284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8"/>
          <p:cNvPicPr/>
          <p:nvPr/>
        </p:nvPicPr>
        <p:blipFill>
          <a:blip r:embed="rId4"/>
          <a:srcRect l="14798" t="0" r="14798" b="17878"/>
          <a:stretch/>
        </p:blipFill>
        <p:spPr>
          <a:xfrm>
            <a:off x="4788000" y="1628640"/>
            <a:ext cx="958680" cy="12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DSC02756"/>
          <p:cNvPicPr/>
          <p:nvPr/>
        </p:nvPicPr>
        <p:blipFill>
          <a:blip r:embed="rId5"/>
          <a:stretch/>
        </p:blipFill>
        <p:spPr>
          <a:xfrm>
            <a:off x="3624120" y="1413000"/>
            <a:ext cx="962280" cy="114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ball_s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851280" y="2852640"/>
            <a:ext cx="1096920" cy="128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DSC02756"/>
          <p:cNvPicPr/>
          <p:nvPr/>
        </p:nvPicPr>
        <p:blipFill>
          <a:blip r:embed="rId7"/>
          <a:stretch/>
        </p:blipFill>
        <p:spPr>
          <a:xfrm rot="1043400">
            <a:off x="3131640" y="4581360"/>
            <a:ext cx="1263960" cy="1506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18"/>
          <p:cNvPicPr/>
          <p:nvPr/>
        </p:nvPicPr>
        <p:blipFill>
          <a:blip r:embed="rId8"/>
          <a:srcRect l="14798" t="0" r="14798" b="17878"/>
          <a:stretch/>
        </p:blipFill>
        <p:spPr>
          <a:xfrm rot="2536800">
            <a:off x="4858920" y="4581360"/>
            <a:ext cx="1376280" cy="1684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blogentry-14-1197334868"/>
          <p:cNvPicPr/>
          <p:nvPr/>
        </p:nvPicPr>
        <p:blipFill>
          <a:blip r:embed="rId9"/>
          <a:stretch/>
        </p:blipFill>
        <p:spPr>
          <a:xfrm rot="739800">
            <a:off x="4284360" y="260280"/>
            <a:ext cx="712800" cy="9702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2"/>
          <p:cNvSpPr/>
          <p:nvPr/>
        </p:nvSpPr>
        <p:spPr>
          <a:xfrm>
            <a:off x="4788000" y="189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3" descr="d3365a70f643"/>
          <p:cNvPicPr/>
          <p:nvPr/>
        </p:nvPicPr>
        <p:blipFill>
          <a:blip r:embed="rId10">
            <a:lum bright="18000"/>
          </a:blip>
          <a:srcRect l="7094" t="0" r="0" b="0"/>
          <a:stretch/>
        </p:blipFill>
        <p:spPr>
          <a:xfrm>
            <a:off x="6372360" y="260280"/>
            <a:ext cx="936360" cy="86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4" descr="d3365a70f643"/>
          <p:cNvPicPr/>
          <p:nvPr/>
        </p:nvPicPr>
        <p:blipFill>
          <a:blip r:embed="rId11">
            <a:lum bright="18000"/>
          </a:blip>
          <a:srcRect l="7094" t="0" r="0" b="0"/>
          <a:stretch/>
        </p:blipFill>
        <p:spPr>
          <a:xfrm>
            <a:off x="539640" y="400536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5" descr="d3365a70f643"/>
          <p:cNvPicPr/>
          <p:nvPr/>
        </p:nvPicPr>
        <p:blipFill>
          <a:blip r:embed="rId12">
            <a:lum bright="18000"/>
          </a:blip>
          <a:srcRect l="5525" t="0" r="0" b="0"/>
          <a:stretch/>
        </p:blipFill>
        <p:spPr>
          <a:xfrm>
            <a:off x="7236000" y="2781360"/>
            <a:ext cx="1223640" cy="111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6" descr="d3365a70f643"/>
          <p:cNvPicPr/>
          <p:nvPr/>
        </p:nvPicPr>
        <p:blipFill>
          <a:blip r:embed="rId13">
            <a:lum bright="18000"/>
          </a:blip>
          <a:srcRect l="5213" t="0" r="0" b="1898"/>
          <a:stretch/>
        </p:blipFill>
        <p:spPr>
          <a:xfrm>
            <a:off x="1042920" y="83664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d3365a70f643"/>
          <p:cNvPicPr/>
          <p:nvPr/>
        </p:nvPicPr>
        <p:blipFill>
          <a:blip r:embed="rId14">
            <a:lum bright="18000"/>
          </a:blip>
          <a:srcRect l="7237" t="0" r="0" b="0"/>
          <a:stretch/>
        </p:blipFill>
        <p:spPr>
          <a:xfrm>
            <a:off x="7524720" y="5445000"/>
            <a:ext cx="934920" cy="865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"/>
          <p:cNvPicPr/>
          <p:nvPr/>
        </p:nvPicPr>
        <p:blipFill>
          <a:blip r:embed="rId15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0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0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28 -0.17546 C 0.02865 -0.17546 0.08472 -0.10069 0.08472 -0.00879 C 0.08472 0.08311 0.02865 0.15787 -0.04028 0.15787 C -0.1092 0.15787 -0.16528 0.08311 -0.16528 -0.00879 C -0.16528 -0.10069 -0.1092 -0.17546 -0.04028 -0.17546 Z">
                                      <p:cBhvr>
                                        <p:cTn id="22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8000"/>
                            </p:stCondLst>
                            <p:childTnLst>
                              <p:par>
                                <p:cTn id="22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75 -0.11713 C 0.08767 -0.11713 0.14375 -0.04236 0.14375 0.04954 C 0.14375 0.14144 0.08767 0.21621 0.01875 0.21621 C -0.05018 0.21621 -0.10625 0.14144 -0.10625 0.04954 C -0.10625 -0.04236 -0.05018 -0.11713 0.01875 -0.11713 Z">
                                      <p:cBhvr>
                                        <p:cTn id="22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0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971640" y="47628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mbria Math"/>
                <a:ea typeface="Cambria Math"/>
              </a:rPr>
              <a:t>Тепло родного оча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718560" y="1773360"/>
            <a:ext cx="68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 что и клад, если в семье л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611280" y="2708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Гни дерево, пока молодо, а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детей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учи, пока зел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684360" y="429264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то неправильно воспитывает своих детей, тот расплачивается слезами</a:t>
            </a: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8"/>
          <p:cNvSpPr/>
          <p:nvPr/>
        </p:nvSpPr>
        <p:spPr>
          <a:xfrm>
            <a:off x="1224000" y="1197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ет, мне, быть может, не удалось стать очень хорошим. Это очень трудно. Но к этому, дети, я всегда стремил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ихаил Зощ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684360" y="1484280"/>
            <a:ext cx="57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ungsuh"/>
                <a:ea typeface="Gungsuh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920" y="4437000"/>
            <a:ext cx="777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У ёлки иголки кол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1187280" y="1484280"/>
            <a:ext cx="208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ёл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3069720" y="1484280"/>
            <a:ext cx="124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й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4017960" y="1484280"/>
            <a:ext cx="206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сне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5699160" y="1484280"/>
            <a:ext cx="199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omic Sans MS"/>
              </a:rPr>
              <a:t>ыв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538560" y="2637000"/>
            <a:ext cx="1436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щ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1619280" y="2637000"/>
            <a:ext cx="291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моро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2"/>
          <p:cNvSpPr/>
          <p:nvPr/>
        </p:nvSpPr>
        <p:spPr>
          <a:xfrm>
            <a:off x="4221360" y="2637000"/>
            <a:ext cx="196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йф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5879160" y="2637000"/>
            <a:ext cx="26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пур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8168760" y="2637000"/>
            <a:ext cx="91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Comic Sans MS"/>
              </a:rPr>
              <a:t>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250920" y="53006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Сыплет снегопад с неба сне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http://krassota.com/i/fon/fon1.gif"/>
          <p:cNvPicPr/>
          <p:nvPr/>
        </p:nvPicPr>
        <p:blipFill>
          <a:blip r:embed="rId1"/>
          <a:stretch/>
        </p:blipFill>
        <p:spPr>
          <a:xfrm>
            <a:off x="7734240" y="69228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http://krassota.com/i/fon/fon1.gif"/>
          <p:cNvPicPr/>
          <p:nvPr/>
        </p:nvPicPr>
        <p:blipFill>
          <a:blip r:embed="rId2"/>
          <a:stretch/>
        </p:blipFill>
        <p:spPr>
          <a:xfrm>
            <a:off x="468360" y="40464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http://krassota.com/i/fon/fon1.gif"/>
          <p:cNvPicPr/>
          <p:nvPr/>
        </p:nvPicPr>
        <p:blipFill>
          <a:blip r:embed="rId3"/>
          <a:stretch/>
        </p:blipFill>
        <p:spPr>
          <a:xfrm>
            <a:off x="3276720" y="328464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krassota.com/i/fon/fon1.gif"/>
          <p:cNvPicPr/>
          <p:nvPr/>
        </p:nvPicPr>
        <p:blipFill>
          <a:blip r:embed="rId4"/>
          <a:stretch/>
        </p:blipFill>
        <p:spPr>
          <a:xfrm>
            <a:off x="7631280" y="41497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tp://krassota.com/i/fon/fon1.gif"/>
          <p:cNvPicPr/>
          <p:nvPr/>
        </p:nvPicPr>
        <p:blipFill>
          <a:blip r:embed="rId5"/>
          <a:stretch/>
        </p:blipFill>
        <p:spPr>
          <a:xfrm>
            <a:off x="7886880" y="84456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Овал 3"/>
          <p:cNvSpPr/>
          <p:nvPr/>
        </p:nvSpPr>
        <p:spPr>
          <a:xfrm>
            <a:off x="755640" y="549360"/>
            <a:ext cx="1800360" cy="18000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4"/>
          <p:cNvSpPr/>
          <p:nvPr/>
        </p:nvSpPr>
        <p:spPr>
          <a:xfrm>
            <a:off x="755640" y="2637000"/>
            <a:ext cx="1800360" cy="1800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5"/>
          <p:cNvSpPr/>
          <p:nvPr/>
        </p:nvSpPr>
        <p:spPr>
          <a:xfrm>
            <a:off x="755640" y="4724280"/>
            <a:ext cx="1800360" cy="18003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3293280" y="1052640"/>
            <a:ext cx="326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ктивный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3154680" y="3068640"/>
            <a:ext cx="46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нимательны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3225960" y="5300640"/>
            <a:ext cx="430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ртистич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http://priroda77.narod.ru/pictures/salyt/fe_we_19.gif"/>
          <p:cNvPicPr/>
          <p:nvPr/>
        </p:nvPicPr>
        <p:blipFill>
          <a:blip r:embed="rId1"/>
          <a:stretch/>
        </p:blipFill>
        <p:spPr>
          <a:xfrm>
            <a:off x="6732720" y="-387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ttp://priroda77.narod.ru/pictures/salyt/fe_we_19.gif"/>
          <p:cNvPicPr/>
          <p:nvPr/>
        </p:nvPicPr>
        <p:blipFill>
          <a:blip r:embed="rId2"/>
          <a:stretch/>
        </p:blipFill>
        <p:spPr>
          <a:xfrm>
            <a:off x="3995640" y="9079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priroda77.narod.ru/pictures/salyt/fe_we_19.gif"/>
          <p:cNvPicPr/>
          <p:nvPr/>
        </p:nvPicPr>
        <p:blipFill>
          <a:blip r:embed="rId3"/>
          <a:stretch/>
        </p:blipFill>
        <p:spPr>
          <a:xfrm>
            <a:off x="1042920" y="40053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http://priroda77.narod.ru/pictures/salyt/fe_we_19.gif"/>
          <p:cNvPicPr/>
          <p:nvPr/>
        </p:nvPicPr>
        <p:blipFill>
          <a:blip r:embed="rId4"/>
          <a:stretch/>
        </p:blipFill>
        <p:spPr>
          <a:xfrm>
            <a:off x="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priroda77.narod.ru/pictures/salyt/fe_we_19.gif"/>
          <p:cNvPicPr/>
          <p:nvPr/>
        </p:nvPicPr>
        <p:blipFill>
          <a:blip r:embed="rId5"/>
          <a:stretch/>
        </p:blipFill>
        <p:spPr>
          <a:xfrm>
            <a:off x="4932360" y="3716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7090436946dd952739a8c"/>
          <p:cNvPicPr/>
          <p:nvPr/>
        </p:nvPicPr>
        <p:blipFill>
          <a:blip r:embed="rId1"/>
          <a:stretch/>
        </p:blipFill>
        <p:spPr>
          <a:xfrm>
            <a:off x="395280" y="549360"/>
            <a:ext cx="2376360" cy="3597120"/>
          </a:xfrm>
          <a:prstGeom prst="rect">
            <a:avLst/>
          </a:prstGeom>
          <a:ln w="38160">
            <a:solidFill>
              <a:srgbClr val="00cc00"/>
            </a:solidFill>
            <a:miter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788000" y="189000"/>
            <a:ext cx="2232000" cy="30780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6588000" y="1844640"/>
            <a:ext cx="2232000" cy="2500200"/>
          </a:xfrm>
          <a:prstGeom prst="rect">
            <a:avLst/>
          </a:prstGeom>
          <a:ln w="28440">
            <a:solidFill>
              <a:srgbClr val="7030a0"/>
            </a:solidFill>
            <a:miter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2987640" y="2708280"/>
            <a:ext cx="2305080" cy="300024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73" name="Прямоугольник 7"/>
          <p:cNvSpPr/>
          <p:nvPr/>
        </p:nvSpPr>
        <p:spPr>
          <a:xfrm>
            <a:off x="5744160" y="479736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агни Педерс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31560" y="4437000"/>
            <a:ext cx="24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Эдвард Гри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501360" y="595008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я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5236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М.М.Зощенко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mbria Math"/>
                <a:ea typeface="Cambria Math"/>
              </a:rPr>
              <a:t>(1894-195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29879" t="5399" r="30750" b="18241"/>
          <a:stretch/>
        </p:blipFill>
        <p:spPr>
          <a:xfrm>
            <a:off x="1187280" y="333360"/>
            <a:ext cx="2808360" cy="4179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8" name="Picture 5" descr="Михаилу Зощенко 2 года. Фотография"/>
          <p:cNvPicPr/>
          <p:nvPr/>
        </p:nvPicPr>
        <p:blipFill>
          <a:blip r:embed="rId2"/>
          <a:stretch/>
        </p:blipFill>
        <p:spPr>
          <a:xfrm>
            <a:off x="5364000" y="333360"/>
            <a:ext cx="2170440" cy="307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9" name="Picture 5" descr="Картинка 6 из 4343"/>
          <p:cNvPicPr/>
          <p:nvPr/>
        </p:nvPicPr>
        <p:blipFill>
          <a:blip r:embed="rId3"/>
          <a:stretch/>
        </p:blipFill>
        <p:spPr>
          <a:xfrm>
            <a:off x="6300720" y="2421000"/>
            <a:ext cx="2457360" cy="380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27860" t="2815" r="28595" b="18443"/>
          <a:stretch/>
        </p:blipFill>
        <p:spPr>
          <a:xfrm>
            <a:off x="324000" y="189000"/>
            <a:ext cx="5271840" cy="4752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rcRect l="27860" t="2815" r="27679" b="18443"/>
          <a:stretch/>
        </p:blipFill>
        <p:spPr>
          <a:xfrm>
            <a:off x="2340000" y="1490760"/>
            <a:ext cx="6553080" cy="503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upload.wikimedia.org/wikipedia/ru/thumb/b/b9/%D0%97%D0%BE%D1%89%D0%B5%D0%BD%D0%BA%D0%BE.JPG/220px-%D0%97%D0%BE%D1%89%D0%B5%D0%BD%D0%BA%D0%BE.JPG"/>
          <p:cNvPicPr/>
          <p:nvPr/>
        </p:nvPicPr>
        <p:blipFill>
          <a:blip r:embed="rId1"/>
          <a:stretch/>
        </p:blipFill>
        <p:spPr>
          <a:xfrm>
            <a:off x="1619280" y="189000"/>
            <a:ext cx="561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Словар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4920" y="1125000"/>
            <a:ext cx="54831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олотушный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2340000" y="177336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ольной  ребё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539640" y="234936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линновяз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2639520" y="28526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со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770120" cy="18194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691920" y="479736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еремон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552240" y="5516640"/>
            <a:ext cx="68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являть излишнюю мягк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ес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550800" y="3429000"/>
            <a:ext cx="22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астил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0"/>
          <p:cNvSpPr/>
          <p:nvPr/>
        </p:nvSpPr>
        <p:spPr>
          <a:xfrm>
            <a:off x="2859840" y="3573360"/>
            <a:ext cx="626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ндитерское издел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 фруктовой массы и сах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2"/>
          <p:cNvSpPr/>
          <p:nvPr/>
        </p:nvSpPr>
        <p:spPr>
          <a:xfrm flipH="1">
            <a:off x="1979640" y="1125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5"/>
          <p:cNvSpPr/>
          <p:nvPr/>
        </p:nvSpPr>
        <p:spPr>
          <a:xfrm flipH="1">
            <a:off x="2771280" y="2349360"/>
            <a:ext cx="71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7"/>
          <p:cNvSpPr/>
          <p:nvPr/>
        </p:nvSpPr>
        <p:spPr>
          <a:xfrm flipH="1">
            <a:off x="1835280" y="3429000"/>
            <a:ext cx="7272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8"/>
          <p:cNvSpPr/>
          <p:nvPr/>
        </p:nvSpPr>
        <p:spPr>
          <a:xfrm flipH="1">
            <a:off x="2340000" y="4797360"/>
            <a:ext cx="7128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Картинка 5 из 139"/>
          <p:cNvPicPr/>
          <p:nvPr/>
        </p:nvPicPr>
        <p:blipFill>
          <a:blip r:embed="rId1"/>
          <a:stretch/>
        </p:blipFill>
        <p:spPr>
          <a:xfrm>
            <a:off x="1692360" y="549360"/>
            <a:ext cx="5904000" cy="44654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орь Ильински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тер театра и 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Зощенко Елка.mp3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1868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Картинка 3 из 1052"/>
          <p:cNvPicPr/>
          <p:nvPr/>
        </p:nvPicPr>
        <p:blipFill>
          <a:blip r:embed="rId1"/>
          <a:stretch/>
        </p:blipFill>
        <p:spPr>
          <a:xfrm>
            <a:off x="0" y="-4608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01:17Z</dcterms:created>
  <dc:creator>Luser</dc:creator>
  <dc:description/>
  <dc:language>en-US</dc:language>
  <cp:lastModifiedBy>формоза</cp:lastModifiedBy>
  <dcterms:modified xsi:type="dcterms:W3CDTF">2011-01-23T11:18:04Z</dcterms:modified>
  <cp:revision>64</cp:revision>
  <dc:subject/>
  <dc:title>Слайд 1</dc:title>
</cp:coreProperties>
</file>