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4F3-0D72-45AB-A4E6-19637B27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E56-6EB5-484C-97F0-F578785B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B14-79C7-4DF0-89D9-430B03BD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585-DBC7-4B0F-89B4-B8707BDA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AB2-5E13-41FD-9587-30AD97B5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4E9-01E8-4CBA-A86B-2EB2A359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00D-C32C-4BC9-B760-3152B7C0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5F2-0E06-459D-ABCE-2B76398D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A0E-83B2-4C67-8F15-D57CAFD6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410-031B-41BA-9FF7-83B79374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F0A-4AD4-44C3-9C30-8C745E65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771-1E80-42B5-A76A-7490AED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BD3A-6871-4ECD-A4EE-4995DA643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바탕"/>
                <a:ea typeface="바탕"/>
              </a:rPr>
              <a:t>Физика </a:t>
            </a:r>
            <a:br>
              <a:rPr sz="5400"/>
            </a:br>
            <a:r>
              <a:rPr b="1" lang="ru-RU" sz="5400" spc="-1" strike="noStrike">
                <a:solidFill>
                  <a:srgbClr val="632523"/>
                </a:solidFill>
                <a:latin typeface="바탕"/>
                <a:ea typeface="바탕"/>
              </a:rPr>
              <a:t>в детских игрушк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71960" y="3499920"/>
            <a:ext cx="3828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8000"/>
                </a:solidFill>
                <a:uFillTx/>
                <a:latin typeface="Calibri"/>
              </a:rPr>
              <a:t>Автор работы: </a:t>
            </a:r>
            <a:r>
              <a:rPr b="1" lang="ru-RU" sz="2700" spc="-1" strike="noStrike">
                <a:solidFill>
                  <a:srgbClr val="008000"/>
                </a:solidFill>
                <a:latin typeface="Calibri"/>
              </a:rPr>
              <a:t>Казаченкова Анна </a:t>
            </a:r>
            <a:r>
              <a:rPr b="0" lang="ru-RU" sz="2700" spc="-1" strike="noStrike">
                <a:solidFill>
                  <a:srgbClr val="008000"/>
                </a:solidFill>
                <a:latin typeface="Calibri"/>
              </a:rPr>
              <a:t>ученица 8 клас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8000"/>
                </a:solidFill>
                <a:latin typeface="Calibri"/>
              </a:rPr>
              <a:t>МОУ «Хохловская СОШ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G:\2011\01\17\dsc00375.jpg"/>
          <p:cNvPicPr/>
          <p:nvPr/>
        </p:nvPicPr>
        <p:blipFill>
          <a:blip r:embed="rId2"/>
          <a:stretch/>
        </p:blipFill>
        <p:spPr>
          <a:xfrm>
            <a:off x="1000080" y="2286000"/>
            <a:ext cx="2857680" cy="3809880"/>
          </a:xfrm>
          <a:prstGeom prst="rect">
            <a:avLst/>
          </a:prstGeom>
          <a:ln w="76320">
            <a:solidFill>
              <a:srgbClr val="078b3c"/>
            </a:solidFill>
            <a:beve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2011\01\17\dsc00376.jpg"/>
          <p:cNvPicPr/>
          <p:nvPr/>
        </p:nvPicPr>
        <p:blipFill>
          <a:blip r:embed="rId2"/>
          <a:stretch/>
        </p:blipFill>
        <p:spPr>
          <a:xfrm>
            <a:off x="2500200" y="2500200"/>
            <a:ext cx="3810240" cy="23497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428760" y="357120"/>
            <a:ext cx="828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Aharoni"/>
              </a:rPr>
              <a:t>Цель рабо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мотреть  применение физических явлений и законов  в практической деятельности человека на пример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я детских игру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500120" y="2000880"/>
            <a:ext cx="56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Объек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детские игр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28760" y="507420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Предмет исследова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физические явления и законы, используемые в устройстве и работе детских игру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714680" y="1714680"/>
            <a:ext cx="600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ямые вещи на свете живу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нивые вещи на свете живу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ямые вещи на свете живу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ерцией это упрямство зов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G:\2011\01\17\dsc00373.jpg"/>
          <p:cNvPicPr/>
          <p:nvPr/>
        </p:nvPicPr>
        <p:blipFill>
          <a:blip r:embed="rId2"/>
          <a:stretch/>
        </p:blipFill>
        <p:spPr>
          <a:xfrm>
            <a:off x="2857680" y="42861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7000920" y="2142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571680" y="285840"/>
            <a:ext cx="61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Инерционные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571920" y="1071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раю ровного стола положи полоску бумаги так, чтобы она свисала с края стола. На эту полоску поставь на ребро монету. Ну-ка, вытащи теперь из-под монеты полоску бумаги – только, чур, не урони моне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сканирование0001"/>
          <p:cNvPicPr/>
          <p:nvPr/>
        </p:nvPicPr>
        <p:blipFill>
          <a:blip r:embed="rId2"/>
          <a:stretch/>
        </p:blipFill>
        <p:spPr>
          <a:xfrm>
            <a:off x="1022400" y="1143000"/>
            <a:ext cx="2335320" cy="1900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3714840" y="343620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 на указательный палец левой руки квадратик плотной бумаги или тонкого картона. А сверху положи монету. Если резко щелкнуть по краю квадратика, он выскочит прочь, а монета останется на паль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канирование0001"/>
          <p:cNvPicPr/>
          <p:nvPr/>
        </p:nvPicPr>
        <p:blipFill>
          <a:blip r:embed="rId3"/>
          <a:stretch/>
        </p:blipFill>
        <p:spPr>
          <a:xfrm>
            <a:off x="928800" y="3500280"/>
            <a:ext cx="2582640" cy="2000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143080" y="28584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Проделай опы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000160" y="928800"/>
            <a:ext cx="6357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Пруж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игруш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G:\2011\01\17\dsc00370.jpg"/>
          <p:cNvPicPr/>
          <p:nvPr/>
        </p:nvPicPr>
        <p:blipFill>
          <a:blip r:embed="rId2"/>
          <a:stretch/>
        </p:blipFill>
        <p:spPr>
          <a:xfrm>
            <a:off x="357120" y="1928880"/>
            <a:ext cx="3200400" cy="3809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5572080" y="357120"/>
            <a:ext cx="3057480" cy="2749680"/>
          </a:xfrm>
          <a:prstGeom prst="rect">
            <a:avLst/>
          </a:prstGeom>
          <a:ln w="76320">
            <a:solidFill>
              <a:srgbClr val="d9969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500200" y="33577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ша Таня громко плач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нила в речку мя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Тише, Танечка, не плач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утонет в речке мяч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428840" y="35712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Плавающие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G:\2011\01\17\g7_k05_pr.jpg"/>
          <p:cNvPicPr/>
          <p:nvPr/>
        </p:nvPicPr>
        <p:blipFill>
          <a:blip r:embed="rId2"/>
          <a:stretch/>
        </p:blipFill>
        <p:spPr>
          <a:xfrm>
            <a:off x="2928960" y="1143000"/>
            <a:ext cx="3214800" cy="2073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3571920" y="5357880"/>
            <a:ext cx="13431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857680" y="214200"/>
            <a:ext cx="52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Неваля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G:\2011\01\17\dsc00371.jpg"/>
          <p:cNvPicPr/>
          <p:nvPr/>
        </p:nvPicPr>
        <p:blipFill>
          <a:blip r:embed="rId2"/>
          <a:srcRect l="0" t="0" r="10955" b="0"/>
          <a:stretch/>
        </p:blipFill>
        <p:spPr>
          <a:xfrm>
            <a:off x="1000080" y="1143000"/>
            <a:ext cx="2928960" cy="3809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66" name="Picture 3" descr="G:\2011\01\17\dsc00372.jpg"/>
          <p:cNvPicPr/>
          <p:nvPr/>
        </p:nvPicPr>
        <p:blipFill>
          <a:blip r:embed="rId3"/>
          <a:stretch/>
        </p:blipFill>
        <p:spPr>
          <a:xfrm>
            <a:off x="5143680" y="1143000"/>
            <a:ext cx="2857320" cy="3809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67" name="Прямоугольник 4"/>
          <p:cNvSpPr/>
          <p:nvPr/>
        </p:nvSpPr>
        <p:spPr>
          <a:xfrm>
            <a:off x="857160" y="507204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Хорошо известен принцип действия популярной детской игрушки-«неваляшки»— эффект возвращения в одно и то же состояние достигается за счёт смещения центра тяж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214280" y="36432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 вот так неваляшку можно сделать сам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из пластикового яйц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сканирование0002"/>
          <p:cNvPicPr/>
          <p:nvPr/>
        </p:nvPicPr>
        <p:blipFill>
          <a:blip r:embed="rId2"/>
          <a:stretch/>
        </p:blipFill>
        <p:spPr>
          <a:xfrm>
            <a:off x="3000240" y="2428920"/>
            <a:ext cx="31435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071720" y="1371240"/>
            <a:ext cx="764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и выполнении этой работы я узнала много нового, заинтересовалась изучением физики и лучше стала в ней разбираться. На этом я не собираюсь останавливаться и планирую продолжить свою работу, ведь впереди еще так много интере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14200" y="214200"/>
            <a:ext cx="1214640" cy="1357560"/>
            <a:chOff x="214200" y="214200"/>
            <a:chExt cx="1214640" cy="1357560"/>
          </a:xfrm>
        </p:grpSpPr>
        <p:sp>
          <p:nvSpPr>
            <p:cNvPr id="72" name="Puzzle3"/>
            <p:cNvSpPr/>
            <p:nvPr/>
          </p:nvSpPr>
          <p:spPr>
            <a:xfrm>
              <a:off x="805680" y="214200"/>
              <a:ext cx="477360" cy="7214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Puzzle2"/>
            <p:cNvSpPr/>
            <p:nvPr/>
          </p:nvSpPr>
          <p:spPr>
            <a:xfrm>
              <a:off x="666720" y="739800"/>
              <a:ext cx="762120" cy="657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uzzle4"/>
            <p:cNvSpPr/>
            <p:nvPr/>
          </p:nvSpPr>
          <p:spPr>
            <a:xfrm>
              <a:off x="371880" y="731520"/>
              <a:ext cx="459360" cy="8402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uzzle1"/>
            <p:cNvSpPr/>
            <p:nvPr/>
          </p:nvSpPr>
          <p:spPr>
            <a:xfrm>
              <a:off x="214200" y="432360"/>
              <a:ext cx="771480" cy="5007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8" descr="C:\Program Files\Microsoft Office\MEDIA\CAGCAT10\j0215086.wmf"/>
          <p:cNvPicPr/>
          <p:nvPr/>
        </p:nvPicPr>
        <p:blipFill>
          <a:blip r:embed="rId2"/>
          <a:stretch/>
        </p:blipFill>
        <p:spPr>
          <a:xfrm>
            <a:off x="6572160" y="4357800"/>
            <a:ext cx="1285920" cy="201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Program Files\Microsoft Office\MEDIA\CAGCAT10\j0285750.wmf"/>
          <p:cNvPicPr/>
          <p:nvPr/>
        </p:nvPicPr>
        <p:blipFill>
          <a:blip r:embed="rId3"/>
          <a:stretch/>
        </p:blipFill>
        <p:spPr>
          <a:xfrm>
            <a:off x="7000920" y="28584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4"/>
          <a:stretch/>
        </p:blipFill>
        <p:spPr>
          <a:xfrm>
            <a:off x="1000080" y="4643280"/>
            <a:ext cx="14763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46:25Z</dcterms:created>
  <dc:creator>1</dc:creator>
  <dc:description/>
  <dc:language>en-US</dc:language>
  <cp:lastModifiedBy>1</cp:lastModifiedBy>
  <dcterms:modified xsi:type="dcterms:W3CDTF">2011-01-18T16:48:01Z</dcterms:modified>
  <cp:revision>7</cp:revision>
  <dc:subject/>
  <dc:title>Физика  в детских игрушках</dc:title>
</cp:coreProperties>
</file>