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5FB-82AB-453A-B09B-EDC94D21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6BA-7B1A-4781-9E9D-F4C14F77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432-6B73-4DAA-B161-453C112C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F67-D74B-4EE0-B72B-E2F279B1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7715-11A2-4CDA-8AA9-88CC094A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5E0F-EE26-4DAC-8784-98B8139D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9B4C-CE71-48A0-98DF-8152609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33E-3FA7-45A2-8F9E-85375585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7B18-2676-4E5C-B532-1417B9ED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AA56-8CFC-4915-8DF3-DCB996A6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C340-2FBA-474C-BA81-0F91DD88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3B4-20D0-4F98-B5E2-5DD5E4DF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2703-315D-42C0-821E-73A8F43E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6E39-FB6A-46FC-BD5C-F2ECE97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1B39-FE32-4721-96FB-861DA5A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938E-27BB-4AA0-AABD-769F35EE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C49C-C95C-4241-80BC-3DE61AFF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F2D0-EDED-4711-8393-C03E0C7B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C686-CD79-4BB2-85C6-17B382F2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743C-34F2-4225-9BE3-24C4CDA9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E427-77D5-4C9C-A0D8-C4B62787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632F-5A92-469F-B929-D2680B57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C59-C7CE-4BA7-A810-3B4F27E2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AE432-059D-4B0E-9790-5675D876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5EBA-B094-44F2-887D-0D063E54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4A05-870F-4389-90AE-6FB9DED3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D5CB-11AD-4095-A01D-C388BCFE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3EB5-D02C-460D-BEF3-00304C6D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D9C2-5E04-44B3-89F2-5DB25C02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F31C-C0F0-42CF-858B-73D0DFCE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F67E-B5D2-48D3-8C41-6B89C585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F3A3D-A85F-4B22-B7CF-4FA9EE6D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890F8-40E6-4578-A615-E1BCFD0B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4D6-5067-420F-9FC7-B681E669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EF8E-3D12-4017-A3F8-C9BE6660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6FEC5-427B-46F8-8EE6-59B36B2F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67C8-DCFC-4869-BC21-4D48F618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DF9C-E292-46A2-9A16-C4722B5D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CFB7-D709-4BD9-BCD2-5021B493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1E3B8-A992-406E-8F63-086B2B26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687C-F441-4B7B-9056-95FF1DFB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4423-E406-4E8F-AE65-E128CA33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4905-3E50-4D64-A18B-BDB921FA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4E1B-F1A8-48CB-93DB-44B9D919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534-6118-436D-AB00-F450879F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976C9-3D7A-4286-9E2D-28AA9342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34F8D-2324-4EF2-A586-FCD00F9D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91B05-7887-4B02-A637-5C54D60E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874E7-4BBE-40DA-8524-9CC012F0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CD87-3B41-4837-82FC-F22C1851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01056-BA6B-4872-B13B-3FA22660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8CDC-0765-43FA-9C61-58C219A6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1E1F-0809-4B0B-BC26-4AA3B9B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5F17A-AEB7-4142-9CF9-05301837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7266-251D-42C1-9B68-1FAE7C5B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34A-1A97-45F4-93D1-BFE1059C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CDC5E-D02E-4E5F-B054-328DB606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EEC58-3ADE-4EAB-9736-781F31B5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4B6F3-7B79-4E31-ADE6-43F30083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F43CD-8C5C-4DAB-A029-781811A1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9253-3E2D-457D-A7A5-E2F6849C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D7223-B736-420A-B93A-9A29E60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A16DC-8BC5-4513-97CD-31754273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51C6B-92FC-4CDD-8A71-FCC5B19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98CB7-549B-4929-A95B-FEDFE81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A6183-5BEE-47E2-B794-5C15003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0CF-10F0-4CED-BA9B-EC9D594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2F78-0267-4749-91C2-374969C1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0F32-0082-4DEF-948C-B7AFE6A9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ED006-8C48-41CE-8248-2390AA7F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3444B-CBD4-4C6E-852E-1CED229D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C569E-C2E9-49AA-BEDB-67DF0344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1F1E2-516D-4283-888A-D67559DF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A8ED3-FECF-4E64-A04E-745C6D3C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0784-9A7B-46E5-B392-96813DD5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959D0-B54A-4582-B820-9953AC7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8BC6C-B6A2-4611-8478-C95E2262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7CA-5041-4877-826A-AECF28CD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2473-E5F5-43D4-B02A-0EAFA6A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E40E4-6AB8-4BD7-A831-6DD3F68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F38DF-3CC3-4B8E-B513-9E97DDC9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E0CF-676E-4DE8-B3E2-18B6D6FB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AB6D6-BBCA-4422-B21B-35A89959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E66-A9D8-4900-BF33-105DDE5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447B-4CF6-464B-9F22-B9927854C08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4EED-9E6C-45D4-9785-61848994567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2398-F58B-4CC1-BA5B-DEDF6623819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FE17-6258-4707-8DC8-7897E92DD61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2FE9-CA2A-49E9-B504-48FDD2FE745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D0BE-6BEE-4EAF-AA6C-17E9265D291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1A6C-1E50-475E-AE75-C5289D5F3AD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380880" y="1981080"/>
            <a:ext cx="83822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ритет логических операций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рядок выполнения операций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вер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         конъюн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         дизъюн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гика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аука о законах и формах мышл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ми формами мышления являются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нятия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д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заключ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114300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яти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орма мышления, в которой отражаются существенные признаки отдельного предм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портфель, трапеция, ветер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ждение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ысль, в которой что- либо  утверждается или отрицается о предмет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весна пришл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14200" y="78588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озаключение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ем мышления , посредством которого из исходного знания получается новое                            зн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литий- метал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68580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е логических схем и устройств  ПК  лежит специальный математический аппарат , использующих законы математической лог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математической логике суждения наз-ся высказыва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казывание-это предложение , о котором можно сказать , истинно оно или лож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Земля- это планета                      истинно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   5х5=26                                         ложно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ысказывание 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инн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его значение равно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если 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ожн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стые высказывания назвали логическими переменными, а сложные – логическими функ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остоты записи высказывания обозначаются латинскими буквами А,В, С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у кошки 4 ноги                                А=1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 Курск –столица РФ                        В=0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логические операции.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457200" y="7621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ОНЪЮ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ует союзу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ается знаками ^  ,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аче называется логическое умно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ъюнкция двух логических переменных истинна тогда и только тогда, когда оба высказывания истин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истинности конъюнкции   имеет 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2133720" y="4191120"/>
            <a:ext cx="4266720" cy="2438280"/>
            <a:chOff x="2133720" y="4191120"/>
            <a:chExt cx="4266720" cy="2438280"/>
          </a:xfrm>
        </p:grpSpPr>
        <p:grpSp>
          <p:nvGrpSpPr>
            <p:cNvPr id="376" name="Group 48"/>
            <p:cNvGrpSpPr/>
            <p:nvPr/>
          </p:nvGrpSpPr>
          <p:grpSpPr>
            <a:xfrm>
              <a:off x="2141640" y="4194720"/>
              <a:ext cx="4249080" cy="2430720"/>
              <a:chOff x="2141640" y="4194720"/>
              <a:chExt cx="4249080" cy="2430720"/>
            </a:xfrm>
          </p:grpSpPr>
          <p:grpSp>
            <p:nvGrpSpPr>
              <p:cNvPr id="377" name="Group 19"/>
              <p:cNvGrpSpPr/>
              <p:nvPr/>
            </p:nvGrpSpPr>
            <p:grpSpPr>
              <a:xfrm>
                <a:off x="2141640" y="4194720"/>
                <a:ext cx="1416240" cy="486000"/>
                <a:chOff x="2141640" y="4194720"/>
                <a:chExt cx="1416240" cy="486000"/>
              </a:xfrm>
            </p:grpSpPr>
            <p:sp>
              <p:nvSpPr>
                <p:cNvPr id="378" name="Rectangle 3"/>
                <p:cNvSpPr/>
                <p:nvPr/>
              </p:nvSpPr>
              <p:spPr>
                <a:xfrm>
                  <a:off x="2261160" y="419472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18"/>
                <p:cNvSpPr/>
                <p:nvPr/>
              </p:nvSpPr>
              <p:spPr>
                <a:xfrm>
                  <a:off x="2141640" y="419472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1"/>
              <p:cNvGrpSpPr/>
              <p:nvPr/>
            </p:nvGrpSpPr>
            <p:grpSpPr>
              <a:xfrm>
                <a:off x="3558240" y="4194720"/>
                <a:ext cx="1415520" cy="486000"/>
                <a:chOff x="3558240" y="4194720"/>
                <a:chExt cx="1415520" cy="486000"/>
              </a:xfrm>
            </p:grpSpPr>
            <p:sp>
              <p:nvSpPr>
                <p:cNvPr id="381" name="Rectangle 4"/>
                <p:cNvSpPr/>
                <p:nvPr/>
              </p:nvSpPr>
              <p:spPr>
                <a:xfrm>
                  <a:off x="3677400" y="419472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20"/>
                <p:cNvSpPr/>
                <p:nvPr/>
              </p:nvSpPr>
              <p:spPr>
                <a:xfrm>
                  <a:off x="3558240" y="4194720"/>
                  <a:ext cx="14155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3"/>
              <p:cNvGrpSpPr/>
              <p:nvPr/>
            </p:nvGrpSpPr>
            <p:grpSpPr>
              <a:xfrm>
                <a:off x="4974480" y="4194720"/>
                <a:ext cx="1416240" cy="486000"/>
                <a:chOff x="4974480" y="4194720"/>
                <a:chExt cx="1416240" cy="486000"/>
              </a:xfrm>
            </p:grpSpPr>
            <p:sp>
              <p:nvSpPr>
                <p:cNvPr id="384" name="Rectangle 5"/>
                <p:cNvSpPr/>
                <p:nvPr/>
              </p:nvSpPr>
              <p:spPr>
                <a:xfrm>
                  <a:off x="5094000" y="419472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^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22"/>
                <p:cNvSpPr/>
                <p:nvPr/>
              </p:nvSpPr>
              <p:spPr>
                <a:xfrm>
                  <a:off x="4974480" y="419472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5"/>
              <p:cNvGrpSpPr/>
              <p:nvPr/>
            </p:nvGrpSpPr>
            <p:grpSpPr>
              <a:xfrm>
                <a:off x="2141640" y="4680720"/>
                <a:ext cx="1416240" cy="486360"/>
                <a:chOff x="2141640" y="4680720"/>
                <a:chExt cx="1416240" cy="486360"/>
              </a:xfrm>
            </p:grpSpPr>
            <p:sp>
              <p:nvSpPr>
                <p:cNvPr id="387" name="Rectangle 6"/>
                <p:cNvSpPr/>
                <p:nvPr/>
              </p:nvSpPr>
              <p:spPr>
                <a:xfrm>
                  <a:off x="2261160" y="468072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24"/>
                <p:cNvSpPr/>
                <p:nvPr/>
              </p:nvSpPr>
              <p:spPr>
                <a:xfrm>
                  <a:off x="2141640" y="4680720"/>
                  <a:ext cx="14162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27"/>
              <p:cNvGrpSpPr/>
              <p:nvPr/>
            </p:nvGrpSpPr>
            <p:grpSpPr>
              <a:xfrm>
                <a:off x="3558240" y="4680720"/>
                <a:ext cx="1415520" cy="486360"/>
                <a:chOff x="3558240" y="4680720"/>
                <a:chExt cx="1415520" cy="486360"/>
              </a:xfrm>
            </p:grpSpPr>
            <p:sp>
              <p:nvSpPr>
                <p:cNvPr id="390" name="Rectangle 7"/>
                <p:cNvSpPr/>
                <p:nvPr/>
              </p:nvSpPr>
              <p:spPr>
                <a:xfrm>
                  <a:off x="3677400" y="468072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26"/>
                <p:cNvSpPr/>
                <p:nvPr/>
              </p:nvSpPr>
              <p:spPr>
                <a:xfrm>
                  <a:off x="3558240" y="4680720"/>
                  <a:ext cx="141552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29"/>
              <p:cNvGrpSpPr/>
              <p:nvPr/>
            </p:nvGrpSpPr>
            <p:grpSpPr>
              <a:xfrm>
                <a:off x="4974480" y="4680720"/>
                <a:ext cx="1416240" cy="486360"/>
                <a:chOff x="4974480" y="4680720"/>
                <a:chExt cx="1416240" cy="486360"/>
              </a:xfrm>
            </p:grpSpPr>
            <p:sp>
              <p:nvSpPr>
                <p:cNvPr id="393" name="Rectangle 8"/>
                <p:cNvSpPr/>
                <p:nvPr/>
              </p:nvSpPr>
              <p:spPr>
                <a:xfrm>
                  <a:off x="5094000" y="468072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28"/>
                <p:cNvSpPr/>
                <p:nvPr/>
              </p:nvSpPr>
              <p:spPr>
                <a:xfrm>
                  <a:off x="4974480" y="4680720"/>
                  <a:ext cx="14162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Group 31"/>
              <p:cNvGrpSpPr/>
              <p:nvPr/>
            </p:nvGrpSpPr>
            <p:grpSpPr>
              <a:xfrm>
                <a:off x="2141640" y="5167080"/>
                <a:ext cx="1416240" cy="486000"/>
                <a:chOff x="2141640" y="5167080"/>
                <a:chExt cx="1416240" cy="486000"/>
              </a:xfrm>
            </p:grpSpPr>
            <p:sp>
              <p:nvSpPr>
                <p:cNvPr id="396" name="Rectangle 9"/>
                <p:cNvSpPr/>
                <p:nvPr/>
              </p:nvSpPr>
              <p:spPr>
                <a:xfrm>
                  <a:off x="2261160" y="516708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30"/>
                <p:cNvSpPr/>
                <p:nvPr/>
              </p:nvSpPr>
              <p:spPr>
                <a:xfrm>
                  <a:off x="2141640" y="516708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Group 33"/>
              <p:cNvGrpSpPr/>
              <p:nvPr/>
            </p:nvGrpSpPr>
            <p:grpSpPr>
              <a:xfrm>
                <a:off x="3558240" y="5167080"/>
                <a:ext cx="1415520" cy="486000"/>
                <a:chOff x="3558240" y="5167080"/>
                <a:chExt cx="1415520" cy="486000"/>
              </a:xfrm>
            </p:grpSpPr>
            <p:sp>
              <p:nvSpPr>
                <p:cNvPr id="399" name="Rectangle 10"/>
                <p:cNvSpPr/>
                <p:nvPr/>
              </p:nvSpPr>
              <p:spPr>
                <a:xfrm>
                  <a:off x="3677400" y="516708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Rectangle 32"/>
                <p:cNvSpPr/>
                <p:nvPr/>
              </p:nvSpPr>
              <p:spPr>
                <a:xfrm>
                  <a:off x="3558240" y="5167080"/>
                  <a:ext cx="14155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Group 35"/>
              <p:cNvGrpSpPr/>
              <p:nvPr/>
            </p:nvGrpSpPr>
            <p:grpSpPr>
              <a:xfrm>
                <a:off x="4974480" y="5167080"/>
                <a:ext cx="1416240" cy="486000"/>
                <a:chOff x="4974480" y="5167080"/>
                <a:chExt cx="1416240" cy="486000"/>
              </a:xfrm>
            </p:grpSpPr>
            <p:sp>
              <p:nvSpPr>
                <p:cNvPr id="402" name="Rectangle 11"/>
                <p:cNvSpPr/>
                <p:nvPr/>
              </p:nvSpPr>
              <p:spPr>
                <a:xfrm>
                  <a:off x="5094000" y="516708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34"/>
                <p:cNvSpPr/>
                <p:nvPr/>
              </p:nvSpPr>
              <p:spPr>
                <a:xfrm>
                  <a:off x="4974480" y="516708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37"/>
              <p:cNvGrpSpPr/>
              <p:nvPr/>
            </p:nvGrpSpPr>
            <p:grpSpPr>
              <a:xfrm>
                <a:off x="2141640" y="5653080"/>
                <a:ext cx="1416240" cy="486360"/>
                <a:chOff x="2141640" y="5653080"/>
                <a:chExt cx="1416240" cy="486360"/>
              </a:xfrm>
            </p:grpSpPr>
            <p:sp>
              <p:nvSpPr>
                <p:cNvPr id="405" name="Rectangle 12"/>
                <p:cNvSpPr/>
                <p:nvPr/>
              </p:nvSpPr>
              <p:spPr>
                <a:xfrm>
                  <a:off x="2261160" y="565308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36"/>
                <p:cNvSpPr/>
                <p:nvPr/>
              </p:nvSpPr>
              <p:spPr>
                <a:xfrm>
                  <a:off x="2141640" y="5653080"/>
                  <a:ext cx="14162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Group 39"/>
              <p:cNvGrpSpPr/>
              <p:nvPr/>
            </p:nvGrpSpPr>
            <p:grpSpPr>
              <a:xfrm>
                <a:off x="3558240" y="5653080"/>
                <a:ext cx="1415520" cy="486360"/>
                <a:chOff x="3558240" y="5653080"/>
                <a:chExt cx="1415520" cy="486360"/>
              </a:xfrm>
            </p:grpSpPr>
            <p:sp>
              <p:nvSpPr>
                <p:cNvPr id="408" name="Rectangle 13"/>
                <p:cNvSpPr/>
                <p:nvPr/>
              </p:nvSpPr>
              <p:spPr>
                <a:xfrm>
                  <a:off x="3677400" y="565308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38"/>
                <p:cNvSpPr/>
                <p:nvPr/>
              </p:nvSpPr>
              <p:spPr>
                <a:xfrm>
                  <a:off x="3558240" y="5653080"/>
                  <a:ext cx="141552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41"/>
              <p:cNvGrpSpPr/>
              <p:nvPr/>
            </p:nvGrpSpPr>
            <p:grpSpPr>
              <a:xfrm>
                <a:off x="4974480" y="5653080"/>
                <a:ext cx="1416240" cy="486360"/>
                <a:chOff x="4974480" y="5653080"/>
                <a:chExt cx="1416240" cy="486360"/>
              </a:xfrm>
            </p:grpSpPr>
            <p:sp>
              <p:nvSpPr>
                <p:cNvPr id="411" name="Rectangle 14"/>
                <p:cNvSpPr/>
                <p:nvPr/>
              </p:nvSpPr>
              <p:spPr>
                <a:xfrm>
                  <a:off x="5094000" y="5653080"/>
                  <a:ext cx="11764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40"/>
                <p:cNvSpPr/>
                <p:nvPr/>
              </p:nvSpPr>
              <p:spPr>
                <a:xfrm>
                  <a:off x="4974480" y="5653080"/>
                  <a:ext cx="14162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43"/>
              <p:cNvGrpSpPr/>
              <p:nvPr/>
            </p:nvGrpSpPr>
            <p:grpSpPr>
              <a:xfrm>
                <a:off x="2141640" y="6139440"/>
                <a:ext cx="1416240" cy="486000"/>
                <a:chOff x="2141640" y="6139440"/>
                <a:chExt cx="1416240" cy="486000"/>
              </a:xfrm>
            </p:grpSpPr>
            <p:sp>
              <p:nvSpPr>
                <p:cNvPr id="414" name="Rectangle 15"/>
                <p:cNvSpPr/>
                <p:nvPr/>
              </p:nvSpPr>
              <p:spPr>
                <a:xfrm>
                  <a:off x="2261160" y="613944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42"/>
                <p:cNvSpPr/>
                <p:nvPr/>
              </p:nvSpPr>
              <p:spPr>
                <a:xfrm>
                  <a:off x="2141640" y="613944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45"/>
              <p:cNvGrpSpPr/>
              <p:nvPr/>
            </p:nvGrpSpPr>
            <p:grpSpPr>
              <a:xfrm>
                <a:off x="3558240" y="6139440"/>
                <a:ext cx="1415520" cy="486000"/>
                <a:chOff x="3558240" y="6139440"/>
                <a:chExt cx="1415520" cy="486000"/>
              </a:xfrm>
            </p:grpSpPr>
            <p:sp>
              <p:nvSpPr>
                <p:cNvPr id="417" name="Rectangle 16"/>
                <p:cNvSpPr/>
                <p:nvPr/>
              </p:nvSpPr>
              <p:spPr>
                <a:xfrm>
                  <a:off x="3677400" y="613944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44"/>
                <p:cNvSpPr/>
                <p:nvPr/>
              </p:nvSpPr>
              <p:spPr>
                <a:xfrm>
                  <a:off x="3558240" y="6139440"/>
                  <a:ext cx="14155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47"/>
              <p:cNvGrpSpPr/>
              <p:nvPr/>
            </p:nvGrpSpPr>
            <p:grpSpPr>
              <a:xfrm>
                <a:off x="4974480" y="6139440"/>
                <a:ext cx="1416240" cy="486000"/>
                <a:chOff x="4974480" y="6139440"/>
                <a:chExt cx="1416240" cy="486000"/>
              </a:xfrm>
            </p:grpSpPr>
            <p:sp>
              <p:nvSpPr>
                <p:cNvPr id="420" name="Rectangle 17"/>
                <p:cNvSpPr/>
                <p:nvPr/>
              </p:nvSpPr>
              <p:spPr>
                <a:xfrm>
                  <a:off x="5094000" y="6139440"/>
                  <a:ext cx="11764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46"/>
                <p:cNvSpPr/>
                <p:nvPr/>
              </p:nvSpPr>
              <p:spPr>
                <a:xfrm>
                  <a:off x="4974480" y="6139440"/>
                  <a:ext cx="141624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2" name="Rectangle 49"/>
            <p:cNvSpPr/>
            <p:nvPr/>
          </p:nvSpPr>
          <p:spPr>
            <a:xfrm>
              <a:off x="2133720" y="4191120"/>
              <a:ext cx="4266720" cy="2438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71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ЗЪЮНКЦИ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ует союзу И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ается зна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аче называется логическое сло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зъюнкция двух логических переменных ложна тогда и только тогда, когда оба высказывания лож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истинности дизъюнкции   имеет 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Group 50"/>
          <p:cNvGrpSpPr/>
          <p:nvPr/>
        </p:nvGrpSpPr>
        <p:grpSpPr>
          <a:xfrm>
            <a:off x="2857680" y="4071960"/>
            <a:ext cx="3352320" cy="2603520"/>
            <a:chOff x="2857680" y="4071960"/>
            <a:chExt cx="3352320" cy="2603520"/>
          </a:xfrm>
        </p:grpSpPr>
        <p:grpSp>
          <p:nvGrpSpPr>
            <p:cNvPr id="425" name="Group 48"/>
            <p:cNvGrpSpPr/>
            <p:nvPr/>
          </p:nvGrpSpPr>
          <p:grpSpPr>
            <a:xfrm>
              <a:off x="2863800" y="4075920"/>
              <a:ext cx="3338640" cy="2594880"/>
              <a:chOff x="2863800" y="4075920"/>
              <a:chExt cx="3338640" cy="2594880"/>
            </a:xfrm>
          </p:grpSpPr>
          <p:grpSp>
            <p:nvGrpSpPr>
              <p:cNvPr id="426" name="Group 19"/>
              <p:cNvGrpSpPr/>
              <p:nvPr/>
            </p:nvGrpSpPr>
            <p:grpSpPr>
              <a:xfrm>
                <a:off x="2863800" y="4075920"/>
                <a:ext cx="1112760" cy="518760"/>
                <a:chOff x="2863800" y="4075920"/>
                <a:chExt cx="1112760" cy="518760"/>
              </a:xfrm>
            </p:grpSpPr>
            <p:sp>
              <p:nvSpPr>
                <p:cNvPr id="427" name="Rectangle 3"/>
                <p:cNvSpPr/>
                <p:nvPr/>
              </p:nvSpPr>
              <p:spPr>
                <a:xfrm>
                  <a:off x="2957760" y="407592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"/>
                <p:cNvSpPr/>
                <p:nvPr/>
              </p:nvSpPr>
              <p:spPr>
                <a:xfrm>
                  <a:off x="2863800" y="407592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Group 21"/>
              <p:cNvGrpSpPr/>
              <p:nvPr/>
            </p:nvGrpSpPr>
            <p:grpSpPr>
              <a:xfrm>
                <a:off x="3976920" y="4075920"/>
                <a:ext cx="1112040" cy="518760"/>
                <a:chOff x="3976920" y="4075920"/>
                <a:chExt cx="1112040" cy="518760"/>
              </a:xfrm>
            </p:grpSpPr>
            <p:sp>
              <p:nvSpPr>
                <p:cNvPr id="430" name="Rectangle 4"/>
                <p:cNvSpPr/>
                <p:nvPr/>
              </p:nvSpPr>
              <p:spPr>
                <a:xfrm>
                  <a:off x="4070520" y="4075920"/>
                  <a:ext cx="9241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20"/>
                <p:cNvSpPr/>
                <p:nvPr/>
              </p:nvSpPr>
              <p:spPr>
                <a:xfrm>
                  <a:off x="3976920" y="4075920"/>
                  <a:ext cx="11120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Group 23"/>
              <p:cNvGrpSpPr/>
              <p:nvPr/>
            </p:nvGrpSpPr>
            <p:grpSpPr>
              <a:xfrm>
                <a:off x="5089680" y="4075920"/>
                <a:ext cx="1112760" cy="518760"/>
                <a:chOff x="5089680" y="4075920"/>
                <a:chExt cx="1112760" cy="518760"/>
              </a:xfrm>
            </p:grpSpPr>
            <p:sp>
              <p:nvSpPr>
                <p:cNvPr id="433" name="Rectangle 5"/>
                <p:cNvSpPr/>
                <p:nvPr/>
              </p:nvSpPr>
              <p:spPr>
                <a:xfrm>
                  <a:off x="5183640" y="407592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v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22"/>
                <p:cNvSpPr/>
                <p:nvPr/>
              </p:nvSpPr>
              <p:spPr>
                <a:xfrm>
                  <a:off x="5089680" y="407592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Group 25"/>
              <p:cNvGrpSpPr/>
              <p:nvPr/>
            </p:nvGrpSpPr>
            <p:grpSpPr>
              <a:xfrm>
                <a:off x="2863800" y="4594680"/>
                <a:ext cx="1112760" cy="518760"/>
                <a:chOff x="2863800" y="4594680"/>
                <a:chExt cx="1112760" cy="518760"/>
              </a:xfrm>
            </p:grpSpPr>
            <p:sp>
              <p:nvSpPr>
                <p:cNvPr id="436" name="Rectangle 6"/>
                <p:cNvSpPr/>
                <p:nvPr/>
              </p:nvSpPr>
              <p:spPr>
                <a:xfrm>
                  <a:off x="2957760" y="459468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24"/>
                <p:cNvSpPr/>
                <p:nvPr/>
              </p:nvSpPr>
              <p:spPr>
                <a:xfrm>
                  <a:off x="2863800" y="459468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Group 27"/>
              <p:cNvGrpSpPr/>
              <p:nvPr/>
            </p:nvGrpSpPr>
            <p:grpSpPr>
              <a:xfrm>
                <a:off x="3976920" y="4594680"/>
                <a:ext cx="1112040" cy="518760"/>
                <a:chOff x="3976920" y="4594680"/>
                <a:chExt cx="1112040" cy="518760"/>
              </a:xfrm>
            </p:grpSpPr>
            <p:sp>
              <p:nvSpPr>
                <p:cNvPr id="439" name="Rectangle 7"/>
                <p:cNvSpPr/>
                <p:nvPr/>
              </p:nvSpPr>
              <p:spPr>
                <a:xfrm>
                  <a:off x="4070520" y="4594680"/>
                  <a:ext cx="9241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26"/>
                <p:cNvSpPr/>
                <p:nvPr/>
              </p:nvSpPr>
              <p:spPr>
                <a:xfrm>
                  <a:off x="3976920" y="4594680"/>
                  <a:ext cx="11120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Group 29"/>
              <p:cNvGrpSpPr/>
              <p:nvPr/>
            </p:nvGrpSpPr>
            <p:grpSpPr>
              <a:xfrm>
                <a:off x="5089680" y="4594680"/>
                <a:ext cx="1112760" cy="518760"/>
                <a:chOff x="5089680" y="4594680"/>
                <a:chExt cx="1112760" cy="518760"/>
              </a:xfrm>
            </p:grpSpPr>
            <p:sp>
              <p:nvSpPr>
                <p:cNvPr id="442" name="Rectangle 8"/>
                <p:cNvSpPr/>
                <p:nvPr/>
              </p:nvSpPr>
              <p:spPr>
                <a:xfrm>
                  <a:off x="5183640" y="459468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8"/>
                <p:cNvSpPr/>
                <p:nvPr/>
              </p:nvSpPr>
              <p:spPr>
                <a:xfrm>
                  <a:off x="5089680" y="459468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Group 31"/>
              <p:cNvGrpSpPr/>
              <p:nvPr/>
            </p:nvGrpSpPr>
            <p:grpSpPr>
              <a:xfrm>
                <a:off x="2863800" y="5113800"/>
                <a:ext cx="1112760" cy="519120"/>
                <a:chOff x="2863800" y="5113800"/>
                <a:chExt cx="1112760" cy="519120"/>
              </a:xfrm>
            </p:grpSpPr>
            <p:sp>
              <p:nvSpPr>
                <p:cNvPr id="445" name="Rectangle 9"/>
                <p:cNvSpPr/>
                <p:nvPr/>
              </p:nvSpPr>
              <p:spPr>
                <a:xfrm>
                  <a:off x="2957760" y="5113800"/>
                  <a:ext cx="9244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30"/>
                <p:cNvSpPr/>
                <p:nvPr/>
              </p:nvSpPr>
              <p:spPr>
                <a:xfrm>
                  <a:off x="2863800" y="5113800"/>
                  <a:ext cx="11127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Group 33"/>
              <p:cNvGrpSpPr/>
              <p:nvPr/>
            </p:nvGrpSpPr>
            <p:grpSpPr>
              <a:xfrm>
                <a:off x="3976920" y="5113800"/>
                <a:ext cx="1112040" cy="519120"/>
                <a:chOff x="3976920" y="5113800"/>
                <a:chExt cx="1112040" cy="519120"/>
              </a:xfrm>
            </p:grpSpPr>
            <p:sp>
              <p:nvSpPr>
                <p:cNvPr id="448" name="Rectangle 10"/>
                <p:cNvSpPr/>
                <p:nvPr/>
              </p:nvSpPr>
              <p:spPr>
                <a:xfrm>
                  <a:off x="4070520" y="5113800"/>
                  <a:ext cx="9241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Rectangle 32"/>
                <p:cNvSpPr/>
                <p:nvPr/>
              </p:nvSpPr>
              <p:spPr>
                <a:xfrm>
                  <a:off x="3976920" y="5113800"/>
                  <a:ext cx="11120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5089680" y="5113800"/>
                <a:ext cx="1112760" cy="519120"/>
                <a:chOff x="5089680" y="5113800"/>
                <a:chExt cx="1112760" cy="519120"/>
              </a:xfrm>
            </p:grpSpPr>
            <p:sp>
              <p:nvSpPr>
                <p:cNvPr id="451" name="Rectangle 11"/>
                <p:cNvSpPr/>
                <p:nvPr/>
              </p:nvSpPr>
              <p:spPr>
                <a:xfrm>
                  <a:off x="5183640" y="5113800"/>
                  <a:ext cx="9244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Rectangle 34"/>
                <p:cNvSpPr/>
                <p:nvPr/>
              </p:nvSpPr>
              <p:spPr>
                <a:xfrm>
                  <a:off x="5089680" y="5113800"/>
                  <a:ext cx="11127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Group 37"/>
              <p:cNvGrpSpPr/>
              <p:nvPr/>
            </p:nvGrpSpPr>
            <p:grpSpPr>
              <a:xfrm>
                <a:off x="2863800" y="5632920"/>
                <a:ext cx="1112760" cy="518760"/>
                <a:chOff x="2863800" y="5632920"/>
                <a:chExt cx="1112760" cy="518760"/>
              </a:xfrm>
            </p:grpSpPr>
            <p:sp>
              <p:nvSpPr>
                <p:cNvPr id="454" name="Rectangle 12"/>
                <p:cNvSpPr/>
                <p:nvPr/>
              </p:nvSpPr>
              <p:spPr>
                <a:xfrm>
                  <a:off x="2957760" y="563292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Rectangle 36"/>
                <p:cNvSpPr/>
                <p:nvPr/>
              </p:nvSpPr>
              <p:spPr>
                <a:xfrm>
                  <a:off x="2863800" y="563292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9"/>
              <p:cNvGrpSpPr/>
              <p:nvPr/>
            </p:nvGrpSpPr>
            <p:grpSpPr>
              <a:xfrm>
                <a:off x="3976920" y="5632920"/>
                <a:ext cx="1112040" cy="518760"/>
                <a:chOff x="3976920" y="5632920"/>
                <a:chExt cx="1112040" cy="518760"/>
              </a:xfrm>
            </p:grpSpPr>
            <p:sp>
              <p:nvSpPr>
                <p:cNvPr id="457" name="Rectangle 13"/>
                <p:cNvSpPr/>
                <p:nvPr/>
              </p:nvSpPr>
              <p:spPr>
                <a:xfrm>
                  <a:off x="4070520" y="5632920"/>
                  <a:ext cx="9241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Rectangle 38"/>
                <p:cNvSpPr/>
                <p:nvPr/>
              </p:nvSpPr>
              <p:spPr>
                <a:xfrm>
                  <a:off x="3976920" y="5632920"/>
                  <a:ext cx="111204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Group 41"/>
              <p:cNvGrpSpPr/>
              <p:nvPr/>
            </p:nvGrpSpPr>
            <p:grpSpPr>
              <a:xfrm>
                <a:off x="5089680" y="5632920"/>
                <a:ext cx="1112760" cy="518760"/>
                <a:chOff x="5089680" y="5632920"/>
                <a:chExt cx="1112760" cy="518760"/>
              </a:xfrm>
            </p:grpSpPr>
            <p:sp>
              <p:nvSpPr>
                <p:cNvPr id="460" name="Rectangle 14"/>
                <p:cNvSpPr/>
                <p:nvPr/>
              </p:nvSpPr>
              <p:spPr>
                <a:xfrm>
                  <a:off x="5183640" y="5632920"/>
                  <a:ext cx="92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Rectangle 40"/>
                <p:cNvSpPr/>
                <p:nvPr/>
              </p:nvSpPr>
              <p:spPr>
                <a:xfrm>
                  <a:off x="5089680" y="5632920"/>
                  <a:ext cx="11127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43"/>
              <p:cNvGrpSpPr/>
              <p:nvPr/>
            </p:nvGrpSpPr>
            <p:grpSpPr>
              <a:xfrm>
                <a:off x="2863800" y="6151680"/>
                <a:ext cx="1112760" cy="519120"/>
                <a:chOff x="2863800" y="6151680"/>
                <a:chExt cx="1112760" cy="519120"/>
              </a:xfrm>
            </p:grpSpPr>
            <p:sp>
              <p:nvSpPr>
                <p:cNvPr id="463" name="Rectangle 15"/>
                <p:cNvSpPr/>
                <p:nvPr/>
              </p:nvSpPr>
              <p:spPr>
                <a:xfrm>
                  <a:off x="2957760" y="6151680"/>
                  <a:ext cx="9244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Rectangle 42"/>
                <p:cNvSpPr/>
                <p:nvPr/>
              </p:nvSpPr>
              <p:spPr>
                <a:xfrm>
                  <a:off x="2863800" y="6151680"/>
                  <a:ext cx="11127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Group 45"/>
              <p:cNvGrpSpPr/>
              <p:nvPr/>
            </p:nvGrpSpPr>
            <p:grpSpPr>
              <a:xfrm>
                <a:off x="3976920" y="6151680"/>
                <a:ext cx="1112040" cy="519120"/>
                <a:chOff x="3976920" y="6151680"/>
                <a:chExt cx="1112040" cy="519120"/>
              </a:xfrm>
            </p:grpSpPr>
            <p:sp>
              <p:nvSpPr>
                <p:cNvPr id="466" name="Rectangle 16"/>
                <p:cNvSpPr/>
                <p:nvPr/>
              </p:nvSpPr>
              <p:spPr>
                <a:xfrm>
                  <a:off x="4070520" y="6151680"/>
                  <a:ext cx="9241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Rectangle 44"/>
                <p:cNvSpPr/>
                <p:nvPr/>
              </p:nvSpPr>
              <p:spPr>
                <a:xfrm>
                  <a:off x="3976920" y="6151680"/>
                  <a:ext cx="11120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Group 47"/>
              <p:cNvGrpSpPr/>
              <p:nvPr/>
            </p:nvGrpSpPr>
            <p:grpSpPr>
              <a:xfrm>
                <a:off x="5089680" y="6151680"/>
                <a:ext cx="1112760" cy="519120"/>
                <a:chOff x="5089680" y="6151680"/>
                <a:chExt cx="1112760" cy="519120"/>
              </a:xfrm>
            </p:grpSpPr>
            <p:sp>
              <p:nvSpPr>
                <p:cNvPr id="469" name="Rectangle 17"/>
                <p:cNvSpPr/>
                <p:nvPr/>
              </p:nvSpPr>
              <p:spPr>
                <a:xfrm>
                  <a:off x="5183640" y="6151680"/>
                  <a:ext cx="9244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Rectangle 46"/>
                <p:cNvSpPr/>
                <p:nvPr/>
              </p:nvSpPr>
              <p:spPr>
                <a:xfrm>
                  <a:off x="5089680" y="6151680"/>
                  <a:ext cx="11127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1" name="Rectangle 49"/>
            <p:cNvSpPr/>
            <p:nvPr/>
          </p:nvSpPr>
          <p:spPr>
            <a:xfrm>
              <a:off x="2857680" y="4071960"/>
              <a:ext cx="3352320" cy="2603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0" y="5000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ВЕР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ветствует  частице 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ается черточкой над имен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аче называется отриц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версия логической переменной ложна, если сама переменная истинна, и, наоборот, инверсия истинна, если переменная ложна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истинности инверсии  имеет 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Group 25"/>
          <p:cNvGrpSpPr/>
          <p:nvPr/>
        </p:nvGrpSpPr>
        <p:grpSpPr>
          <a:xfrm>
            <a:off x="3505320" y="4572000"/>
            <a:ext cx="1625400" cy="2054160"/>
            <a:chOff x="3505320" y="4572000"/>
            <a:chExt cx="1625400" cy="2054160"/>
          </a:xfrm>
        </p:grpSpPr>
        <p:grpSp>
          <p:nvGrpSpPr>
            <p:cNvPr id="474" name="Group 23"/>
            <p:cNvGrpSpPr/>
            <p:nvPr/>
          </p:nvGrpSpPr>
          <p:grpSpPr>
            <a:xfrm>
              <a:off x="3510000" y="4576680"/>
              <a:ext cx="1616040" cy="2044800"/>
              <a:chOff x="3510000" y="4576680"/>
              <a:chExt cx="1616040" cy="2044800"/>
            </a:xfrm>
          </p:grpSpPr>
          <p:grpSp>
            <p:nvGrpSpPr>
              <p:cNvPr id="475" name="Group 12"/>
              <p:cNvGrpSpPr/>
              <p:nvPr/>
            </p:nvGrpSpPr>
            <p:grpSpPr>
              <a:xfrm>
                <a:off x="3510000" y="4576680"/>
                <a:ext cx="808200" cy="793800"/>
                <a:chOff x="3510000" y="4576680"/>
                <a:chExt cx="808200" cy="793800"/>
              </a:xfrm>
            </p:grpSpPr>
            <p:sp>
              <p:nvSpPr>
                <p:cNvPr id="476" name="Rectangle 4"/>
                <p:cNvSpPr/>
                <p:nvPr/>
              </p:nvSpPr>
              <p:spPr>
                <a:xfrm>
                  <a:off x="3578400" y="4576680"/>
                  <a:ext cx="67140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Rectangle 11"/>
                <p:cNvSpPr/>
                <p:nvPr/>
              </p:nvSpPr>
              <p:spPr>
                <a:xfrm>
                  <a:off x="3510000" y="4576680"/>
                  <a:ext cx="80820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Group 14"/>
              <p:cNvGrpSpPr/>
              <p:nvPr/>
            </p:nvGrpSpPr>
            <p:grpSpPr>
              <a:xfrm>
                <a:off x="4318200" y="4576680"/>
                <a:ext cx="807840" cy="793800"/>
                <a:chOff x="4318200" y="4576680"/>
                <a:chExt cx="807840" cy="793800"/>
              </a:xfrm>
            </p:grpSpPr>
            <p:sp>
              <p:nvSpPr>
                <p:cNvPr id="479" name="Rectangle 5"/>
                <p:cNvSpPr/>
                <p:nvPr/>
              </p:nvSpPr>
              <p:spPr>
                <a:xfrm>
                  <a:off x="4386240" y="4576680"/>
                  <a:ext cx="671400" cy="79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Rectangle 13"/>
                <p:cNvSpPr/>
                <p:nvPr/>
              </p:nvSpPr>
              <p:spPr>
                <a:xfrm>
                  <a:off x="4318200" y="4576680"/>
                  <a:ext cx="807840" cy="79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Group 16"/>
              <p:cNvGrpSpPr/>
              <p:nvPr/>
            </p:nvGrpSpPr>
            <p:grpSpPr>
              <a:xfrm>
                <a:off x="3510000" y="5370480"/>
                <a:ext cx="808200" cy="625320"/>
                <a:chOff x="3510000" y="5370480"/>
                <a:chExt cx="808200" cy="625320"/>
              </a:xfrm>
            </p:grpSpPr>
            <p:sp>
              <p:nvSpPr>
                <p:cNvPr id="482" name="Rectangle 7"/>
                <p:cNvSpPr/>
                <p:nvPr/>
              </p:nvSpPr>
              <p:spPr>
                <a:xfrm>
                  <a:off x="3578400" y="5370480"/>
                  <a:ext cx="67140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Rectangle 15"/>
                <p:cNvSpPr/>
                <p:nvPr/>
              </p:nvSpPr>
              <p:spPr>
                <a:xfrm>
                  <a:off x="3510000" y="5370480"/>
                  <a:ext cx="808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18"/>
              <p:cNvGrpSpPr/>
              <p:nvPr/>
            </p:nvGrpSpPr>
            <p:grpSpPr>
              <a:xfrm>
                <a:off x="4318200" y="5370480"/>
                <a:ext cx="807840" cy="625320"/>
                <a:chOff x="4318200" y="5370480"/>
                <a:chExt cx="807840" cy="625320"/>
              </a:xfrm>
            </p:grpSpPr>
            <p:sp>
              <p:nvSpPr>
                <p:cNvPr id="485" name="Rectangle 8"/>
                <p:cNvSpPr/>
                <p:nvPr/>
              </p:nvSpPr>
              <p:spPr>
                <a:xfrm>
                  <a:off x="4386240" y="5370480"/>
                  <a:ext cx="67140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Rectangle 17"/>
                <p:cNvSpPr/>
                <p:nvPr/>
              </p:nvSpPr>
              <p:spPr>
                <a:xfrm>
                  <a:off x="4318200" y="5370480"/>
                  <a:ext cx="80784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Group 20"/>
              <p:cNvGrpSpPr/>
              <p:nvPr/>
            </p:nvGrpSpPr>
            <p:grpSpPr>
              <a:xfrm>
                <a:off x="3510000" y="5995800"/>
                <a:ext cx="808200" cy="625680"/>
                <a:chOff x="3510000" y="5995800"/>
                <a:chExt cx="808200" cy="625680"/>
              </a:xfrm>
            </p:grpSpPr>
            <p:sp>
              <p:nvSpPr>
                <p:cNvPr id="488" name="Rectangle 9"/>
                <p:cNvSpPr/>
                <p:nvPr/>
              </p:nvSpPr>
              <p:spPr>
                <a:xfrm>
                  <a:off x="3578400" y="5995800"/>
                  <a:ext cx="6714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Rectangle 19"/>
                <p:cNvSpPr/>
                <p:nvPr/>
              </p:nvSpPr>
              <p:spPr>
                <a:xfrm>
                  <a:off x="3510000" y="5995800"/>
                  <a:ext cx="808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Group 22"/>
              <p:cNvGrpSpPr/>
              <p:nvPr/>
            </p:nvGrpSpPr>
            <p:grpSpPr>
              <a:xfrm>
                <a:off x="4318200" y="5995800"/>
                <a:ext cx="807840" cy="625680"/>
                <a:chOff x="4318200" y="5995800"/>
                <a:chExt cx="807840" cy="625680"/>
              </a:xfrm>
            </p:grpSpPr>
            <p:sp>
              <p:nvSpPr>
                <p:cNvPr id="491" name="Rectangle 10"/>
                <p:cNvSpPr/>
                <p:nvPr/>
              </p:nvSpPr>
              <p:spPr>
                <a:xfrm>
                  <a:off x="4386240" y="5995800"/>
                  <a:ext cx="6714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13364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Rectangle 21"/>
                <p:cNvSpPr/>
                <p:nvPr/>
              </p:nvSpPr>
              <p:spPr>
                <a:xfrm>
                  <a:off x="4318200" y="5995800"/>
                  <a:ext cx="80784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Rectangle 24"/>
            <p:cNvSpPr/>
            <p:nvPr/>
          </p:nvSpPr>
          <p:spPr>
            <a:xfrm>
              <a:off x="3505320" y="4572000"/>
              <a:ext cx="1625400" cy="205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Line 26"/>
          <p:cNvSpPr/>
          <p:nvPr/>
        </p:nvSpPr>
        <p:spPr>
          <a:xfrm>
            <a:off x="2249640" y="38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28"/>
          <p:cNvSpPr/>
          <p:nvPr/>
        </p:nvSpPr>
        <p:spPr>
          <a:xfrm>
            <a:off x="4343400" y="4724280"/>
            <a:ext cx="67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33"/>
          <p:cNvSpPr/>
          <p:nvPr/>
        </p:nvSpPr>
        <p:spPr>
          <a:xfrm>
            <a:off x="4572000" y="47242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9:58:49Z</dcterms:created>
  <dc:creator>Учитель</dc:creator>
  <dc:description/>
  <dc:language>en-US</dc:language>
  <cp:lastModifiedBy>Student07</cp:lastModifiedBy>
  <dcterms:modified xsi:type="dcterms:W3CDTF">2012-11-13T10:34:10Z</dcterms:modified>
  <cp:revision>8</cp:revision>
  <dc:subject/>
  <dc:title>Формы   мышления. Алгебра   высказываний.</dc:title>
</cp:coreProperties>
</file>