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DA5-2C59-49EF-BF40-AF112628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B17-3408-4925-B58C-33D4DC84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476-EA9C-4F24-9CE8-9FAC3271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5EC-8278-4E07-820F-76614E9D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F516-9BFB-41CA-A18F-0FB18B67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4F62-BDE8-4D38-A92E-6454657D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529-CFBA-476A-A6E6-D5B98F1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2188-0D22-4F63-982D-9670CB3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6F91-58A2-44F2-8577-D2E275B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19D-C26C-46ED-94B9-1B2D0063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0D9-F9CE-4E5C-BAE0-AE4FD13B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4CD-6DD0-4A15-87D5-8D3D3C3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42E7-8FB5-4C2F-A4C3-107C5CA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0BB9-22F7-4403-BC3B-F0720BF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0FDC-AC9E-4BEB-AF71-19CE57A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F025-F8F5-4183-B96B-B667BB69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38B6-9C58-40C8-9349-290F139D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DE11-C809-421E-BEDC-8D69FBE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E61D-94FE-4274-8750-18D08F7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D95C-F8AB-4AD9-BEDD-2031C2F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CF24-C95A-49F4-BA51-8030FB7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DAB0-F6BC-4B43-8DFC-5CAE46A1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D0F-C988-42DB-9208-41949B5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6C93-EFE4-47F2-BF0C-E97A738A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C8B4-E111-41E9-B7BA-CFD31E9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46A9-C6AC-4CDB-86CC-444E019B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F5B7-0566-4B8D-804A-D6AEC98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B73A-A390-40A0-95E4-4DE70EC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648F-29EF-40FD-BF32-15277FD6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83AF-7F91-468C-ACC2-8DAC7532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AFAC-8ECD-44E5-A13D-1795E67E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777D-E3A6-4140-AF89-EE009B7C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54DE-0F07-4531-B8F6-10866AA3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651-8056-46CE-AFAA-84A8909E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8F88-56CC-4F1D-A05B-D7A23D5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8641-0499-4DD1-842B-2FCD605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D585-1AF2-4342-B296-8DE39A3B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5BD6-07EF-49CC-A051-8938ADB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D4C7-B387-4076-85A2-00C50DD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5AB2-7DB9-478F-888A-179398CA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142B-E901-41D8-A769-6C2EA3B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5E56-8CC2-43C8-9B4C-93203172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01BF4-9E3A-43C8-B7C6-860D626E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943A-7AC8-42A2-9667-8084E05A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486-4D1F-43BF-9FC6-93F09024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24A6-13BF-4CA2-A3D0-A247B11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236B5-2222-45A4-984A-B039165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7C8D-E747-4E37-B298-C7A958D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489D-5CAA-477C-A7E7-A4D861AD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CA39-930E-46EF-B27C-55D7237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FD23-248F-4BC6-8802-B06B23C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6C72-7F62-46D3-A077-848C638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3284-842D-449D-A6EC-083D2B6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6485-B1B2-4C16-84CF-32BFD46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EBE11-2F5D-48B5-A09D-7B599E54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8BC-57BE-48D3-BB36-9CF5269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3227-C719-4ADB-8851-AEEA99D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C8F0-3770-4AB3-8DE0-868A1121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1835-D579-4BF6-AA6C-D60D160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03EC-5621-4FB5-B622-0E3E96A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388F-7C4E-4059-A502-9DFC1F29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AFC05-C2E6-4496-B3BD-BCECDBF3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F009-1A8D-434E-ABEA-6284B8A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3F6D-60DB-4235-9C9E-62E22BB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0F73-DD78-4D3A-9E78-D9D9E72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E32E-E307-4430-A9DC-6D82A94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8B5-64B6-43C6-BD43-DB8C5AF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5114-4087-468F-AE84-A4DFF68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ECA8-681D-4C21-BDAB-62085EBB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E721-9EBD-4E06-813F-95FBD112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C1EF-D89B-48B8-BC82-A14505A0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C0DEA-D481-440F-AEA7-FC03C98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EEFB-E8DE-41B1-B8B4-FC464CF3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711A-9E44-40B8-AD1C-F9116748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EC84-1E60-4382-B8DD-43F0DEE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F73F-D841-49BE-843A-D3DAFC5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60461-0F98-4560-8740-1162775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619-1C88-4F4E-9F91-2FC1707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5AEE9-4DBA-48C2-99CB-3356ED6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6512-B656-4269-8591-8FBE3C1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FC08-3425-46DB-9734-B2EE9A04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19E2-7D29-4A7C-A59E-D0A5F361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B02F-5B98-4259-8E36-431F5C61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229-88C7-482E-86A1-37AA149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BF3-16F1-4512-ADD9-66292A1AB32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D2D-8A80-4301-BAE1-9FE67724EA2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9AF6-634F-463F-B23B-DFE74334013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392A-F7E9-4DF0-BD44-98AFC007A05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EBF3-713A-4E18-9E5F-AE3DA3988FD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073-A8A2-42D4-9950-58397F5135E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124-679D-44AD-AA2C-6B97FB0AE41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0880" y="1981080"/>
            <a:ext cx="83822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 логических операций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рядок выполнения операций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вер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         конъюн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         дизъюн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гика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аука о законах и формах мышл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ми формами мышления являются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ятия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д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заключ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11430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яти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орма мышления, в которой отражаются существенные признаки отдельного предм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портфель, трапеция, ветер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ждение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ысль, в которой что- либо  утверждается или отрицается о предме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весна пришл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14200" y="7858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озаключение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ем мышления , посредством которого из исходного знания получается новое                            зн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литий- метал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6858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логических схем и устройств  ПК  лежит специальный математический аппарат , использующих законы математической лог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математической логике суждения наз-ся высказыва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казывание-это предложение , о котором можно сказать , истинно оно или лож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Земля- это планета                      истинно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   5х5=26                                         ложно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сказывание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ин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го значение равн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сли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ож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стые высказывания назвали логическими переменными, а сложные – логическими функ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стоты записи высказывания обозначаются латинскими буквами А,В, С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у кошки 4 ноги                                А=1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 Курск –столица РФ                        В=0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логические операции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457200" y="7621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ЪЮ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союзу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знаками ^  ,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логическое умн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ъюнкция двух логических переменных истинна тогда и только тогда, когда оба высказывания истин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конъюнкции 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2133720" y="4191120"/>
            <a:ext cx="4266720" cy="2438280"/>
            <a:chOff x="2133720" y="4191120"/>
            <a:chExt cx="4266720" cy="2438280"/>
          </a:xfrm>
        </p:grpSpPr>
        <p:grpSp>
          <p:nvGrpSpPr>
            <p:cNvPr id="376" name="Group 48"/>
            <p:cNvGrpSpPr/>
            <p:nvPr/>
          </p:nvGrpSpPr>
          <p:grpSpPr>
            <a:xfrm>
              <a:off x="2141640" y="4194720"/>
              <a:ext cx="4249080" cy="2430720"/>
              <a:chOff x="2141640" y="4194720"/>
              <a:chExt cx="4249080" cy="2430720"/>
            </a:xfrm>
          </p:grpSpPr>
          <p:grpSp>
            <p:nvGrpSpPr>
              <p:cNvPr id="377" name="Group 19"/>
              <p:cNvGrpSpPr/>
              <p:nvPr/>
            </p:nvGrpSpPr>
            <p:grpSpPr>
              <a:xfrm>
                <a:off x="2141640" y="4194720"/>
                <a:ext cx="1416240" cy="486000"/>
                <a:chOff x="2141640" y="4194720"/>
                <a:chExt cx="1416240" cy="486000"/>
              </a:xfrm>
            </p:grpSpPr>
            <p:sp>
              <p:nvSpPr>
                <p:cNvPr id="378" name="Rectangle 3"/>
                <p:cNvSpPr/>
                <p:nvPr/>
              </p:nvSpPr>
              <p:spPr>
                <a:xfrm>
                  <a:off x="226116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18"/>
                <p:cNvSpPr/>
                <p:nvPr/>
              </p:nvSpPr>
              <p:spPr>
                <a:xfrm>
                  <a:off x="2141640" y="419472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1"/>
              <p:cNvGrpSpPr/>
              <p:nvPr/>
            </p:nvGrpSpPr>
            <p:grpSpPr>
              <a:xfrm>
                <a:off x="3558240" y="4194720"/>
                <a:ext cx="1415520" cy="486000"/>
                <a:chOff x="3558240" y="4194720"/>
                <a:chExt cx="1415520" cy="486000"/>
              </a:xfrm>
            </p:grpSpPr>
            <p:sp>
              <p:nvSpPr>
                <p:cNvPr id="381" name="Rectangle 4"/>
                <p:cNvSpPr/>
                <p:nvPr/>
              </p:nvSpPr>
              <p:spPr>
                <a:xfrm>
                  <a:off x="367740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0"/>
                <p:cNvSpPr/>
                <p:nvPr/>
              </p:nvSpPr>
              <p:spPr>
                <a:xfrm>
                  <a:off x="3558240" y="419472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"/>
              <p:cNvGrpSpPr/>
              <p:nvPr/>
            </p:nvGrpSpPr>
            <p:grpSpPr>
              <a:xfrm>
                <a:off x="4974480" y="4194720"/>
                <a:ext cx="1416240" cy="486000"/>
                <a:chOff x="4974480" y="4194720"/>
                <a:chExt cx="1416240" cy="486000"/>
              </a:xfrm>
            </p:grpSpPr>
            <p:sp>
              <p:nvSpPr>
                <p:cNvPr id="384" name="Rectangle 5"/>
                <p:cNvSpPr/>
                <p:nvPr/>
              </p:nvSpPr>
              <p:spPr>
                <a:xfrm>
                  <a:off x="509400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^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22"/>
                <p:cNvSpPr/>
                <p:nvPr/>
              </p:nvSpPr>
              <p:spPr>
                <a:xfrm>
                  <a:off x="4974480" y="419472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5"/>
              <p:cNvGrpSpPr/>
              <p:nvPr/>
            </p:nvGrpSpPr>
            <p:grpSpPr>
              <a:xfrm>
                <a:off x="2141640" y="4680720"/>
                <a:ext cx="1416240" cy="486360"/>
                <a:chOff x="2141640" y="4680720"/>
                <a:chExt cx="1416240" cy="486360"/>
              </a:xfrm>
            </p:grpSpPr>
            <p:sp>
              <p:nvSpPr>
                <p:cNvPr id="387" name="Rectangle 6"/>
                <p:cNvSpPr/>
                <p:nvPr/>
              </p:nvSpPr>
              <p:spPr>
                <a:xfrm>
                  <a:off x="226116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24"/>
                <p:cNvSpPr/>
                <p:nvPr/>
              </p:nvSpPr>
              <p:spPr>
                <a:xfrm>
                  <a:off x="2141640" y="468072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27"/>
              <p:cNvGrpSpPr/>
              <p:nvPr/>
            </p:nvGrpSpPr>
            <p:grpSpPr>
              <a:xfrm>
                <a:off x="3558240" y="4680720"/>
                <a:ext cx="1415520" cy="486360"/>
                <a:chOff x="3558240" y="4680720"/>
                <a:chExt cx="1415520" cy="486360"/>
              </a:xfrm>
            </p:grpSpPr>
            <p:sp>
              <p:nvSpPr>
                <p:cNvPr id="390" name="Rectangle 7"/>
                <p:cNvSpPr/>
                <p:nvPr/>
              </p:nvSpPr>
              <p:spPr>
                <a:xfrm>
                  <a:off x="367740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26"/>
                <p:cNvSpPr/>
                <p:nvPr/>
              </p:nvSpPr>
              <p:spPr>
                <a:xfrm>
                  <a:off x="3558240" y="4680720"/>
                  <a:ext cx="141552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29"/>
              <p:cNvGrpSpPr/>
              <p:nvPr/>
            </p:nvGrpSpPr>
            <p:grpSpPr>
              <a:xfrm>
                <a:off x="4974480" y="4680720"/>
                <a:ext cx="1416240" cy="486360"/>
                <a:chOff x="4974480" y="4680720"/>
                <a:chExt cx="1416240" cy="486360"/>
              </a:xfrm>
            </p:grpSpPr>
            <p:sp>
              <p:nvSpPr>
                <p:cNvPr id="393" name="Rectangle 8"/>
                <p:cNvSpPr/>
                <p:nvPr/>
              </p:nvSpPr>
              <p:spPr>
                <a:xfrm>
                  <a:off x="509400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28"/>
                <p:cNvSpPr/>
                <p:nvPr/>
              </p:nvSpPr>
              <p:spPr>
                <a:xfrm>
                  <a:off x="4974480" y="468072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31"/>
              <p:cNvGrpSpPr/>
              <p:nvPr/>
            </p:nvGrpSpPr>
            <p:grpSpPr>
              <a:xfrm>
                <a:off x="2141640" y="5167080"/>
                <a:ext cx="1416240" cy="486000"/>
                <a:chOff x="2141640" y="5167080"/>
                <a:chExt cx="1416240" cy="486000"/>
              </a:xfrm>
            </p:grpSpPr>
            <p:sp>
              <p:nvSpPr>
                <p:cNvPr id="396" name="Rectangle 9"/>
                <p:cNvSpPr/>
                <p:nvPr/>
              </p:nvSpPr>
              <p:spPr>
                <a:xfrm>
                  <a:off x="226116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30"/>
                <p:cNvSpPr/>
                <p:nvPr/>
              </p:nvSpPr>
              <p:spPr>
                <a:xfrm>
                  <a:off x="2141640" y="516708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33"/>
              <p:cNvGrpSpPr/>
              <p:nvPr/>
            </p:nvGrpSpPr>
            <p:grpSpPr>
              <a:xfrm>
                <a:off x="3558240" y="5167080"/>
                <a:ext cx="1415520" cy="486000"/>
                <a:chOff x="3558240" y="5167080"/>
                <a:chExt cx="1415520" cy="486000"/>
              </a:xfrm>
            </p:grpSpPr>
            <p:sp>
              <p:nvSpPr>
                <p:cNvPr id="399" name="Rectangle 10"/>
                <p:cNvSpPr/>
                <p:nvPr/>
              </p:nvSpPr>
              <p:spPr>
                <a:xfrm>
                  <a:off x="367740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32"/>
                <p:cNvSpPr/>
                <p:nvPr/>
              </p:nvSpPr>
              <p:spPr>
                <a:xfrm>
                  <a:off x="3558240" y="516708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35"/>
              <p:cNvGrpSpPr/>
              <p:nvPr/>
            </p:nvGrpSpPr>
            <p:grpSpPr>
              <a:xfrm>
                <a:off x="4974480" y="5167080"/>
                <a:ext cx="1416240" cy="486000"/>
                <a:chOff x="4974480" y="5167080"/>
                <a:chExt cx="1416240" cy="486000"/>
              </a:xfrm>
            </p:grpSpPr>
            <p:sp>
              <p:nvSpPr>
                <p:cNvPr id="402" name="Rectangle 11"/>
                <p:cNvSpPr/>
                <p:nvPr/>
              </p:nvSpPr>
              <p:spPr>
                <a:xfrm>
                  <a:off x="509400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34"/>
                <p:cNvSpPr/>
                <p:nvPr/>
              </p:nvSpPr>
              <p:spPr>
                <a:xfrm>
                  <a:off x="4974480" y="516708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37"/>
              <p:cNvGrpSpPr/>
              <p:nvPr/>
            </p:nvGrpSpPr>
            <p:grpSpPr>
              <a:xfrm>
                <a:off x="2141640" y="5653080"/>
                <a:ext cx="1416240" cy="486360"/>
                <a:chOff x="2141640" y="5653080"/>
                <a:chExt cx="1416240" cy="486360"/>
              </a:xfrm>
            </p:grpSpPr>
            <p:sp>
              <p:nvSpPr>
                <p:cNvPr id="405" name="Rectangle 12"/>
                <p:cNvSpPr/>
                <p:nvPr/>
              </p:nvSpPr>
              <p:spPr>
                <a:xfrm>
                  <a:off x="226116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36"/>
                <p:cNvSpPr/>
                <p:nvPr/>
              </p:nvSpPr>
              <p:spPr>
                <a:xfrm>
                  <a:off x="2141640" y="565308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39"/>
              <p:cNvGrpSpPr/>
              <p:nvPr/>
            </p:nvGrpSpPr>
            <p:grpSpPr>
              <a:xfrm>
                <a:off x="3558240" y="5653080"/>
                <a:ext cx="1415520" cy="486360"/>
                <a:chOff x="3558240" y="5653080"/>
                <a:chExt cx="1415520" cy="486360"/>
              </a:xfrm>
            </p:grpSpPr>
            <p:sp>
              <p:nvSpPr>
                <p:cNvPr id="408" name="Rectangle 13"/>
                <p:cNvSpPr/>
                <p:nvPr/>
              </p:nvSpPr>
              <p:spPr>
                <a:xfrm>
                  <a:off x="367740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38"/>
                <p:cNvSpPr/>
                <p:nvPr/>
              </p:nvSpPr>
              <p:spPr>
                <a:xfrm>
                  <a:off x="3558240" y="5653080"/>
                  <a:ext cx="141552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41"/>
              <p:cNvGrpSpPr/>
              <p:nvPr/>
            </p:nvGrpSpPr>
            <p:grpSpPr>
              <a:xfrm>
                <a:off x="4974480" y="5653080"/>
                <a:ext cx="1416240" cy="486360"/>
                <a:chOff x="4974480" y="5653080"/>
                <a:chExt cx="1416240" cy="486360"/>
              </a:xfrm>
            </p:grpSpPr>
            <p:sp>
              <p:nvSpPr>
                <p:cNvPr id="411" name="Rectangle 14"/>
                <p:cNvSpPr/>
                <p:nvPr/>
              </p:nvSpPr>
              <p:spPr>
                <a:xfrm>
                  <a:off x="509400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40"/>
                <p:cNvSpPr/>
                <p:nvPr/>
              </p:nvSpPr>
              <p:spPr>
                <a:xfrm>
                  <a:off x="4974480" y="565308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43"/>
              <p:cNvGrpSpPr/>
              <p:nvPr/>
            </p:nvGrpSpPr>
            <p:grpSpPr>
              <a:xfrm>
                <a:off x="2141640" y="6139440"/>
                <a:ext cx="1416240" cy="486000"/>
                <a:chOff x="2141640" y="6139440"/>
                <a:chExt cx="1416240" cy="486000"/>
              </a:xfrm>
            </p:grpSpPr>
            <p:sp>
              <p:nvSpPr>
                <p:cNvPr id="414" name="Rectangle 15"/>
                <p:cNvSpPr/>
                <p:nvPr/>
              </p:nvSpPr>
              <p:spPr>
                <a:xfrm>
                  <a:off x="226116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42"/>
                <p:cNvSpPr/>
                <p:nvPr/>
              </p:nvSpPr>
              <p:spPr>
                <a:xfrm>
                  <a:off x="2141640" y="613944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45"/>
              <p:cNvGrpSpPr/>
              <p:nvPr/>
            </p:nvGrpSpPr>
            <p:grpSpPr>
              <a:xfrm>
                <a:off x="3558240" y="6139440"/>
                <a:ext cx="1415520" cy="486000"/>
                <a:chOff x="3558240" y="6139440"/>
                <a:chExt cx="1415520" cy="486000"/>
              </a:xfrm>
            </p:grpSpPr>
            <p:sp>
              <p:nvSpPr>
                <p:cNvPr id="417" name="Rectangle 16"/>
                <p:cNvSpPr/>
                <p:nvPr/>
              </p:nvSpPr>
              <p:spPr>
                <a:xfrm>
                  <a:off x="367740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44"/>
                <p:cNvSpPr/>
                <p:nvPr/>
              </p:nvSpPr>
              <p:spPr>
                <a:xfrm>
                  <a:off x="3558240" y="613944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47"/>
              <p:cNvGrpSpPr/>
              <p:nvPr/>
            </p:nvGrpSpPr>
            <p:grpSpPr>
              <a:xfrm>
                <a:off x="4974480" y="6139440"/>
                <a:ext cx="1416240" cy="486000"/>
                <a:chOff x="4974480" y="6139440"/>
                <a:chExt cx="1416240" cy="486000"/>
              </a:xfrm>
            </p:grpSpPr>
            <p:sp>
              <p:nvSpPr>
                <p:cNvPr id="420" name="Rectangle 17"/>
                <p:cNvSpPr/>
                <p:nvPr/>
              </p:nvSpPr>
              <p:spPr>
                <a:xfrm>
                  <a:off x="509400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46"/>
                <p:cNvSpPr/>
                <p:nvPr/>
              </p:nvSpPr>
              <p:spPr>
                <a:xfrm>
                  <a:off x="4974480" y="613944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Rectangle 49"/>
            <p:cNvSpPr/>
            <p:nvPr/>
          </p:nvSpPr>
          <p:spPr>
            <a:xfrm>
              <a:off x="2133720" y="4191120"/>
              <a:ext cx="4266720" cy="2438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71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ЗЪЮНКЦИ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союзу 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зна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логическое сл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зъюнкция двух логических переменных ложна тогда и только тогда, когда оба высказывания лож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дизъюнкции 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50"/>
          <p:cNvGrpSpPr/>
          <p:nvPr/>
        </p:nvGrpSpPr>
        <p:grpSpPr>
          <a:xfrm>
            <a:off x="2857680" y="4071960"/>
            <a:ext cx="3352320" cy="2603520"/>
            <a:chOff x="2857680" y="4071960"/>
            <a:chExt cx="3352320" cy="2603520"/>
          </a:xfrm>
        </p:grpSpPr>
        <p:grpSp>
          <p:nvGrpSpPr>
            <p:cNvPr id="425" name="Group 48"/>
            <p:cNvGrpSpPr/>
            <p:nvPr/>
          </p:nvGrpSpPr>
          <p:grpSpPr>
            <a:xfrm>
              <a:off x="2863800" y="4075920"/>
              <a:ext cx="3338640" cy="2594880"/>
              <a:chOff x="2863800" y="4075920"/>
              <a:chExt cx="3338640" cy="2594880"/>
            </a:xfrm>
          </p:grpSpPr>
          <p:grpSp>
            <p:nvGrpSpPr>
              <p:cNvPr id="426" name="Group 19"/>
              <p:cNvGrpSpPr/>
              <p:nvPr/>
            </p:nvGrpSpPr>
            <p:grpSpPr>
              <a:xfrm>
                <a:off x="2863800" y="4075920"/>
                <a:ext cx="1112760" cy="518760"/>
                <a:chOff x="2863800" y="4075920"/>
                <a:chExt cx="1112760" cy="518760"/>
              </a:xfrm>
            </p:grpSpPr>
            <p:sp>
              <p:nvSpPr>
                <p:cNvPr id="427" name="Rectangle 3"/>
                <p:cNvSpPr/>
                <p:nvPr/>
              </p:nvSpPr>
              <p:spPr>
                <a:xfrm>
                  <a:off x="2957760" y="4075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"/>
                <p:cNvSpPr/>
                <p:nvPr/>
              </p:nvSpPr>
              <p:spPr>
                <a:xfrm>
                  <a:off x="2863800" y="4075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21"/>
              <p:cNvGrpSpPr/>
              <p:nvPr/>
            </p:nvGrpSpPr>
            <p:grpSpPr>
              <a:xfrm>
                <a:off x="3976920" y="4075920"/>
                <a:ext cx="1112040" cy="518760"/>
                <a:chOff x="3976920" y="4075920"/>
                <a:chExt cx="1112040" cy="518760"/>
              </a:xfrm>
            </p:grpSpPr>
            <p:sp>
              <p:nvSpPr>
                <p:cNvPr id="430" name="Rectangle 4"/>
                <p:cNvSpPr/>
                <p:nvPr/>
              </p:nvSpPr>
              <p:spPr>
                <a:xfrm>
                  <a:off x="4070520" y="407592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20"/>
                <p:cNvSpPr/>
                <p:nvPr/>
              </p:nvSpPr>
              <p:spPr>
                <a:xfrm>
                  <a:off x="3976920" y="407592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Group 23"/>
              <p:cNvGrpSpPr/>
              <p:nvPr/>
            </p:nvGrpSpPr>
            <p:grpSpPr>
              <a:xfrm>
                <a:off x="5089680" y="4075920"/>
                <a:ext cx="1112760" cy="518760"/>
                <a:chOff x="5089680" y="4075920"/>
                <a:chExt cx="1112760" cy="518760"/>
              </a:xfrm>
            </p:grpSpPr>
            <p:sp>
              <p:nvSpPr>
                <p:cNvPr id="433" name="Rectangle 5"/>
                <p:cNvSpPr/>
                <p:nvPr/>
              </p:nvSpPr>
              <p:spPr>
                <a:xfrm>
                  <a:off x="5183640" y="4075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v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22"/>
                <p:cNvSpPr/>
                <p:nvPr/>
              </p:nvSpPr>
              <p:spPr>
                <a:xfrm>
                  <a:off x="5089680" y="4075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25"/>
              <p:cNvGrpSpPr/>
              <p:nvPr/>
            </p:nvGrpSpPr>
            <p:grpSpPr>
              <a:xfrm>
                <a:off x="2863800" y="4594680"/>
                <a:ext cx="1112760" cy="518760"/>
                <a:chOff x="2863800" y="4594680"/>
                <a:chExt cx="1112760" cy="518760"/>
              </a:xfrm>
            </p:grpSpPr>
            <p:sp>
              <p:nvSpPr>
                <p:cNvPr id="436" name="Rectangle 6"/>
                <p:cNvSpPr/>
                <p:nvPr/>
              </p:nvSpPr>
              <p:spPr>
                <a:xfrm>
                  <a:off x="2957760" y="459468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24"/>
                <p:cNvSpPr/>
                <p:nvPr/>
              </p:nvSpPr>
              <p:spPr>
                <a:xfrm>
                  <a:off x="2863800" y="459468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Group 27"/>
              <p:cNvGrpSpPr/>
              <p:nvPr/>
            </p:nvGrpSpPr>
            <p:grpSpPr>
              <a:xfrm>
                <a:off x="3976920" y="4594680"/>
                <a:ext cx="1112040" cy="518760"/>
                <a:chOff x="3976920" y="4594680"/>
                <a:chExt cx="1112040" cy="518760"/>
              </a:xfrm>
            </p:grpSpPr>
            <p:sp>
              <p:nvSpPr>
                <p:cNvPr id="439" name="Rectangle 7"/>
                <p:cNvSpPr/>
                <p:nvPr/>
              </p:nvSpPr>
              <p:spPr>
                <a:xfrm>
                  <a:off x="4070520" y="459468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26"/>
                <p:cNvSpPr/>
                <p:nvPr/>
              </p:nvSpPr>
              <p:spPr>
                <a:xfrm>
                  <a:off x="3976920" y="459468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29"/>
              <p:cNvGrpSpPr/>
              <p:nvPr/>
            </p:nvGrpSpPr>
            <p:grpSpPr>
              <a:xfrm>
                <a:off x="5089680" y="4594680"/>
                <a:ext cx="1112760" cy="518760"/>
                <a:chOff x="5089680" y="4594680"/>
                <a:chExt cx="1112760" cy="518760"/>
              </a:xfrm>
            </p:grpSpPr>
            <p:sp>
              <p:nvSpPr>
                <p:cNvPr id="442" name="Rectangle 8"/>
                <p:cNvSpPr/>
                <p:nvPr/>
              </p:nvSpPr>
              <p:spPr>
                <a:xfrm>
                  <a:off x="5183640" y="459468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8"/>
                <p:cNvSpPr/>
                <p:nvPr/>
              </p:nvSpPr>
              <p:spPr>
                <a:xfrm>
                  <a:off x="5089680" y="459468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31"/>
              <p:cNvGrpSpPr/>
              <p:nvPr/>
            </p:nvGrpSpPr>
            <p:grpSpPr>
              <a:xfrm>
                <a:off x="2863800" y="5113800"/>
                <a:ext cx="1112760" cy="519120"/>
                <a:chOff x="2863800" y="5113800"/>
                <a:chExt cx="1112760" cy="519120"/>
              </a:xfrm>
            </p:grpSpPr>
            <p:sp>
              <p:nvSpPr>
                <p:cNvPr id="445" name="Rectangle 9"/>
                <p:cNvSpPr/>
                <p:nvPr/>
              </p:nvSpPr>
              <p:spPr>
                <a:xfrm>
                  <a:off x="2957760" y="511380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30"/>
                <p:cNvSpPr/>
                <p:nvPr/>
              </p:nvSpPr>
              <p:spPr>
                <a:xfrm>
                  <a:off x="2863800" y="511380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33"/>
              <p:cNvGrpSpPr/>
              <p:nvPr/>
            </p:nvGrpSpPr>
            <p:grpSpPr>
              <a:xfrm>
                <a:off x="3976920" y="5113800"/>
                <a:ext cx="1112040" cy="519120"/>
                <a:chOff x="3976920" y="5113800"/>
                <a:chExt cx="1112040" cy="519120"/>
              </a:xfrm>
            </p:grpSpPr>
            <p:sp>
              <p:nvSpPr>
                <p:cNvPr id="448" name="Rectangle 10"/>
                <p:cNvSpPr/>
                <p:nvPr/>
              </p:nvSpPr>
              <p:spPr>
                <a:xfrm>
                  <a:off x="4070520" y="5113800"/>
                  <a:ext cx="924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Rectangle 32"/>
                <p:cNvSpPr/>
                <p:nvPr/>
              </p:nvSpPr>
              <p:spPr>
                <a:xfrm>
                  <a:off x="3976920" y="5113800"/>
                  <a:ext cx="11120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5089680" y="5113800"/>
                <a:ext cx="1112760" cy="519120"/>
                <a:chOff x="5089680" y="5113800"/>
                <a:chExt cx="1112760" cy="519120"/>
              </a:xfrm>
            </p:grpSpPr>
            <p:sp>
              <p:nvSpPr>
                <p:cNvPr id="451" name="Rectangle 11"/>
                <p:cNvSpPr/>
                <p:nvPr/>
              </p:nvSpPr>
              <p:spPr>
                <a:xfrm>
                  <a:off x="5183640" y="511380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Rectangle 34"/>
                <p:cNvSpPr/>
                <p:nvPr/>
              </p:nvSpPr>
              <p:spPr>
                <a:xfrm>
                  <a:off x="5089680" y="511380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37"/>
              <p:cNvGrpSpPr/>
              <p:nvPr/>
            </p:nvGrpSpPr>
            <p:grpSpPr>
              <a:xfrm>
                <a:off x="2863800" y="5632920"/>
                <a:ext cx="1112760" cy="518760"/>
                <a:chOff x="2863800" y="5632920"/>
                <a:chExt cx="1112760" cy="518760"/>
              </a:xfrm>
            </p:grpSpPr>
            <p:sp>
              <p:nvSpPr>
                <p:cNvPr id="454" name="Rectangle 12"/>
                <p:cNvSpPr/>
                <p:nvPr/>
              </p:nvSpPr>
              <p:spPr>
                <a:xfrm>
                  <a:off x="2957760" y="5632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36"/>
                <p:cNvSpPr/>
                <p:nvPr/>
              </p:nvSpPr>
              <p:spPr>
                <a:xfrm>
                  <a:off x="2863800" y="5632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9"/>
              <p:cNvGrpSpPr/>
              <p:nvPr/>
            </p:nvGrpSpPr>
            <p:grpSpPr>
              <a:xfrm>
                <a:off x="3976920" y="5632920"/>
                <a:ext cx="1112040" cy="518760"/>
                <a:chOff x="3976920" y="5632920"/>
                <a:chExt cx="1112040" cy="518760"/>
              </a:xfrm>
            </p:grpSpPr>
            <p:sp>
              <p:nvSpPr>
                <p:cNvPr id="457" name="Rectangle 13"/>
                <p:cNvSpPr/>
                <p:nvPr/>
              </p:nvSpPr>
              <p:spPr>
                <a:xfrm>
                  <a:off x="4070520" y="563292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38"/>
                <p:cNvSpPr/>
                <p:nvPr/>
              </p:nvSpPr>
              <p:spPr>
                <a:xfrm>
                  <a:off x="3976920" y="563292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41"/>
              <p:cNvGrpSpPr/>
              <p:nvPr/>
            </p:nvGrpSpPr>
            <p:grpSpPr>
              <a:xfrm>
                <a:off x="5089680" y="5632920"/>
                <a:ext cx="1112760" cy="518760"/>
                <a:chOff x="5089680" y="5632920"/>
                <a:chExt cx="1112760" cy="518760"/>
              </a:xfrm>
            </p:grpSpPr>
            <p:sp>
              <p:nvSpPr>
                <p:cNvPr id="460" name="Rectangle 14"/>
                <p:cNvSpPr/>
                <p:nvPr/>
              </p:nvSpPr>
              <p:spPr>
                <a:xfrm>
                  <a:off x="5183640" y="5632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Rectangle 40"/>
                <p:cNvSpPr/>
                <p:nvPr/>
              </p:nvSpPr>
              <p:spPr>
                <a:xfrm>
                  <a:off x="5089680" y="5632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43"/>
              <p:cNvGrpSpPr/>
              <p:nvPr/>
            </p:nvGrpSpPr>
            <p:grpSpPr>
              <a:xfrm>
                <a:off x="2863800" y="6151680"/>
                <a:ext cx="1112760" cy="519120"/>
                <a:chOff x="2863800" y="6151680"/>
                <a:chExt cx="1112760" cy="519120"/>
              </a:xfrm>
            </p:grpSpPr>
            <p:sp>
              <p:nvSpPr>
                <p:cNvPr id="463" name="Rectangle 15"/>
                <p:cNvSpPr/>
                <p:nvPr/>
              </p:nvSpPr>
              <p:spPr>
                <a:xfrm>
                  <a:off x="2957760" y="615168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Rectangle 42"/>
                <p:cNvSpPr/>
                <p:nvPr/>
              </p:nvSpPr>
              <p:spPr>
                <a:xfrm>
                  <a:off x="2863800" y="615168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45"/>
              <p:cNvGrpSpPr/>
              <p:nvPr/>
            </p:nvGrpSpPr>
            <p:grpSpPr>
              <a:xfrm>
                <a:off x="3976920" y="6151680"/>
                <a:ext cx="1112040" cy="519120"/>
                <a:chOff x="3976920" y="6151680"/>
                <a:chExt cx="1112040" cy="519120"/>
              </a:xfrm>
            </p:grpSpPr>
            <p:sp>
              <p:nvSpPr>
                <p:cNvPr id="466" name="Rectangle 16"/>
                <p:cNvSpPr/>
                <p:nvPr/>
              </p:nvSpPr>
              <p:spPr>
                <a:xfrm>
                  <a:off x="4070520" y="6151680"/>
                  <a:ext cx="924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44"/>
                <p:cNvSpPr/>
                <p:nvPr/>
              </p:nvSpPr>
              <p:spPr>
                <a:xfrm>
                  <a:off x="3976920" y="6151680"/>
                  <a:ext cx="11120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47"/>
              <p:cNvGrpSpPr/>
              <p:nvPr/>
            </p:nvGrpSpPr>
            <p:grpSpPr>
              <a:xfrm>
                <a:off x="5089680" y="6151680"/>
                <a:ext cx="1112760" cy="519120"/>
                <a:chOff x="5089680" y="6151680"/>
                <a:chExt cx="1112760" cy="519120"/>
              </a:xfrm>
            </p:grpSpPr>
            <p:sp>
              <p:nvSpPr>
                <p:cNvPr id="469" name="Rectangle 17"/>
                <p:cNvSpPr/>
                <p:nvPr/>
              </p:nvSpPr>
              <p:spPr>
                <a:xfrm>
                  <a:off x="5183640" y="615168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Rectangle 46"/>
                <p:cNvSpPr/>
                <p:nvPr/>
              </p:nvSpPr>
              <p:spPr>
                <a:xfrm>
                  <a:off x="5089680" y="615168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Rectangle 49"/>
            <p:cNvSpPr/>
            <p:nvPr/>
          </p:nvSpPr>
          <p:spPr>
            <a:xfrm>
              <a:off x="2857680" y="4071960"/>
              <a:ext cx="3352320" cy="260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0" y="5000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 частице 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черточкой над имен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отриц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версия логической переменной ложна, если сама переменная истинна, и, наоборот, инверсия истинна, если переменная ложна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инверсии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Group 25"/>
          <p:cNvGrpSpPr/>
          <p:nvPr/>
        </p:nvGrpSpPr>
        <p:grpSpPr>
          <a:xfrm>
            <a:off x="3505320" y="4572000"/>
            <a:ext cx="1625400" cy="2054160"/>
            <a:chOff x="3505320" y="4572000"/>
            <a:chExt cx="1625400" cy="2054160"/>
          </a:xfrm>
        </p:grpSpPr>
        <p:grpSp>
          <p:nvGrpSpPr>
            <p:cNvPr id="474" name="Group 23"/>
            <p:cNvGrpSpPr/>
            <p:nvPr/>
          </p:nvGrpSpPr>
          <p:grpSpPr>
            <a:xfrm>
              <a:off x="3510000" y="4576680"/>
              <a:ext cx="1616040" cy="2044800"/>
              <a:chOff x="3510000" y="4576680"/>
              <a:chExt cx="1616040" cy="2044800"/>
            </a:xfrm>
          </p:grpSpPr>
          <p:grpSp>
            <p:nvGrpSpPr>
              <p:cNvPr id="475" name="Group 12"/>
              <p:cNvGrpSpPr/>
              <p:nvPr/>
            </p:nvGrpSpPr>
            <p:grpSpPr>
              <a:xfrm>
                <a:off x="3510000" y="4576680"/>
                <a:ext cx="808200" cy="793800"/>
                <a:chOff x="3510000" y="4576680"/>
                <a:chExt cx="808200" cy="793800"/>
              </a:xfrm>
            </p:grpSpPr>
            <p:sp>
              <p:nvSpPr>
                <p:cNvPr id="476" name="Rectangle 4"/>
                <p:cNvSpPr/>
                <p:nvPr/>
              </p:nvSpPr>
              <p:spPr>
                <a:xfrm>
                  <a:off x="3578400" y="4576680"/>
                  <a:ext cx="67140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Rectangle 11"/>
                <p:cNvSpPr/>
                <p:nvPr/>
              </p:nvSpPr>
              <p:spPr>
                <a:xfrm>
                  <a:off x="3510000" y="4576680"/>
                  <a:ext cx="80820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14"/>
              <p:cNvGrpSpPr/>
              <p:nvPr/>
            </p:nvGrpSpPr>
            <p:grpSpPr>
              <a:xfrm>
                <a:off x="4318200" y="4576680"/>
                <a:ext cx="807840" cy="793800"/>
                <a:chOff x="4318200" y="4576680"/>
                <a:chExt cx="807840" cy="793800"/>
              </a:xfrm>
            </p:grpSpPr>
            <p:sp>
              <p:nvSpPr>
                <p:cNvPr id="479" name="Rectangle 5"/>
                <p:cNvSpPr/>
                <p:nvPr/>
              </p:nvSpPr>
              <p:spPr>
                <a:xfrm>
                  <a:off x="4386240" y="4576680"/>
                  <a:ext cx="67140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Rectangle 13"/>
                <p:cNvSpPr/>
                <p:nvPr/>
              </p:nvSpPr>
              <p:spPr>
                <a:xfrm>
                  <a:off x="4318200" y="4576680"/>
                  <a:ext cx="8078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Group 16"/>
              <p:cNvGrpSpPr/>
              <p:nvPr/>
            </p:nvGrpSpPr>
            <p:grpSpPr>
              <a:xfrm>
                <a:off x="3510000" y="5370480"/>
                <a:ext cx="808200" cy="625320"/>
                <a:chOff x="3510000" y="5370480"/>
                <a:chExt cx="808200" cy="625320"/>
              </a:xfrm>
            </p:grpSpPr>
            <p:sp>
              <p:nvSpPr>
                <p:cNvPr id="482" name="Rectangle 7"/>
                <p:cNvSpPr/>
                <p:nvPr/>
              </p:nvSpPr>
              <p:spPr>
                <a:xfrm>
                  <a:off x="3578400" y="5370480"/>
                  <a:ext cx="67140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Rectangle 15"/>
                <p:cNvSpPr/>
                <p:nvPr/>
              </p:nvSpPr>
              <p:spPr>
                <a:xfrm>
                  <a:off x="3510000" y="5370480"/>
                  <a:ext cx="808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8"/>
              <p:cNvGrpSpPr/>
              <p:nvPr/>
            </p:nvGrpSpPr>
            <p:grpSpPr>
              <a:xfrm>
                <a:off x="4318200" y="5370480"/>
                <a:ext cx="807840" cy="625320"/>
                <a:chOff x="4318200" y="5370480"/>
                <a:chExt cx="807840" cy="625320"/>
              </a:xfrm>
            </p:grpSpPr>
            <p:sp>
              <p:nvSpPr>
                <p:cNvPr id="485" name="Rectangle 8"/>
                <p:cNvSpPr/>
                <p:nvPr/>
              </p:nvSpPr>
              <p:spPr>
                <a:xfrm>
                  <a:off x="4386240" y="5370480"/>
                  <a:ext cx="67140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Rectangle 17"/>
                <p:cNvSpPr/>
                <p:nvPr/>
              </p:nvSpPr>
              <p:spPr>
                <a:xfrm>
                  <a:off x="4318200" y="5370480"/>
                  <a:ext cx="8078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20"/>
              <p:cNvGrpSpPr/>
              <p:nvPr/>
            </p:nvGrpSpPr>
            <p:grpSpPr>
              <a:xfrm>
                <a:off x="3510000" y="5995800"/>
                <a:ext cx="808200" cy="625680"/>
                <a:chOff x="3510000" y="5995800"/>
                <a:chExt cx="808200" cy="625680"/>
              </a:xfrm>
            </p:grpSpPr>
            <p:sp>
              <p:nvSpPr>
                <p:cNvPr id="488" name="Rectangle 9"/>
                <p:cNvSpPr/>
                <p:nvPr/>
              </p:nvSpPr>
              <p:spPr>
                <a:xfrm>
                  <a:off x="3578400" y="5995800"/>
                  <a:ext cx="6714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Rectangle 19"/>
                <p:cNvSpPr/>
                <p:nvPr/>
              </p:nvSpPr>
              <p:spPr>
                <a:xfrm>
                  <a:off x="3510000" y="5995800"/>
                  <a:ext cx="808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Group 22"/>
              <p:cNvGrpSpPr/>
              <p:nvPr/>
            </p:nvGrpSpPr>
            <p:grpSpPr>
              <a:xfrm>
                <a:off x="4318200" y="5995800"/>
                <a:ext cx="807840" cy="625680"/>
                <a:chOff x="4318200" y="5995800"/>
                <a:chExt cx="807840" cy="625680"/>
              </a:xfrm>
            </p:grpSpPr>
            <p:sp>
              <p:nvSpPr>
                <p:cNvPr id="491" name="Rectangle 10"/>
                <p:cNvSpPr/>
                <p:nvPr/>
              </p:nvSpPr>
              <p:spPr>
                <a:xfrm>
                  <a:off x="4386240" y="5995800"/>
                  <a:ext cx="6714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21"/>
                <p:cNvSpPr/>
                <p:nvPr/>
              </p:nvSpPr>
              <p:spPr>
                <a:xfrm>
                  <a:off x="4318200" y="5995800"/>
                  <a:ext cx="80784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Rectangle 24"/>
            <p:cNvSpPr/>
            <p:nvPr/>
          </p:nvSpPr>
          <p:spPr>
            <a:xfrm>
              <a:off x="3505320" y="4572000"/>
              <a:ext cx="1625400" cy="205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Line 26"/>
          <p:cNvSpPr/>
          <p:nvPr/>
        </p:nvSpPr>
        <p:spPr>
          <a:xfrm>
            <a:off x="2249640" y="38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28"/>
          <p:cNvSpPr/>
          <p:nvPr/>
        </p:nvSpPr>
        <p:spPr>
          <a:xfrm>
            <a:off x="4343400" y="4724280"/>
            <a:ext cx="67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9:58:49Z</dcterms:created>
  <dc:creator>Учитель</dc:creator>
  <dc:description/>
  <dc:language>en-US</dc:language>
  <cp:lastModifiedBy>Student07</cp:lastModifiedBy>
  <dcterms:modified xsi:type="dcterms:W3CDTF">2012-11-13T10:34:10Z</dcterms:modified>
  <cp:revision>8</cp:revision>
  <dc:subject/>
  <dc:title>Формы   мышления. Алгебра   высказываний.</dc:title>
</cp:coreProperties>
</file>