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3.gif" ContentType="image/gif"/>
  <Override PartName="/ppt/media/image4.jpeg" ContentType="image/jpeg"/>
  <Override PartName="/ppt/media/image2.png" ContentType="image/png"/>
  <Override PartName="/ppt/media/image25.png" ContentType="image/png"/>
  <Override PartName="/ppt/media/image9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EAA4-0A10-4D3C-A5F5-5EAC9A3B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CF9-1F90-49A1-9355-4C83E7E1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E0C2-9CA5-45CA-BEE3-28812672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4A1-462B-415A-B4FF-D6C12288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F79-0D6B-4C46-A2AD-8EA3A7DB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C188-2D5B-4DD4-81AE-5C5DE832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7737-AE74-4AF7-9354-6123A623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7B78-6342-4E2E-A3E2-8DC8F54A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0254-3112-4C77-A086-DCAD4A6F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62C2-128D-4A78-9F2F-39EC90D9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50F6-9FD8-40D6-A769-76B194E9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7B6-1C1C-4068-A277-FA40F41E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057D-572B-4CE6-9EC7-C13FD61038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003.radikal.ru/i202/1012/49/58a5769d1ada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61.radikal.ru/i173/0912/95/4e5ffcc201bd.gif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yrillitsa.ru/wp-content/uploads/2013/03/103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usizn.ru/images/rom/rom05/019_27_2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vseprostrany.ru/images/stories/arctic2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ykhkykh.org/images/news/2011/11-2011/lgoty-1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infomania.ru/images/his/psih_pic/umor/chukcha.gif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e6b00"/>
                </a:solidFill>
                <a:latin typeface="Times New Roman"/>
                <a:ea typeface="Times New Roman"/>
              </a:rPr>
              <a:t>Земля бородатых</a:t>
            </a:r>
            <a:endParaRPr b="0" lang="en-US" sz="6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42" name="Picture 3" descr="C:\Users\Татьяна\Desktop\Безымянный.png"/>
          <p:cNvPicPr/>
          <p:nvPr/>
        </p:nvPicPr>
        <p:blipFill>
          <a:blip r:embed="rId1"/>
          <a:srcRect l="9687" t="23634" r="30790" b="14844"/>
          <a:stretch/>
        </p:blipFill>
        <p:spPr>
          <a:xfrm>
            <a:off x="428760" y="1566720"/>
            <a:ext cx="792936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357120" y="5715000"/>
            <a:ext cx="84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А ездил этот странный народ на собаках, которые были похожи, скорее, на огромных волков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2" descr="http://s003.radikal.ru/i202/1012/49/58a5769d1ad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214200"/>
            <a:ext cx="8505720" cy="5357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Татьяна\Desktop\Безымянный.png"/>
          <p:cNvPicPr/>
          <p:nvPr/>
        </p:nvPicPr>
        <p:blipFill>
          <a:blip r:embed="rId3"/>
          <a:srcRect l="7832" t="2526" r="52804" b="47490"/>
          <a:stretch/>
        </p:blipFill>
        <p:spPr>
          <a:xfrm>
            <a:off x="285840" y="357120"/>
            <a:ext cx="157140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357120" y="453240"/>
            <a:ext cx="3429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Кстати, о «бородатых» людях было широко известно и на юге. Ещё немецкий путешественник Шильтбергер в самом начале XV века рассказывал, будто в Сибири есть гора, за которой находится пустыня, доходящая «до края света». Там пасутся дикие лошади и обитают дикие люди, почти полностью покрытые шерстью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2" descr="http://www.schoolconergino.ru/sasha/photo/16.jpg"/>
          <p:cNvPicPr/>
          <p:nvPr/>
        </p:nvPicPr>
        <p:blipFill>
          <a:blip r:embed="rId1"/>
          <a:stretch/>
        </p:blipFill>
        <p:spPr>
          <a:xfrm>
            <a:off x="3767040" y="357120"/>
            <a:ext cx="4972320" cy="50007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428760" y="5715000"/>
            <a:ext cx="82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Известно даже, якобы сибирский владетель подарил двух таких «бородатых» людей властителю Великой Татарии хану Едигею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285840" y="214200"/>
            <a:ext cx="85723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Но была ещё одна причина, по которой «земля бородатых» занимала умы людей. Неродные палестины могли однажды стать настоящей вольной землёй без податей и без властей – своеобразной мечтой для крестьянства. А для старообрядцев они приняли образ мифического града Китежа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2" descr="http://s2.hubimg.com/u/5107585_f496.jpg"/>
          <p:cNvPicPr/>
          <p:nvPr/>
        </p:nvPicPr>
        <p:blipFill>
          <a:blip r:embed="rId1"/>
          <a:srcRect l="1509" t="4324" r="1715" b="4901"/>
          <a:stretch/>
        </p:blipFill>
        <p:spPr>
          <a:xfrm>
            <a:off x="428760" y="2000160"/>
            <a:ext cx="835812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42920" y="4857840"/>
            <a:ext cx="87152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В одном письме местный исправник писал иркутскому епископу, что на Ледовитом океане есть остров, который виден только в ясную погоду. Живут на нем люди, которых называют бородачами, поскольку они совсем обросли волосами. Причем живут они там уже лет четыреста вместе с дикими чукчами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Рисунок 1" descr="http://cyrillitsa.ru/wp-content/uploads/2013/03/1030354.jpg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285840" y="4500720"/>
            <a:ext cx="8572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Давным-давно какой-то епископ был выброшен на берег этого острова после кораблекрушения. На звук колоколов он и вышел к этому загадочному народу, который его спас. Однако в свои жилища осторожные бородачи его не пустили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Впрочем, немало фактов было собрано, чтобы развеять миф о «земле бородатых»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4" descr="C:\Users\Татьяна\Desktop\Безымянный.png"/>
          <p:cNvPicPr/>
          <p:nvPr/>
        </p:nvPicPr>
        <p:blipFill>
          <a:blip r:embed="rId1"/>
          <a:stretch/>
        </p:blipFill>
        <p:spPr>
          <a:xfrm>
            <a:off x="1071720" y="0"/>
            <a:ext cx="692928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http://cyrillitsa.ru/wp-content/uploads/2013/03/06712049.jpg"/>
          <p:cNvPicPr/>
          <p:nvPr/>
        </p:nvPicPr>
        <p:blipFill>
          <a:blip r:embed="rId1"/>
          <a:stretch/>
        </p:blipFill>
        <p:spPr>
          <a:xfrm>
            <a:off x="428760" y="357120"/>
            <a:ext cx="8215200" cy="50371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2"/>
          <p:cNvSpPr/>
          <p:nvPr/>
        </p:nvSpPr>
        <p:spPr>
          <a:xfrm>
            <a:off x="214200" y="5500800"/>
            <a:ext cx="864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Известно, что один человек, некто Саханников, совершивший преступление против русского царя, бежал на север. По дороге он где-то украл драгоценный камень и с ним попал на Новую Землю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C:\Users\Татьяна\Desktop\Безымянный.png"/>
          <p:cNvPicPr/>
          <p:nvPr/>
        </p:nvPicPr>
        <p:blipFill>
          <a:blip r:embed="rId2"/>
          <a:stretch/>
        </p:blipFill>
        <p:spPr>
          <a:xfrm>
            <a:off x="7786800" y="4286160"/>
            <a:ext cx="1228680" cy="13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214200" y="152280"/>
            <a:ext cx="871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Через несколько лет он вернулся и доложил царю, что в тех местах есть незамерзающая вода и находятся острова, покрытые лесом. Насчет своего камня он сказал, что нашел его в тех местах и там, мол, таких ещё много было. Царь за этот доклад простил ему преступление, а через несколько лет отправил на те острова экспедицию на поиски чудесных мест. Но ничего, увы, найдено не было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4" descr="http://www.travelgarden.ru/upload/medialibrary/573/7.jpg"/>
          <p:cNvPicPr/>
          <p:nvPr/>
        </p:nvPicPr>
        <p:blipFill>
          <a:blip r:embed="rId1"/>
          <a:stretch/>
        </p:blipFill>
        <p:spPr>
          <a:xfrm>
            <a:off x="357120" y="2550960"/>
            <a:ext cx="5857920" cy="3902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Татьяна\Desktop\Безымянный.png"/>
          <p:cNvPicPr/>
          <p:nvPr/>
        </p:nvPicPr>
        <p:blipFill>
          <a:blip r:embed="rId2"/>
          <a:stretch/>
        </p:blipFill>
        <p:spPr>
          <a:xfrm>
            <a:off x="6500880" y="314316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Татьяна\Desktop\Безымянный.png"/>
          <p:cNvPicPr/>
          <p:nvPr/>
        </p:nvPicPr>
        <p:blipFill>
          <a:blip r:embed="rId1"/>
          <a:stretch/>
        </p:blipFill>
        <p:spPr>
          <a:xfrm>
            <a:off x="0" y="3457440"/>
            <a:ext cx="5095800" cy="3400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Users\Татьяна\Desktop\Безымянный.png"/>
          <p:cNvPicPr/>
          <p:nvPr/>
        </p:nvPicPr>
        <p:blipFill>
          <a:blip r:embed="rId2"/>
          <a:stretch/>
        </p:blipFill>
        <p:spPr>
          <a:xfrm>
            <a:off x="5848200" y="142920"/>
            <a:ext cx="3295800" cy="308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C:\Users\Татьяна\Desktop\Безымянный.png"/>
          <p:cNvPicPr/>
          <p:nvPr/>
        </p:nvPicPr>
        <p:blipFill>
          <a:blip r:embed="rId3"/>
          <a:stretch/>
        </p:blipFill>
        <p:spPr>
          <a:xfrm>
            <a:off x="142920" y="214200"/>
            <a:ext cx="3514680" cy="38293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2454120" y="3214800"/>
            <a:ext cx="497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Спасибо за внимание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5000760" y="571680"/>
            <a:ext cx="36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Русские верили, что за льдами арктических морей жили люди-великаны и прочие чудовищные существа: однорукие, одноногие и имеющие рты на темени. Эта страна называлась «землёй бородатых»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Picture 4" descr="http://s61.radikal.ru/i173/0912/95/4e5ffcc201bd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1000080"/>
            <a:ext cx="51753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http://cyrillitsa.ru/wp-content/uploads/2013/03/1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214200"/>
            <a:ext cx="8524800" cy="45943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285840" y="4857840"/>
            <a:ext cx="86439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Когда первые русские путешественники только начали открывать Крайний Север, в их сознании это место рисовалось сказочной неведомой страной, полной тайн и диковин. Чем дальше лежали эти земли и чем опаснее было к ним подбираться, тем фантастичнее и таинственнее был их облик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4643280" y="1071720"/>
            <a:ext cx="42148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Самым ярким фольклорным образом была легенда о сказочном народе на островах Ледовитого океана и легенда о «земле бородатых»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Calibri"/>
              </a:rPr>
              <a:t>Примечательна она была тем, что вселяла в сердца первопроходцев надежду на открытие доселе неведомых, но обитаемых земель, богатых пушными зверями и покрытых густым лесом. Это не говоря уже о настоящей «Большой Земле», которая могла лежать к северу от берегов Восточной Сибири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7" descr="C:\Users\Татьяна\Desktop\Безымянный.png"/>
          <p:cNvPicPr/>
          <p:nvPr/>
        </p:nvPicPr>
        <p:blipFill>
          <a:blip r:embed="rId1"/>
          <a:srcRect l="3241" t="1310" r="1184" b="5427"/>
          <a:stretch/>
        </p:blipFill>
        <p:spPr>
          <a:xfrm>
            <a:off x="214200" y="1143000"/>
            <a:ext cx="44532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14200" y="947160"/>
            <a:ext cx="3643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3737"/>
                </a:solidFill>
                <a:latin typeface="Times New Roman"/>
                <a:ea typeface="Calibri"/>
              </a:rPr>
              <a:t>Такого рода Клондайк заставлял смелых и отважных идти по просторам Северного океана. В начале XVIII века была предпринята целая серия путешествий к северу от устьев рек Колымы и Лены, чтобы найти эту «великую землю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6" descr="C:\Users\Татьяна\Desktop\Безымянный.png"/>
          <p:cNvPicPr/>
          <p:nvPr/>
        </p:nvPicPr>
        <p:blipFill>
          <a:blip r:embed="rId1"/>
          <a:stretch/>
        </p:blipFill>
        <p:spPr>
          <a:xfrm>
            <a:off x="3643200" y="0"/>
            <a:ext cx="5434200" cy="678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14200" y="4786200"/>
            <a:ext cx="87868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В 1760 году снарядили две экспедиции: Николая Дауркина на Чукотский полуостров и Степана Андреева на Медвежьи острова. Дауркин привез из поездки рассказ о легендарной земле Тикиген, на которой жило племя Храхай. При сильных ветрах их земля уходила в море на одну версту, а при тихой погоде возвращалась на своё место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2" descr="http://www.rusizn.ru/images/rom/rom05/019_27_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14200"/>
            <a:ext cx="8715600" cy="4429080"/>
          </a:xfrm>
          <a:prstGeom prst="rect">
            <a:avLst/>
          </a:prstGeom>
          <a:ln w="0">
            <a:noFill/>
          </a:ln>
        </p:spPr>
      </p:pic>
      <p:sp>
        <p:nvSpPr>
          <p:cNvPr id="53" name="Скругленный прямоугольник 3"/>
          <p:cNvSpPr/>
          <p:nvPr/>
        </p:nvSpPr>
        <p:spPr>
          <a:xfrm>
            <a:off x="2357280" y="4286160"/>
            <a:ext cx="6572520" cy="428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Экспедиция Николая Дауркина на Чукотский полуостров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14200" y="5572080"/>
            <a:ext cx="864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Степан Андреев сообщил, что видел за Медвежьими островами еще один остров, но до него он так и не добрался: страх перед свежими следами оказался сильнее любопытства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4" descr="http://vseprostrany.ru/images/stories/arctic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8840" y="0"/>
            <a:ext cx="6357960" cy="5357880"/>
          </a:xfrm>
          <a:prstGeom prst="rect">
            <a:avLst/>
          </a:prstGeom>
          <a:ln w="0">
            <a:noFill/>
          </a:ln>
        </p:spPr>
      </p:pic>
      <p:sp>
        <p:nvSpPr>
          <p:cNvPr id="56" name="Скругленный прямоугольник 3"/>
          <p:cNvSpPr/>
          <p:nvPr/>
        </p:nvSpPr>
        <p:spPr>
          <a:xfrm>
            <a:off x="428760" y="5000760"/>
            <a:ext cx="8286480" cy="5000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e6b00"/>
                </a:solidFill>
                <a:latin typeface="Times New Roman"/>
              </a:rPr>
              <a:t>1768-1769 гг. Экспедиция сержанта С. Андреева к Медвежьим островам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357120" y="304920"/>
            <a:ext cx="5072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Коренные жители Севера были глубоко убеждены в том, что за береговой линией Ледовитого океана лежат обитаемые земли и обширные острова. Их обитателями были загадочные великаны, которые носили длинные густые бороды – отсюда и пошли те самые «бородатые люди». Быт их был прост и бесхитростен; сообщали, что у них даже не было огня и им приходилось уносить головешки из человеческих костров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4" descr="C:\Users\Татьяна\Desktop\Безымянный.png"/>
          <p:cNvPicPr/>
          <p:nvPr/>
        </p:nvPicPr>
        <p:blipFill>
          <a:blip r:embed="rId1"/>
          <a:stretch/>
        </p:blipFill>
        <p:spPr>
          <a:xfrm>
            <a:off x="4829040" y="214200"/>
            <a:ext cx="4178520" cy="414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Татьяна\Desktop\Безымянный.png"/>
          <p:cNvPicPr/>
          <p:nvPr/>
        </p:nvPicPr>
        <p:blipFill>
          <a:blip r:embed="rId2"/>
          <a:srcRect l="8110" t="16991" r="12840" b="20035"/>
          <a:stretch/>
        </p:blipFill>
        <p:spPr>
          <a:xfrm>
            <a:off x="500040" y="4071960"/>
            <a:ext cx="40528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5"/>
          <p:cNvSpPr/>
          <p:nvPr/>
        </p:nvSpPr>
        <p:spPr>
          <a:xfrm>
            <a:off x="285840" y="5143680"/>
            <a:ext cx="857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Дома «бородатые» строили не по одному, а целыми поселками, а их форма была круглой, как у полуподземных жилищ эскимосов и сидячих чукчей. В качестве освещения «бородатые» использовали не печи, а «светящийся камень»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6" descr="http://www.kykhkykh.org/images/news/2011/11-2011/lgoty-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357120"/>
            <a:ext cx="5715000" cy="4278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www.infomania.ru/images/his/psih_pic/umor/chukcha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72160" y="1214280"/>
            <a:ext cx="1886040" cy="331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08:23:50Z</dcterms:created>
  <dc:creator>Администратор</dc:creator>
  <dc:description/>
  <dc:language>en-US</dc:language>
  <cp:lastModifiedBy>Татьяна</cp:lastModifiedBy>
  <dcterms:modified xsi:type="dcterms:W3CDTF">2013-03-21T10:24:29Z</dcterms:modified>
  <cp:revision>89</cp:revision>
  <dc:subject/>
  <dc:title>Слайд 1</dc:title>
</cp:coreProperties>
</file>