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DE1-2905-4905-8FDF-37BD62CC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BD0-8CA7-41AE-8D94-8945168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372-D240-4883-889D-F3E60A1A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A95-B699-4096-B85B-6AF9FAFC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2C6-3F46-4417-93A3-D5E217BA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B9F-D56D-4967-A9A2-22FAFCE3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A5E-C59F-49D2-BE8D-F435C6F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7F0-8686-4ADC-9DC1-31E10C0C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44F-2720-41F6-BDF0-CCA436AB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66E-8265-4569-8480-72BFF32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D24-0A03-4C51-80DC-3520550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BF4-E2EC-4B38-AAC9-3F07064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82A-B1DC-47FE-98AF-A828D55A44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003.radikal.ru/i202/1012/49/58a5769d1ada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61.radikal.ru/i173/0912/95/4e5ffcc201bd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yrillitsa.ru/wp-content/uploads/2013/03/10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izn.ru/images/rom/rom05/019_27_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seprostrany.ru/images/stories/arctic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khkykh.org/images/news/2011/11-2011/lgoty-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infomania.ru/images/his/psih_pic/umor/chukcha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e6b00"/>
                </a:solidFill>
                <a:latin typeface="Times New Roman"/>
                <a:ea typeface="Times New Roman"/>
              </a:rPr>
              <a:t>Земля бородатых</a:t>
            </a:r>
            <a:endParaRPr b="0" lang="en-US" sz="6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42" name="Picture 3" descr="C:\Users\Татьяна\Desktop\Безымянный.png"/>
          <p:cNvPicPr/>
          <p:nvPr/>
        </p:nvPicPr>
        <p:blipFill>
          <a:blip r:embed="rId1"/>
          <a:srcRect l="9687" t="23634" r="30790" b="14844"/>
          <a:stretch/>
        </p:blipFill>
        <p:spPr>
          <a:xfrm>
            <a:off x="428760" y="1566720"/>
            <a:ext cx="79293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57120" y="571500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А ездил этот странный народ на собаках, которые были похожи, скорее, на огромных волков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" descr="http://s003.radikal.ru/i202/1012/49/58a5769d1a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8505720" cy="535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Татьяна\Desktop\Безымянный.png"/>
          <p:cNvPicPr/>
          <p:nvPr/>
        </p:nvPicPr>
        <p:blipFill>
          <a:blip r:embed="rId3"/>
          <a:srcRect l="7832" t="2526" r="52804" b="47490"/>
          <a:stretch/>
        </p:blipFill>
        <p:spPr>
          <a:xfrm>
            <a:off x="285840" y="357120"/>
            <a:ext cx="15714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357120" y="45324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стати, о «бородатых» людях было широко известно и на юге. Ещё немецкий путешественник Шильтбергер в самом начале XV века рассказывал, будто в Сибири есть гора, за которой находится пустыня, доходящая «до края света». Там пасутся дикие лошади и обитают дикие люди, почти полностью покрытые шерстью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" descr="http://www.schoolconergino.ru/sasha/photo/16.jpg"/>
          <p:cNvPicPr/>
          <p:nvPr/>
        </p:nvPicPr>
        <p:blipFill>
          <a:blip r:embed="rId1"/>
          <a:stretch/>
        </p:blipFill>
        <p:spPr>
          <a:xfrm>
            <a:off x="3767040" y="357120"/>
            <a:ext cx="4972320" cy="5000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428760" y="5715000"/>
            <a:ext cx="82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Известно даже, якобы сибирский владетель подарил двух таких «бородатых» людей властителю Великой Татарии хану Едигею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85840" y="214200"/>
            <a:ext cx="8572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Но была ещё одна причина, по которой «земля бородатых» занимала умы людей. Неродные палестины могли однажды стать настоящей вольной землёй без податей и без властей – своеобразной мечтой для крестьянства. А для старообрядцев они приняли образ мифического града Китежа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http://s2.hubimg.com/u/5107585_f496.jpg"/>
          <p:cNvPicPr/>
          <p:nvPr/>
        </p:nvPicPr>
        <p:blipFill>
          <a:blip r:embed="rId1"/>
          <a:srcRect l="1509" t="4324" r="1715" b="4901"/>
          <a:stretch/>
        </p:blipFill>
        <p:spPr>
          <a:xfrm>
            <a:off x="428760" y="2000160"/>
            <a:ext cx="83581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42920" y="4857840"/>
            <a:ext cx="871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 одном письме местный исправник писал иркутскому епископу, что на Ледовитом океане есть остров, который виден только в ясную погоду. Живут на нем люди, которых называют бородачами, поскольку они совсем обросли волосами. Причем живут они там уже лет четыреста вместе с дикими чукчам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Рисунок 1" descr="http://cyrillitsa.ru/wp-content/uploads/2013/03/1030354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85840" y="4500720"/>
            <a:ext cx="857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Давным-давно какой-то епископ был выброшен на берег этого острова после кораблекрушения. На звук колоколов он и вышел к этому загадочному народу, который его спас. Однако в свои жилища осторожные бородачи его не пустили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прочем, немало фактов было собрано, чтобы развеять миф о «земле бородатых»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://cyrillitsa.ru/wp-content/uploads/2013/03/06712049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50371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14200" y="550080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Известно, что один человек, некто Саханников, совершивший преступление против русского царя, бежал на север. По дороге он где-то украл драгоценный камень и с ним попал на Новую Землю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7786800" y="4286160"/>
            <a:ext cx="122868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15228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Через несколько лет он вернулся и доложил царю, что в тех местах есть незамерзающая вода и находятся острова, покрытые лесом. Насчет своего камня он сказал, что нашел его в тех местах и там, мол, таких ещё много было. Царь за этот доклад простил ему преступление, а через несколько лет отправил на те острова экспедицию на поиски чудесных мест. Но ничего, увы, найдено не было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http://www.travelgarden.ru/upload/medialibrary/573/7.jpg"/>
          <p:cNvPicPr/>
          <p:nvPr/>
        </p:nvPicPr>
        <p:blipFill>
          <a:blip r:embed="rId1"/>
          <a:stretch/>
        </p:blipFill>
        <p:spPr>
          <a:xfrm>
            <a:off x="357120" y="2550960"/>
            <a:ext cx="5857920" cy="390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6500880" y="314316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0" y="3457440"/>
            <a:ext cx="5095800" cy="340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5848200" y="142920"/>
            <a:ext cx="3295800" cy="30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Татьяна\Desktop\Безымянный.png"/>
          <p:cNvPicPr/>
          <p:nvPr/>
        </p:nvPicPr>
        <p:blipFill>
          <a:blip r:embed="rId3"/>
          <a:stretch/>
        </p:blipFill>
        <p:spPr>
          <a:xfrm>
            <a:off x="142920" y="214200"/>
            <a:ext cx="3514680" cy="3829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454120" y="3214800"/>
            <a:ext cx="49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5000760" y="5716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усские верили, что за льдами арктических морей жили люди-великаны и прочие чудовищные существа: однорукие, одноногие и имеющие рты на темени. Эта страна называлась «землёй бородатых»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4" descr="http://s61.radikal.ru/i173/0912/95/4e5ffcc201b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000080"/>
            <a:ext cx="5175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http://cyrillitsa.ru/wp-content/uploads/2013/03/1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8524800" cy="4594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85840" y="4857840"/>
            <a:ext cx="8643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огда первые русские путешественники только начали открывать Крайний Север, в их сознании это место рисовалось сказочной неведомой страной, полной тайн и диковин. Чем дальше лежали эти земли и чем опаснее было к ним подбираться, тем фантастичнее и таинственнее был их облик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4643280" y="107172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амым ярким фольклорным образом была легенда о сказочном народе на островах Ледовитого океана и легенда о «земле бородатых»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Calibri"/>
              </a:rPr>
              <a:t>Примечательна она была тем, что вселяла в сердца первопроходцев надежду на открытие доселе неведомых, но обитаемых земель, богатых пушными зверями и покрытых густым лесом. Это не говоря уже о настоящей «Большой Земле», которая могла лежать к северу от берегов Восточной Сибир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7" descr="C:\Users\Татьяна\Desktop\Безымянный.png"/>
          <p:cNvPicPr/>
          <p:nvPr/>
        </p:nvPicPr>
        <p:blipFill>
          <a:blip r:embed="rId1"/>
          <a:srcRect l="3241" t="1310" r="1184" b="5427"/>
          <a:stretch/>
        </p:blipFill>
        <p:spPr>
          <a:xfrm>
            <a:off x="214200" y="1143000"/>
            <a:ext cx="44532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947160"/>
            <a:ext cx="36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3737"/>
                </a:solidFill>
                <a:latin typeface="Times New Roman"/>
                <a:ea typeface="Calibri"/>
              </a:rPr>
              <a:t>Такого рода Клондайк заставлял смелых и отважных идти по просторам Северного океана. В начале XVIII века была предпринята целая серия путешествий к северу от устьев рек Колымы и Лены, чтобы найти эту «великую землю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3643200" y="0"/>
            <a:ext cx="54342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14200" y="4786200"/>
            <a:ext cx="8786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 1760 году снарядили две экспедиции: Николая Дауркина на Чукотский полуостров и Степана Андреева на Медвежьи острова. Дауркин привез из поездки рассказ о легендарной земле Тикиген, на которой жило племя Храхай. При сильных ветрах их земля уходила в море на одну версту, а при тихой погоде возвращалась на своё место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2" descr="http://www.rusizn.ru/images/rom/rom05/019_27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3"/>
          <p:cNvSpPr/>
          <p:nvPr/>
        </p:nvSpPr>
        <p:spPr>
          <a:xfrm>
            <a:off x="2357280" y="4286160"/>
            <a:ext cx="6572520" cy="428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Экспедиция Николая Дауркина на Чукотский полуостров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4200" y="557208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тепан Андреев сообщил, что видел за Медвежьими островами еще один остров, но до него он так и не добрался: страх перед свежими следами оказался сильнее любопытства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http://vseprostrany.ru/images/stories/arctic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0"/>
            <a:ext cx="6357960" cy="535788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3"/>
          <p:cNvSpPr/>
          <p:nvPr/>
        </p:nvSpPr>
        <p:spPr>
          <a:xfrm>
            <a:off x="428760" y="5000760"/>
            <a:ext cx="8286480" cy="5000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6b00"/>
                </a:solidFill>
                <a:latin typeface="Times New Roman"/>
              </a:rPr>
              <a:t>1768-1769 гг. Экспедиция сержанта С. Андреева к Медвежьим островам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57120" y="304920"/>
            <a:ext cx="507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оренные жители Севера были глубоко убеждены в том, что за береговой линией Ледовитого океана лежат обитаемые земли и обширные острова. Их обитателями были загадочные великаны, которые носили длинные густые бороды – отсюда и пошли те самые «бородатые люди». Быт их был прост и бесхитростен; сообщали, что у них даже не было огня и им приходилось уносить головешки из человеческих костров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4829040" y="214200"/>
            <a:ext cx="4178520" cy="41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Татьяна\Desktop\Безымянный.png"/>
          <p:cNvPicPr/>
          <p:nvPr/>
        </p:nvPicPr>
        <p:blipFill>
          <a:blip r:embed="rId2"/>
          <a:srcRect l="8110" t="16991" r="12840" b="20035"/>
          <a:stretch/>
        </p:blipFill>
        <p:spPr>
          <a:xfrm>
            <a:off x="500040" y="4071960"/>
            <a:ext cx="4052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"/>
          <p:cNvSpPr/>
          <p:nvPr/>
        </p:nvSpPr>
        <p:spPr>
          <a:xfrm>
            <a:off x="285840" y="514368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Дома «бородатые» строили не по одному, а целыми поселками, а их форма была круглой, как у полуподземных жилищ эскимосов и сидячих чукчей. В качестве освещения «бородатые» использовали не печи, а «светящийся камень»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6" descr="http://www.kykhkykh.org/images/news/2011/11-2011/lgoty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57120"/>
            <a:ext cx="5715000" cy="427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www.infomania.ru/images/his/psih_pic/umor/chukcha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1214280"/>
            <a:ext cx="1886040" cy="331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50Z</dcterms:created>
  <dc:creator>Администратор</dc:creator>
  <dc:description/>
  <dc:language>en-US</dc:language>
  <cp:lastModifiedBy>Татьяна</cp:lastModifiedBy>
  <dcterms:modified xsi:type="dcterms:W3CDTF">2013-03-21T10:24:29Z</dcterms:modified>
  <cp:revision>89</cp:revision>
  <dc:subject/>
  <dc:title>Слайд 1</dc:title>
</cp:coreProperties>
</file>