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34.jpeg" ContentType="image/jpeg"/>
  <Override PartName="/ppt/media/image20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963-9D81-4807-9557-A2C334F4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C09-2D76-49CC-BD2C-A37153B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C0E-C35C-4940-A4EF-9145FC0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082-8A93-4A56-A2E9-33104F1A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9339-8260-4C1B-BECC-D3C44A62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6922-E077-43F5-929F-0D4EC83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5BED-FA51-46C9-90E9-F9EDC77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F041-090A-42BC-BE1B-BF87DC0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54A-65D2-401D-8554-32F703F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E530-1856-4B89-A7D2-A01A050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9AD4-EC03-4AB6-ACA8-1557002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106-6163-45E7-9FD0-8EBF5F7C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B0F5-9D2C-4601-B515-B8F36B3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EF58-7AD3-4D4E-B2EC-12069DF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9B5-2B3C-44BB-9BB5-794B574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56EF-FB99-44F3-A7CC-F23F3D7F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19D3-B03D-4D1F-AE87-10A8A38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A4DC-0CD1-41DA-ABC5-7A5D23CE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044F-D7D6-4842-8F64-6FBA9A9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88EB-48DD-472A-A1FE-54C5A61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1979-DED9-4640-88B1-C11622F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3EFC-D41A-4154-AB9B-EAA0BF2B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79-2990-46F1-97CB-1CCD3EF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6A65-0FDE-477A-9ADF-63D0B53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157E-A32B-4C33-AC0E-F4C92B7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7D51-09F2-4F0B-BFD4-F837E88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AE78-B463-4FA2-97EA-653B015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FC7D-1F12-477A-A56D-F1DADE6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6C06-9D38-4803-978E-9A098B10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5796-D260-41D6-8106-44732D34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FD2B-6BB3-4C91-BC52-02790D4D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66D3-EB94-4F96-B9AB-0AA9A3D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2BB5-8C16-4669-9805-5E646A9C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1F1-65C0-45C4-9C67-6D002109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1AA2-3CAA-4498-B4A2-D5C6717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85EE-278A-4220-ABD4-D8436E5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B95E-CB02-47E6-9F69-D678A0DA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F271-EF50-4532-9DAD-AF178784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60BE-00ED-48BC-A36E-281C2C4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AB9E-9C03-4DFE-8CCE-6B7523F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19F1-89A2-4846-9C7C-E8B3E30E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8917-325A-4441-97DD-3DAF3CC4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50A3-43AD-49B7-93A6-EE98E226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6E8-71A0-4E33-8CA4-C1711EA3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8BE-DB3F-4CD4-A856-5EAEF79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C47-D38E-40DF-B61A-69EC7DA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793-E28E-4A6E-8C94-3516711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5A7-6A37-49BD-B53F-B2520AC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6C6-D5EC-49B6-A020-E179D79FC28B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164-D6CE-4576-8916-FDC4638220EE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ACEE-7906-4FF1-9FCA-AD9ACE261460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DAA1-1E2B-4EA9-A327-BCDD61C8996C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215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2428560"/>
            <a:ext cx="78868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«Не рвите цветы</a:t>
            </a:r>
            <a:r>
              <a:rPr b="1" lang="en-US" sz="6000" spc="-1" strike="noStrike">
                <a:solidFill>
                  <a:srgbClr val="ff0000"/>
                </a:solidFill>
                <a:latin typeface="Bookman Old Style"/>
              </a:rPr>
              <a:t>!</a:t>
            </a: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Экологический отряд «Светлячки»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2012 год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-6480" y="-274680"/>
            <a:ext cx="8485200" cy="1932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285720" y="2143080"/>
            <a:ext cx="5357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 2009 году вышла в тираж обновленная "Красная книга" Владимирской области.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 нее вошло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60 видов животных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69 наименований растений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2 видов грибов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307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004840" y="-115920"/>
            <a:ext cx="6919920" cy="1432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85840" y="592920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Первоцвет весенний         Печеночница благородная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4572000" y="1857240"/>
            <a:ext cx="385776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28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1920960" y="73080"/>
            <a:ext cx="694188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13840" y="585756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Кубышка малая                            Кувшинка чисто-белая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42920" y="214308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5214960" y="1785960"/>
            <a:ext cx="342900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28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665280" y="182520"/>
            <a:ext cx="7813440" cy="110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643360" y="1642680"/>
            <a:ext cx="31431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«</a:t>
            </a: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СВЕТЛЯЧКИ»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2010 –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год создания отряда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Цель: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изучение природы Владимирского края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5" name="Picture 2" descr="C:\Documents and Settings\Admin\Рабочий стол\Второе занятие кружка 096.jpg"/>
          <p:cNvPicPr/>
          <p:nvPr/>
        </p:nvPicPr>
        <p:blipFill>
          <a:blip r:embed="rId2"/>
          <a:srcRect l="14475" t="5884" r="9210" b="0"/>
          <a:stretch/>
        </p:blipFill>
        <p:spPr>
          <a:xfrm>
            <a:off x="500040" y="16430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5205240" y="182520"/>
            <a:ext cx="3730680" cy="5322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Admin\Мои документы\Мои рисунки\28 января 2011\28 января 2011 013.jpg"/>
          <p:cNvPicPr/>
          <p:nvPr/>
        </p:nvPicPr>
        <p:blipFill>
          <a:blip r:embed="rId2"/>
          <a:stretch/>
        </p:blipFill>
        <p:spPr>
          <a:xfrm>
            <a:off x="214200" y="214200"/>
            <a:ext cx="47865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557208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Admin\Мои документы\Мои рисунки\28 января 2011\28 января 2011 013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341280" y="-262080"/>
            <a:ext cx="8137440" cy="1919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57120" y="2057400"/>
            <a:ext cx="35006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Влади́мир Алексе́евич Солоу́хин (1924—1997) — русский советский писатель и поэт.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Владимир Солоухин родился 14 июня 1924 года в селе Алепине (ныне Собинского района Владимирской области) в крестьянской семье.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357800" y="114300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824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14200" y="928800"/>
            <a:ext cx="1905120" cy="300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 rot="19945800">
            <a:off x="2398320" y="1138320"/>
            <a:ext cx="1905120" cy="280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4"/>
          <a:stretch/>
        </p:blipFill>
        <p:spPr>
          <a:xfrm rot="1600200">
            <a:off x="4615920" y="1369800"/>
            <a:ext cx="209556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5"/>
          <a:stretch/>
        </p:blipFill>
        <p:spPr>
          <a:xfrm>
            <a:off x="3786120" y="3786120"/>
            <a:ext cx="5167440" cy="2786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6"/>
          <a:stretch/>
        </p:blipFill>
        <p:spPr>
          <a:xfrm rot="19490400">
            <a:off x="1108080" y="3695760"/>
            <a:ext cx="2138400" cy="303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7"/>
          <a:stretch/>
        </p:blipFill>
        <p:spPr>
          <a:xfrm>
            <a:off x="6500880" y="5000760"/>
            <a:ext cx="103824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8"/>
          <a:stretch/>
        </p:blipFill>
        <p:spPr>
          <a:xfrm>
            <a:off x="7072200" y="1000080"/>
            <a:ext cx="1905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827600" y="-128520"/>
            <a:ext cx="4352760" cy="1920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000400" y="4429080"/>
            <a:ext cx="41432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Настя с ландышами…голову опустила, стыдно стало…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3" name="Picture 2" descr="C:\Documents and Settings\Admin\Рабочий стол\Новая папка\Второе занятие кружка 107.jpg"/>
          <p:cNvPicPr/>
          <p:nvPr/>
        </p:nvPicPr>
        <p:blipFill>
          <a:blip r:embed="rId2"/>
          <a:stretch/>
        </p:blipFill>
        <p:spPr>
          <a:xfrm>
            <a:off x="428760" y="428760"/>
            <a:ext cx="4214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827600" y="-262080"/>
            <a:ext cx="4352760" cy="191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5071680" y="2928600"/>
            <a:ext cx="3119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Аня, Юля, Настя с БОЛЬШИМИ букетами…пока ещё не понимают, что цветы рвать нельзя!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6" name="Picture 2" descr="C:\Documents and Settings\Admin\Рабочий стол\Новая папка\046.JPG"/>
          <p:cNvPicPr/>
          <p:nvPr/>
        </p:nvPicPr>
        <p:blipFill>
          <a:blip r:embed="rId2"/>
          <a:stretch/>
        </p:blipFill>
        <p:spPr>
          <a:xfrm>
            <a:off x="357120" y="642960"/>
            <a:ext cx="4443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280040" y="182520"/>
            <a:ext cx="4655880" cy="1109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3714840" cy="373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143000" y="371484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3857760" y="1714680"/>
            <a:ext cx="5000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8:27:16Z</dcterms:created>
  <dc:creator>Admin</dc:creator>
  <dc:description/>
  <dc:language>en-US</dc:language>
  <cp:lastModifiedBy>Admin</cp:lastModifiedBy>
  <dcterms:modified xsi:type="dcterms:W3CDTF">2014-01-05T19:57:02Z</dcterms:modified>
  <cp:revision>47</cp:revision>
  <dc:subject/>
  <dc:title>МБОУ СОШ №9  города Карабаново Владимирской области</dc:title>
</cp:coreProperties>
</file>