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34.jpeg" ContentType="image/jpeg"/>
  <Override PartName="/ppt/media/image20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9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6F2-7013-4918-8169-34DCCFDC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F06-EFE3-4C85-A0DF-0C242F8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DA1-232D-4544-9F5E-33DF78A7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6C7-C15F-4A9A-BA2F-7E491845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909D-46F9-4251-89C2-D2CCBD8B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163E-BF0A-4C0B-8C2A-4EF5EEC4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CAED-1A44-4973-AF40-ADA3FC9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7AA6-31F0-4D3A-B7CD-EF469277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C2A2-672F-45FD-966B-1001BCA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951-0BFD-47D4-A6EE-75C0D42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CC69-D4E0-4402-8AFE-FF55A68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A8C-4511-4ED3-A5AF-8F57730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8B55-2D2E-47B2-B6A4-F9C332F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3B08-8CB0-4F05-98D0-81C3C57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C31B-A4FA-4C28-B2D6-EA0635FB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7DC-BFA8-4906-8F2E-8248A12F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BBB1-ADD1-4180-B62D-C9079545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410C-288F-4875-B219-AE03852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FEF0-CFBA-49DC-8FE9-3093D07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3843-F469-4F55-9BDC-40D8DF0C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B81F-C976-47FD-BC1B-D9E8BEE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D5F3-C5E3-45ED-A57D-8CFF49BA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989-6A55-499D-8888-19DCC744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AD64-4581-4ABB-B0D2-970F1589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E6AC-3F6C-450D-B93D-1A1EA58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8BA2-89EA-445A-94E0-4FAD5F4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A847-4B81-4E2D-B849-7FEA688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75A9-3505-499F-A2FA-A12B92A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A780-1B4D-4450-A9BF-E24F27FF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3B69-12B8-4C85-A70A-0C04482C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DE65-A0DD-46A0-A310-6DE75D77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453E-E4E8-4F21-A9F7-F695C0FB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3FE8-D257-45E3-8AF1-45D0EC0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1FA-8805-4CAA-B1DB-DB052A04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94E9-0AC8-47A0-9B6F-AAA83BF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B122E-B79D-4DD6-9EC9-1406EC19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211B-6A0B-4C7C-AAE4-DDC5B10D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0AC9-92A7-4461-9B65-BA8EC7A3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E5DA-135E-4591-89A1-8D6A98B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67E3-AD2C-4085-9DB1-9FEA5C4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D78A-889B-4B78-B204-FF643935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EBB2-AD21-44BE-AC66-4BBE316B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577B-E2D5-40C2-ADC2-2D72720E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CCE-C732-44CF-A586-2988DDF6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836-4677-4830-B67A-4CC69DE5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982-2631-4923-9D2C-7FB0F0C3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658-5814-4621-BE5B-3F4BBB3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999-D3B0-4511-9207-6757E5D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C9F5-767F-4EAA-AE26-7D50F22E1542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esh title.png"/>
          <p:cNvPicPr/>
          <p:nvPr/>
        </p:nvPicPr>
        <p:blipFill>
          <a:blip r:embed="rId2"/>
          <a:srcRect l="0" t="0" r="0" b="39778"/>
          <a:stretch/>
        </p:blipFill>
        <p:spPr>
          <a:xfrm>
            <a:off x="0" y="1566720"/>
            <a:ext cx="9144000" cy="224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resh title.png"/>
          <p:cNvPicPr/>
          <p:nvPr/>
        </p:nvPicPr>
        <p:blipFill>
          <a:blip r:embed="rId3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24480" y="62881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62881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81520" y="62881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E3B0-18FA-4A60-87FC-6E554B865A7D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Fresh section.png"/>
          <p:cNvPicPr/>
          <p:nvPr/>
        </p:nvPicPr>
        <p:blipFill>
          <a:blip r:embed="rId2"/>
          <a:stretch/>
        </p:blipFill>
        <p:spPr>
          <a:xfrm>
            <a:off x="0" y="3767040"/>
            <a:ext cx="914400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2840" y="6553080"/>
            <a:ext cx="198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20880" y="6553080"/>
            <a:ext cx="2895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759440" y="6553080"/>
            <a:ext cx="6858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D6F-28E0-4EFD-8833-949773CDCF14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6753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907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6FA-DE83-43D9-9153-BBAD380B2F98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2159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2428560"/>
            <a:ext cx="78868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«Не рвите цветы</a:t>
            </a:r>
            <a:r>
              <a:rPr b="1" lang="en-US" sz="6000" spc="-1" strike="noStrike">
                <a:solidFill>
                  <a:srgbClr val="ff0000"/>
                </a:solidFill>
                <a:latin typeface="Bookman Old Style"/>
              </a:rPr>
              <a:t>!</a:t>
            </a: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Экологический отряд «Светлячки»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2012 год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-6480" y="-274680"/>
            <a:ext cx="8485200" cy="1932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285720" y="2143080"/>
            <a:ext cx="5357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 2009 году вышла в тираж обновленная "Красная книга" Владимирской области.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 нее вошло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160 видов животных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169 наименований растений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12 видов грибов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3071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004840" y="-115920"/>
            <a:ext cx="6919920" cy="1432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85840" y="592920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Первоцвет весенний         Печеночница благородная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3500280" cy="3286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4572000" y="1857240"/>
            <a:ext cx="385776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28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1920960" y="73080"/>
            <a:ext cx="6941880" cy="1431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213840" y="585756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Кубышка малая                            Кувшинка чисто-белая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42920" y="214308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5214960" y="1785960"/>
            <a:ext cx="342900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28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665280" y="182520"/>
            <a:ext cx="7813440" cy="110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5643360" y="1642680"/>
            <a:ext cx="31431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«</a:t>
            </a: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СВЕТЛЯЧКИ»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2010 –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год создания отряда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Цель: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изучение природы Владимирского края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5" name="Picture 2" descr="C:\Documents and Settings\Admin\Рабочий стол\Второе занятие кружка 096.jpg"/>
          <p:cNvPicPr/>
          <p:nvPr/>
        </p:nvPicPr>
        <p:blipFill>
          <a:blip r:embed="rId2"/>
          <a:srcRect l="14475" t="5884" r="9210" b="0"/>
          <a:stretch/>
        </p:blipFill>
        <p:spPr>
          <a:xfrm>
            <a:off x="500040" y="16430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5205240" y="182520"/>
            <a:ext cx="3730680" cy="5322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Admin\Мои документы\Мои рисунки\28 января 2011\28 января 2011 013.jpg"/>
          <p:cNvPicPr/>
          <p:nvPr/>
        </p:nvPicPr>
        <p:blipFill>
          <a:blip r:embed="rId2"/>
          <a:stretch/>
        </p:blipFill>
        <p:spPr>
          <a:xfrm>
            <a:off x="214200" y="214200"/>
            <a:ext cx="47865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785960" y="357120"/>
            <a:ext cx="557208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Documents and Settings\Admin\Мои документы\Мои рисунки\28 января 2011\28 января 2011 013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341280" y="-262080"/>
            <a:ext cx="8137440" cy="1919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357120" y="2057400"/>
            <a:ext cx="35006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Влади́мир Алексе́евич Солоу́хин (1924—1997) — русский советский писатель и поэт.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Владимир Солоухин родился 14 июня 1924 года в селе Алепине (ныне Собинского района Владимирской области) в крестьянской семье.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4357800" y="1143000"/>
            <a:ext cx="442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156960" cy="824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214200" y="928800"/>
            <a:ext cx="1905120" cy="3000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 rot="19945800">
            <a:off x="2398320" y="1138320"/>
            <a:ext cx="1905120" cy="280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4"/>
          <a:stretch/>
        </p:blipFill>
        <p:spPr>
          <a:xfrm rot="1600200">
            <a:off x="4615920" y="1369800"/>
            <a:ext cx="209556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5"/>
          <a:stretch/>
        </p:blipFill>
        <p:spPr>
          <a:xfrm>
            <a:off x="3786120" y="3786120"/>
            <a:ext cx="5167440" cy="2786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6"/>
          <a:stretch/>
        </p:blipFill>
        <p:spPr>
          <a:xfrm rot="19490400">
            <a:off x="1108080" y="3695760"/>
            <a:ext cx="2138400" cy="303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7"/>
          <a:stretch/>
        </p:blipFill>
        <p:spPr>
          <a:xfrm>
            <a:off x="6500880" y="5000760"/>
            <a:ext cx="103824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8"/>
          <a:stretch/>
        </p:blipFill>
        <p:spPr>
          <a:xfrm>
            <a:off x="7072200" y="1000080"/>
            <a:ext cx="1905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827600" y="-128520"/>
            <a:ext cx="4352760" cy="1920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5000400" y="4429080"/>
            <a:ext cx="41432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Настя с ландышами…голову опустила, стыдно стало…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3" name="Picture 2" descr="C:\Documents and Settings\Admin\Рабочий стол\Новая папка\Второе занятие кружка 107.jpg"/>
          <p:cNvPicPr/>
          <p:nvPr/>
        </p:nvPicPr>
        <p:blipFill>
          <a:blip r:embed="rId2"/>
          <a:stretch/>
        </p:blipFill>
        <p:spPr>
          <a:xfrm>
            <a:off x="428760" y="428760"/>
            <a:ext cx="4214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4827600" y="-262080"/>
            <a:ext cx="4352760" cy="191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5071680" y="2928600"/>
            <a:ext cx="3119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Аня, Юля, Настя с БОЛЬШИМИ букетами…пока ещё не понимают, что цветы рвать нельзя!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6" name="Picture 2" descr="C:\Documents and Settings\Admin\Рабочий стол\Новая папка\046.JPG"/>
          <p:cNvPicPr/>
          <p:nvPr/>
        </p:nvPicPr>
        <p:blipFill>
          <a:blip r:embed="rId2"/>
          <a:stretch/>
        </p:blipFill>
        <p:spPr>
          <a:xfrm>
            <a:off x="357120" y="642960"/>
            <a:ext cx="4443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280040" y="182520"/>
            <a:ext cx="4655880" cy="1109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3714840" cy="3733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1143000" y="371484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4"/>
          <a:stretch/>
        </p:blipFill>
        <p:spPr>
          <a:xfrm>
            <a:off x="3857760" y="1714680"/>
            <a:ext cx="50004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8:27:16Z</dcterms:created>
  <dc:creator>Admin</dc:creator>
  <dc:description/>
  <dc:language>en-US</dc:language>
  <cp:lastModifiedBy>Admin</cp:lastModifiedBy>
  <dcterms:modified xsi:type="dcterms:W3CDTF">2014-01-05T19:57:02Z</dcterms:modified>
  <cp:revision>47</cp:revision>
  <dc:subject/>
  <dc:title>МБОУ СОШ №9  города Карабаново Владимирской области</dc:title>
</cp:coreProperties>
</file>