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D81-F503-4623-8D18-32DEC618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CAA-E959-4D74-878F-3A521AE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3B7-ACAB-49ED-87B5-368D7D1E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E93-DEC7-410F-B285-35E6F7A6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77B-44D9-4838-A5B3-95FB3DEF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A1B-D524-4818-8FAF-B43F014A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130-E0E0-4684-8793-E4F50700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2A8-CA6F-481C-A18F-50CC7FBA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701-672B-4E93-A980-E7823883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150-F643-4A42-AE82-735148E2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2A6-818C-41B0-8A0F-A3DBD47B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13D-AA12-4E59-A5CA-2283660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253F-3738-4D9A-95DC-A212384EC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-450720" y="2835360"/>
            <a:ext cx="5638680" cy="405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9" name="Прямоугольник 2"/>
          <p:cNvSpPr/>
          <p:nvPr/>
        </p:nvSpPr>
        <p:spPr>
          <a:xfrm>
            <a:off x="324000" y="620640"/>
            <a:ext cx="6335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восьмое: бойтесь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Беса в душу запустит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За святым крестом укройтесь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Чтоб соблазны победить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61" name="Прямоугольник 2"/>
          <p:cNvSpPr/>
          <p:nvPr/>
        </p:nvSpPr>
        <p:spPr>
          <a:xfrm>
            <a:off x="324000" y="620640"/>
            <a:ext cx="6335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от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девятое из правил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: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Коль на Русь кто нападет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Он завет всем нам оставил: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Бей врага, родной народ!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63" name="Прямоугольник 2"/>
          <p:cNvSpPr/>
          <p:nvPr/>
        </p:nvSpPr>
        <p:spPr>
          <a:xfrm>
            <a:off x="324000" y="620640"/>
            <a:ext cx="633564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м десятым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важным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Завещал Руси солдат: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атриотом быть отважным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Помнить павших всех ребят.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65" name="Прямоугольник 2"/>
          <p:cNvSpPr/>
          <p:nvPr/>
        </p:nvSpPr>
        <p:spPr>
          <a:xfrm>
            <a:off x="324000" y="620640"/>
            <a:ext cx="6335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Автор стихотвор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«</a:t>
            </a:r>
            <a:r>
              <a:rPr b="1" lang="ru-RU" sz="4800" spc="-1" strike="noStrike">
                <a:solidFill>
                  <a:srgbClr val="ff0000"/>
                </a:solidFill>
                <a:latin typeface="Ukrainian?Izhitsa"/>
              </a:rPr>
              <a:t>Десять правил маленького россиянина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»»»»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А. Гаврюшкин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>
            <a:lum bright="-40000"/>
          </a:blip>
          <a:srcRect l="1961" t="5902" r="15349" b="11150"/>
          <a:stretch/>
        </p:blipFill>
        <p:spPr>
          <a:xfrm>
            <a:off x="179280" y="404640"/>
            <a:ext cx="7561440" cy="568836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1932120" y="420840"/>
            <a:ext cx="5097240" cy="53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>
            <a:lum bright="-40000"/>
          </a:blip>
          <a:srcRect l="1961" t="5902" r="16138" b="13254"/>
          <a:stretch/>
        </p:blipFill>
        <p:spPr>
          <a:xfrm>
            <a:off x="179280" y="404640"/>
            <a:ext cx="7488360" cy="554544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45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один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конечно, 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Свою Родину любит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Быть ей преданным навечно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Честь и славу заслужить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>
            <a:lum bright="-40000"/>
          </a:blip>
          <a:srcRect l="1961" t="5902" r="16138" b="13254"/>
          <a:stretch/>
        </p:blipFill>
        <p:spPr>
          <a:xfrm>
            <a:off x="179280" y="404640"/>
            <a:ext cx="7488360" cy="554544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47" name="Прямоугольник 2"/>
          <p:cNvSpPr/>
          <p:nvPr/>
        </p:nvSpPr>
        <p:spPr>
          <a:xfrm>
            <a:off x="324000" y="620640"/>
            <a:ext cx="633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второе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ажно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Коли первое блюсти: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Честь храните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и неважно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Где и как пришлось раст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49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Третьим правилом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дано нам</a:t>
            </a:r>
            <a:br>
              <a:rPr sz="4800"/>
            </a:b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Гимн Родной Отчизны знат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А, услышав гимна звуки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С гордостью в душе вставать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1" name="Прямоугольник 2"/>
          <p:cNvSpPr/>
          <p:nvPr/>
        </p:nvSpPr>
        <p:spPr>
          <a:xfrm>
            <a:off x="324000" y="620640"/>
            <a:ext cx="63356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Правило четыре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дети, -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Уважать вы все должны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И </a:t>
            </a: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береч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основы эти:</a:t>
            </a:r>
            <a:br>
              <a:rPr sz="4800"/>
            </a:b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Герб и флаг родной страны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3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ятым правилом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сем будет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Честность ваша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навсегда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И тогда из многих судеб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Навсегда уйдет беда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5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шестое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знайте,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омощь слабым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это честь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Старость, младость уважайте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едь таких людей не счесть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7" name="Прямоугольник 2"/>
          <p:cNvSpPr/>
          <p:nvPr/>
        </p:nvSpPr>
        <p:spPr>
          <a:xfrm>
            <a:off x="324000" y="620640"/>
            <a:ext cx="63356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Завещал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седьмым из правил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Веру в Бога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нам солдат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еры дух чтоб нами правил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Был духовен, стар и млад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2:16:48Z</dcterms:created>
  <dc:creator>Анна</dc:creator>
  <dc:description/>
  <dc:language>en-US</dc:language>
  <cp:lastModifiedBy>Анна</cp:lastModifiedBy>
  <dcterms:modified xsi:type="dcterms:W3CDTF">2011-09-04T18:04:22Z</dcterms:modified>
  <cp:revision>8</cp:revision>
  <dc:subject/>
  <dc:title>Слайд 1</dc:title>
</cp:coreProperties>
</file>