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436-DA21-43F4-ACA7-9DE1CD95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02B-8288-42B5-8605-6DE715D5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106-3B93-427D-BC06-CE226D74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7F8-7142-415A-9338-66128867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941-2293-4117-BD4F-AE68D830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E2D-228F-4A27-9454-8A73CC83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C6FC-42F9-439B-AD61-4848942F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3A8-843F-42F3-83F1-C539AF55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114-9209-40EE-AC79-ABE0D0BF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73E5-01A8-4BAB-AF6C-385845E1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8AB-6026-44DD-BC7F-C86DAB79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7D5-1674-42C7-8086-05C0F219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B841-7F73-4F0B-96FA-A1A93A49A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-450720" y="2835360"/>
            <a:ext cx="5638680" cy="405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59" name="Прямоугольник 2"/>
          <p:cNvSpPr/>
          <p:nvPr/>
        </p:nvSpPr>
        <p:spPr>
          <a:xfrm>
            <a:off x="324000" y="620640"/>
            <a:ext cx="63356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равило восьмое: бойтесь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Беса в душу запустить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.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За святым крестом укройтесь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Чтоб соблазны победить.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61" name="Прямоугольник 2"/>
          <p:cNvSpPr/>
          <p:nvPr/>
        </p:nvSpPr>
        <p:spPr>
          <a:xfrm>
            <a:off x="324000" y="620640"/>
            <a:ext cx="63356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Вот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девятое из правил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: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Коль на Русь кто нападет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Он завет всем нам оставил: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Бей врага, родной народ!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63" name="Прямоугольник 2"/>
          <p:cNvSpPr/>
          <p:nvPr/>
        </p:nvSpPr>
        <p:spPr>
          <a:xfrm>
            <a:off x="324000" y="620640"/>
            <a:ext cx="633564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равилом десятым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 важным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Завещал Руси солдат: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атриотом быть отважным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Помнить павших всех ребят.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65" name="Прямоугольник 2"/>
          <p:cNvSpPr/>
          <p:nvPr/>
        </p:nvSpPr>
        <p:spPr>
          <a:xfrm>
            <a:off x="324000" y="620640"/>
            <a:ext cx="63356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Автор стихотворе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«</a:t>
            </a:r>
            <a:r>
              <a:rPr b="1" lang="ru-RU" sz="4800" spc="-1" strike="noStrike">
                <a:solidFill>
                  <a:srgbClr val="ff0000"/>
                </a:solidFill>
                <a:latin typeface="Ukrainian?Izhitsa"/>
              </a:rPr>
              <a:t>Десять правил маленького россиянина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»»»»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А. Гаврюшкин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>
            <a:lum bright="-40000"/>
          </a:blip>
          <a:srcRect l="1961" t="5902" r="15349" b="11150"/>
          <a:stretch/>
        </p:blipFill>
        <p:spPr>
          <a:xfrm>
            <a:off x="179280" y="404640"/>
            <a:ext cx="7561440" cy="568836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1932120" y="420840"/>
            <a:ext cx="5097240" cy="532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>
            <a:lum bright="-40000"/>
          </a:blip>
          <a:srcRect l="1961" t="5902" r="16138" b="13254"/>
          <a:stretch/>
        </p:blipFill>
        <p:spPr>
          <a:xfrm>
            <a:off x="179280" y="404640"/>
            <a:ext cx="7488360" cy="554544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45" name="Прямоугольник 2"/>
          <p:cNvSpPr/>
          <p:nvPr/>
        </p:nvSpPr>
        <p:spPr>
          <a:xfrm>
            <a:off x="324000" y="620640"/>
            <a:ext cx="63356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равило один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 конечно, 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Свою Родину любить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Быть ей преданным навечно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Честь и славу заслужить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>
            <a:lum bright="-40000"/>
          </a:blip>
          <a:srcRect l="1961" t="5902" r="16138" b="13254"/>
          <a:stretch/>
        </p:blipFill>
        <p:spPr>
          <a:xfrm>
            <a:off x="179280" y="404640"/>
            <a:ext cx="7488360" cy="554544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47" name="Прямоугольник 2"/>
          <p:cNvSpPr/>
          <p:nvPr/>
        </p:nvSpPr>
        <p:spPr>
          <a:xfrm>
            <a:off x="324000" y="620640"/>
            <a:ext cx="6335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равило второе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важно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Коли первое блюсти: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Честь храните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 и неважно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Где и как пришлось раст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49" name="Прямоугольник 2"/>
          <p:cNvSpPr/>
          <p:nvPr/>
        </p:nvSpPr>
        <p:spPr>
          <a:xfrm>
            <a:off x="324000" y="620640"/>
            <a:ext cx="63356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00000"/>
                </a:solidFill>
                <a:uFillTx/>
                <a:latin typeface="Ukrainian?Izhitsa"/>
              </a:rPr>
              <a:t>Третьим правилом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дано нам</a:t>
            </a:r>
            <a:br>
              <a:rPr sz="4800"/>
            </a:br>
            <a:r>
              <a:rPr b="1" lang="ru-RU" sz="4800" spc="-1" strike="noStrike" u="sng">
                <a:solidFill>
                  <a:srgbClr val="c00000"/>
                </a:solidFill>
                <a:uFillTx/>
                <a:latin typeface="Ukrainian?Izhitsa"/>
              </a:rPr>
              <a:t>Гимн Родной Отчизны знать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А, услышав гимна звуки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С гордостью в душе вставать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51" name="Прямоугольник 2"/>
          <p:cNvSpPr/>
          <p:nvPr/>
        </p:nvSpPr>
        <p:spPr>
          <a:xfrm>
            <a:off x="324000" y="620640"/>
            <a:ext cx="63356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00000"/>
                </a:solidFill>
                <a:uFillTx/>
                <a:latin typeface="Ukrainian?Izhitsa"/>
              </a:rPr>
              <a:t>Правило четыре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 дети, -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Уважать вы все должны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И </a:t>
            </a:r>
            <a:r>
              <a:rPr b="1" lang="ru-RU" sz="4800" spc="-1" strike="noStrike" u="sng">
                <a:solidFill>
                  <a:srgbClr val="c00000"/>
                </a:solidFill>
                <a:uFillTx/>
                <a:latin typeface="Ukrainian?Izhitsa"/>
              </a:rPr>
              <a:t>беречь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основы эти:</a:t>
            </a:r>
            <a:br>
              <a:rPr sz="4800"/>
            </a:br>
            <a:r>
              <a:rPr b="1" lang="ru-RU" sz="4800" spc="-1" strike="noStrike" u="sng">
                <a:solidFill>
                  <a:srgbClr val="c00000"/>
                </a:solidFill>
                <a:uFillTx/>
                <a:latin typeface="Ukrainian?Izhitsa"/>
              </a:rPr>
              <a:t>Герб и флаг родной страны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53" name="Прямоугольник 2"/>
          <p:cNvSpPr/>
          <p:nvPr/>
        </p:nvSpPr>
        <p:spPr>
          <a:xfrm>
            <a:off x="324000" y="620640"/>
            <a:ext cx="63356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ятым правилом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всем будет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Честность ваша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навсегда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И тогда из многих судеб 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Навсегда уйдет беда.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55" name="Прямоугольник 2"/>
          <p:cNvSpPr/>
          <p:nvPr/>
        </p:nvSpPr>
        <p:spPr>
          <a:xfrm>
            <a:off x="324000" y="620640"/>
            <a:ext cx="63356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равило шестое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 знайте,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омощь слабым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это честь.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Старость, младость уважайте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Ведь таких людей не счесть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57" name="Прямоугольник 2"/>
          <p:cNvSpPr/>
          <p:nvPr/>
        </p:nvSpPr>
        <p:spPr>
          <a:xfrm>
            <a:off x="324000" y="620640"/>
            <a:ext cx="63356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Завещал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седьмым из правил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Веру в Бога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нам солдат.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Веры дух чтоб нами правил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Был духовен, стар и млад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2:16:48Z</dcterms:created>
  <dc:creator>Анна</dc:creator>
  <dc:description/>
  <dc:language>en-US</dc:language>
  <cp:lastModifiedBy>Анна</cp:lastModifiedBy>
  <dcterms:modified xsi:type="dcterms:W3CDTF">2011-09-04T18:04:22Z</dcterms:modified>
  <cp:revision>8</cp:revision>
  <dc:subject/>
  <dc:title>Слайд 1</dc:title>
</cp:coreProperties>
</file>