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724-F65D-4A78-9857-D70AD026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109-1A50-45C3-B762-A5B4776D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889-EB94-421E-83F7-D2C5D82D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9A6-A497-4DB9-B4F2-06F092B6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90C-2AB2-4A29-8DB5-B105121A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2C8-8602-4539-869F-035625C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56F-0FE6-4581-9079-A99A884F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F07-0D37-4D9C-9035-E8B5ACAB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902-71E9-495F-A787-BC97FFCF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2EA-2EAD-4D0A-847E-AA56CAA2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870-6F68-4650-A12C-5F4516E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07CE-988F-4146-AA63-C868F01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226C-3BA5-44E1-98D5-8CCAC8657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-450720" y="2835360"/>
            <a:ext cx="5638680" cy="405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9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восьмое: бойтесь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Беса в душу запусти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 святым крестом укройтесь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Чтоб соблазны победить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1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от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девятое из правил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: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Коль на Русь кто нападет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Он завет всем нам оставил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Бей врага, родной народ!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3" name="Прямоугольник 2"/>
          <p:cNvSpPr/>
          <p:nvPr/>
        </p:nvSpPr>
        <p:spPr>
          <a:xfrm>
            <a:off x="324000" y="620640"/>
            <a:ext cx="633564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м десятым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важным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вещал Руси солдат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атриотом быть отважным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Помнить павших всех ребят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65" name="Прямоугольник 2"/>
          <p:cNvSpPr/>
          <p:nvPr/>
        </p:nvSpPr>
        <p:spPr>
          <a:xfrm>
            <a:off x="324000" y="620640"/>
            <a:ext cx="6335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втор стихотвор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«</a:t>
            </a:r>
            <a:r>
              <a:rPr b="1" lang="ru-RU" sz="4800" spc="-1" strike="noStrike">
                <a:solidFill>
                  <a:srgbClr val="ff0000"/>
                </a:solidFill>
                <a:latin typeface="Ukrainian?Izhitsa"/>
              </a:rPr>
              <a:t>Десять правил маленького россиянина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»»»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. Гаврюшкин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>
            <a:lum bright="-40000"/>
          </a:blip>
          <a:srcRect l="1961" t="5902" r="15349" b="11150"/>
          <a:stretch/>
        </p:blipFill>
        <p:spPr>
          <a:xfrm>
            <a:off x="179280" y="404640"/>
            <a:ext cx="7561440" cy="568836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1932120" y="420840"/>
            <a:ext cx="5097240" cy="53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-40000"/>
          </a:blip>
          <a:srcRect l="1961" t="5902" r="16138" b="13254"/>
          <a:stretch/>
        </p:blipFill>
        <p:spPr>
          <a:xfrm>
            <a:off x="179280" y="404640"/>
            <a:ext cx="7488360" cy="554544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5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один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конечно, 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Свою Родину люби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Быть ей преданным навеч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Честь и славу заслужи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-40000"/>
          </a:blip>
          <a:srcRect l="1961" t="5902" r="16138" b="13254"/>
          <a:stretch/>
        </p:blipFill>
        <p:spPr>
          <a:xfrm>
            <a:off x="179280" y="404640"/>
            <a:ext cx="7488360" cy="554544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7" name="Прямоугольник 2"/>
          <p:cNvSpPr/>
          <p:nvPr/>
        </p:nvSpPr>
        <p:spPr>
          <a:xfrm>
            <a:off x="324000" y="620640"/>
            <a:ext cx="6335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второе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аж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Коли первое блюсти: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Честь хранит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и неважно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Где и как пришлось раст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49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Третьим правило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дано нам</a:t>
            </a:r>
            <a:br>
              <a:rPr sz="4800"/>
            </a:b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Гимн Родной Отчизны знат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А, услышав гимна звуки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С гордостью в душе встава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1" name="Прямоугольник 2"/>
          <p:cNvSpPr/>
          <p:nvPr/>
        </p:nvSpPr>
        <p:spPr>
          <a:xfrm>
            <a:off x="324000" y="620640"/>
            <a:ext cx="6335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Правило четыр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дети, -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Уважать вы все должны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И </a:t>
            </a: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беречь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основы эти:</a:t>
            </a:r>
            <a:br>
              <a:rPr sz="4800"/>
            </a:br>
            <a:r>
              <a:rPr b="1" lang="ru-RU" sz="4800" spc="-1" strike="noStrike" u="sng">
                <a:solidFill>
                  <a:srgbClr val="c00000"/>
                </a:solidFill>
                <a:uFillTx/>
                <a:latin typeface="Ukrainian?Izhitsa"/>
              </a:rPr>
              <a:t>Герб и флаг родной страны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3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ятым правило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сем будет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Честность ваша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всегда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И тогда из многих судеб 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всегда уйдет беда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5" name="Прямоугольник 2"/>
          <p:cNvSpPr/>
          <p:nvPr/>
        </p:nvSpPr>
        <p:spPr>
          <a:xfrm>
            <a:off x="324000" y="620640"/>
            <a:ext cx="63356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равило шестое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, знайте,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Помощь слабым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это честь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Старость, младость уважайте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едь таких людей не счесть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-40000"/>
          </a:blip>
          <a:srcRect l="1961" t="5902" r="16138" b="4850"/>
          <a:stretch/>
        </p:blipFill>
        <p:spPr>
          <a:xfrm>
            <a:off x="179280" y="404640"/>
            <a:ext cx="7488360" cy="6120000"/>
          </a:xfrm>
          <a:prstGeom prst="rect">
            <a:avLst/>
          </a:prstGeom>
          <a:ln w="9360">
            <a:solidFill>
              <a:srgbClr val="c3d69b"/>
            </a:solidFill>
            <a:miter/>
          </a:ln>
        </p:spPr>
      </p:pic>
      <p:sp>
        <p:nvSpPr>
          <p:cNvPr id="57" name="Прямоугольник 2"/>
          <p:cNvSpPr/>
          <p:nvPr/>
        </p:nvSpPr>
        <p:spPr>
          <a:xfrm>
            <a:off x="324000" y="620640"/>
            <a:ext cx="63356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Завещал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седьмым из правил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Ukrainian?Izhitsa"/>
              </a:rPr>
              <a:t>Веру в Бога </a:t>
            </a: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нам солдат.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Веры дух чтоб нами правил,</a:t>
            </a:r>
            <a:br>
              <a:rPr sz="4800"/>
            </a:br>
            <a:r>
              <a:rPr b="1" lang="ru-RU" sz="4800" spc="-1" strike="noStrike">
                <a:solidFill>
                  <a:srgbClr val="ffc000"/>
                </a:solidFill>
                <a:latin typeface="Ukrainian?Izhitsa"/>
              </a:rPr>
              <a:t>Был духовен, стар и млад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2:16:48Z</dcterms:created>
  <dc:creator>Анна</dc:creator>
  <dc:description/>
  <dc:language>en-US</dc:language>
  <cp:lastModifiedBy>Анна</cp:lastModifiedBy>
  <dcterms:modified xsi:type="dcterms:W3CDTF">2011-09-04T18:04:22Z</dcterms:modified>
  <cp:revision>8</cp:revision>
  <dc:subject/>
  <dc:title>Слайд 1</dc:title>
</cp:coreProperties>
</file>