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0C3-67C2-423A-8957-BB114B46EE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Р в этом сокращении взята от первой буквы английского  слова permute (permutation), что переводится как переставлять  (перестано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95A-5A88-4AB0-B517-958ACC36E3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С хорошо согласуется «и с французским, и с нижегородским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дной стороны, С – это первая буква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atio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С – это первая буква слова сочеа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CE3-D974-4EBD-89F7-2CF11718C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7A5-E5AC-4DE9-9EDB-5ACE2206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755-C547-4B47-B339-BCC2C40C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AA7-4C99-405C-867E-CE9E32F2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710-B6E2-42E6-8740-7D147692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793-40D0-4545-918E-D4B0E31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CB9-2D5A-4F58-91D5-6C9F90F8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F61-0A84-4714-A452-DD48304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FB8-D937-4059-87F1-7491F77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F7F-939B-45F6-A173-3B60576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421-D07C-4B98-8F35-005FB4E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939-9DD0-4912-8725-E7752275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D91-D2B4-4CF4-A806-454CD8D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115-799D-4BB4-9C25-23C361DEF0F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image" Target="../media/image2.jpeg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" Target="slide10.xml"/><Relationship Id="rId21" Type="http://schemas.openxmlformats.org/officeDocument/2006/relationships/slide" Target="slide10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image" Target="../media/image2.jpeg"/><Relationship Id="rId28" Type="http://schemas.openxmlformats.org/officeDocument/2006/relationships/slide" Target="slide15.xml"/><Relationship Id="rId29" Type="http://schemas.openxmlformats.org/officeDocument/2006/relationships/slide" Target="slide15.xml"/><Relationship Id="rId30" Type="http://schemas.openxmlformats.org/officeDocument/2006/relationships/slide" Target="slide15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6.xml"/><Relationship Id="rId34" Type="http://schemas.openxmlformats.org/officeDocument/2006/relationships/slide" Target="slide16.xml"/><Relationship Id="rId35" Type="http://schemas.openxmlformats.org/officeDocument/2006/relationships/image" Target="../media/image2.jpeg"/><Relationship Id="rId36" Type="http://schemas.openxmlformats.org/officeDocument/2006/relationships/slide" Target="slide17.xml"/><Relationship Id="rId37" Type="http://schemas.openxmlformats.org/officeDocument/2006/relationships/slide" Target="slide17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8.xml"/><Relationship Id="rId42" Type="http://schemas.openxmlformats.org/officeDocument/2006/relationships/slide" Target="slide19.xml"/><Relationship Id="rId43" Type="http://schemas.openxmlformats.org/officeDocument/2006/relationships/slide" Target="slide20.xml"/><Relationship Id="rId44" Type="http://schemas.openxmlformats.org/officeDocument/2006/relationships/slide" Target="slide21.xml"/><Relationship Id="rId45" Type="http://schemas.openxmlformats.org/officeDocument/2006/relationships/image" Target="../media/image2.jpeg"/><Relationship Id="rId46" Type="http://schemas.openxmlformats.org/officeDocument/2006/relationships/slide" Target="slide22.xml"/><Relationship Id="rId47" Type="http://schemas.openxmlformats.org/officeDocument/2006/relationships/slide" Target="slide23.xml"/><Relationship Id="rId48" Type="http://schemas.openxmlformats.org/officeDocument/2006/relationships/slide" Target="slide24.xml"/><Relationship Id="rId49" Type="http://schemas.openxmlformats.org/officeDocument/2006/relationships/slide" Target="slide25.xml"/><Relationship Id="rId50" Type="http://schemas.openxmlformats.org/officeDocument/2006/relationships/image" Target="../media/image2.jpeg"/><Relationship Id="rId51" Type="http://schemas.openxmlformats.org/officeDocument/2006/relationships/slide" Target="slide26.xml"/><Relationship Id="rId52" Type="http://schemas.openxmlformats.org/officeDocument/2006/relationships/image" Target="../media/image2.jpeg"/><Relationship Id="rId53" Type="http://schemas.openxmlformats.org/officeDocument/2006/relationships/slide" Target="slide27.xml"/><Relationship Id="rId54" Type="http://schemas.openxmlformats.org/officeDocument/2006/relationships/image" Target="../media/image2.jpeg"/><Relationship Id="rId55" Type="http://schemas.openxmlformats.org/officeDocument/2006/relationships/slide" Target="slide28.xml"/><Relationship Id="rId56" Type="http://schemas.openxmlformats.org/officeDocument/2006/relationships/image" Target="../media/image2.jpeg"/><Relationship Id="rId57" Type="http://schemas.openxmlformats.org/officeDocument/2006/relationships/slide" Target="slide30.xml"/><Relationship Id="rId58" Type="http://schemas.openxmlformats.org/officeDocument/2006/relationships/image" Target="../media/image2.jpeg"/><Relationship Id="rId59" Type="http://schemas.openxmlformats.org/officeDocument/2006/relationships/slide" Target="slide31.xml"/><Relationship Id="rId60" Type="http://schemas.openxmlformats.org/officeDocument/2006/relationships/image" Target="../media/image2.jpeg"/><Relationship Id="rId61" Type="http://schemas.openxmlformats.org/officeDocument/2006/relationships/slide" Target="slide33.xml"/><Relationship Id="rId62" Type="http://schemas.openxmlformats.org/officeDocument/2006/relationships/slide" Target="slide33.xml"/><Relationship Id="rId63" Type="http://schemas.openxmlformats.org/officeDocument/2006/relationships/slide" Target="slide33.xml"/><Relationship Id="rId64" Type="http://schemas.openxmlformats.org/officeDocument/2006/relationships/image" Target="../media/image2.jpeg"/><Relationship Id="rId65" Type="http://schemas.openxmlformats.org/officeDocument/2006/relationships/slide" Target="slide34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лава 9. Элементы математической статистики, комбинаторики и теории вероятностей</a:t>
            </a:r>
            <a:endParaRPr b="1" lang="en-US" sz="32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§52. Сочетания и разме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7F88-768D-4A5C-B82E-B1C4A6AB5EB8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звест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х = 2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а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З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b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с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а, Ь, 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числа из  множества {0,1,2, 3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Найти наименьшее и наибольшее значения числа 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Сколько всего таких чисел можно составит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Сколько среди них будет четных чисе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Сколько среди них будет чисел, оканчивающихся нуле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52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5CE0-DD93-45CD-B1FB-37FF427ACBA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5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6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м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1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б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=8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27•125=2700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3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6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856-2C67-4D4F-AFE2-F73AFA7F65F4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7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7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б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Рассмотрим три испытания: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Ь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Они независимы друг от друга, и в каждом имеется по четыре исхода. По правилу умножения получаем, что всего возможны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4•4=64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а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б) 64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7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8F62-A1FA-4A15-B8BA-A7116E047F1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8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8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в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Число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четным только в тех случаях, когда а &gt; 0, т. е. когд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Значит, для выбора числ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три исхода. Снова применим правило умножения. Получим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= 48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 в) 48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8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FB5-D05E-482F-898E-3B1A0E378EA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9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9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г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исел, оканчивающихся 0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Числ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оканчиваться нулем только в тех  случаях, когда среди множителей есть хотя бы одна двойка и есть хотя бы одна пятерка, т. е.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c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 Значит, для выбора чисел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по три исхода. Снова применим правило умножения. Получим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•4•3=36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; б) 64; в) 48; г) 36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0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990C-F0CC-4005-B865-A8EC4ED197A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урсе алгебры 9 класса вы познакомились с понятием факториала и теоремой о перестановках. Напомним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пределение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Произведение подряд идущих первых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натуральных чисел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и называют «эн факториал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=1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2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1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861-0138-424D-A77D-65D09E52E24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12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042920" y="4437000"/>
          <a:ext cx="7129440" cy="609840"/>
        </p:xfrm>
        <a:graphic>
          <a:graphicData uri="http://schemas.openxmlformats.org/drawingml/2006/table">
            <a:tbl>
              <a:tblPr/>
              <a:tblGrid>
                <a:gridCol w="428760"/>
                <a:gridCol w="419040"/>
                <a:gridCol w="866880"/>
                <a:gridCol w="866520"/>
                <a:gridCol w="1040040"/>
                <a:gridCol w="1181160"/>
                <a:gridCol w="1103040"/>
                <a:gridCol w="1224000"/>
              </a:tblGrid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=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=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=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=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=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различных элементов можно расставить по одному на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различных место ровно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!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авило, эту теорему записывают в виде краткой формулы: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=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то число перестановок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элементов, оно равно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4DAD-660F-4695-B1B3-CE4BACD5DA1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2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2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2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883-4828-441B-875C-B695A61A74B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Ринчин\Documents\А\ТЕОРИЯ ВЕРОЯТ\5 стульев.jpg"/>
          <p:cNvPicPr/>
          <p:nvPr/>
        </p:nvPicPr>
        <p:blipFill>
          <a:blip r:embed="rId4"/>
          <a:stretch/>
        </p:blipFill>
        <p:spPr>
          <a:xfrm>
            <a:off x="0" y="0"/>
            <a:ext cx="200016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36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 5 стульев должны сесть 5 человек (включая хозяина дома). Значит, всего имеется Р5 способов их рассаживания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5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5!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41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4" descr="http://www.aqua62.ru/content/bimage_tovm/img_t11772.jpg"/>
          <p:cNvPicPr/>
          <p:nvPr/>
        </p:nvPicPr>
        <p:blipFill>
          <a:blip r:embed="rId4"/>
          <a:stretch/>
        </p:blipFill>
        <p:spPr>
          <a:xfrm>
            <a:off x="5940360" y="3606840"/>
            <a:ext cx="2762280" cy="2338200"/>
          </a:xfrm>
          <a:prstGeom prst="rect">
            <a:avLst/>
          </a:prstGeom>
          <a:ln w="0">
            <a:noFill/>
          </a:ln>
        </p:spPr>
      </p:pic>
      <p:sp>
        <p:nvSpPr>
          <p:cNvPr id="246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9BF-4345-428F-BE47-DBD640BF9C2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4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Так как место хозяина фиксировано, то следует рассадить четырех гостей на четыре места. Это можно сделать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=4!=24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пособами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2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54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B7D-0697-4F49-9C84-0A79E7A8766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одержание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Пример 1. Учительница подготовила к контрольной работ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1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1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1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Пример 2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Известн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, что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х = 2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а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З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b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5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с 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и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1" action="ppaction://hlinksldjump"/>
              </a:rPr>
              <a:t>а, Ь, с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2" action="ppaction://hlinksldjump"/>
              </a:rPr>
              <a:t>— числа из  множества {0,1,2, 3}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 action="ppaction://hlinksldjump"/>
              </a:rPr>
              <a:t>2.а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4" action="ppaction://hlinksldjump"/>
              </a:rPr>
              <a:t>2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5" action="ppaction://hlinksldjump"/>
              </a:rPr>
              <a:t>2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6" action="ppaction://hlinksldjump"/>
              </a:rPr>
              <a:t>2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Актуализация опорных знан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Определение  1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. n!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1" action="ppaction://hlinksldjump"/>
              </a:rPr>
              <a:t>Теорема 1 о числе перестановок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2" action="ppaction://hlinksldjump"/>
              </a:rPr>
              <a:t>P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3" action="ppaction://hlinksldjump"/>
              </a:rPr>
              <a:t>n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4" action="ppaction://hlinksldjump"/>
              </a:rPr>
              <a:t> =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 action="ppaction://hlinksldjump"/>
              </a:rPr>
              <a:t>Пример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7" action="ppaction://hlinksldjump"/>
              </a:rPr>
              <a:t>3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 action="ppaction://hlinksldjump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9" action="ppaction://hlinksldjump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 action="ppaction://hlinksldjump"/>
              </a:rPr>
              <a:t>К хозяину дома пришли гости А, Б, С, D. За  круглым столом — пять разных стулье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1" action="ppaction://hlinksldjump"/>
              </a:rPr>
              <a:t>3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 action="ppaction://hlinksldjump"/>
              </a:rPr>
              <a:t>3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3" action="ppaction://hlinksldjump"/>
              </a:rPr>
              <a:t>3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 action="ppaction://hlinksldjump"/>
              </a:rPr>
              <a:t>3. 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19664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6" action="ppaction://hlinksldjump"/>
              </a:rPr>
              <a:t>Пример 4. В чемпионате по футболу участвовало 7 коман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7" action="ppaction://hlinksldjump"/>
              </a:rPr>
              <a:t>1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8" action="ppaction://hlinksldjump"/>
              </a:rPr>
              <a:t>2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9" action="ppaction://hlinksldjump"/>
              </a:rPr>
              <a:t>3 спос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1" action="ppaction://hlinksldjump"/>
              </a:rPr>
              <a:t>Анализ примера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3" action="ppaction://hlinksldjump"/>
              </a:rPr>
              <a:t>Определение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сочета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5" action="ppaction://hlinksldjump"/>
              </a:rPr>
              <a:t>Пример 5. Встретились 11 футболистов и 6 хоккеистов и  каждый стал по одному разу играть с каждым в шаш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7" action="ppaction://hlinksldjump"/>
              </a:rPr>
              <a:t>Теорема 3  и определение 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размеще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9" action="ppaction://hlinksldjump"/>
              </a:rPr>
              <a:t>Пример 6. В классе 27 учеников. К доске нужно вызвать  двои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1" action="ppaction://hlinksldjump"/>
              </a:rPr>
              <a:t>Итоги выборов двух элементов из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2" action="ppaction://hlinksldjump"/>
              </a:rPr>
              <a:t>n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3" action="ppaction://hlinksldjump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5" action="ppaction://hlinksldjump"/>
              </a:rPr>
              <a:t>Источн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58" name="Управляющая кнопка: в начало 8">
              <a:hlinkClick r:id="rId66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92A6-C9DC-40FC-B18A-2CF13BEF8E9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6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6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начала выберем место для гостя А. Возможны 5  вариантов. Если место гостя А уже известно, то гостя С следует посадить или справа, или слева от А, всего 2 варианта. После того как  места для А и С уже выбраны, нужно трех человек произвольно  рассадить на 3 оставшихся места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3!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Остается  применить правило умножения: 5 • 2 • 6 = 60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66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FC6-DBAC-48AD-A0AD-F3A82BAD496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7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Решение такое же, как и в пункте в). Место для гостя D после выбора места для А можно также выбрать двумя способами: на два отдаленных от А стула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20; б) 24; в) 60; г) 6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7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158-E9AB-4CC4-8A5C-88FD851D1CF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4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85" name="Содержимое 2"/>
          <p:cNvGrpSpPr/>
          <p:nvPr/>
        </p:nvGrpSpPr>
        <p:grpSpPr>
          <a:xfrm>
            <a:off x="463680" y="1407960"/>
            <a:ext cx="8242200" cy="4535640"/>
            <a:chOff x="463680" y="1407960"/>
            <a:chExt cx="8242200" cy="4535640"/>
          </a:xfrm>
        </p:grpSpPr>
        <p:pic>
          <p:nvPicPr>
            <p:cNvPr id="28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0796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8360" y="14130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чемпионате по футболу участвовало 7 команд.  Каждая команда сыграла по одной игре с каждой командой. Сколько всего было игр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http://dlm4.meta.ua/pic/0/61/16/VU8Fr6YjNU.jpg"/>
          <p:cNvPicPr/>
          <p:nvPr/>
        </p:nvPicPr>
        <p:blipFill>
          <a:blip r:embed="rId2"/>
          <a:stretch/>
        </p:blipFill>
        <p:spPr>
          <a:xfrm>
            <a:off x="468360" y="4797360"/>
            <a:ext cx="1511280" cy="1136880"/>
          </a:xfrm>
          <a:prstGeom prst="rect">
            <a:avLst/>
          </a:prstGeom>
          <a:ln w="0">
            <a:noFill/>
          </a:ln>
        </p:spPr>
      </p:pic>
      <p:grpSp>
        <p:nvGrpSpPr>
          <p:cNvPr id="290" name="Группа 5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91" name="Управляющая кнопка: в начало 5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Управляющая кнопка: назад 5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Управляющая кнопка: далее 6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Управляющая кнопка: в конец 6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7787-99BF-42FD-905E-475E245D370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таблицу 7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, в которую вписаны результаты игр. В ней 49 клеток. По диагонали клетки закрашены, так как никакая команда не играет сама с собой. Если убрать диагональные клетки, то останется 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7=42 клетки. В нижней части результатов нет, потому что все они получаются отражением уже имеющихся результатов из верхней части таблицы. Поэтому количество всех проведенных игр равно половине от 42, т.е. 2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FB5B-B523-44F8-92E4-B3F0D273FAC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195640" y="3789360"/>
          <a:ext cx="5186160" cy="2193840"/>
        </p:xfrm>
        <a:graphic>
          <a:graphicData uri="http://schemas.openxmlformats.org/drawingml/2006/table">
            <a:tbl>
              <a:tblPr/>
              <a:tblGrid>
                <a:gridCol w="647640"/>
                <a:gridCol w="649080"/>
                <a:gridCol w="648000"/>
                <a:gridCol w="647640"/>
                <a:gridCol w="647640"/>
                <a:gridCol w="649080"/>
                <a:gridCol w="648000"/>
                <a:gridCol w="649080"/>
              </a:tblGrid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pSp>
        <p:nvGrpSpPr>
          <p:cNvPr id="303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04" name="Управляющая кнопка: в начало 8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360" y="148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о пронумеруем команды №1, №2, …, №7 и посчитаем число игр поочередно. Команда №1 встречается с командами №2-7 – это 6 игр, №2 – с №3-7 – это 5 игр и т.д. Всего 6+5+4+3+2+1=21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464-D8DA-4812-8DFA-228D6D994C9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050920" y="3213000"/>
          <a:ext cx="5329440" cy="2737080"/>
        </p:xfrm>
        <a:graphic>
          <a:graphicData uri="http://schemas.openxmlformats.org/drawingml/2006/table">
            <a:tbl>
              <a:tblPr/>
              <a:tblGrid>
                <a:gridCol w="1776600"/>
                <a:gridCol w="1776240"/>
                <a:gridCol w="1776600"/>
              </a:tblGrid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СЕГ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15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ем геометрическую модель: 7 команд – это вершины выпуклого 7-угольника, а отрезок между двумя вершинами – это встреча двух соответствующих команд: сколько отрезков – столько игр. Из каждой вершины выходит 6 отрезков – столько игр. Получается 7</a:t>
            </a:r>
            <a:r>
              <a:rPr b="0" lang="ru-RU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=42 отрезков, каждый из которых посчитан дважды: и как АВ, и как ВА. Значит, 4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2=21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рез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ОТВЕ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BE35-DA9A-48D8-BDA8-ABEF71E8D5F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Группа 12"/>
          <p:cNvGrpSpPr/>
          <p:nvPr/>
        </p:nvGrpSpPr>
        <p:grpSpPr>
          <a:xfrm>
            <a:off x="3563640" y="3860640"/>
            <a:ext cx="2160720" cy="2305080"/>
            <a:chOff x="3563640" y="3860640"/>
            <a:chExt cx="2160720" cy="2305080"/>
          </a:xfrm>
        </p:grpSpPr>
        <p:sp>
          <p:nvSpPr>
            <p:cNvPr id="325" name="Семиугольник 13"/>
            <p:cNvSpPr/>
            <p:nvPr/>
          </p:nvSpPr>
          <p:spPr>
            <a:xfrm>
              <a:off x="3564000" y="3860640"/>
              <a:ext cx="2160360" cy="2223000"/>
            </a:xfrm>
            <a:custGeom>
              <a:avLst/>
              <a:gdLst>
                <a:gd name="textAreaLeft" fmla="*/ 213840 w 2160360"/>
                <a:gd name="textAreaRight" fmla="*/ 1946520 w 2160360"/>
                <a:gd name="textAreaTop" fmla="*/ 440280 h 2223000"/>
                <a:gd name="textAreaBottom" fmla="*/ 1782720 h 2223000"/>
              </a:gdLst>
              <a:ahLst/>
              <a:rect l="textAreaLeft" t="textAreaTop" r="textAreaRight" b="textAreaBottom"/>
              <a:pathLst>
                <a:path w="1728192" h="1944216">
                  <a:moveTo>
                    <a:pt x="-4" y="1250338"/>
                  </a:moveTo>
                  <a:lnTo>
                    <a:pt x="171144" y="385077"/>
                  </a:lnTo>
                  <a:lnTo>
                    <a:pt x="864096" y="0"/>
                  </a:lnTo>
                  <a:lnTo>
                    <a:pt x="1557048" y="385077"/>
                  </a:lnTo>
                  <a:lnTo>
                    <a:pt x="1728196" y="1250338"/>
                  </a:lnTo>
                  <a:lnTo>
                    <a:pt x="1248653" y="1944226"/>
                  </a:lnTo>
                  <a:lnTo>
                    <a:pt x="479539" y="194422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Прямая соединительная линия 14"/>
            <p:cNvSpPr/>
            <p:nvPr/>
          </p:nvSpPr>
          <p:spPr>
            <a:xfrm flipH="1">
              <a:off x="4163040" y="3860640"/>
              <a:ext cx="480600" cy="22230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Прямая соединительная линия 15"/>
            <p:cNvSpPr/>
            <p:nvPr/>
          </p:nvSpPr>
          <p:spPr>
            <a:xfrm>
              <a:off x="37778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Прямая соединительная линия 16"/>
            <p:cNvSpPr/>
            <p:nvPr/>
          </p:nvSpPr>
          <p:spPr>
            <a:xfrm>
              <a:off x="4644000" y="3860640"/>
              <a:ext cx="450000" cy="2305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Прямая соединительная линия 17"/>
            <p:cNvSpPr/>
            <p:nvPr/>
          </p:nvSpPr>
          <p:spPr>
            <a:xfrm flipH="1">
              <a:off x="35636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Прямая соединительная линия 18"/>
            <p:cNvSpPr/>
            <p:nvPr/>
          </p:nvSpPr>
          <p:spPr>
            <a:xfrm flipH="1">
              <a:off x="416340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Прямая соединительная линия 19"/>
            <p:cNvSpPr/>
            <p:nvPr/>
          </p:nvSpPr>
          <p:spPr>
            <a:xfrm flipH="1">
              <a:off x="4163400" y="529020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20"/>
            <p:cNvSpPr/>
            <p:nvPr/>
          </p:nvSpPr>
          <p:spPr>
            <a:xfrm flipH="1">
              <a:off x="356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21"/>
            <p:cNvSpPr/>
            <p:nvPr/>
          </p:nvSpPr>
          <p:spPr>
            <a:xfrm>
              <a:off x="464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22"/>
            <p:cNvSpPr/>
            <p:nvPr/>
          </p:nvSpPr>
          <p:spPr>
            <a:xfrm flipH="1">
              <a:off x="512460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23"/>
            <p:cNvSpPr/>
            <p:nvPr/>
          </p:nvSpPr>
          <p:spPr>
            <a:xfrm flipH="1">
              <a:off x="3563640" y="5290200"/>
              <a:ext cx="2160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Прямая соединительная линия 24"/>
            <p:cNvSpPr/>
            <p:nvPr/>
          </p:nvSpPr>
          <p:spPr>
            <a:xfrm flipH="1" flipV="1">
              <a:off x="3564000" y="528984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Прямая соединительная линия 25"/>
            <p:cNvSpPr/>
            <p:nvPr/>
          </p:nvSpPr>
          <p:spPr>
            <a:xfrm>
              <a:off x="377784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Прямая соединительная линия 26"/>
            <p:cNvSpPr/>
            <p:nvPr/>
          </p:nvSpPr>
          <p:spPr>
            <a:xfrm>
              <a:off x="377784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Прямая соединительная линия 27"/>
            <p:cNvSpPr/>
            <p:nvPr/>
          </p:nvSpPr>
          <p:spPr>
            <a:xfrm>
              <a:off x="3777840" y="4300920"/>
              <a:ext cx="17326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Группа 2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41" name="Управляющая кнопка: в начало 2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Управляющая кнопка: назад 3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Управляющая кнопка: далее 3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Управляющая кнопка: в конец 3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Анализ примера 4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 игры определен, как только м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бираем д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ы. Значит, количество всех игр в турнире дл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 – это в точности количество все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боров двух элементов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лементов. Важно при этом то, что порядок выбора не имеет значения, т.е. если выбрано две команды, то какая из них первая, а какая вторая – не сущ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ую команду можно 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, а вторую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По правилу умножения получаем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 при этом состав каждой игры посчитан дважды. Значит, число игр равно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/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Тем самым фактически доказана следующая теор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2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 выборе дву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два элемента без учета их порядка, то такой выбор можно произвести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(n-1)/2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44F-C5C5-4894-91C2-24BD1C21DCC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51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Определение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точно длинный словесный оборот «число всех выборов двух элементов без учета их порядка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анных» неудобен при постоянном использовании в решении задач. Математики поступили просто: ввели новый термин и специальное обо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без учета их порядка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данных элементов называют числом сочета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элементов по 2 и обозначают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(цэ из эн по дв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622-46E4-486A-B749-75B3FE04DC0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61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" name="Object 1"/>
              <p:cNvSpPr txBox="1"/>
              <p:nvPr/>
            </p:nvSpPr>
            <p:spPr>
              <a:xfrm>
                <a:off x="2879640" y="5013360"/>
                <a:ext cx="2241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900000" y="4437000"/>
                <a:ext cx="484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5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368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36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третились 11 футболистов и 6 хоккеистов и  каждый стал по одному разу играть с каждым в шашки, которые они «давненько не брали в руки». Сколько встреч бы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между футбол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между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между футболистами и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всего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Группа 11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73" name="Управляющая кнопка: в начало 12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Управляющая кнопка: назад 13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Управляющая кнопка: далее 14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Управляющая кнопка: в конец 15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3597-0D00-45C8-9901-81C98940F2A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http://s017.radikal.ru/i441/1203/33/f4b12d48bcf6.jpg"/>
          <p:cNvPicPr/>
          <p:nvPr/>
        </p:nvPicPr>
        <p:blipFill>
          <a:blip r:embed="rId3"/>
          <a:stretch/>
        </p:blipFill>
        <p:spPr>
          <a:xfrm>
            <a:off x="-6480" y="30240"/>
            <a:ext cx="2213280" cy="162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900igr.net/datai/fizkultura/Vidy-sporta/0020-050-KHokkej.jpg"/>
          <p:cNvPicPr/>
          <p:nvPr/>
        </p:nvPicPr>
        <p:blipFill>
          <a:blip r:embed="rId4"/>
          <a:stretch/>
        </p:blipFill>
        <p:spPr>
          <a:xfrm>
            <a:off x="7120080" y="96840"/>
            <a:ext cx="2030400" cy="1598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ttp://www.design-warez.ru/uploads/posts/2009-04/1240391335_1238246808_7ef2a33020b4.jpg"/>
          <p:cNvPicPr/>
          <p:nvPr/>
        </p:nvPicPr>
        <p:blipFill>
          <a:blip r:embed="rId5"/>
          <a:stretch/>
        </p:blipFill>
        <p:spPr>
          <a:xfrm>
            <a:off x="6156360" y="333360"/>
            <a:ext cx="942840" cy="93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http://im6-tub-ru.yandex.net/i?id=5364196-13-72&amp;n=21"/>
          <p:cNvPicPr/>
          <p:nvPr/>
        </p:nvPicPr>
        <p:blipFill>
          <a:blip r:embed="rId6"/>
          <a:stretch/>
        </p:blipFill>
        <p:spPr>
          <a:xfrm>
            <a:off x="3203640" y="4437000"/>
            <a:ext cx="272088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удем действовать по правилу умножения. Одно испытание – выбор футболиста, а другое испытание – выбор хоккеиста. Испытания предполагаются независимыми, и у них соответственно 11 и 6 исходов. Значит получится 11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=66 иг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Можно сложить все предыдущие ответы: 55+15+66=136; но можно использовать и формулу для числа сочетан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C33-C197-4302-9890-21D94E8BC49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Группа 13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89" name="Управляющая кнопка: в начало 14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Управляющая кнопка: назад 15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Управляющая кнопка: далее 16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Управляющая кнопка: в конец 17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Группа 24"/>
          <p:cNvGrpSpPr/>
          <p:nvPr/>
        </p:nvGrpSpPr>
        <p:grpSpPr>
          <a:xfrm>
            <a:off x="468360" y="1413000"/>
            <a:ext cx="8221680" cy="4243320"/>
            <a:chOff x="468360" y="1413000"/>
            <a:chExt cx="8221680" cy="4243320"/>
          </a:xfrm>
        </p:grpSpPr>
        <p:pic>
          <p:nvPicPr>
            <p:cNvPr id="394" name="Picture 3" descr=""/>
            <p:cNvPicPr/>
            <p:nvPr/>
          </p:nvPicPr>
          <p:blipFill>
            <a:blip r:embed="rId2"/>
            <a:srcRect l="38113" t="14390" r="39305" b="78666"/>
            <a:stretch/>
          </p:blipFill>
          <p:spPr>
            <a:xfrm>
              <a:off x="468360" y="1413000"/>
              <a:ext cx="280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" descr=""/>
            <p:cNvPicPr/>
            <p:nvPr/>
          </p:nvPicPr>
          <p:blipFill>
            <a:blip r:embed="rId3"/>
            <a:srcRect l="23002" t="48273" r="10305" b="46240"/>
            <a:stretch/>
          </p:blipFill>
          <p:spPr>
            <a:xfrm>
              <a:off x="612360" y="5157360"/>
              <a:ext cx="807768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" descr=""/>
            <p:cNvPicPr/>
            <p:nvPr/>
          </p:nvPicPr>
          <p:blipFill>
            <a:blip r:embed="rId4"/>
            <a:srcRect l="26247" t="22111" r="45381" b="71422"/>
            <a:stretch/>
          </p:blipFill>
          <p:spPr>
            <a:xfrm>
              <a:off x="540360" y="2061000"/>
              <a:ext cx="352800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ведение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6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Правило умножения, которое мы использовали в предыдущем параграфе, применимо не только к двум, но и к трём, четырём и т.д. испытания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70" name="Управляющая кнопка: в начало 9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FDC-CCF6-4262-A9FC-608DFB9A43C8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Теорема 3 и определение 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получится, если мы будем учитывать порядок двух выбираемых элементов? По правилу умножения получаем следующую теор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орем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из них два элемента, учитывая их порядок, то такой выбор можно произвести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(n-1)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ервы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Из оставших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ментов второ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ом. Так как два этих испытания (выбора) независимы друг от друга, то по правилу умножения получа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с учетом их порядка 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данных называют числом размеще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по 2 и обозначаю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729-74DA-4080-999C-37826DD1BAC4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rcRect l="61617" t="67283" r="34869" b="28031"/>
          <a:stretch/>
        </p:blipFill>
        <p:spPr>
          <a:xfrm>
            <a:off x="4140360" y="5589720"/>
            <a:ext cx="431640" cy="43164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04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6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40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41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классе 27 учеников. К доске нужно вызвать  двоих. Сколькими способами это можно сделать, если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первый ученик должен решить задачу по алгебре, а второй — по геометри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они должны быстро стереть с доски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14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F1C-B8DD-479A-B728-14D440E9F38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1777" t="25221" r="10305" b="61004"/>
          <a:stretch/>
        </p:blipFill>
        <p:spPr>
          <a:xfrm>
            <a:off x="250920" y="1989000"/>
            <a:ext cx="8518320" cy="129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http://img0.liveinternet.ru/images/attach/b/4/104/208/104208932_large_1c817a8f9d8503c8427b4599a5bfa2e8_324b71498e1cff5967155e77f172467a.jpg"/>
          <p:cNvPicPr/>
          <p:nvPr/>
        </p:nvPicPr>
        <p:blipFill>
          <a:blip r:embed="rId2"/>
          <a:stretch/>
        </p:blipFill>
        <p:spPr>
          <a:xfrm>
            <a:off x="0" y="0"/>
            <a:ext cx="1979640" cy="2027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http://microstocker.com.ua/upload/image/fotos/big/ace56891ca3a0962a0624259ebfb6ce7.jpg"/>
          <p:cNvPicPr/>
          <p:nvPr/>
        </p:nvPicPr>
        <p:blipFill>
          <a:blip r:embed="rId3"/>
          <a:stretch/>
        </p:blipFill>
        <p:spPr>
          <a:xfrm>
            <a:off x="2411280" y="0"/>
            <a:ext cx="1768680" cy="198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www.psychologos.ru/images/5/53/Odarennye_deti-4.jpg"/>
          <p:cNvPicPr/>
          <p:nvPr/>
        </p:nvPicPr>
        <p:blipFill>
          <a:blip r:embed="rId4"/>
          <a:stretch/>
        </p:blipFill>
        <p:spPr>
          <a:xfrm>
            <a:off x="5502240" y="3284640"/>
            <a:ext cx="3641760" cy="2925720"/>
          </a:xfrm>
          <a:prstGeom prst="rect">
            <a:avLst/>
          </a:prstGeom>
          <a:ln w="0">
            <a:noFill/>
          </a:ln>
        </p:spPr>
      </p:pic>
      <p:grpSp>
        <p:nvGrpSpPr>
          <p:cNvPr id="425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26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Дата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80DE-DB2E-4ED7-A42C-20299A94793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тоги выборов двух элементов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350028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как будут выглядеть формулы, если в них верхний индекс 2 заменить на 3, 4, … и вообще на произво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1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мы переходим к основному вопросу параграфа – к выборам, состоящим из произвольного числа эле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2A75-78AE-4FA9-A685-68635055EC5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20297" t="13406" r="9567" b="63583"/>
          <a:stretch/>
        </p:blipFill>
        <p:spPr>
          <a:xfrm>
            <a:off x="539640" y="1341360"/>
            <a:ext cx="790092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38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39" name="Управляющая кнопка: в начало 7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Источники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, Часть 1. Учебник, 10-е изд. (Базовый уровень), А.Г.Мордкович, М.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. (Базовый уровень) Методическое пособие для учителя, А.Г.Мордкович, П.В.Семенов, М.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аблицы составлены в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S Word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MS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xcel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-рес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47" name="Управляющая кнопка: в начало 8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1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44A-2725-4162-98DA-8C6C97D5842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7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чительница подготовила к контрольной работе 4 примера на решение линейных неравенств, 5 текстовых задач (две на движение и три на работу) и 6 примеров на решение  квадратных уравнений (в двух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онтрольной должно быть по одному на каждую из трех тем. 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одновременно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82" name="Управляющая кнопка: в начало 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AFF-3F77-428E-8B26-E64C950663E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8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9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При выборе неравенства есть 4 исхода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и выборе задачи есть 5 исходов, при выборе квадратного уравнения есть 6 исходов. По правилу умножения получаем, что число всех вариантов контрольной работы равно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• 5 • 6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9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B7F9-03A9-41C8-9284-9B235F572E6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0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В предыдущем рассуждении меняется число исходов при выборе текстовой задачи: их всего два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2•6=48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4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0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382-29BD-4E9F-96E1-B2AB2706F48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1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По сравнению с пунктом а) меняется число исходов при выборе уравнения: только в четырех случаях корни есть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5•4=80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8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1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7AF1-3511-4772-BFE8-49CBD5CB5C38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2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2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3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FBF-BFE1-489F-B86E-344C99494C8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3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3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42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D6F8-2CE1-4ACB-B81A-E41639DDC9F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07:47:32Z</dcterms:created>
  <dc:creator>Тамара Цыбикова</dc:creator>
  <dc:description/>
  <dc:language>en-US</dc:language>
  <cp:lastModifiedBy>Тамара Цыбикова</cp:lastModifiedBy>
  <dcterms:modified xsi:type="dcterms:W3CDTF">2014-02-19T10:22:11Z</dcterms:modified>
  <cp:revision>192</cp:revision>
  <dc:subject/>
  <dc:title>Глава 9. ЭЛЕМЕНТЫ МАТЕМАТИЧЕСКОЙ СТАТИСТИКИ, КОМБИНАТОРИКИ И ТЕОРИИ ВЕРОЯТНОСТЕЙ</dc:title>
</cp:coreProperties>
</file>