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6DE0-E7D9-475A-9DAE-25EA9393CD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Р в этом сокращении взята от первой буквы английского  слова permute (permutation), что переводится как переставлять  (перестанов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49E0-95BC-49D4-BD16-31A15B988C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С хорошо согласуется «и с французским, и с нижегородским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дной стороны, С – это первая буква сло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atio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С – это первая буква слова сочеат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BD7C-EBA4-4F73-9C71-404F6FB6FD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565-C6A0-457E-A2E0-C4D432E7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B6C-2852-45A2-83CF-F763991A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E1F-6651-49D2-B919-BA4A3763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C81-878F-4DCA-832C-FF290A48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F91-822E-422F-A9DD-113DDB45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0ED-2FDA-471B-A4FF-77161873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251-B91C-4253-B3C7-32DFC009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4B4-E0E2-4784-BD73-040C4175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AB2-6226-46D6-B392-40193D2D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D6E-B431-4D51-82F3-F0D67A9B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94E-6FA7-42AB-BEC1-2246F83C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CA6-6A4E-4433-91DB-98AC2063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2093-D8D1-48E5-A828-477F9B839162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image" Target="../media/image2.jpeg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slide" Target="slide10.xml"/><Relationship Id="rId20" Type="http://schemas.openxmlformats.org/officeDocument/2006/relationships/slide" Target="slide10.xml"/><Relationship Id="rId21" Type="http://schemas.openxmlformats.org/officeDocument/2006/relationships/slide" Target="slide10.xml"/><Relationship Id="rId22" Type="http://schemas.openxmlformats.org/officeDocument/2006/relationships/slide" Target="slide10.xml"/><Relationship Id="rId23" Type="http://schemas.openxmlformats.org/officeDocument/2006/relationships/slide" Target="slide11.xml"/><Relationship Id="rId24" Type="http://schemas.openxmlformats.org/officeDocument/2006/relationships/slide" Target="slide12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image" Target="../media/image2.jpeg"/><Relationship Id="rId28" Type="http://schemas.openxmlformats.org/officeDocument/2006/relationships/slide" Target="slide15.xml"/><Relationship Id="rId29" Type="http://schemas.openxmlformats.org/officeDocument/2006/relationships/slide" Target="slide15.xml"/><Relationship Id="rId30" Type="http://schemas.openxmlformats.org/officeDocument/2006/relationships/slide" Target="slide15.xml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" Target="slide16.xml"/><Relationship Id="rId34" Type="http://schemas.openxmlformats.org/officeDocument/2006/relationships/slide" Target="slide16.xml"/><Relationship Id="rId35" Type="http://schemas.openxmlformats.org/officeDocument/2006/relationships/image" Target="../media/image2.jpeg"/><Relationship Id="rId36" Type="http://schemas.openxmlformats.org/officeDocument/2006/relationships/slide" Target="slide17.xml"/><Relationship Id="rId37" Type="http://schemas.openxmlformats.org/officeDocument/2006/relationships/slide" Target="slide17.xml"/><Relationship Id="rId38" Type="http://schemas.openxmlformats.org/officeDocument/2006/relationships/slide" Target="slide17.xml"/><Relationship Id="rId39" Type="http://schemas.openxmlformats.org/officeDocument/2006/relationships/slide" Target="slide17.xml"/><Relationship Id="rId40" Type="http://schemas.openxmlformats.org/officeDocument/2006/relationships/slide" Target="slide17.xml"/><Relationship Id="rId41" Type="http://schemas.openxmlformats.org/officeDocument/2006/relationships/slide" Target="slide18.xml"/><Relationship Id="rId42" Type="http://schemas.openxmlformats.org/officeDocument/2006/relationships/slide" Target="slide19.xml"/><Relationship Id="rId43" Type="http://schemas.openxmlformats.org/officeDocument/2006/relationships/slide" Target="slide20.xml"/><Relationship Id="rId44" Type="http://schemas.openxmlformats.org/officeDocument/2006/relationships/slide" Target="slide21.xml"/><Relationship Id="rId45" Type="http://schemas.openxmlformats.org/officeDocument/2006/relationships/image" Target="../media/image2.jpeg"/><Relationship Id="rId46" Type="http://schemas.openxmlformats.org/officeDocument/2006/relationships/slide" Target="slide22.xml"/><Relationship Id="rId47" Type="http://schemas.openxmlformats.org/officeDocument/2006/relationships/slide" Target="slide23.xml"/><Relationship Id="rId48" Type="http://schemas.openxmlformats.org/officeDocument/2006/relationships/slide" Target="slide24.xml"/><Relationship Id="rId49" Type="http://schemas.openxmlformats.org/officeDocument/2006/relationships/slide" Target="slide25.xml"/><Relationship Id="rId50" Type="http://schemas.openxmlformats.org/officeDocument/2006/relationships/image" Target="../media/image2.jpeg"/><Relationship Id="rId51" Type="http://schemas.openxmlformats.org/officeDocument/2006/relationships/slide" Target="slide26.xml"/><Relationship Id="rId52" Type="http://schemas.openxmlformats.org/officeDocument/2006/relationships/image" Target="../media/image2.jpeg"/><Relationship Id="rId53" Type="http://schemas.openxmlformats.org/officeDocument/2006/relationships/slide" Target="slide27.xml"/><Relationship Id="rId54" Type="http://schemas.openxmlformats.org/officeDocument/2006/relationships/image" Target="../media/image2.jpeg"/><Relationship Id="rId55" Type="http://schemas.openxmlformats.org/officeDocument/2006/relationships/slide" Target="slide28.xml"/><Relationship Id="rId56" Type="http://schemas.openxmlformats.org/officeDocument/2006/relationships/image" Target="../media/image2.jpeg"/><Relationship Id="rId57" Type="http://schemas.openxmlformats.org/officeDocument/2006/relationships/slide" Target="slide30.xml"/><Relationship Id="rId58" Type="http://schemas.openxmlformats.org/officeDocument/2006/relationships/image" Target="../media/image2.jpeg"/><Relationship Id="rId59" Type="http://schemas.openxmlformats.org/officeDocument/2006/relationships/slide" Target="slide31.xml"/><Relationship Id="rId60" Type="http://schemas.openxmlformats.org/officeDocument/2006/relationships/image" Target="../media/image2.jpeg"/><Relationship Id="rId61" Type="http://schemas.openxmlformats.org/officeDocument/2006/relationships/slide" Target="slide33.xml"/><Relationship Id="rId62" Type="http://schemas.openxmlformats.org/officeDocument/2006/relationships/slide" Target="slide33.xml"/><Relationship Id="rId63" Type="http://schemas.openxmlformats.org/officeDocument/2006/relationships/slide" Target="slide33.xml"/><Relationship Id="rId64" Type="http://schemas.openxmlformats.org/officeDocument/2006/relationships/image" Target="../media/image2.jpeg"/><Relationship Id="rId65" Type="http://schemas.openxmlformats.org/officeDocument/2006/relationships/slide" Target="slide34.xml"/><Relationship Id="rId66" Type="http://schemas.openxmlformats.org/officeDocument/2006/relationships/slide" Target="slide2.xml"/><Relationship Id="rId6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лава 9. Элементы математической статистики, комбинаторики и теории вероятностей</a:t>
            </a:r>
            <a:endParaRPr b="1" lang="en-US" sz="32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§52. Сочетания и разме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E043-849F-4972-9D7C-2E7FF3DAD697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746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звестн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что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х = 2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Calibri"/>
              </a:rPr>
              <a:t>а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З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Calibri"/>
              </a:rPr>
              <a:t>b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5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Calibri"/>
              </a:rPr>
              <a:t>с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а, Ь, 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числа из  множества {0,1,2, 3}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Найти наименьшее и наибольшее значения числа 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Сколько всего таких чисел можно составить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Сколько среди них будет четных чисел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Сколько среди них будет чисел, оканчивающихся нуле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52" name="Управляющая кнопка: в начало 7">
              <a:hlinkClick r:id="rId2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8C0F-CF13-4361-A130-264BF3CF43E5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.а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59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6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Извест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что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, Ь, с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— числа из  множества {0,1,2, 3}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)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наименьшее и наибольшее значения числа х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о всего таких чисел можно составить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о среди них будет четных чисел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о среди них будет чисел, оканчивающихся нуле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1" i="1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</a:t>
              </a:r>
              <a:r>
                <a:rPr b="1" i="1" lang="ru-RU" sz="2400" spc="-1" strike="noStrike" baseline="-25000">
                  <a:solidFill>
                    <a:srgbClr val="000099"/>
                  </a:solidFill>
                  <a:latin typeface="Calibri"/>
                  <a:ea typeface="Times New Roman"/>
                </a:rPr>
                <a:t>наим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0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0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0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= 1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когд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=Ь=с=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   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</a:t>
              </a:r>
              <a:r>
                <a:rPr b="1" i="1" lang="ru-RU" sz="2400" spc="-1" strike="noStrike" baseline="-25000">
                  <a:solidFill>
                    <a:srgbClr val="000099"/>
                  </a:solidFill>
                  <a:latin typeface="Calibri"/>
                  <a:ea typeface="Times New Roman"/>
                </a:rPr>
                <a:t>наиб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=8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•27•125=2700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когд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=Ь=с=3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а) 1 и 27 000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64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9FA5-093B-4248-A0AA-0679C23B9362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.б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71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7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Извест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что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, Ь, с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— числа из  множества {0,1,2, 3}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Найти наименьшее и наибольшее значения числа х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б)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Сколько всего таких чисел можно составить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о среди них будет четных чисел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о среди них будет чисел, оканчивающихся нуле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0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Рассмотрим три испытания: выбор числ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выбор числ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Ь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и выбор числ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 Они независимы друг от друга, и в каждом имеется по четыре исхода. По правилу умножения получаем, что всего возможны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4•4=64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варианта.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б) 64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76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B9EA-FF69-4D91-95D9-E3D325C8341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.в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83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8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lnSpc>
                  <a:spcPct val="80000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Извест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что </a:t>
              </a:r>
              <a:r>
                <a:rPr b="1" i="1" lang="ru-RU" sz="32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32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32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32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32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32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en-US" sz="32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, Ь, с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— числа из  множества {0,1,2, 3}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Найти наименьшее и наибольшее значения числа х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о всего таких чисел можно составить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в)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Сколько среди них будет четных чисел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о среди них будет чисел, оканчивающихся нуле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lnSpc>
                  <a:spcPct val="80000"/>
                </a:lnSpc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5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0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Число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5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5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5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удет четным только в тех случаях, когда а &gt; 0, т. е. когда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Є{1,2,3}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 Значит, для выбора числа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есть три исхода. Снова применим правило умножения. Получим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</a:t>
              </a:r>
              <a:r>
                <a:rPr b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•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•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 = 48 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.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 в) 48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88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81B9-5659-4B6E-B237-FE626287B142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.г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95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9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Извест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что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, Ь, с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— числа из  множества {0,1,2, 3}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Найти наименьшее и наибольшее значения числа х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о всего таких чисел можно составить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о среди них будет четных чисел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г)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Сколько среди них будет чисел, оканчивающихся 0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0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Число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удет оканчиваться нулем только в тех  случаях, когда среди множителей есть хотя бы одна двойка и есть хотя бы одна пятерка, т. е. когд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Є{1,2,3}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и 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c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Є{1,2,3}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  Значит, для выбора чисел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с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есть по три исхода. Снова применим правило умножения. Получим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3•4•3=36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вариантов.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а) 1 и 27 000; б) 64; в) 48; г) 36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00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D05D-9E0F-42FC-8955-2964920F492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Актуализация опорных знаний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48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урсе алгебры 9 класса вы познакомились с понятием факториала и теоремой о перестановках. Напомним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пределение 1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Произведение подряд идущих первых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натуральных чисел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!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и называют «эн факториал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!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=1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2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3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…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-2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-1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F998-E366-4AFE-A0CE-43A6048B3853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Группа 8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12" name="Управляющая кнопка: в начало 9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Управляющая кнопка: далее 11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Управляющая кнопка: в конец 12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16" name=""/>
          <p:cNvGraphicFramePr/>
          <p:nvPr/>
        </p:nvGraphicFramePr>
        <p:xfrm>
          <a:off x="1042920" y="4437000"/>
          <a:ext cx="7129440" cy="609840"/>
        </p:xfrm>
        <a:graphic>
          <a:graphicData uri="http://schemas.openxmlformats.org/drawingml/2006/table">
            <a:tbl>
              <a:tblPr/>
              <a:tblGrid>
                <a:gridCol w="428760"/>
                <a:gridCol w="419040"/>
                <a:gridCol w="866880"/>
                <a:gridCol w="866520"/>
                <a:gridCol w="1040040"/>
                <a:gridCol w="1181160"/>
                <a:gridCol w="1103040"/>
                <a:gridCol w="1224000"/>
              </a:tblGrid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=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=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=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=7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=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Актуализация опорных знаний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еорема 1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n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различных элементов можно расставить по одному на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различных место ровно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n!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пособ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авило, эту теорему записывают в виде краткой формулы: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Calibri"/>
              </a:rPr>
              <a:t>n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=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это число перестановок и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ных и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ных элементов, оно равно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!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2D95-8BC1-45FE-90D0-134A8488B2CD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23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2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Сколькими способами можно рассадить гостей за столо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ими способами можно рассадить гостей за столом, если место хозяина дома уже известно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ими способами можно рассадить гостей за столом, если известно, что гостя С следует посадить рядом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 гостем А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ими способами можно рассадить гостей за столом, если известно, что гостя А не следует сажать рядом с гостем D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28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A939-23A1-425F-B90C-5668DB786C2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C:\Users\Ринчин\Documents\А\ТЕОРИЯ ВЕРОЯТ\5 стульев.jpg"/>
          <p:cNvPicPr/>
          <p:nvPr/>
        </p:nvPicPr>
        <p:blipFill>
          <a:blip r:embed="rId4"/>
          <a:stretch/>
        </p:blipFill>
        <p:spPr>
          <a:xfrm>
            <a:off x="0" y="0"/>
            <a:ext cx="200016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.а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36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3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Сколькими способами можно рассадить гостей за столо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1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На 5 стульев должны сесть 5 человек (включая хозяина дома). Значит, всего имеется Р5 способов их рассаживания: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c00000"/>
                  </a:solidFill>
                  <a:latin typeface="Calibri"/>
                  <a:ea typeface="Times New Roman"/>
                </a:rPr>
                <a:t>5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 = 5! = 120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1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41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4" descr="http://www.aqua62.ru/content/bimage_tovm/img_t11772.jpg"/>
          <p:cNvPicPr/>
          <p:nvPr/>
        </p:nvPicPr>
        <p:blipFill>
          <a:blip r:embed="rId4"/>
          <a:stretch/>
        </p:blipFill>
        <p:spPr>
          <a:xfrm>
            <a:off x="5940360" y="3606840"/>
            <a:ext cx="2762280" cy="2338200"/>
          </a:xfrm>
          <a:prstGeom prst="rect">
            <a:avLst/>
          </a:prstGeom>
          <a:ln w="0">
            <a:noFill/>
          </a:ln>
        </p:spPr>
      </p:pic>
      <p:sp>
        <p:nvSpPr>
          <p:cNvPr id="246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19C9-2A3B-4DD5-8DEB-A2E14966EE0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.б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49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5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ими способами можно рассадить гостей за столом, если место хозяина дома уже известно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1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Так как место хозяина фиксировано, то следует рассадить четырех гостей на четыре места. Это можно сделать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c00000"/>
                  </a:solidFill>
                  <a:latin typeface="Calibri"/>
                  <a:ea typeface="Times New Roman"/>
                </a:rPr>
                <a:t>4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=4!=24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пособами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2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54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0DBC-E372-4489-8AB9-B69F0C6CC448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Содержание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Пример 1. Учительница подготовила к контрольной работ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я: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1.а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1.б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 1.в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1.г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Пример 2.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Известно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, что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х = 2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а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З</a:t>
            </a:r>
            <a:r>
              <a:rPr b="0" lang="en-US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b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5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с </a:t>
            </a:r>
            <a:r>
              <a:rPr b="0" lang="en-US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 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и 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21" action="ppaction://hlinksldjump"/>
              </a:rPr>
              <a:t>а, Ь, с 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22" action="ppaction://hlinksldjump"/>
              </a:rPr>
              <a:t>— числа из  множества {0,1,2, 3}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я: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3" action="ppaction://hlinksldjump"/>
              </a:rPr>
              <a:t>2.а)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4" action="ppaction://hlinksldjump"/>
              </a:rPr>
              <a:t>2.б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5" action="ppaction://hlinksldjump"/>
              </a:rPr>
              <a:t>2.в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6" action="ppaction://hlinksldjump"/>
              </a:rPr>
              <a:t>2.г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8" action="ppaction://hlinksldjump"/>
              </a:rPr>
              <a:t>Актуализация опорных знан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9" action="ppaction://hlinksldjump"/>
              </a:rPr>
              <a:t>Определение  1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0" action="ppaction://hlinksldjump"/>
              </a:rPr>
              <a:t>. n!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1" action="ppaction://hlinksldjump"/>
              </a:rPr>
              <a:t>Теорема 1 о числе перестановок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2" action="ppaction://hlinksldjump"/>
              </a:rPr>
              <a:t>P</a:t>
            </a:r>
            <a:r>
              <a:rPr b="0" lang="en-US" sz="1600" spc="-1" strike="noStrike" u="sng" baseline="-25000">
                <a:solidFill>
                  <a:srgbClr val="0000ff"/>
                </a:solidFill>
                <a:uFillTx/>
                <a:latin typeface="Calibri"/>
                <a:hlinkClick r:id="rId33" action="ppaction://hlinksldjump"/>
              </a:rPr>
              <a:t>n</a:t>
            </a:r>
            <a:r>
              <a:rPr b="0" lang="en-US" sz="1600" spc="-1" strike="noStrike" u="sng" baseline="-25000">
                <a:solidFill>
                  <a:srgbClr val="0000ff"/>
                </a:solidFill>
                <a:uFillTx/>
                <a:latin typeface="Calibri"/>
                <a:hlinkClick r:id="rId34" action="ppaction://hlinksldjump"/>
              </a:rPr>
              <a:t> =n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6" action="ppaction://hlinksldjump"/>
              </a:rPr>
              <a:t>Пример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7" action="ppaction://hlinksldjump"/>
              </a:rPr>
              <a:t>3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8" action="ppaction://hlinksldjump"/>
              </a:rPr>
              <a:t>.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9" action="ppaction://hlinksldjump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0" action="ppaction://hlinksldjump"/>
              </a:rPr>
              <a:t>К хозяину дома пришли гости А, Б, С, D. За  круглым столом — пять разных стулье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я: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1" action="ppaction://hlinksldjump"/>
              </a:rPr>
              <a:t>3.а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2" action="ppaction://hlinksldjump"/>
              </a:rPr>
              <a:t>3.б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3" action="ppaction://hlinksldjump"/>
              </a:rPr>
              <a:t>3.в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4" action="ppaction://hlinksldjump"/>
              </a:rPr>
              <a:t>3. г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196640"/>
            <a:ext cx="403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4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6" action="ppaction://hlinksldjump"/>
              </a:rPr>
              <a:t>Пример 4. В чемпионате по футболу участвовало 7 коман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я: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7" action="ppaction://hlinksldjump"/>
              </a:rPr>
              <a:t>1 способ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8" action="ppaction://hlinksldjump"/>
              </a:rPr>
              <a:t>2 способ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9" action="ppaction://hlinksldjump"/>
              </a:rPr>
              <a:t>3 спосо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1" action="ppaction://hlinksldjump"/>
              </a:rPr>
              <a:t>Анализ примера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3" action="ppaction://hlinksldjump"/>
              </a:rPr>
              <a:t>Определение 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Число сочетаний из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ментов по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5" action="ppaction://hlinksldjump"/>
              </a:rPr>
              <a:t>Пример 5. Встретились 11 футболистов и 6 хоккеистов и  каждый стал по одному разу играть с каждым в шаш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7" action="ppaction://hlinksldjump"/>
              </a:rPr>
              <a:t>Теорема 3  и определение 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Число размещений из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ментов по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9" action="ppaction://hlinksldjump"/>
              </a:rPr>
              <a:t>Пример 6. В классе 27 учеников. К доске нужно вызвать  двои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1" action="ppaction://hlinksldjump"/>
              </a:rPr>
              <a:t>Итоги выборов двух элементов из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2" action="ppaction://hlinksldjump"/>
              </a:rPr>
              <a:t>n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3" action="ppaction://hlinksldjump"/>
              </a:rPr>
              <a:t>дан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5" action="ppaction://hlinksldjump"/>
              </a:rPr>
              <a:t>Источн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58" name="Управляющая кнопка: в начало 8">
              <a:hlinkClick r:id="rId66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Управляющая кнопка: в конец 1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Дата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851E-CDB1-4F11-A83A-58F60DFAEB86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.в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61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6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ими способами можно рассадить гостей за столом, если известно, что гостя С следует посадить рядом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 гостем А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1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начала выберем место для гостя А. Возможны 5  вариантов. Если место гостя А уже известно, то гостя С следует посадить или справа, или слева от А, всего 2 варианта. После того как  места для А и С уже выбраны, нужно трех человек произвольно  рассадить на 3 оставшихся места: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c00000"/>
                  </a:solidFill>
                  <a:latin typeface="Calibri"/>
                  <a:ea typeface="Times New Roman"/>
                </a:rPr>
                <a:t>3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 = 3! = 6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вариантов. Остается  применить правило умножения: 5 • 2 • 6 = 60.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6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66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05F2-C114-4088-B743-B9BE155CC15D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.г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73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7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ими способами можно рассадить гостей за столом, если известно, что гостя А не следует сажать рядом с гостем D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Решение такое же, как и в пункте в). Место для гостя D после выбора места для А можно также выбрать двумя способами: на два отдаленных от А стула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а) 120; б) 24; в) 60; г) 60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78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A65E-A9EC-40BC-BC94-86EC0AF4461A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4.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85" name="Содержимое 2"/>
          <p:cNvGrpSpPr/>
          <p:nvPr/>
        </p:nvGrpSpPr>
        <p:grpSpPr>
          <a:xfrm>
            <a:off x="463680" y="1407960"/>
            <a:ext cx="8242200" cy="4535640"/>
            <a:chOff x="463680" y="1407960"/>
            <a:chExt cx="8242200" cy="4535640"/>
          </a:xfrm>
        </p:grpSpPr>
        <p:pic>
          <p:nvPicPr>
            <p:cNvPr id="28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0796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468360" y="14130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чемпионате по футболу участвовало 7 команд.  Каждая команда сыграла по одной игре с каждой командой. Сколько всего было игр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4" descr="http://dlm4.meta.ua/pic/0/61/16/VU8Fr6YjNU.jpg"/>
          <p:cNvPicPr/>
          <p:nvPr/>
        </p:nvPicPr>
        <p:blipFill>
          <a:blip r:embed="rId2"/>
          <a:stretch/>
        </p:blipFill>
        <p:spPr>
          <a:xfrm>
            <a:off x="468360" y="4797360"/>
            <a:ext cx="1511280" cy="1136880"/>
          </a:xfrm>
          <a:prstGeom prst="rect">
            <a:avLst/>
          </a:prstGeom>
          <a:ln w="0">
            <a:noFill/>
          </a:ln>
        </p:spPr>
      </p:pic>
      <p:grpSp>
        <p:nvGrpSpPr>
          <p:cNvPr id="290" name="Группа 5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91" name="Управляющая кнопка: в начало 58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Управляющая кнопка: назад 5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Управляющая кнопка: далее 6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Управляющая кнопка: в конец 6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F9CA-9123-46A7-92F8-202777D71AA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ЕШЕНИЕ: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 способ 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8360" y="1484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им таблицу 7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, в которую вписаны результаты игр. В ней 49 клеток. По диагонали клетки закрашены, так как никакая команда не играет сама с собой. Если убрать диагональные клетки, то останется 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7=42 клетки. В нижней части результатов нет, потому что все они получаются отражением уже имеющихся результатов из верхней части таблицы. Поэтому количество всех проведенных игр равно половине от 42, т.е. 2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3301-B396-4DC5-82F0-82044A9A2FC5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195640" y="3789360"/>
          <a:ext cx="5186160" cy="2193840"/>
        </p:xfrm>
        <a:graphic>
          <a:graphicData uri="http://schemas.openxmlformats.org/drawingml/2006/table">
            <a:tbl>
              <a:tblPr/>
              <a:tblGrid>
                <a:gridCol w="647640"/>
                <a:gridCol w="649080"/>
                <a:gridCol w="648000"/>
                <a:gridCol w="647640"/>
                <a:gridCol w="647640"/>
                <a:gridCol w="649080"/>
                <a:gridCol w="648000"/>
                <a:gridCol w="649080"/>
              </a:tblGrid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pSp>
        <p:nvGrpSpPr>
          <p:cNvPr id="303" name="Группа 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04" name="Управляющая кнопка: в начало 8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Управляющая кнопка: в конец 1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ЕШЕНИЕ: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I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 способ 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8360" y="1483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льно пронумеруем команды №1, №2, …, №7 и посчитаем число игр поочередно. Команда №1 встречается с командами №2-7 – это 6 игр, №2 – с №3-7 – это 5 игр и т.д. Всего 6+5+4+3+2+1=21 иг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875D-3016-42F2-A040-5B1D7D39193E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050920" y="3213000"/>
          <a:ext cx="5329440" cy="2737080"/>
        </p:xfrm>
        <a:graphic>
          <a:graphicData uri="http://schemas.openxmlformats.org/drawingml/2006/table">
            <a:tbl>
              <a:tblPr/>
              <a:tblGrid>
                <a:gridCol w="1776600"/>
                <a:gridCol w="1776240"/>
                <a:gridCol w="1776600"/>
              </a:tblGrid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иг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СЕГО ИГ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Группа 10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15" name="Управляющая кнопка: в начало 11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Управляющая кнопка: в конец 14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ЕШЕНИЕ: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II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 способ 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1484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уем геометрическую модель: 7 команд – это вершины выпуклого 7-угольника, а отрезок между двумя вершинами – это встреча двух соответствующих команд: сколько отрезков – столько игр. Из каждой вершины выходит 6 отрезков – столько игр. Получается 7</a:t>
            </a:r>
            <a:r>
              <a:rPr b="0" lang="ru-RU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6=42 отрезков, каждый из которых посчитан дважды: и как АВ, и как ВА. Значит, 4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/2=21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резо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ОТВЕТ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2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EB73-6D07-4C77-9806-F0C5DEDBCFD6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Группа 12"/>
          <p:cNvGrpSpPr/>
          <p:nvPr/>
        </p:nvGrpSpPr>
        <p:grpSpPr>
          <a:xfrm>
            <a:off x="3563640" y="3860640"/>
            <a:ext cx="2160720" cy="2305080"/>
            <a:chOff x="3563640" y="3860640"/>
            <a:chExt cx="2160720" cy="2305080"/>
          </a:xfrm>
        </p:grpSpPr>
        <p:sp>
          <p:nvSpPr>
            <p:cNvPr id="325" name="Семиугольник 13"/>
            <p:cNvSpPr/>
            <p:nvPr/>
          </p:nvSpPr>
          <p:spPr>
            <a:xfrm>
              <a:off x="3564000" y="3860640"/>
              <a:ext cx="2160360" cy="2223000"/>
            </a:xfrm>
            <a:custGeom>
              <a:avLst/>
              <a:gdLst>
                <a:gd name="textAreaLeft" fmla="*/ 213840 w 2160360"/>
                <a:gd name="textAreaRight" fmla="*/ 1946520 w 2160360"/>
                <a:gd name="textAreaTop" fmla="*/ 440280 h 2223000"/>
                <a:gd name="textAreaBottom" fmla="*/ 1782720 h 2223000"/>
              </a:gdLst>
              <a:ahLst/>
              <a:rect l="textAreaLeft" t="textAreaTop" r="textAreaRight" b="textAreaBottom"/>
              <a:pathLst>
                <a:path w="1728192" h="1944216">
                  <a:moveTo>
                    <a:pt x="-4" y="1250338"/>
                  </a:moveTo>
                  <a:lnTo>
                    <a:pt x="171144" y="385077"/>
                  </a:lnTo>
                  <a:lnTo>
                    <a:pt x="864096" y="0"/>
                  </a:lnTo>
                  <a:lnTo>
                    <a:pt x="1557048" y="385077"/>
                  </a:lnTo>
                  <a:lnTo>
                    <a:pt x="1728196" y="1250338"/>
                  </a:lnTo>
                  <a:lnTo>
                    <a:pt x="1248653" y="1944226"/>
                  </a:lnTo>
                  <a:lnTo>
                    <a:pt x="479539" y="194422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Прямая соединительная линия 14"/>
            <p:cNvSpPr/>
            <p:nvPr/>
          </p:nvSpPr>
          <p:spPr>
            <a:xfrm flipH="1">
              <a:off x="4163040" y="3860640"/>
              <a:ext cx="480600" cy="22230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Прямая соединительная линия 15"/>
            <p:cNvSpPr/>
            <p:nvPr/>
          </p:nvSpPr>
          <p:spPr>
            <a:xfrm>
              <a:off x="3777840" y="4300920"/>
              <a:ext cx="1946520" cy="989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Прямая соединительная линия 16"/>
            <p:cNvSpPr/>
            <p:nvPr/>
          </p:nvSpPr>
          <p:spPr>
            <a:xfrm>
              <a:off x="4644000" y="3860640"/>
              <a:ext cx="450000" cy="23050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Прямая соединительная линия 17"/>
            <p:cNvSpPr/>
            <p:nvPr/>
          </p:nvSpPr>
          <p:spPr>
            <a:xfrm flipH="1">
              <a:off x="3563640" y="4300920"/>
              <a:ext cx="1946520" cy="989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Прямая соединительная линия 18"/>
            <p:cNvSpPr/>
            <p:nvPr/>
          </p:nvSpPr>
          <p:spPr>
            <a:xfrm flipH="1">
              <a:off x="4163400" y="4300920"/>
              <a:ext cx="1347120" cy="1782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Прямая соединительная линия 19"/>
            <p:cNvSpPr/>
            <p:nvPr/>
          </p:nvSpPr>
          <p:spPr>
            <a:xfrm flipH="1">
              <a:off x="4163400" y="5290200"/>
              <a:ext cx="1560960" cy="7930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Прямая соединительная линия 20"/>
            <p:cNvSpPr/>
            <p:nvPr/>
          </p:nvSpPr>
          <p:spPr>
            <a:xfrm flipH="1">
              <a:off x="3564000" y="3860640"/>
              <a:ext cx="1080000" cy="14295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Прямая соединительная линия 21"/>
            <p:cNvSpPr/>
            <p:nvPr/>
          </p:nvSpPr>
          <p:spPr>
            <a:xfrm>
              <a:off x="4644000" y="3860640"/>
              <a:ext cx="1080000" cy="14295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Прямая соединительная линия 22"/>
            <p:cNvSpPr/>
            <p:nvPr/>
          </p:nvSpPr>
          <p:spPr>
            <a:xfrm flipH="1">
              <a:off x="5124600" y="4300920"/>
              <a:ext cx="385560" cy="1782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Прямая соединительная линия 23"/>
            <p:cNvSpPr/>
            <p:nvPr/>
          </p:nvSpPr>
          <p:spPr>
            <a:xfrm flipH="1">
              <a:off x="3563640" y="5290200"/>
              <a:ext cx="21603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Прямая соединительная линия 24"/>
            <p:cNvSpPr/>
            <p:nvPr/>
          </p:nvSpPr>
          <p:spPr>
            <a:xfrm flipH="1" flipV="1">
              <a:off x="3564000" y="5289840"/>
              <a:ext cx="1560960" cy="7930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Прямая соединительная линия 25"/>
            <p:cNvSpPr/>
            <p:nvPr/>
          </p:nvSpPr>
          <p:spPr>
            <a:xfrm>
              <a:off x="3777840" y="4300920"/>
              <a:ext cx="1347120" cy="1782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Прямая соединительная линия 26"/>
            <p:cNvSpPr/>
            <p:nvPr/>
          </p:nvSpPr>
          <p:spPr>
            <a:xfrm>
              <a:off x="3777840" y="4300920"/>
              <a:ext cx="385560" cy="1782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Прямая соединительная линия 27"/>
            <p:cNvSpPr/>
            <p:nvPr/>
          </p:nvSpPr>
          <p:spPr>
            <a:xfrm>
              <a:off x="3777840" y="4300920"/>
              <a:ext cx="173268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Группа 28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41" name="Управляющая кнопка: в начало 29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Управляющая кнопка: назад 30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Управляющая кнопка: далее 31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Управляющая кнопка: в конец 32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Анализ примера 4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 игры определен, как только мы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бираем д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ы. Значит, количество всех игр в турнире дл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 – это в точности количество всех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боров двух элементов из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анны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лементов. Важно при этом то, что порядок выбора не имеет значения, т.е. если выбрано две команды, то какая из них первая, а какая вторая – не существ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ую команду можно выбрать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ами, а вторую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-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ами. По правилу умножения получаем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(n-1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Но при этом состав каждой игры посчитан дважды. Значит, число игр равно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(n-1)/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Тем самым фактически доказана следующая теор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2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еорема 2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 выборе двух элемент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Если множество состоит из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элементов и требуется выбрать два элемента без учета их порядка, то такой выбор можно произвести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(n-1)/2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способ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2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C301-A81B-470E-93DC-EE7AAE324064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0" name="Группа 10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51" name="Управляющая кнопка: в начало 11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Управляющая кнопка: в конец 14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Определение 2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точно длинный словесный оборот «число всех выборов двух элементов без учета их порядка и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анных» неудобен при постоянном использовании в решении задач. Математики поступили просто: ввели новый термин и специальное обознач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ение 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число всех выборов двух элементов </a:t>
            </a: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без учета их порядка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из </a:t>
            </a:r>
            <a:r>
              <a:rPr b="0" i="1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данных элементов называют числом сочетаний из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элементов по 2 и обозначают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(цэ из эн по дв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E0EA-7386-48CC-BE2C-A6092CABB639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Группа 8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61" name="Управляющая кнопка: в начало 9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Управляющая кнопка: далее 11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Управляющая кнопка: в конец 12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5" name="Object 1"/>
              <p:cNvSpPr txBox="1"/>
              <p:nvPr/>
            </p:nvSpPr>
            <p:spPr>
              <a:xfrm>
                <a:off x="2879640" y="5013360"/>
                <a:ext cx="2241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900000" y="4437000"/>
                <a:ext cx="484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5.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368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36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стретились 11 футболистов и 6 хоккеистов и  каждый стал по одному разу играть с каждым в шашки, которые они «давненько не брали в руки». Сколько встреч бы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между футболистам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между хоккеистам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между футболистами и хоккеистам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всего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Группа 11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73" name="Управляющая кнопка: в начало 12">
              <a:hlinkClick r:id="rId2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Управляющая кнопка: назад 13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Управляющая кнопка: далее 14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Управляющая кнопка: в конец 15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D5CC-BD6E-40E4-AC3A-85D2A7F2FE99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4" descr="http://s017.radikal.ru/i441/1203/33/f4b12d48bcf6.jpg"/>
          <p:cNvPicPr/>
          <p:nvPr/>
        </p:nvPicPr>
        <p:blipFill>
          <a:blip r:embed="rId3"/>
          <a:stretch/>
        </p:blipFill>
        <p:spPr>
          <a:xfrm>
            <a:off x="-6480" y="30240"/>
            <a:ext cx="2213280" cy="1622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http://900igr.net/datai/fizkultura/Vidy-sporta/0020-050-KHokkej.jpg"/>
          <p:cNvPicPr/>
          <p:nvPr/>
        </p:nvPicPr>
        <p:blipFill>
          <a:blip r:embed="rId4"/>
          <a:stretch/>
        </p:blipFill>
        <p:spPr>
          <a:xfrm>
            <a:off x="7120080" y="96840"/>
            <a:ext cx="2030400" cy="1598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ttp://www.design-warez.ru/uploads/posts/2009-04/1240391335_1238246808_7ef2a33020b4.jpg"/>
          <p:cNvPicPr/>
          <p:nvPr/>
        </p:nvPicPr>
        <p:blipFill>
          <a:blip r:embed="rId5"/>
          <a:stretch/>
        </p:blipFill>
        <p:spPr>
          <a:xfrm>
            <a:off x="6156360" y="333360"/>
            <a:ext cx="942840" cy="934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http://im6-tub-ru.yandex.net/i?id=5364196-13-72&amp;n=21"/>
          <p:cNvPicPr/>
          <p:nvPr/>
        </p:nvPicPr>
        <p:blipFill>
          <a:blip r:embed="rId6"/>
          <a:stretch/>
        </p:blipFill>
        <p:spPr>
          <a:xfrm>
            <a:off x="3203640" y="4437000"/>
            <a:ext cx="2720880" cy="1871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ЕШЕНИЕ: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Будем действовать по правилу умножения. Одно испытание – выбор футболиста, а другое испытание – выбор хоккеиста. Испытания предполагаются независимыми, и у них соответственно 11 и 6 исходов. Значит получится 11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=66 иг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Можно сложить все предыдущие ответы: 55+15+66=136; но можно использовать и формулу для числа сочетан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4384-B633-437C-9A14-FD99B300754F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Группа 13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89" name="Управляющая кнопка: в начало 14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Управляющая кнопка: назад 15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Управляющая кнопка: далее 16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Управляющая кнопка: в конец 17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3" name="Группа 24"/>
          <p:cNvGrpSpPr/>
          <p:nvPr/>
        </p:nvGrpSpPr>
        <p:grpSpPr>
          <a:xfrm>
            <a:off x="468360" y="1413000"/>
            <a:ext cx="8221680" cy="4243320"/>
            <a:chOff x="468360" y="1413000"/>
            <a:chExt cx="8221680" cy="4243320"/>
          </a:xfrm>
        </p:grpSpPr>
        <p:pic>
          <p:nvPicPr>
            <p:cNvPr id="394" name="Picture 3" descr=""/>
            <p:cNvPicPr/>
            <p:nvPr/>
          </p:nvPicPr>
          <p:blipFill>
            <a:blip r:embed="rId2"/>
            <a:srcRect l="38113" t="14390" r="39305" b="78666"/>
            <a:stretch/>
          </p:blipFill>
          <p:spPr>
            <a:xfrm>
              <a:off x="468360" y="1413000"/>
              <a:ext cx="280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" descr=""/>
            <p:cNvPicPr/>
            <p:nvPr/>
          </p:nvPicPr>
          <p:blipFill>
            <a:blip r:embed="rId3"/>
            <a:srcRect l="23002" t="48273" r="10305" b="46240"/>
            <a:stretch/>
          </p:blipFill>
          <p:spPr>
            <a:xfrm>
              <a:off x="612360" y="5157360"/>
              <a:ext cx="8077680" cy="4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" descr=""/>
            <p:cNvPicPr/>
            <p:nvPr/>
          </p:nvPicPr>
          <p:blipFill>
            <a:blip r:embed="rId4"/>
            <a:srcRect l="26247" t="22111" r="45381" b="71422"/>
            <a:stretch/>
          </p:blipFill>
          <p:spPr>
            <a:xfrm>
              <a:off x="540360" y="2061000"/>
              <a:ext cx="3528000" cy="60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Введение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65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6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Правило умножения, которое мы использовали в предыдущем параграфе, применимо не только к двум, но и к трём, четырём и т.д. испытания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Группа 8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70" name="Управляющая кнопка: в начало 9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Управляющая кнопка: далее 11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Управляющая кнопка: в конец 12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B37D-0938-4E2E-9B02-7652A6D57943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Теорема 3 и определение 3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что получится, если мы будем учитывать порядок двух выбираемых элементов? По правилу умножения получаем следующую теор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еорема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Если множество состоит из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элементов и требуется выбрать из них два элемента, учитывая их порядок, то такой выбор можно произвести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(n-1)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способ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оказ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Первый по порядку элемент можно выбрать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ами. Из оставшихс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-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ментов второй по порядку элемент можно выбрать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-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ом. Так как два этих испытания (выбора) независимы друг от друга, то по правилу умножения получае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(n-1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ение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Число всех выборов двух элементов </a:t>
            </a: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с учетом их порядка из </a:t>
            </a:r>
            <a:r>
              <a:rPr b="0" i="1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данных называют числом размещений из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элементов по 2 и обозначаю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5104-62AF-489D-9CE0-A4D83F28C569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rcRect l="61617" t="67283" r="34869" b="28031"/>
          <a:stretch/>
        </p:blipFill>
        <p:spPr>
          <a:xfrm>
            <a:off x="4140360" y="5589720"/>
            <a:ext cx="431640" cy="431640"/>
          </a:xfrm>
          <a:prstGeom prst="rect">
            <a:avLst/>
          </a:prstGeom>
          <a:ln w="0">
            <a:noFill/>
          </a:ln>
        </p:spPr>
      </p:pic>
      <p:grpSp>
        <p:nvGrpSpPr>
          <p:cNvPr id="403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04" name="Управляющая кнопка: в начало 7">
              <a:hlinkClick r:id="rId2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6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409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41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классе 27 учеников. К доске нужно вызвать  двоих. Сколькими способами это можно сделать, если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первый ученик должен решить задачу по алгебре, а второй — по геометри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они должны быстро стереть с доски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Группа 10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14" name="Управляющая кнопка: в начало 11"/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Управляющая кнопка: в конец 14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4873-36B7-4E6D-99BD-5737B4898625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1" descr=""/>
          <p:cNvPicPr/>
          <p:nvPr/>
        </p:nvPicPr>
        <p:blipFill>
          <a:blip r:embed="rId1"/>
          <a:srcRect l="21777" t="25221" r="10305" b="61004"/>
          <a:stretch/>
        </p:blipFill>
        <p:spPr>
          <a:xfrm>
            <a:off x="250920" y="1989000"/>
            <a:ext cx="8518320" cy="1295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http://img0.liveinternet.ru/images/attach/b/4/104/208/104208932_large_1c817a8f9d8503c8427b4599a5bfa2e8_324b71498e1cff5967155e77f172467a.jpg"/>
          <p:cNvPicPr/>
          <p:nvPr/>
        </p:nvPicPr>
        <p:blipFill>
          <a:blip r:embed="rId2"/>
          <a:stretch/>
        </p:blipFill>
        <p:spPr>
          <a:xfrm>
            <a:off x="0" y="0"/>
            <a:ext cx="1979640" cy="20271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http://microstocker.com.ua/upload/image/fotos/big/ace56891ca3a0962a0624259ebfb6ce7.jpg"/>
          <p:cNvPicPr/>
          <p:nvPr/>
        </p:nvPicPr>
        <p:blipFill>
          <a:blip r:embed="rId3"/>
          <a:stretch/>
        </p:blipFill>
        <p:spPr>
          <a:xfrm>
            <a:off x="2411280" y="0"/>
            <a:ext cx="1768680" cy="1989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http://www.psychologos.ru/images/5/53/Odarennye_deti-4.jpg"/>
          <p:cNvPicPr/>
          <p:nvPr/>
        </p:nvPicPr>
        <p:blipFill>
          <a:blip r:embed="rId4"/>
          <a:stretch/>
        </p:blipFill>
        <p:spPr>
          <a:xfrm>
            <a:off x="5502240" y="3284640"/>
            <a:ext cx="3641760" cy="2925720"/>
          </a:xfrm>
          <a:prstGeom prst="rect">
            <a:avLst/>
          </a:prstGeom>
          <a:ln w="0">
            <a:noFill/>
          </a:ln>
        </p:spPr>
      </p:pic>
      <p:grpSp>
        <p:nvGrpSpPr>
          <p:cNvPr id="425" name="Группа 10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26" name="Управляющая кнопка: в начало 11"/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Управляющая кнопка: в конец 14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0" name="Дата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7338-5B02-436C-A131-8203D05AD4EB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Итоги выборов двух элементов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350028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как будут выглядеть формулы, если в них верхний индекс 2 заменить на 3, 4, … и вообще на произво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1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есь мы переходим к основному вопросу параграфа – к выборам, состоящим из произвольного числа элем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49A1-CE5A-479F-849C-69291502ACF7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rcRect l="20297" t="13406" r="9567" b="63583"/>
          <a:stretch/>
        </p:blipFill>
        <p:spPr>
          <a:xfrm>
            <a:off x="539640" y="1341360"/>
            <a:ext cx="7900920" cy="1943280"/>
          </a:xfrm>
          <a:prstGeom prst="rect">
            <a:avLst/>
          </a:prstGeom>
          <a:ln w="0">
            <a:noFill/>
          </a:ln>
        </p:spPr>
      </p:pic>
      <p:grpSp>
        <p:nvGrpSpPr>
          <p:cNvPr id="438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39" name="Управляющая кнопка: в начало 7"/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Источники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Алгебра и начала анализа, 10-11 классы, Часть 1. Учебник, 10-е изд. (Базовый уровень), А.Г.Мордкович, М.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Алгебра и начала анализа, 10-11 классы. (Базовый уровень) Методическое пособие для учителя, А.Г.Мордкович, П.В.Семенов, М.,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аблицы составлены в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S Word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MS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xcel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-ресурс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Группа 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47" name="Управляющая кнопка: в начало 8"/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Управляющая кнопка: в конец 1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1" name="Дата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0F20-7CF5-4D10-9E86-C418F29D7C9D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77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7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lnSpc>
                  <a:spcPct val="8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Учительница подготовила к контрольной работе 4 примера на решение линейных неравенств, 5 текстовых задач (две на движение и три на работу) и 6 примеров на решение  квадратных уравнений (в двух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онтрольной должно быть по одному на каждую из трех тем. Найти общее чис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сех возможных вариантов контрольной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тех возможных вариантов, в которых встретится задача на движение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тех возможных вариантов, в которых у квадратного  уравнения будут корн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тех возможных вариантов, в которых не встретятся одновременно задача на работу и квадратное уравнение, не имеющее корней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82" name="Управляющая кнопка: в начало 8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Управляющая кнопка: в конец 1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Дата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240E-9679-4A45-BDC0-32A48632C162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а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89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9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) всех возможных вариантов контрольной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При выборе неравенства есть 4 исхода,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и выборе задачи есть 5 исходов, при выборе квадратного уравнения есть 6 исходов. По правилу умножения получаем, что число всех вариантов контрольной работы равно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 • 5 • 6 = 120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94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4420-A6E6-40FD-B2DB-C1DB2CA09B7A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б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01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0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тех возможных вариантов, в которых встретится задача на движение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В предыдущем рассуждении меняется число исходов при выборе текстовой задачи: их всего два. Значит, можно составить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2•6=48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 такой контрольной работы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: 4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06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47FE-749F-4961-A470-42876612101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в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13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1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тех возможных вариантов, в которых у квадратного  уравнения будут корн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По сравнению с пунктом а) меняется число исходов при выборе уравнения: только в четырех случаях корни есть. Значит, можно составить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5•4=80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 такой контрольной работы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: 8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18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72C2-0627-40EF-AC91-CCBB4EF74B4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г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25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2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тех возможных вариантов, в которых не встретятся </a:t>
              </a: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одновремен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задача на работу и квадратное уравнение, не имеющее корней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г) Из общего числа вариантов (120) мы вычтем те варианты, в которых встретятся одновременно и задача на работу, и  квадратное уравнение, не имеющее корней. По сравнению с пунктом а) для них меняется число исходов при выборе текстовой задачи (3 варианта) и число исходов при выборе уравнения (только в 2 случаях корней нет). Значит, можно составить </a:t>
              </a:r>
              <a:r>
                <a:rPr b="1" lang="ru-RU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3•2=24 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а такой контрольной, работы, а условию задачи удовлетворяют остальные </a:t>
              </a:r>
              <a:r>
                <a:rPr b="1" lang="ru-RU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120-24=96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: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а) 120; б) 48; в) 80; г) 96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30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0C83-F884-461F-AE48-90AF6E47C8B6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г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37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3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тех возможных вариантов, в которых не встретятся </a:t>
              </a: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одновремен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задача на работу и квадратное уравнение, не имеющее корней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г) Из общего числа вариантов (120) мы вычтем те варианты, в которых встретятся одновременно и задача на работу, и  квадратное уравнение, не имеющее корней. По сравнению с пунктом а) для них меняется число исходов при выборе текстовой задачи (3 варианта) и число исходов при выборе уравнения (только в 2 случаях корней нет). Значит, можно составить </a:t>
              </a:r>
              <a:r>
                <a:rPr b="1" lang="ru-RU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3•2=24 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а такой контрольной, работы, а условию задачи удовлетворяют остальные </a:t>
              </a:r>
              <a:r>
                <a:rPr b="1" lang="ru-RU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120-24=96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: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а) 120; б) 48; в) 80; г) 96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42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92B9-962B-4D49-AA02-9BFA1D83C7D1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07:47:32Z</dcterms:created>
  <dc:creator>Тамара Цыбикова</dc:creator>
  <dc:description/>
  <dc:language>en-US</dc:language>
  <cp:lastModifiedBy>Тамара Цыбикова</cp:lastModifiedBy>
  <dcterms:modified xsi:type="dcterms:W3CDTF">2014-02-19T10:22:11Z</dcterms:modified>
  <cp:revision>192</cp:revision>
  <dc:subject/>
  <dc:title>Глава 9. ЭЛЕМЕНТЫ МАТЕМАТИЧЕСКОЙ СТАТИСТИКИ, КОМБИНАТОРИКИ И ТЕОРИИ ВЕРОЯТНОСТЕЙ</dc:title>
</cp:coreProperties>
</file>