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3410-6778-4E56-8DE1-54572766F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Р в этом сокращении взята от первой буквы английского  слова permute (permutation), что переводится как переставлять  (перестанов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AEE-C45A-46FF-8BC8-4DAC06225F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С хорошо согласуется «и с французским, и с нижегородским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одной стороны, С – это первая буква сло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ation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С – это первая буква слова сочеат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898A-11F1-4D6B-846C-D956DB353E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F6C-0D95-4147-B38A-07E8D4A4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A3B9-2C1E-4EBC-B57C-5602C11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AAC-3052-4BFB-A744-9AE229CC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84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848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408-9787-4877-87B7-15999C10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4FB-E147-4977-9B6C-0B29ACC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9ED-F3C5-46EB-AF28-B6F6E3E3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877-B927-474F-AC41-1850D647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E9B-6FFB-401F-8833-200DBEC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FB5-98CB-4D48-A27B-DA5E747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4AC-2EBC-449B-A5F3-9732457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848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BAC-63F2-4E3A-B9E5-2B38AFA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84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48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36A-464D-4A39-AB46-B5B58CE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9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79C-149E-47E5-9E1C-2A82225FC1A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9.xml"/><Relationship Id="rId9" Type="http://schemas.openxmlformats.org/officeDocument/2006/relationships/image" Target="../media/image2.jpeg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0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10.xml"/><Relationship Id="rId20" Type="http://schemas.openxmlformats.org/officeDocument/2006/relationships/slide" Target="slide10.xml"/><Relationship Id="rId21" Type="http://schemas.openxmlformats.org/officeDocument/2006/relationships/slide" Target="slide10.xml"/><Relationship Id="rId22" Type="http://schemas.openxmlformats.org/officeDocument/2006/relationships/slide" Target="slide10.xml"/><Relationship Id="rId23" Type="http://schemas.openxmlformats.org/officeDocument/2006/relationships/slide" Target="slide11.xml"/><Relationship Id="rId24" Type="http://schemas.openxmlformats.org/officeDocument/2006/relationships/slide" Target="slide12.xml"/><Relationship Id="rId25" Type="http://schemas.openxmlformats.org/officeDocument/2006/relationships/slide" Target="slide13.xml"/><Relationship Id="rId26" Type="http://schemas.openxmlformats.org/officeDocument/2006/relationships/slide" Target="slide14.xml"/><Relationship Id="rId27" Type="http://schemas.openxmlformats.org/officeDocument/2006/relationships/image" Target="../media/image2.jpeg"/><Relationship Id="rId28" Type="http://schemas.openxmlformats.org/officeDocument/2006/relationships/slide" Target="slide15.xml"/><Relationship Id="rId29" Type="http://schemas.openxmlformats.org/officeDocument/2006/relationships/slide" Target="slide15.xml"/><Relationship Id="rId30" Type="http://schemas.openxmlformats.org/officeDocument/2006/relationships/slide" Target="slide15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6.xml"/><Relationship Id="rId34" Type="http://schemas.openxmlformats.org/officeDocument/2006/relationships/slide" Target="slide16.xml"/><Relationship Id="rId35" Type="http://schemas.openxmlformats.org/officeDocument/2006/relationships/image" Target="../media/image2.jpeg"/><Relationship Id="rId36" Type="http://schemas.openxmlformats.org/officeDocument/2006/relationships/slide" Target="slide17.xml"/><Relationship Id="rId37" Type="http://schemas.openxmlformats.org/officeDocument/2006/relationships/slide" Target="slide17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8.xml"/><Relationship Id="rId42" Type="http://schemas.openxmlformats.org/officeDocument/2006/relationships/slide" Target="slide19.xml"/><Relationship Id="rId43" Type="http://schemas.openxmlformats.org/officeDocument/2006/relationships/slide" Target="slide20.xml"/><Relationship Id="rId44" Type="http://schemas.openxmlformats.org/officeDocument/2006/relationships/slide" Target="slide21.xml"/><Relationship Id="rId45" Type="http://schemas.openxmlformats.org/officeDocument/2006/relationships/image" Target="../media/image2.jpeg"/><Relationship Id="rId46" Type="http://schemas.openxmlformats.org/officeDocument/2006/relationships/slide" Target="slide22.xml"/><Relationship Id="rId47" Type="http://schemas.openxmlformats.org/officeDocument/2006/relationships/slide" Target="slide23.xml"/><Relationship Id="rId48" Type="http://schemas.openxmlformats.org/officeDocument/2006/relationships/slide" Target="slide24.xml"/><Relationship Id="rId49" Type="http://schemas.openxmlformats.org/officeDocument/2006/relationships/slide" Target="slide25.xml"/><Relationship Id="rId50" Type="http://schemas.openxmlformats.org/officeDocument/2006/relationships/image" Target="../media/image2.jpeg"/><Relationship Id="rId51" Type="http://schemas.openxmlformats.org/officeDocument/2006/relationships/slide" Target="slide26.xml"/><Relationship Id="rId52" Type="http://schemas.openxmlformats.org/officeDocument/2006/relationships/image" Target="../media/image2.jpeg"/><Relationship Id="rId53" Type="http://schemas.openxmlformats.org/officeDocument/2006/relationships/slide" Target="slide27.xml"/><Relationship Id="rId54" Type="http://schemas.openxmlformats.org/officeDocument/2006/relationships/image" Target="../media/image2.jpeg"/><Relationship Id="rId55" Type="http://schemas.openxmlformats.org/officeDocument/2006/relationships/slide" Target="slide28.xml"/><Relationship Id="rId56" Type="http://schemas.openxmlformats.org/officeDocument/2006/relationships/image" Target="../media/image2.jpeg"/><Relationship Id="rId57" Type="http://schemas.openxmlformats.org/officeDocument/2006/relationships/slide" Target="slide30.xml"/><Relationship Id="rId58" Type="http://schemas.openxmlformats.org/officeDocument/2006/relationships/image" Target="../media/image2.jpeg"/><Relationship Id="rId59" Type="http://schemas.openxmlformats.org/officeDocument/2006/relationships/slide" Target="slide31.xml"/><Relationship Id="rId60" Type="http://schemas.openxmlformats.org/officeDocument/2006/relationships/image" Target="../media/image2.jpeg"/><Relationship Id="rId61" Type="http://schemas.openxmlformats.org/officeDocument/2006/relationships/slide" Target="slide33.xml"/><Relationship Id="rId62" Type="http://schemas.openxmlformats.org/officeDocument/2006/relationships/slide" Target="slide33.xml"/><Relationship Id="rId63" Type="http://schemas.openxmlformats.org/officeDocument/2006/relationships/slide" Target="slide33.xml"/><Relationship Id="rId64" Type="http://schemas.openxmlformats.org/officeDocument/2006/relationships/image" Target="../media/image2.jpeg"/><Relationship Id="rId65" Type="http://schemas.openxmlformats.org/officeDocument/2006/relationships/slide" Target="slide34.xml"/><Relationship Id="rId66" Type="http://schemas.openxmlformats.org/officeDocument/2006/relationships/slide" Target="slide2.xml"/><Relationship Id="rId6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лава 9. Элементы математической статистики, комбинаторики и теории вероятностей</a:t>
            </a:r>
            <a:endParaRPr b="1" lang="en-US" sz="32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§52. Сочетания и разме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асть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D8F9-9D2E-4A16-AB76-651C15E4BE2E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звестн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то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х = 2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а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З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b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5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Calibri"/>
              </a:rPr>
              <a:t>с </a:t>
            </a:r>
            <a:r>
              <a:rPr b="1" i="1" lang="en-US" sz="2400" spc="-1" strike="noStrike" baseline="30000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а, Ь, 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числа из  множества {0,1,2, 3}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Найти наименьшее и наибольшее значения числа 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Сколько всего таких чисел можно составить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Сколько среди них будет четных чисе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Сколько среди них будет чисел, оканчивающихся нуле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52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A790-EBBB-4D67-91D4-5BA4E281A29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5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6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м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0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1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   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</a:t>
              </a:r>
              <a:r>
                <a:rPr b="1" i="1" lang="ru-RU" sz="2400" spc="-1" strike="noStrike" baseline="-25000">
                  <a:solidFill>
                    <a:srgbClr val="000099"/>
                  </a:solidFill>
                  <a:latin typeface="Calibri"/>
                  <a:ea typeface="Times New Roman"/>
                </a:rPr>
                <a:t>наиб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=8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27•125=2700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=Ь=с=3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6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E56-4D75-46D2-9B6B-1E3DC6B7D2A4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7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7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б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Рассмотрим три испытания: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Ь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выбор числ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Они независимы друг от друга, и в каждом имеется по четыре исхода. По правилу умножения получаем, что всего возможны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4•4=64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а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б) 64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7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51DF-34FD-4CF7-96D9-5690CC1D942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8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8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32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в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о среди них будет чисел, оканчивающихся нуле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Число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5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четным только в тех случаях, когда а &gt; 0, т. е. когд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Значит, для выбора числа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три исхода. Снова применим правило умножения. Получим 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•</a:t>
              </a:r>
              <a:r>
                <a:rPr b="1" i="1" lang="ru-RU" sz="25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= 48 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5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 в) 48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8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5DB-7A08-4A23-BFE7-CAE18548EAC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2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9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9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Извест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чт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, Ь, с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— числа из  множества {0,1,2, 3}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йти наименьшее и наибольшее значения числа х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о всего таких чисел можно составить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о среди них будет четных чисел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г)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Сколько среди них будет чисел, оканчивающихся 0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Число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х = 2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З</a:t>
              </a:r>
              <a:r>
                <a:rPr b="1" i="1" lang="en-US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b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5</a:t>
              </a:r>
              <a:r>
                <a:rPr b="1" i="1" lang="ru-RU" sz="2400" spc="-1" strike="noStrike" baseline="30000">
                  <a:solidFill>
                    <a:srgbClr val="000099"/>
                  </a:solidFill>
                  <a:latin typeface="Calibri"/>
                  <a:ea typeface="Times New Roman"/>
                </a:rPr>
                <a:t>с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удет оканчиваться нулем только в тех  случаях, когда среди множителей есть хотя бы одна двойка и есть хотя бы одна пятерка, т. е. когда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c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Є{1,2,3}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.  Значит, для выбора чисел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и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с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есть по три исхода. Снова применим правило умножения. Получим </a:t>
              </a:r>
              <a:r>
                <a:rPr b="1" i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3•4•3=36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 и 27 000; б) 64; в) 48; г) 36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0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DE57-EE2B-468D-B54F-250D3D870D4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48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урсе алгебры 9 класса вы познакомились с понятием факториала и теоремой о перестановках. Напомним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Определение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Произведение подряд идущих первых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натуральных чисел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и называют «эн факториал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=1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…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2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-1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1" i="1" lang="ru-RU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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EF92-EDF8-4496-AD82-D6880045F4B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12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16" name=""/>
          <p:cNvGraphicFramePr/>
          <p:nvPr/>
        </p:nvGraphicFramePr>
        <p:xfrm>
          <a:off x="1042920" y="4437000"/>
          <a:ext cx="7129440" cy="609840"/>
        </p:xfrm>
        <a:graphic>
          <a:graphicData uri="http://schemas.openxmlformats.org/drawingml/2006/table">
            <a:tbl>
              <a:tblPr/>
              <a:tblGrid>
                <a:gridCol w="428760"/>
                <a:gridCol w="419040"/>
                <a:gridCol w="866880"/>
                <a:gridCol w="866520"/>
                <a:gridCol w="1040040"/>
                <a:gridCol w="1181160"/>
                <a:gridCol w="1103040"/>
                <a:gridCol w="1224000"/>
              </a:tblGrid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=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=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=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=7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!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=5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Актуализация опорных знаний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1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различных элементов можно расставить по одному на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различных место ровно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n!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авило, эту теорему записывают в виде краткой формулы: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=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это число перестановок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ных элементов, оно равно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!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2E4-B3AE-4F4A-8CC7-14372E839FC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2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2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2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57C1-FCBC-40BF-AE0A-2CEB668F245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Ринчин\Documents\А\ТЕОРИЯ ВЕРОЯТ\5 стульев.jpg"/>
          <p:cNvPicPr/>
          <p:nvPr/>
        </p:nvPicPr>
        <p:blipFill>
          <a:blip r:embed="rId4"/>
          <a:stretch/>
        </p:blipFill>
        <p:spPr>
          <a:xfrm>
            <a:off x="0" y="0"/>
            <a:ext cx="2000160" cy="144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36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Сколькими способами можно рассадить гостей за столом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На 5 стульев должны сесть 5 человек (включая хозяина дома). Значит, всего имеется Р5 способов их рассаживания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5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5!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41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4" descr="http://www.aqua62.ru/content/bimage_tovm/img_t11772.jpg"/>
          <p:cNvPicPr/>
          <p:nvPr/>
        </p:nvPicPr>
        <p:blipFill>
          <a:blip r:embed="rId4"/>
          <a:stretch/>
        </p:blipFill>
        <p:spPr>
          <a:xfrm>
            <a:off x="5940360" y="3606840"/>
            <a:ext cx="2762280" cy="2338200"/>
          </a:xfrm>
          <a:prstGeom prst="rect">
            <a:avLst/>
          </a:prstGeom>
          <a:ln w="0">
            <a:noFill/>
          </a:ln>
        </p:spPr>
      </p:pic>
      <p:sp>
        <p:nvSpPr>
          <p:cNvPr id="246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0C2-B99A-45F5-9BDD-420B3328EE9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4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5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Сколькими способами можно рассадить гостей за столом, если место хозяина дома уже известно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Так как место хозяина фиксировано, то следует рассадить четырех гостей на четыре места. Это можно сделать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4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=4!=24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пособами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2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54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A795-F616-4C5A-83A3-6F965290BE1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Содержание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Вве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Пример 1. Учительница подготовила к контрольной работ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1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1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1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Пример 2.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Известн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, что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х = 2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а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З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b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5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с </a:t>
            </a:r>
            <a:r>
              <a:rPr b="0" lang="en-US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и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1" action="ppaction://hlinksldjump"/>
              </a:rPr>
              <a:t>а, Ь, с </a:t>
            </a:r>
            <a:r>
              <a:rPr b="0" lang="ru-RU" sz="1600" spc="-1" strike="noStrike" u="sng" baseline="30000">
                <a:solidFill>
                  <a:srgbClr val="0000ff"/>
                </a:solidFill>
                <a:uFillTx/>
                <a:latin typeface="Calibri"/>
                <a:hlinkClick r:id="rId22" action="ppaction://hlinksldjump"/>
              </a:rPr>
              <a:t>— числа из  множества {0,1,2, 3}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 action="ppaction://hlinksldjump"/>
              </a:rPr>
              <a:t>2.а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4" action="ppaction://hlinksldjump"/>
              </a:rPr>
              <a:t>2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5" action="ppaction://hlinksldjump"/>
              </a:rPr>
              <a:t>2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6" action="ppaction://hlinksldjump"/>
              </a:rPr>
              <a:t>2.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8" action="ppaction://hlinksldjump"/>
              </a:rPr>
              <a:t>Актуализация опорных знан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9" action="ppaction://hlinksldjump"/>
              </a:rPr>
              <a:t>Определение  1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0" action="ppaction://hlinksldjump"/>
              </a:rPr>
              <a:t>. n!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1" action="ppaction://hlinksldjump"/>
              </a:rPr>
              <a:t>Теорема 1 о числе перестановок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2" action="ppaction://hlinksldjump"/>
              </a:rPr>
              <a:t>P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3" action="ppaction://hlinksldjump"/>
              </a:rPr>
              <a:t>n</a:t>
            </a:r>
            <a:r>
              <a:rPr b="0" lang="en-US" sz="1600" spc="-1" strike="noStrike" u="sng" baseline="-25000">
                <a:solidFill>
                  <a:srgbClr val="0000ff"/>
                </a:solidFill>
                <a:uFillTx/>
                <a:latin typeface="Calibri"/>
                <a:hlinkClick r:id="rId34" action="ppaction://hlinksldjump"/>
              </a:rPr>
              <a:t> =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6" action="ppaction://hlinksldjump"/>
              </a:rPr>
              <a:t>Пример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7" action="ppaction://hlinksldjump"/>
              </a:rPr>
              <a:t>3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8" action="ppaction://hlinksldjump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9" action="ppaction://hlinksldjump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0" action="ppaction://hlinksldjump"/>
              </a:rPr>
              <a:t>К хозяину дома пришли гости А, Б, С, D. За  круглым столом — пять разных стулье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1" action="ppaction://hlinksldjump"/>
              </a:rPr>
              <a:t>3.а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2" action="ppaction://hlinksldjump"/>
              </a:rPr>
              <a:t>3.б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3" action="ppaction://hlinksldjump"/>
              </a:rPr>
              <a:t>3.в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4" action="ppaction://hlinksldjump"/>
              </a:rPr>
              <a:t>3. г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19664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102837"/>
              <a:buBlip>
                <a:blip r:embed="rId4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6" action="ppaction://hlinksldjump"/>
              </a:rPr>
              <a:t>Пример 4. В чемпионате по футболу участвовало 7 коман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шения: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7" action="ppaction://hlinksldjump"/>
              </a:rPr>
              <a:t>1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8" action="ppaction://hlinksldjump"/>
              </a:rPr>
              <a:t>2 способ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9" action="ppaction://hlinksldjump"/>
              </a:rPr>
              <a:t>3 спос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1" action="ppaction://hlinksldjump"/>
              </a:rPr>
              <a:t>Анализ примера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3" action="ppaction://hlinksldjump"/>
              </a:rPr>
              <a:t>Определение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сочета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5" action="ppaction://hlinksldjump"/>
              </a:rPr>
              <a:t>Пример 5. Встретились 11 футболистов и 6 хоккеистов и  каждый стал по одному разу играть с каждым в шаш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7" action="ppaction://hlinksldjump"/>
              </a:rPr>
              <a:t>Теорема 3  и определение 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Число размещений из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ментов по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5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9" action="ppaction://hlinksldjump"/>
              </a:rPr>
              <a:t>Пример 6. В классе 27 учеников. К доске нужно вызвать  двои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1" action="ppaction://hlinksldjump"/>
              </a:rPr>
              <a:t>Итоги выборов двух элементов из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2" action="ppaction://hlinksldjump"/>
              </a:rPr>
              <a:t>n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3" action="ppaction://hlinksldjump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2837"/>
              <a:buBlip>
                <a:blip r:embed="rId6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5" action="ppaction://hlinksldjump"/>
              </a:rPr>
              <a:t>Источн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58" name="Управляющая кнопка: в начало 8">
              <a:hlinkClick r:id="rId66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1BB2-86AA-4834-97E2-8505B56DDCF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6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6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колькими способами можно рассадить гостей за столом, если известно, что гостя С следует посадить рядо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 гостем А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1" lang="en-US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Сначала выберем место для гостя А. Возможны 5  вариантов. Если место гостя А уже известно, то гостя С следует посадить или справа, или слева от А, всего 2 варианта. После того как  места для А и С уже выбраны, нужно трех человек произвольно  рассадить на 3 оставшихся места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</a:t>
              </a:r>
              <a:r>
                <a:rPr b="1" lang="ru-RU" sz="2400" spc="-1" strike="noStrike" baseline="-25000">
                  <a:solidFill>
                    <a:srgbClr val="c00000"/>
                  </a:solidFill>
                  <a:latin typeface="Calibri"/>
                  <a:ea typeface="Times New Roman"/>
                </a:rPr>
                <a:t>3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 = 3! = 6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вариантов. Остается  применить правило умножения: 5 • 2 • 6 = 60.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6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5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66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9196-49BA-4287-99B2-292DAE134BB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3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7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2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К хозяину дома пришли гости А, Б, С, D. За  круглым столом — пять разных стульев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Сколькими способами можно рассадить гостей за столом, если известно, что гостя А не следует сажать рядом с гостем D?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 Решение такое же, как и в пункте в). Место для гостя D после выбора места для А можно также выбрать двумя способами: на два отдаленных от А стула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ts val="25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а) 120; б) 24; в) 60; г) 6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Группа 12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78" name="Управляющая кнопка: в начало 13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Управляющая кнопка: назад 14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Управляющая кнопка: далее 15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Управляющая кнопка: в конец 16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D15-5FB3-418F-BDCE-B41116830883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4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285" name="Содержимое 2"/>
          <p:cNvGrpSpPr/>
          <p:nvPr/>
        </p:nvGrpSpPr>
        <p:grpSpPr>
          <a:xfrm>
            <a:off x="463680" y="1407960"/>
            <a:ext cx="8242200" cy="4535640"/>
            <a:chOff x="463680" y="1407960"/>
            <a:chExt cx="8242200" cy="4535640"/>
          </a:xfrm>
        </p:grpSpPr>
        <p:pic>
          <p:nvPicPr>
            <p:cNvPr id="28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0796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68360" y="14130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чемпионате по футболу участвовало 7 команд.  Каждая команда сыграла по одной игре с каждой командой. Сколько всего было игр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http://dlm4.meta.ua/pic/0/61/16/VU8Fr6YjNU.jpg"/>
          <p:cNvPicPr/>
          <p:nvPr/>
        </p:nvPicPr>
        <p:blipFill>
          <a:blip r:embed="rId2"/>
          <a:stretch/>
        </p:blipFill>
        <p:spPr>
          <a:xfrm>
            <a:off x="468360" y="4797360"/>
            <a:ext cx="1511280" cy="1136880"/>
          </a:xfrm>
          <a:prstGeom prst="rect">
            <a:avLst/>
          </a:prstGeom>
          <a:ln w="0">
            <a:noFill/>
          </a:ln>
        </p:spPr>
      </p:pic>
      <p:grpSp>
        <p:nvGrpSpPr>
          <p:cNvPr id="290" name="Группа 5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291" name="Управляющая кнопка: в начало 5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Управляющая кнопка: назад 5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Управляющая кнопка: далее 6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Управляющая кнопка: в конец 6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27A-4915-4581-B6A1-96CBA351154C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8360" y="1484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таблицу 7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, в которую вписаны результаты игр. В ней 49 клеток. По диагонали клетки закрашены, так как никакая команда не играет сама с собой. Если убрать диагональные клетки, то останется 7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7=42 клетки. В нижней части результатов нет, потому что все они получаются отражением уже имеющихся результатов из верхней части таблицы. Поэтому количество всех проведенных игр равно половине от 42, т.е. 2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DF85-09CA-43A5-918E-5C995634035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195640" y="3789360"/>
          <a:ext cx="5186160" cy="2193840"/>
        </p:xfrm>
        <a:graphic>
          <a:graphicData uri="http://schemas.openxmlformats.org/drawingml/2006/table">
            <a:tbl>
              <a:tblPr/>
              <a:tblGrid>
                <a:gridCol w="647640"/>
                <a:gridCol w="649080"/>
                <a:gridCol w="648000"/>
                <a:gridCol w="647640"/>
                <a:gridCol w="647640"/>
                <a:gridCol w="649080"/>
                <a:gridCol w="648000"/>
                <a:gridCol w="649080"/>
              </a:tblGrid>
              <a:tr h="274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: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: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pSp>
        <p:nvGrpSpPr>
          <p:cNvPr id="303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04" name="Управляющая кнопка: в начало 8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360" y="148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о пронумеруем команды №1, №2, …, №7 и посчитаем число игр поочередно. Команда №1 встречается с командами №2-7 – это 6 игр, №2 – с №3-7 – это 5 игр и т.д. Всего 6+5+4+3+2+1=21 иг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AB10-86B6-4AD2-BD23-A70A36651BB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050920" y="3213000"/>
          <a:ext cx="5329440" cy="2737080"/>
        </p:xfrm>
        <a:graphic>
          <a:graphicData uri="http://schemas.openxmlformats.org/drawingml/2006/table">
            <a:tbl>
              <a:tblPr/>
              <a:tblGrid>
                <a:gridCol w="1776600"/>
                <a:gridCol w="1776240"/>
                <a:gridCol w="1776600"/>
              </a:tblGrid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СЕГО ИГ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15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 </a:t>
            </a: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III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 способ 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8360" y="148428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ем геометрическую модель: 7 команд – это вершины выпуклого 7-угольника, а отрезок между двумя вершинами – это встреча двух соответствующих команд: сколько отрезков – столько игр. Из каждой вершины выходит 6 отрезков – столько игр. Получается 7</a:t>
            </a:r>
            <a:r>
              <a:rPr b="0" lang="ru-RU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6=42 отрезков, каждый из которых посчитан дважды: и как АВ, и как ВА. Значит, 4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/2=21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трез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ОТВЕ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c00000"/>
                </a:solidFill>
                <a:latin typeface="Calibri"/>
              </a:rPr>
              <a:t>2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245B-0F2A-43BC-9F44-F76A2AD1AA6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4" name="Группа 12"/>
          <p:cNvGrpSpPr/>
          <p:nvPr/>
        </p:nvGrpSpPr>
        <p:grpSpPr>
          <a:xfrm>
            <a:off x="3563640" y="3860640"/>
            <a:ext cx="2160720" cy="2305080"/>
            <a:chOff x="3563640" y="3860640"/>
            <a:chExt cx="2160720" cy="2305080"/>
          </a:xfrm>
        </p:grpSpPr>
        <p:sp>
          <p:nvSpPr>
            <p:cNvPr id="325" name="Семиугольник 13"/>
            <p:cNvSpPr/>
            <p:nvPr/>
          </p:nvSpPr>
          <p:spPr>
            <a:xfrm>
              <a:off x="3564000" y="3860640"/>
              <a:ext cx="2160360" cy="2223000"/>
            </a:xfrm>
            <a:custGeom>
              <a:avLst/>
              <a:gdLst>
                <a:gd name="textAreaLeft" fmla="*/ 213840 w 2160360"/>
                <a:gd name="textAreaRight" fmla="*/ 1946520 w 2160360"/>
                <a:gd name="textAreaTop" fmla="*/ 440280 h 2223000"/>
                <a:gd name="textAreaBottom" fmla="*/ 1782720 h 2223000"/>
              </a:gdLst>
              <a:ahLst/>
              <a:rect l="textAreaLeft" t="textAreaTop" r="textAreaRight" b="textAreaBottom"/>
              <a:pathLst>
                <a:path w="1728192" h="1944216">
                  <a:moveTo>
                    <a:pt x="-4" y="1250338"/>
                  </a:moveTo>
                  <a:lnTo>
                    <a:pt x="171144" y="385077"/>
                  </a:lnTo>
                  <a:lnTo>
                    <a:pt x="864096" y="0"/>
                  </a:lnTo>
                  <a:lnTo>
                    <a:pt x="1557048" y="385077"/>
                  </a:lnTo>
                  <a:lnTo>
                    <a:pt x="1728196" y="1250338"/>
                  </a:lnTo>
                  <a:lnTo>
                    <a:pt x="1248653" y="1944226"/>
                  </a:lnTo>
                  <a:lnTo>
                    <a:pt x="479539" y="194422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Прямая соединительная линия 14"/>
            <p:cNvSpPr/>
            <p:nvPr/>
          </p:nvSpPr>
          <p:spPr>
            <a:xfrm flipH="1">
              <a:off x="4163040" y="3860640"/>
              <a:ext cx="480600" cy="22230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Прямая соединительная линия 15"/>
            <p:cNvSpPr/>
            <p:nvPr/>
          </p:nvSpPr>
          <p:spPr>
            <a:xfrm>
              <a:off x="37778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Прямая соединительная линия 16"/>
            <p:cNvSpPr/>
            <p:nvPr/>
          </p:nvSpPr>
          <p:spPr>
            <a:xfrm>
              <a:off x="4644000" y="3860640"/>
              <a:ext cx="450000" cy="2305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Прямая соединительная линия 17"/>
            <p:cNvSpPr/>
            <p:nvPr/>
          </p:nvSpPr>
          <p:spPr>
            <a:xfrm flipH="1">
              <a:off x="3563640" y="4300920"/>
              <a:ext cx="1946520" cy="989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Прямая соединительная линия 18"/>
            <p:cNvSpPr/>
            <p:nvPr/>
          </p:nvSpPr>
          <p:spPr>
            <a:xfrm flipH="1">
              <a:off x="416340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Прямая соединительная линия 19"/>
            <p:cNvSpPr/>
            <p:nvPr/>
          </p:nvSpPr>
          <p:spPr>
            <a:xfrm flipH="1">
              <a:off x="4163400" y="529020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Прямая соединительная линия 20"/>
            <p:cNvSpPr/>
            <p:nvPr/>
          </p:nvSpPr>
          <p:spPr>
            <a:xfrm flipH="1">
              <a:off x="356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Прямая соединительная линия 21"/>
            <p:cNvSpPr/>
            <p:nvPr/>
          </p:nvSpPr>
          <p:spPr>
            <a:xfrm>
              <a:off x="4644000" y="3860640"/>
              <a:ext cx="1080000" cy="142956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Прямая соединительная линия 22"/>
            <p:cNvSpPr/>
            <p:nvPr/>
          </p:nvSpPr>
          <p:spPr>
            <a:xfrm flipH="1">
              <a:off x="512460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Прямая соединительная линия 23"/>
            <p:cNvSpPr/>
            <p:nvPr/>
          </p:nvSpPr>
          <p:spPr>
            <a:xfrm flipH="1">
              <a:off x="3563640" y="5290200"/>
              <a:ext cx="2160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Прямая соединительная линия 24"/>
            <p:cNvSpPr/>
            <p:nvPr/>
          </p:nvSpPr>
          <p:spPr>
            <a:xfrm flipH="1" flipV="1">
              <a:off x="3564000" y="5289840"/>
              <a:ext cx="1560960" cy="7930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Прямая соединительная линия 25"/>
            <p:cNvSpPr/>
            <p:nvPr/>
          </p:nvSpPr>
          <p:spPr>
            <a:xfrm>
              <a:off x="3777840" y="4300920"/>
              <a:ext cx="134712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Прямая соединительная линия 26"/>
            <p:cNvSpPr/>
            <p:nvPr/>
          </p:nvSpPr>
          <p:spPr>
            <a:xfrm>
              <a:off x="3777840" y="4300920"/>
              <a:ext cx="385560" cy="178272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Прямая соединительная линия 27"/>
            <p:cNvSpPr/>
            <p:nvPr/>
          </p:nvSpPr>
          <p:spPr>
            <a:xfrm>
              <a:off x="3777840" y="4300920"/>
              <a:ext cx="173268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Группа 2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41" name="Управляющая кнопка: в начало 2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Управляющая кнопка: назад 3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Управляющая кнопка: далее 3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Управляющая кнопка: в конец 3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Анализ примера 4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 игры определен, как только м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бираем д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ы. Значит, количество всех игр в турнире дл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 – это в точности количество всех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боров двух элементов из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нны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лементов. Важно при этом то, что порядок выбора не имеет значения, т.е. если выбрано две команды, то какая из них первая, а какая вторая – не существен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ую команду можно выбрать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, а вторую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По правилу умножения получаем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Но при этом состав каждой игры посчитан дважды. Значит, число игр равно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(n-1)/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 Тем самым фактически доказана следующая теор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еорема 2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 выборе двух элемен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два элемента без учета их порядка, то такой выбор можно произвести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n(n-1)/2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2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90DB-03C5-4151-A590-2F895C95145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51" name="Управляющая кнопка: в начало 11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Определение 2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точно длинный словесный оборот «число всех выборов двух элементов без учета их порядка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анных» неудобен при постоянном использовании в решении задач. Математики поступили просто: ввели новый термин и специальное обо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без учета их порядка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данных элементов называют числом сочета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элементов по 2 и обозначают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(цэ из эн по дв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04D7-13E3-4719-B0E5-0353E2325A8D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0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61" name="Управляющая кнопка: в начало 9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5" name="Object 1"/>
              <p:cNvSpPr txBox="1"/>
              <p:nvPr/>
            </p:nvSpPr>
            <p:spPr>
              <a:xfrm>
                <a:off x="2879640" y="5013360"/>
                <a:ext cx="2241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900000" y="4437000"/>
                <a:ext cx="484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5.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368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36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третились 11 футболистов и 6 хоккеистов и  каждый стал по одному разу играть с каждым в шашки, которые они «давненько не брали в руки». Сколько встреч бы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между футбол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между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между футболистами и хоккеистам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всего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2" name="Группа 11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73" name="Управляющая кнопка: в начало 12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Управляющая кнопка: назад 13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Управляющая кнопка: далее 14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Управляющая кнопка: в конец 15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705C-C611-4332-8B09-345F224BBE09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4" descr="http://s017.radikal.ru/i441/1203/33/f4b12d48bcf6.jpg"/>
          <p:cNvPicPr/>
          <p:nvPr/>
        </p:nvPicPr>
        <p:blipFill>
          <a:blip r:embed="rId3"/>
          <a:stretch/>
        </p:blipFill>
        <p:spPr>
          <a:xfrm>
            <a:off x="-6480" y="30240"/>
            <a:ext cx="2213280" cy="162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900igr.net/datai/fizkultura/Vidy-sporta/0020-050-KHokkej.jpg"/>
          <p:cNvPicPr/>
          <p:nvPr/>
        </p:nvPicPr>
        <p:blipFill>
          <a:blip r:embed="rId4"/>
          <a:stretch/>
        </p:blipFill>
        <p:spPr>
          <a:xfrm>
            <a:off x="7120080" y="96840"/>
            <a:ext cx="2030400" cy="1598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ttp://www.design-warez.ru/uploads/posts/2009-04/1240391335_1238246808_7ef2a33020b4.jpg"/>
          <p:cNvPicPr/>
          <p:nvPr/>
        </p:nvPicPr>
        <p:blipFill>
          <a:blip r:embed="rId5"/>
          <a:stretch/>
        </p:blipFill>
        <p:spPr>
          <a:xfrm>
            <a:off x="6156360" y="333360"/>
            <a:ext cx="942840" cy="93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http://im6-tub-ru.yandex.net/i?id=5364196-13-72&amp;n=21"/>
          <p:cNvPicPr/>
          <p:nvPr/>
        </p:nvPicPr>
        <p:blipFill>
          <a:blip r:embed="rId6"/>
          <a:stretch/>
        </p:blipFill>
        <p:spPr>
          <a:xfrm>
            <a:off x="3203640" y="4437000"/>
            <a:ext cx="272088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ЕШЕНИЕ: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удем действовать по правилу умножения. Одно испытание – выбор футболиста, а другое испытание – выбор хоккеиста. Испытания предполагаются независимыми, и у них соответственно 11 и 6 исходов. Значит получится 11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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=66 иг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Можно сложить все предыдущие ответы: 55+15+66=136; но можно использовать и формулу для числа сочетан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27F-E400-4B15-9CCC-1D83CAD19D22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Группа 13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389" name="Управляющая кнопка: в начало 14">
              <a:hlinkClick r:id="rId1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Управляющая кнопка: назад 15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Управляющая кнопка: далее 16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Управляющая кнопка: в конец 17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Группа 24"/>
          <p:cNvGrpSpPr/>
          <p:nvPr/>
        </p:nvGrpSpPr>
        <p:grpSpPr>
          <a:xfrm>
            <a:off x="468360" y="1413000"/>
            <a:ext cx="8221680" cy="4243320"/>
            <a:chOff x="468360" y="1413000"/>
            <a:chExt cx="8221680" cy="4243320"/>
          </a:xfrm>
        </p:grpSpPr>
        <p:pic>
          <p:nvPicPr>
            <p:cNvPr id="394" name="Picture 3" descr=""/>
            <p:cNvPicPr/>
            <p:nvPr/>
          </p:nvPicPr>
          <p:blipFill>
            <a:blip r:embed="rId2"/>
            <a:srcRect l="38113" t="14390" r="39305" b="78666"/>
            <a:stretch/>
          </p:blipFill>
          <p:spPr>
            <a:xfrm>
              <a:off x="468360" y="1413000"/>
              <a:ext cx="28080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" descr=""/>
            <p:cNvPicPr/>
            <p:nvPr/>
          </p:nvPicPr>
          <p:blipFill>
            <a:blip r:embed="rId3"/>
            <a:srcRect l="23002" t="48273" r="10305" b="46240"/>
            <a:stretch/>
          </p:blipFill>
          <p:spPr>
            <a:xfrm>
              <a:off x="612360" y="5157360"/>
              <a:ext cx="807768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" descr=""/>
            <p:cNvPicPr/>
            <p:nvPr/>
          </p:nvPicPr>
          <p:blipFill>
            <a:blip r:embed="rId4"/>
            <a:srcRect l="26247" t="22111" r="45381" b="71422"/>
            <a:stretch/>
          </p:blipFill>
          <p:spPr>
            <a:xfrm>
              <a:off x="540360" y="2061000"/>
              <a:ext cx="352800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ведение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6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6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buSzPct val="10287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Правило умножения, которое мы использовали в предыдущем параграфе, применимо не только к двум, но и к трём, четырём и т.д. испытания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Группа 8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70" name="Управляющая кнопка: в начало 9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Управляющая кнопка: назад 10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Управляющая кнопка: далее 11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Управляющая кнопка: в конец 12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Дата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541F-9F9D-4DDE-8BF4-586A237AC755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Теорема 3 и определение 3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получится, если мы будем учитывать порядок двух выбираемых элементов? По правилу умножения получаем следующую теор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орема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Если множество состоит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и требуется выбрать из них два элемента, учитывая их порядок, то такой выбор можно произвести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(n-1)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особ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оказатель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ервы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ами. Из оставших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ментов второй по порядку элемент можно выбрать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-1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ом. Так как два этих испытания (выбора) независимы друг от друга, то по правилу умножения получае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(n-1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пределение 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Число всех выборов двух элементов </a:t>
            </a:r>
            <a:r>
              <a:rPr b="0" i="1" lang="ru-RU" sz="2400" spc="-1" strike="noStrike">
                <a:solidFill>
                  <a:srgbClr val="000099"/>
                </a:solidFill>
                <a:latin typeface="Calibri"/>
              </a:rPr>
              <a:t>с учетом их порядка из </a:t>
            </a:r>
            <a:r>
              <a:rPr b="0" i="1" lang="en-US" sz="2400" spc="-1" strike="noStrike">
                <a:solidFill>
                  <a:srgbClr val="000099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данных называют числом размещений из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 </a:t>
            </a: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элементов по 2 и обозначаю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5DD8-EE51-4622-9CE0-EBF0DB31F79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rcRect l="61617" t="67283" r="34869" b="28031"/>
          <a:stretch/>
        </p:blipFill>
        <p:spPr>
          <a:xfrm>
            <a:off x="4140360" y="5589720"/>
            <a:ext cx="431640" cy="431640"/>
          </a:xfrm>
          <a:prstGeom prst="rect">
            <a:avLst/>
          </a:prstGeom>
          <a:ln w="0">
            <a:noFill/>
          </a:ln>
        </p:spPr>
      </p:pic>
      <p:grpSp>
        <p:nvGrpSpPr>
          <p:cNvPr id="40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04" name="Управляющая кнопка: в начало 7">
              <a:hlinkClick r:id="rId2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6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40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41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классе 27 учеников. К доске нужно вызвать  двоих. Сколькими способами это можно сделать, если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 первый ученик должен решить задачу по алгебре, а второй — по геометри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они должны быстро стереть с доски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14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Дата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2F3A-E039-423D-9EDF-3AAE0460D7AF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1" descr=""/>
          <p:cNvPicPr/>
          <p:nvPr/>
        </p:nvPicPr>
        <p:blipFill>
          <a:blip r:embed="rId1"/>
          <a:srcRect l="21777" t="25221" r="10305" b="61004"/>
          <a:stretch/>
        </p:blipFill>
        <p:spPr>
          <a:xfrm>
            <a:off x="250920" y="1989000"/>
            <a:ext cx="8518320" cy="129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http://img0.liveinternet.ru/images/attach/b/4/104/208/104208932_large_1c817a8f9d8503c8427b4599a5bfa2e8_324b71498e1cff5967155e77f172467a.jpg"/>
          <p:cNvPicPr/>
          <p:nvPr/>
        </p:nvPicPr>
        <p:blipFill>
          <a:blip r:embed="rId2"/>
          <a:stretch/>
        </p:blipFill>
        <p:spPr>
          <a:xfrm>
            <a:off x="0" y="0"/>
            <a:ext cx="1979640" cy="20271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http://microstocker.com.ua/upload/image/fotos/big/ace56891ca3a0962a0624259ebfb6ce7.jpg"/>
          <p:cNvPicPr/>
          <p:nvPr/>
        </p:nvPicPr>
        <p:blipFill>
          <a:blip r:embed="rId3"/>
          <a:stretch/>
        </p:blipFill>
        <p:spPr>
          <a:xfrm>
            <a:off x="2411280" y="0"/>
            <a:ext cx="1768680" cy="1989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http://www.psychologos.ru/images/5/53/Odarennye_deti-4.jpg"/>
          <p:cNvPicPr/>
          <p:nvPr/>
        </p:nvPicPr>
        <p:blipFill>
          <a:blip r:embed="rId4"/>
          <a:stretch/>
        </p:blipFill>
        <p:spPr>
          <a:xfrm>
            <a:off x="5502240" y="3284640"/>
            <a:ext cx="3641760" cy="2925720"/>
          </a:xfrm>
          <a:prstGeom prst="rect">
            <a:avLst/>
          </a:prstGeom>
          <a:ln w="0">
            <a:noFill/>
          </a:ln>
        </p:spPr>
      </p:pic>
      <p:grpSp>
        <p:nvGrpSpPr>
          <p:cNvPr id="425" name="Группа 10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26" name="Управляющая кнопка: в начало 11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Управляющая кнопка: назад 12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Управляющая кнопка: далее 13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Управляющая кнопка: в конец 14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Дата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F095-3AFF-495B-9A3F-D69616C6704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Итоги выборов двух элементов</a:t>
            </a:r>
            <a:endParaRPr b="1" lang="en-US" sz="40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350028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как будут выглядеть формулы, если в них верхний индекс 2 заменить на 3, 4, … и вообще на произвольное числ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1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есь мы переходим к основному вопросу параграфа – к выборам, состоящим из произвольного числа элемен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EC8A-B00F-48A1-AC44-58157E98B10A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20297" t="13406" r="9567" b="63583"/>
          <a:stretch/>
        </p:blipFill>
        <p:spPr>
          <a:xfrm>
            <a:off x="539640" y="1341360"/>
            <a:ext cx="7900920" cy="1943280"/>
          </a:xfrm>
          <a:prstGeom prst="rect">
            <a:avLst/>
          </a:prstGeom>
          <a:ln w="0">
            <a:noFill/>
          </a:ln>
        </p:spPr>
      </p:pic>
      <p:grpSp>
        <p:nvGrpSpPr>
          <p:cNvPr id="438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39" name="Управляющая кнопка: в начало 7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Источники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, Часть 1. Учебник, 10-е изд. (Базовый уровень), А.Г.Мордкович, М.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Алгебра и начала анализа, 10-11 классы. (Базовый уровень) Методическое пособие для учителя, А.Г.Мордкович, П.В.Семенов, М.,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аблицы составлены в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S Word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MS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Excel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eb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-ресурс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447" name="Управляющая кнопка: в начало 8"/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1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C64-2E21-4B9D-A6F6-F303A501690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7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lnSpc>
                  <a:spcPct val="80000"/>
                </a:lnSpc>
                <a:spcBef>
                  <a:spcPts val="601"/>
                </a:spcBef>
                <a:buSzPct val="10287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Учительница подготовила к контрольной работе 4 примера на решение линейных неравенств, 5 текстовых задач (две на движение и три на работу) и 6 примеров на решение  квадратных уравнений (в двух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онтрольной должно быть по одному на каждую из трех тем. 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одновременно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7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82" name="Управляющая кнопка: в начало 8">
              <a:hlinkClick r:id="rId3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Управляющая кнопка: назад 9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Управляющая кнопка: далее 10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Управляющая кнопка: в конец 11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Дата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C48-55B3-4E02-8009-DCF5C1B56E20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а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89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90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а) всех возможных вариантов контрольной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а)При выборе неравенства есть 4 исхода,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и выборе задачи есть 5 исходов, при выборе квадратного уравнения есть 6 исходов. По правилу умножения получаем, что число всех вариантов контрольной работы равно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 • 5 • 6 = 120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94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46D0-9581-48A6-B858-08DB67B871F1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б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01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02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тех возможных вариантов, в которых встретится задача на движение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б) В предыдущем рассуждении меняется число исходов при выборе текстовой задачи: их всего два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2•6=48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4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06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0157-B288-4B90-87B2-8984BB4E8C67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в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13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тех возможных вариантов, в которых у квадратного  уравнения будут корни;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) По сравнению с пунктом а) меняется число исходов при выборе уравнения: только в четырех случаях корни есть. Значит, можно составить </a:t>
              </a:r>
              <a:r>
                <a:rPr b="1" lang="ru-RU" sz="24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5•4=80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 такой контрольной работы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 8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18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2E9-44CB-4AE5-B70D-68BE041324C4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25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26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30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F469-E5A6-4D2C-A8AA-B684DFCE5A6B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имер 1.г)</a:t>
            </a:r>
            <a:endParaRPr b="1" lang="en-US" sz="4400" spc="-1" strike="noStrike">
              <a:solidFill>
                <a:srgbClr val="c00000"/>
              </a:solidFill>
              <a:latin typeface="Comic Sans MS"/>
            </a:endParaRPr>
          </a:p>
        </p:txBody>
      </p:sp>
      <p:grpSp>
        <p:nvGrpSpPr>
          <p:cNvPr id="137" name="Содержимое 2"/>
          <p:cNvGrpSpPr/>
          <p:nvPr/>
        </p:nvGrpSpPr>
        <p:grpSpPr>
          <a:xfrm>
            <a:off x="463680" y="1481040"/>
            <a:ext cx="8242200" cy="4535640"/>
            <a:chOff x="463680" y="1481040"/>
            <a:chExt cx="8242200" cy="4535640"/>
          </a:xfrm>
        </p:grpSpPr>
        <p:pic>
          <p:nvPicPr>
            <p:cNvPr id="13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63680" y="1481040"/>
              <a:ext cx="8242200" cy="45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836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174600" algn="just">
                <a:spcBef>
                  <a:spcPts val="601"/>
                </a:spcBef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Подготовле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к к.р. 4 неравенств, 5 задач (2на движение и 3 на работу) и 6 квадратных уравнений (в 2 из них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&lt;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а в 4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0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.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  к.р. по одному на каждую из трех тем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 algn="just"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000099"/>
                  </a:solidFill>
                  <a:uFillTx/>
                  <a:latin typeface="Calibri"/>
                  <a:ea typeface="Times New Roman"/>
                </a:rPr>
                <a:t>Найти общее число: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)тех возможных вариантов, в которых не встретятся </a:t>
              </a: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одновременно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задача на работу и квадратное уравнение, не имеющее корней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РЕШЕНИЕ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: г) Из общего числа вариантов (120) мы вычтем те варианты, в которых встретятся одновременно и задача на работу, и  квадратное уравнение, не имеющее корней. По сравнению с пунктом а) для них меняется число исходов при выборе текстовой задачи (3 варианта) и число исходов при выборе уравнения (только в 2 случаях корней нет). Значит, можно составить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4•3•2=24 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а такой контрольной, работы, а условию задачи удовлетворяют остальные </a:t>
              </a:r>
              <a:r>
                <a:rPr b="1" lang="ru-RU" sz="2000" spc="-1" strike="noStrike">
                  <a:solidFill>
                    <a:srgbClr val="000099"/>
                  </a:solidFill>
                  <a:latin typeface="Calibri"/>
                  <a:ea typeface="Times New Roman"/>
                </a:rPr>
                <a:t>120-24=96 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вариантов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Ответ:</a:t>
              </a:r>
              <a:r>
                <a:rPr b="0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</a:t>
              </a:r>
              <a:r>
                <a:rPr b="1" lang="ru-RU" sz="2000" spc="-1" strike="noStrike">
                  <a:solidFill>
                    <a:srgbClr val="c00000"/>
                  </a:solidFill>
                  <a:latin typeface="Calibri"/>
                  <a:ea typeface="Times New Roman"/>
                </a:rPr>
                <a:t>а) 120; б) 48; в) 80; г) 96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460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Цыбикова Тамара Раднажаповна, 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Группа 6"/>
          <p:cNvGrpSpPr/>
          <p:nvPr/>
        </p:nvGrpSpPr>
        <p:grpSpPr>
          <a:xfrm>
            <a:off x="6227640" y="6381720"/>
            <a:ext cx="1944720" cy="287280"/>
            <a:chOff x="6227640" y="6381720"/>
            <a:chExt cx="1944720" cy="287280"/>
          </a:xfrm>
        </p:grpSpPr>
        <p:sp>
          <p:nvSpPr>
            <p:cNvPr id="142" name="Управляющая кнопка: в начало 7">
              <a:hlinkClick r:id="rId4" action="ppaction://hlinksldjump"/>
            </p:cNvPr>
            <p:cNvSpPr/>
            <p:nvPr/>
          </p:nvSpPr>
          <p:spPr>
            <a:xfrm>
              <a:off x="622764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2735" y="10800"/>
                  </a:moveTo>
                  <a:lnTo>
                    <a:pt x="23240" y="3794"/>
                  </a:lnTo>
                  <a:lnTo>
                    <a:pt x="23240" y="17806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10890" y="3794"/>
                  </a:lnTo>
                  <a:lnTo>
                    <a:pt x="10890" y="17806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Управляющая кнопка: назад 8">
              <a:hlinkClick r:id="" action="ppaction://hlinkshowjump?jump=previousslide"/>
            </p:cNvPr>
            <p:cNvSpPr/>
            <p:nvPr/>
          </p:nvSpPr>
          <p:spPr>
            <a:xfrm>
              <a:off x="6731640" y="6381720"/>
              <a:ext cx="394200" cy="287280"/>
            </a:xfrm>
            <a:custGeom>
              <a:avLst/>
              <a:gdLst>
                <a:gd name="textAreaLeft" fmla="*/ 18360 w 394200"/>
                <a:gd name="textAreaRight" fmla="*/ 375840 w 3942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9629" h="21600">
                  <a:moveTo>
                    <a:pt x="0" y="0"/>
                  </a:moveTo>
                  <a:lnTo>
                    <a:pt x="29629" y="0"/>
                  </a:lnTo>
                  <a:lnTo>
                    <a:pt x="29629" y="21600"/>
                  </a:lnTo>
                  <a:lnTo>
                    <a:pt x="0" y="21600"/>
                  </a:lnTo>
                  <a:close/>
                </a:path>
                <a:path fill="lightenLess" w="29629" h="21600">
                  <a:moveTo>
                    <a:pt x="0" y="0"/>
                  </a:moveTo>
                  <a:lnTo>
                    <a:pt x="29629" y="0"/>
                  </a:lnTo>
                  <a:lnTo>
                    <a:pt x="28229" y="1400"/>
                  </a:lnTo>
                  <a:lnTo>
                    <a:pt x="1400" y="1400"/>
                  </a:lnTo>
                  <a:close/>
                </a:path>
                <a:path fill="darken" w="29629" h="21600">
                  <a:moveTo>
                    <a:pt x="29629" y="0"/>
                  </a:moveTo>
                  <a:lnTo>
                    <a:pt x="29629" y="21600"/>
                  </a:lnTo>
                  <a:lnTo>
                    <a:pt x="28229" y="20200"/>
                  </a:lnTo>
                  <a:lnTo>
                    <a:pt x="28229" y="1400"/>
                  </a:lnTo>
                  <a:close/>
                </a:path>
                <a:path fill="darkenLess" w="29629" h="21600">
                  <a:moveTo>
                    <a:pt x="2962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229" y="20200"/>
                  </a:lnTo>
                  <a:close/>
                </a:path>
                <a:path fill="lighten" w="2962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9629" h="21600">
                  <a:moveTo>
                    <a:pt x="7808" y="10800"/>
                  </a:moveTo>
                  <a:lnTo>
                    <a:pt x="21821" y="3794"/>
                  </a:lnTo>
                  <a:lnTo>
                    <a:pt x="21821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Управляющая кнопка: далее 9">
              <a:hlinkClick r:id="" action="ppaction://hlinkshowjump?jump=nextslide"/>
            </p:cNvPr>
            <p:cNvSpPr/>
            <p:nvPr/>
          </p:nvSpPr>
          <p:spPr>
            <a:xfrm>
              <a:off x="723600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9227" y="3794"/>
                  </a:moveTo>
                  <a:lnTo>
                    <a:pt x="23240" y="10800"/>
                  </a:lnTo>
                  <a:lnTo>
                    <a:pt x="9227" y="17806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Управляющая кнопка: в конец 10">
              <a:hlinkClick r:id="" action="ppaction://hlinkshowjump?jump=lastslide"/>
            </p:cNvPr>
            <p:cNvSpPr/>
            <p:nvPr/>
          </p:nvSpPr>
          <p:spPr>
            <a:xfrm>
              <a:off x="7740360" y="6381720"/>
              <a:ext cx="432000" cy="287280"/>
            </a:xfrm>
            <a:custGeom>
              <a:avLst/>
              <a:gdLst>
                <a:gd name="textAreaLeft" fmla="*/ 18360 w 432000"/>
                <a:gd name="textAreaRight" fmla="*/ 413640 w 43200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32468" h="21600">
                  <a:moveTo>
                    <a:pt x="0" y="0"/>
                  </a:moveTo>
                  <a:lnTo>
                    <a:pt x="32468" y="0"/>
                  </a:lnTo>
                  <a:lnTo>
                    <a:pt x="32468" y="21600"/>
                  </a:lnTo>
                  <a:lnTo>
                    <a:pt x="0" y="21600"/>
                  </a:lnTo>
                  <a:close/>
                </a:path>
                <a:path fill="lightenLess" w="32468" h="21600">
                  <a:moveTo>
                    <a:pt x="0" y="0"/>
                  </a:moveTo>
                  <a:lnTo>
                    <a:pt x="32468" y="0"/>
                  </a:lnTo>
                  <a:lnTo>
                    <a:pt x="31068" y="1400"/>
                  </a:lnTo>
                  <a:lnTo>
                    <a:pt x="1400" y="1400"/>
                  </a:lnTo>
                  <a:close/>
                </a:path>
                <a:path fill="darken" w="32468" h="21600">
                  <a:moveTo>
                    <a:pt x="32468" y="0"/>
                  </a:moveTo>
                  <a:lnTo>
                    <a:pt x="32468" y="21600"/>
                  </a:lnTo>
                  <a:lnTo>
                    <a:pt x="31068" y="20200"/>
                  </a:lnTo>
                  <a:lnTo>
                    <a:pt x="31068" y="1400"/>
                  </a:lnTo>
                  <a:close/>
                </a:path>
                <a:path fill="darkenLess" w="32468" h="21600">
                  <a:moveTo>
                    <a:pt x="3246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1068" y="20200"/>
                  </a:lnTo>
                  <a:close/>
                </a:path>
                <a:path fill="lighten" w="3246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2468" h="21600">
                  <a:moveTo>
                    <a:pt x="19733" y="10800"/>
                  </a:moveTo>
                  <a:lnTo>
                    <a:pt x="9227" y="17806"/>
                  </a:lnTo>
                  <a:lnTo>
                    <a:pt x="9227" y="3794"/>
                  </a:lnTo>
                  <a:close/>
                </a:path>
                <a:path fill="darken" w="32468" h="21600">
                  <a:moveTo>
                    <a:pt x="21578" y="3794"/>
                  </a:moveTo>
                  <a:lnTo>
                    <a:pt x="21578" y="17806"/>
                  </a:lnTo>
                  <a:lnTo>
                    <a:pt x="23240" y="17806"/>
                  </a:lnTo>
                  <a:lnTo>
                    <a:pt x="23240" y="3794"/>
                  </a:lnTo>
                  <a:close/>
                </a:path>
              </a:pathLst>
            </a:cu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0000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08.02.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4CA4-9F23-465C-813A-30F93DF799C6}" type="slidenum">
              <a:rPr b="1" lang="ru-RU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07:47:32Z</dcterms:created>
  <dc:creator>Тамара Цыбикова</dc:creator>
  <dc:description/>
  <dc:language>en-US</dc:language>
  <cp:lastModifiedBy>Тамара Цыбикова</cp:lastModifiedBy>
  <dcterms:modified xsi:type="dcterms:W3CDTF">2014-02-19T10:22:11Z</dcterms:modified>
  <cp:revision>192</cp:revision>
  <dc:subject/>
  <dc:title>Глава 9. ЭЛЕМЕНТЫ МАТЕМАТИЧЕСКОЙ СТАТИСТИКИ, КОМБИНАТОРИКИ И ТЕОРИИ ВЕРОЯТНОСТЕЙ</dc:title>
</cp:coreProperties>
</file>