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544400" y="1069560"/>
            <a:ext cx="446076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4988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44760" y="1069920"/>
            <a:ext cx="4467240" cy="366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168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44760" y="1069920"/>
            <a:ext cx="4464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168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44760" y="1069920"/>
            <a:ext cx="4470120" cy="366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168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44760" y="1069920"/>
            <a:ext cx="4467240" cy="366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168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44760" y="1069920"/>
            <a:ext cx="4467240" cy="366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168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44760" y="1069920"/>
            <a:ext cx="4464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168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44760" y="1069920"/>
            <a:ext cx="4464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168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44760" y="1069920"/>
            <a:ext cx="4464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168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44760" y="1069920"/>
            <a:ext cx="4464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1680" cy="40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1800"/>
            <a:ext cx="85996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5996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701240"/>
            <a:ext cx="85996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1800"/>
            <a:ext cx="85996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6840" y="20998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70124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6840" y="470124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1800"/>
            <a:ext cx="85996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77000"/>
          </a:bodyPr>
          <a:p>
            <a:pPr marL="2638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7800" y="209988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77000"/>
          </a:bodyPr>
          <a:p>
            <a:pPr marL="2638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5160" y="209988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77000"/>
          </a:bodyPr>
          <a:p>
            <a:pPr marL="2638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70124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77000"/>
          </a:bodyPr>
          <a:p>
            <a:pPr marL="2638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7800" y="470124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77000"/>
          </a:bodyPr>
          <a:p>
            <a:pPr marL="2638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5160" y="470124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77000"/>
          </a:bodyPr>
          <a:p>
            <a:pPr marL="2638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1800"/>
            <a:ext cx="85996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59968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1800"/>
            <a:ext cx="85996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59968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1800"/>
            <a:ext cx="85996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652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6840" y="2099880"/>
            <a:ext cx="419652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1800"/>
            <a:ext cx="85996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1800"/>
            <a:ext cx="859968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1800"/>
            <a:ext cx="85996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6840" y="2099880"/>
            <a:ext cx="419652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70124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1800"/>
            <a:ext cx="85996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652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6840" y="20998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6840" y="470124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1800"/>
            <a:ext cx="85996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6840" y="20998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701240"/>
            <a:ext cx="85996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0080" y="631800"/>
            <a:ext cx="85996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59968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51000"/>
          </a:bodyPr>
          <a:p>
            <a:pPr marL="174960" indent="0">
              <a:lnSpc>
                <a:spcPct val="95000"/>
              </a:lnSpc>
              <a:spcAft>
                <a:spcPts val="317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4960" indent="-174960">
              <a:lnSpc>
                <a:spcPct val="95000"/>
              </a:lnSpc>
              <a:spcAft>
                <a:spcPts val="3175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4960" indent="-174960">
              <a:lnSpc>
                <a:spcPct val="95000"/>
              </a:lnSpc>
              <a:spcAft>
                <a:spcPts val="3175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4960" indent="-174960">
              <a:lnSpc>
                <a:spcPct val="95000"/>
              </a:lnSpc>
              <a:spcAft>
                <a:spcPts val="3175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4960" indent="-174960">
              <a:lnSpc>
                <a:spcPct val="95000"/>
              </a:lnSpc>
              <a:spcAft>
                <a:spcPts val="31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4960" indent="-174960">
              <a:lnSpc>
                <a:spcPct val="95000"/>
              </a:lnSpc>
              <a:spcAft>
                <a:spcPts val="31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4960" indent="-174960">
              <a:lnSpc>
                <a:spcPct val="95000"/>
              </a:lnSpc>
              <a:spcAft>
                <a:spcPts val="31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0080" y="631800"/>
            <a:ext cx="860616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4c1900"/>
                </a:solidFill>
                <a:latin typeface="Times New Roman"/>
              </a:rPr>
              <a:t>«История адвокатуры России, её появление и развитие»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2519280"/>
            <a:ext cx="45007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9720" y="-360"/>
            <a:ext cx="86029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Важным направлением совершенствования адвокатуры является воспитание молодых специалистов. К сожалению, в большинстве юридических вузов и факультетов нет спецкурса по проблемам деятельности адвокатуры, нет учебника «Адвокатура в РФ», создание которого, насколько известно, пока еще даже не планиру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19280" y="3959280"/>
            <a:ext cx="6840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85680"/>
            <a:ext cx="8608680" cy="70293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Однажды Конфуций спросил у своего сына:</a:t>
            </a:r>
            <a:br>
              <a:rPr sz="4400"/>
            </a:b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 «Ты уже учил Правила?».</a:t>
            </a:r>
            <a:br>
              <a:rPr sz="4400"/>
            </a:b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Сын ответил: «Еще нет».</a:t>
            </a:r>
            <a:br>
              <a:rPr sz="4400"/>
            </a:b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 Мудрец сказал:</a:t>
            </a:r>
            <a:br>
              <a:rPr sz="4400"/>
            </a:b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 «Если ты не будешь учить Правила, у тебя не будет ничего, на чем утвердиться»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 Конфуц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0080" y="900000"/>
            <a:ext cx="86061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355e00"/>
                </a:solidFill>
                <a:latin typeface="Times New Roman"/>
              </a:rPr>
              <a:t>Цель работы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40360" y="3419640"/>
            <a:ext cx="4500360" cy="3600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9280" y="2160360"/>
            <a:ext cx="95392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80"/>
                </a:solidFill>
                <a:latin typeface="Times New Roman"/>
              </a:rPr>
              <a:t>исследовать современное правовое положение адвокатуры в Российской Федераци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080" y="631440"/>
            <a:ext cx="860616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4b1f6f"/>
                </a:solidFill>
                <a:latin typeface="Times New Roman"/>
              </a:rPr>
              <a:t>Задачи работы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88185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62000"/>
          </a:bodyPr>
          <a:p>
            <a:pPr marL="21240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ru-RU" sz="4400" spc="-1" strike="noStrike">
                <a:solidFill>
                  <a:srgbClr val="000000"/>
                </a:solidFill>
                <a:latin typeface="Verdana"/>
              </a:rPr>
              <a:t> Проанализировать генезис адвокатуры,как институ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Verdana"/>
              </a:rPr>
              <a:t>- Проследить динамику законодательства об адвокатур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Verdana"/>
              </a:rPr>
              <a:t>- Рассмотреть современную организацию структуры адвокатуры Р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Verdana"/>
              </a:rPr>
              <a:t>- Исследовать дискуссионные аспекты законодательства и организации работы адвокат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5000"/>
              </a:lnSpc>
              <a:spcAft>
                <a:spcPts val="3175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Verdana"/>
              </a:rPr>
              <a:t>- Подвести итог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9720" y="179280"/>
            <a:ext cx="86029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94006b"/>
                </a:solidFill>
                <a:latin typeface="Times New Roman"/>
              </a:rPr>
              <a:t>Актуальность исследования рефера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60360" y="2031480"/>
            <a:ext cx="93600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80"/>
                </a:solidFill>
                <a:latin typeface="Times New Roman"/>
              </a:rPr>
              <a:t>Прошло несколько лет со дня принятия закона «Об адвокатской деятельности и адвокатуре в Российской Федераци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80"/>
                </a:solidFill>
                <a:latin typeface="Times New Roman"/>
              </a:rPr>
              <a:t>Что изменилось в деятельности Адвокатуры Российской Федера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80"/>
                </a:solidFill>
                <a:latin typeface="Times New Roman"/>
              </a:rPr>
              <a:t>Решены ли с принятием закона «Об адвокатуре» и вступлении его в юридическую силу комплекс существовавших ранее пробле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80"/>
                </a:solidFill>
                <a:latin typeface="Times New Roman"/>
              </a:rPr>
              <a:t>Или Закон создал новые проблемы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80"/>
                </a:solidFill>
                <a:latin typeface="Times New Roman"/>
              </a:rPr>
              <a:t>Как можно охарактеризовать нынешнюю- современную адвокатур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6720" y="76320"/>
            <a:ext cx="8602920" cy="37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80099"/>
                </a:solidFill>
                <a:latin typeface="Times New Roman"/>
              </a:rPr>
              <a:t>Изучение мною истории российской адвокатуры призвано не просто удовлетворить естественное любопытство, но и выявить сложности, стоящие на пути этого института, определить принципы организации и деятельности адвокатуры в процессе её становления, показать их в динамике и увидеть их перспектив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19640" y="4319640"/>
            <a:ext cx="5040360" cy="306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55600" y="4140360"/>
            <a:ext cx="190512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0720" y="178920"/>
            <a:ext cx="860112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Выдвинулись и яркие личности в среде адвокатов: Спасович, Александров, Андреевский, Плевак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3600360"/>
            <a:ext cx="2857680" cy="3848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00720" y="3600360"/>
            <a:ext cx="3174840" cy="383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79640" y="3959280"/>
            <a:ext cx="8099280" cy="3419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9720" y="-1623960"/>
            <a:ext cx="8602920" cy="55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2600" spc="-1" strike="noStrike">
                <a:solidFill>
                  <a:srgbClr val="800000"/>
                </a:solidFill>
                <a:latin typeface="Times New Roman"/>
              </a:rPr>
              <a:t>Соглашение об оплате между адвокатом и клиентом принцип не новый, но если ранее соглашение было ориентировано на предельные ставки таксы, то теперь-на материальные возможности клиента и притязания конкретного адвоката. Это тоже нашло отражение в инструкции: «При оплате по соглашению гражданину принадлежит право выбора конкретного адвоката»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9720" y="0"/>
            <a:ext cx="86029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Сейчас разрабатывается президентский проект нового Закона об адвокатуре. Согласно основным его положениям юридическую помощь гражданам, защиту их права в суде должны осуществлять только адвокаты, объединенные в свою коллегию или ассоциацию, союз. В рамках субъекта федерации, как правило, будет действовать одна коллег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4500720"/>
            <a:ext cx="7237440" cy="306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9:45:43Z</dcterms:created>
  <dc:creator/>
  <dc:description/>
  <dc:language>en-US</dc:language>
  <cp:lastModifiedBy/>
  <cp:revision>1</cp:revision>
  <dc:subject/>
  <dc:title/>
</cp:coreProperties>
</file>