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E20F-5ADF-46F2-8A7D-275776DE1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7ACF-37EA-48B1-8729-6D104128F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7D78-9512-4525-ADED-59B4BAD2D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C236-247E-4964-9C93-0645D3BAE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90BF-35F4-4E7F-8853-2B1C82C2D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B2B3-BAE5-412F-B0FF-DE4A98E13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3409-D189-468C-8CC3-96A7F91C2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56F5-91E0-4F95-9E33-48C881FAE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6D9C-D394-4C16-A1D0-6E7AE1D46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5D9D-011E-4A09-8896-3D48B04C8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26E8-4D32-4C52-87EC-4EAEDD4A0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2B25-390D-4E8F-94F5-A683C4DB7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21FCB-D6E4-48BE-8F56-FA94E57D5FB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c00000"/>
                </a:solidFill>
                <a:latin typeface="Calibri"/>
              </a:rPr>
              <a:t>Внешняя </a:t>
            </a:r>
            <a:br>
              <a:rPr sz="8000"/>
            </a:br>
            <a:r>
              <a:rPr b="1" lang="ru-RU" sz="8000" spc="-1" strike="noStrike">
                <a:solidFill>
                  <a:srgbClr val="c00000"/>
                </a:solidFill>
                <a:latin typeface="Calibri"/>
              </a:rPr>
              <a:t>и внутренняя политика </a:t>
            </a:r>
            <a:br>
              <a:rPr sz="8000"/>
            </a:br>
            <a:r>
              <a:rPr b="1" lang="ru-RU" sz="8000" spc="-1" strike="noStrike">
                <a:solidFill>
                  <a:srgbClr val="c00000"/>
                </a:solidFill>
                <a:latin typeface="Calibri"/>
              </a:rPr>
              <a:t>Бориса Годунова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929040" y="5857560"/>
            <a:ext cx="521496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98989"/>
                </a:solidFill>
                <a:latin typeface="Calibri"/>
              </a:rPr>
              <a:t>Автор Гаврилюк Н .Р., учитель истории и обществознания, г. Кирово- Чепецк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504d"/>
                </a:solidFill>
                <a:latin typeface="Arial"/>
              </a:rPr>
              <a:t>Россия в конце </a:t>
            </a:r>
            <a:r>
              <a:rPr b="1" lang="en-US" sz="4800" spc="-1" strike="noStrike">
                <a:solidFill>
                  <a:srgbClr val="c0504d"/>
                </a:solidFill>
                <a:latin typeface="Arial"/>
              </a:rPr>
              <a:t>XVI </a:t>
            </a:r>
            <a:r>
              <a:rPr b="1" lang="ru-RU" sz="4800" spc="-1" strike="noStrike">
                <a:solidFill>
                  <a:srgbClr val="c0504d"/>
                </a:solidFill>
                <a:latin typeface="Arial"/>
              </a:rPr>
              <a:t>век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Содержимое 3" descr="mapa-216.jpg"/>
          <p:cNvPicPr/>
          <p:nvPr/>
        </p:nvPicPr>
        <p:blipFill>
          <a:blip r:embed="rId1"/>
          <a:stretch/>
        </p:blipFill>
        <p:spPr>
          <a:xfrm>
            <a:off x="581040" y="879480"/>
            <a:ext cx="7591320" cy="586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5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Calibri"/>
              </a:rPr>
              <a:t>3. </a:t>
            </a: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Внешняя политика Бориса Годунов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928800" y="1214280"/>
          <a:ext cx="7929360" cy="4071960"/>
        </p:xfrm>
        <a:graphic>
          <a:graphicData uri="http://schemas.openxmlformats.org/drawingml/2006/table">
            <a:tbl>
              <a:tblPr/>
              <a:tblGrid>
                <a:gridCol w="1822320"/>
                <a:gridCol w="2994120"/>
                <a:gridCol w="3112920"/>
              </a:tblGrid>
              <a:tr h="6876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8543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Направл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8543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сновные событ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8543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Итоги и последств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3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8543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Западно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8543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590-1593гг – Русско-шведская вой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8543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обеда России; возвращение территорий, захваченных шведами во время Ливонской войны: Ивангород, Ям, Копорье, Коре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8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8543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Восточно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8543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598 – подавлено сопротивление сибирского ха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8543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Западная Сибирь вошла в состав Росс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2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8543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Южно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8543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Укрепление системы обороны на юге Росс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8543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Успешное отражение набегов крымских тата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Rectangle 6"/>
          <p:cNvSpPr/>
          <p:nvPr/>
        </p:nvSpPr>
        <p:spPr>
          <a:xfrm flipV="1" rot="10800000">
            <a:off x="1143000" y="5409360"/>
            <a:ext cx="6858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Вывод: за время правления Бориса Годунова страна добилась значительных успехов во внешней политике: были восстановлены утраченные позиции на Балтике, присоединена Западная Сибирь и укреплены южные границ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0000"/>
                </a:solidFill>
                <a:latin typeface="Calibri"/>
              </a:rPr>
              <a:t>4. Смерть царевича Дмитрия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звестно, что Сибирь была местом ссылки политических заключенных.Начало ссылки было связано с делом об убийстве последнего сына Ивана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V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, царевича Дмитрия. По этому делу в Тобольск был сослан самый первый ссыльный, которому предварительно вырвали язык. Главный обвиняемый по делу царевича жив до сих пор – это – колокол, который возвестил о гибели царевич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Что же произошло в Угличе? Почему в смерти царевича Дмитрия обвинили  колокол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3" descr="K:\Гаврилюк Н.Р\N89UCAXAIJB3CAN28Q7ICAZN173QCABPBS9QCAWH1HIOCAR2A9IXCADG0WB0CAJPYVMFCAY7W73BCAPR6ZWDCACW24EVCA7KDNW0CAUH947SCA9A7FAGCA2IB7BICA06OD8XCA4JL4I2CAK199ATCAOOLYKN.jpg"/>
          <p:cNvPicPr/>
          <p:nvPr/>
        </p:nvPicPr>
        <p:blipFill>
          <a:blip r:embed="rId1"/>
          <a:stretch/>
        </p:blipFill>
        <p:spPr>
          <a:xfrm>
            <a:off x="36360" y="1386000"/>
            <a:ext cx="4497480" cy="51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00000"/>
                </a:solidFill>
                <a:latin typeface="Calibri"/>
              </a:rPr>
              <a:t>5. Царь Борис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1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ри каких обстоятельствах Борис Годунов был избран царем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1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Каково было отношение москвичей к избранному на царство Борису Годунов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Управляющая кнопка: далее 3"/>
          <p:cNvSpPr/>
          <p:nvPr/>
        </p:nvSpPr>
        <p:spPr>
          <a:xfrm>
            <a:off x="8072280" y="6072120"/>
            <a:ext cx="357480" cy="42876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428760"/>
              <a:gd name="textAreaBottom" fmla="*/ 405720 h 428760"/>
            </a:gdLst>
            <a:ahLst/>
            <a:rect l="textAreaLeft" t="textAreaTop" r="textAreaRight" b="textAreaBottom"/>
            <a:pathLst>
              <a:path w="21600" h="25903">
                <a:moveTo>
                  <a:pt x="0" y="0"/>
                </a:moveTo>
                <a:lnTo>
                  <a:pt x="21600" y="0"/>
                </a:lnTo>
                <a:lnTo>
                  <a:pt x="21600" y="25903"/>
                </a:lnTo>
                <a:lnTo>
                  <a:pt x="0" y="25903"/>
                </a:lnTo>
                <a:close/>
              </a:path>
              <a:path fill="lightenLess" w="21600" h="259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03">
                <a:moveTo>
                  <a:pt x="21600" y="0"/>
                </a:moveTo>
                <a:lnTo>
                  <a:pt x="21600" y="25903"/>
                </a:lnTo>
                <a:lnTo>
                  <a:pt x="20200" y="24503"/>
                </a:lnTo>
                <a:lnTo>
                  <a:pt x="20200" y="1400"/>
                </a:lnTo>
                <a:close/>
              </a:path>
              <a:path fill="darkenLess" w="21600" h="25903">
                <a:moveTo>
                  <a:pt x="21600" y="25903"/>
                </a:moveTo>
                <a:lnTo>
                  <a:pt x="0" y="25903"/>
                </a:lnTo>
                <a:lnTo>
                  <a:pt x="1400" y="24503"/>
                </a:lnTo>
                <a:lnTo>
                  <a:pt x="20200" y="24503"/>
                </a:lnTo>
                <a:close/>
              </a:path>
              <a:path fill="lighten" w="21600" h="25903">
                <a:moveTo>
                  <a:pt x="0" y="259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03"/>
                </a:lnTo>
                <a:close/>
              </a:path>
              <a:path fill="darken" w="21600" h="25903">
                <a:moveTo>
                  <a:pt x="3794" y="5945"/>
                </a:moveTo>
                <a:lnTo>
                  <a:pt x="17806" y="12951"/>
                </a:lnTo>
                <a:lnTo>
                  <a:pt x="3794" y="19958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63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Проблемный вопрос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504d"/>
                </a:solidFill>
                <a:latin typeface="Calibri"/>
              </a:rPr>
              <a:t>Правление Бориса Годунова по-разному оценивают историки, современники, поэты: одни восхищаются, другие негодую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504d"/>
                </a:solidFill>
                <a:latin typeface="Calibri"/>
              </a:rPr>
              <a:t>1.Как вы думаете, под впечатлением каких оценок родилось стихотворение Бальмонт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504d"/>
                </a:solidFill>
                <a:latin typeface="Calibri"/>
              </a:rPr>
              <a:t>2.Можно ли согласиться с мнением поэта?</a:t>
            </a:r>
            <a:r>
              <a:rPr b="1" lang="ru-RU" sz="3200" spc="-1" strike="noStrike">
                <a:solidFill>
                  <a:srgbClr val="c0504d"/>
                </a:solidFill>
                <a:latin typeface="Arial"/>
              </a:rPr>
              <a:t> Выскажите свою точку зр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504d"/>
                </a:solidFill>
                <a:latin typeface="Calibri"/>
              </a:rPr>
              <a:t>Тест</a:t>
            </a:r>
            <a:r>
              <a:rPr b="1" lang="ru-RU" sz="4400" spc="-1" strike="noStrike">
                <a:solidFill>
                  <a:srgbClr val="c0504d"/>
                </a:solidFill>
                <a:latin typeface="Arial"/>
              </a:rPr>
              <a:t>:</a:t>
            </a:r>
            <a:r>
              <a:rPr b="0" lang="ru-RU" sz="4400" spc="-1" strike="noStrike">
                <a:solidFill>
                  <a:srgbClr val="c0504d"/>
                </a:solidFill>
                <a:latin typeface="Arial"/>
              </a:rPr>
              <a:t> внешняя и внутренняя политика Бориса Годуно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93560" indent="-493560"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Что было основным направлением деятельности Бориса Годунова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А) преодоление последствий опричнин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Б) ликвидация крепостничеств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В) создание правового государств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. В результате внешнеполитической деятельности Бориса Годунова Росс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А) присоединила территории Причерноморь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Б) освободилась от золотоордынской зависим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) вернула территории, захваченные шведами во время Ливонской войн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3. Важнейшее событие времен царствования Федора Иванович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А) учреждение патриаршест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Б) перенесение столицы в Москв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) созыв Стоглавого собо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. Укажите последствия введения «урочных лет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А) развитие образова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Б) укрепление феодального землевлад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) уменьшение преступности в стран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6.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 результате пресечения династии Рюриковичей произошл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А) избрание Бориса Годунова на царств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Б) разделение страны на земщину и опричнин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) созыв первого Земского собо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504d"/>
                </a:solidFill>
                <a:latin typeface="Calibri"/>
              </a:rPr>
              <a:t>Чему я могу научиться сегодня </a:t>
            </a:r>
            <a:br>
              <a:rPr sz="4000"/>
            </a:br>
            <a:r>
              <a:rPr b="1" lang="ru-RU" sz="4000" spc="-1" strike="noStrike">
                <a:solidFill>
                  <a:srgbClr val="c0504d"/>
                </a:solidFill>
                <a:latin typeface="Calibri"/>
              </a:rPr>
              <a:t>на уроке?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1.Составлять таблицу «Внешняя политика Бориса Годунова»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2.Решать проблемно-познавательные задачи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3.Формулировать, высказывать и аргументировать свою точку зр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504d"/>
                </a:solidFill>
                <a:latin typeface="Calibri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очитать параграф №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исьменно ответить на проблемный вопро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оставить сообщение на тему «Борис Годунов. Исторический портрет» по алгоритм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добрать синонимы к слову «смута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Содержимое 3" descr="images.jpg"/>
          <p:cNvPicPr/>
          <p:nvPr/>
        </p:nvPicPr>
        <p:blipFill>
          <a:blip r:embed="rId1"/>
          <a:stretch/>
        </p:blipFill>
        <p:spPr>
          <a:xfrm>
            <a:off x="214200" y="571680"/>
            <a:ext cx="4734000" cy="5429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4928760" y="928800"/>
            <a:ext cx="40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В глухие дни Бориса  Годунов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Во мгле Российской пасмурной стран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Толпы людей скиталися без крова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А по ночам всходило две луны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На улицах иссохшие скелет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Щипали жадно чахлую траву, как скот - озверены и неодеты, и сны осуществили наяву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Гроба, отяжелевшие от гнили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Живым давали смрадный адский хлеб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Во рту у мертвых сено находил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И каждый дом был сумрачный вертеп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Среди людей блуждали смерть и злоба, узрев комету, дрогнула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И в эти дни Димитрий встал из гроба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В Отрепьева свой дух переселя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30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3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3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6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3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3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9000"/>
                            </p:stCondLst>
                            <p:childTnLst>
                              <p:par>
                                <p:cTn id="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3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3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2000"/>
                            </p:stCondLst>
                            <p:childTnLst>
                              <p:par>
                                <p:cTn id="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3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3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30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30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8000"/>
                            </p:stCondLst>
                            <p:childTnLst>
                              <p:par>
                                <p:cTn id="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0" fill="hold"/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0" fill="hold"/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50920" y="404640"/>
            <a:ext cx="8229600" cy="63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504d"/>
                </a:solidFill>
                <a:latin typeface="Arial"/>
              </a:rPr>
              <a:t>Проблемный вопрос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504d"/>
                </a:solidFill>
                <a:latin typeface="Calibri"/>
              </a:rPr>
              <a:t>Правление Бориса Годунова по-разному оценивают историки, современники, поэты: одни восхищаются, другие негодую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504d"/>
                </a:solidFill>
                <a:latin typeface="Calibri"/>
              </a:rPr>
              <a:t>1.Как вы думаете, под впечатлением каких оценок родилось стихотворение Бальмонт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504d"/>
                </a:solidFill>
                <a:latin typeface="Calibri"/>
              </a:rPr>
              <a:t>2.Можно ли согласиться с мнением поэта?</a:t>
            </a:r>
            <a:r>
              <a:rPr b="1" lang="en-US" sz="3200" spc="-1" strike="noStrike">
                <a:solidFill>
                  <a:srgbClr val="c0504d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504d"/>
                </a:solidFill>
                <a:latin typeface="Arial"/>
              </a:rPr>
              <a:t>Аргументируйте свою точку зр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504d"/>
                </a:solidFill>
                <a:latin typeface="Calibri"/>
              </a:rPr>
              <a:t>План изучения нового материала: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1.Борис Годунов в оценках современников, историков и классико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2.Внутренняя политика. Патриаршество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3.Внешняя политика Бориса Годунов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4.Смерть царевича Дмитрия (1591г.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5.Царь Борис Годунов (1598-1605гг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Содержимое 3" descr="ivan_IV.jpg"/>
          <p:cNvPicPr/>
          <p:nvPr/>
        </p:nvPicPr>
        <p:blipFill>
          <a:blip r:embed="rId1"/>
          <a:stretch/>
        </p:blipFill>
        <p:spPr>
          <a:xfrm>
            <a:off x="0" y="0"/>
            <a:ext cx="2857680" cy="401004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4" descr="U0HYCAM89H5YCAP72LC2CA2V7SCBCAJ0KU7QCAADXVBYCA8UEP9QCA3J10LXCAYN66N4CAMHOGQ4CAII6HMICAYCN4PRCAEH88S6CAQIXEHCCAIE4XR8CAS6XS9VCAFJ7GKOCAC1YLDBCAQP00RICA0OQNBD.jpg"/>
          <p:cNvPicPr/>
          <p:nvPr/>
        </p:nvPicPr>
        <p:blipFill>
          <a:blip r:embed="rId2"/>
          <a:stretch/>
        </p:blipFill>
        <p:spPr>
          <a:xfrm>
            <a:off x="3071880" y="1857240"/>
            <a:ext cx="2924280" cy="4005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C:\Users\Student\Documents\Гаврилюк Н.Р\images.jpg"/>
          <p:cNvPicPr/>
          <p:nvPr/>
        </p:nvPicPr>
        <p:blipFill>
          <a:blip r:embed="rId3"/>
          <a:stretch/>
        </p:blipFill>
        <p:spPr>
          <a:xfrm>
            <a:off x="6235560" y="0"/>
            <a:ext cx="2908440" cy="3929040"/>
          </a:xfrm>
          <a:prstGeom prst="rect">
            <a:avLst/>
          </a:prstGeom>
          <a:ln w="0">
            <a:noFill/>
          </a:ln>
        </p:spPr>
      </p:pic>
      <p:sp>
        <p:nvSpPr>
          <p:cNvPr id="55" name="TextBox 8"/>
          <p:cNvSpPr/>
          <p:nvPr/>
        </p:nvSpPr>
        <p:spPr>
          <a:xfrm>
            <a:off x="357120" y="4572000"/>
            <a:ext cx="20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Иван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V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Гроз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(1530-1584 г.г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9"/>
          <p:cNvSpPr/>
          <p:nvPr/>
        </p:nvSpPr>
        <p:spPr>
          <a:xfrm>
            <a:off x="3214800" y="6072120"/>
            <a:ext cx="26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Федор Ивано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(1584-1589 г.г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1"/>
          <p:cNvSpPr/>
          <p:nvPr/>
        </p:nvSpPr>
        <p:spPr>
          <a:xfrm>
            <a:off x="6715080" y="4286160"/>
            <a:ext cx="200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Борис Годун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(1589-1605г.г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1. Борис Годунов в оценках современников, историков и классико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50004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b050"/>
                </a:solidFill>
                <a:latin typeface="Calibri"/>
              </a:rPr>
              <a:t>Вчерашний раб, татарин, зять Малюты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b050"/>
                </a:solidFill>
                <a:latin typeface="Calibri"/>
              </a:rPr>
              <a:t>А.С.Пушкин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79646"/>
                </a:solidFill>
                <a:latin typeface="Calibri"/>
              </a:rPr>
              <a:t>Любимый кузен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79646"/>
                </a:solidFill>
                <a:latin typeface="Calibri"/>
              </a:rPr>
              <a:t>Королева Елизавет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b0f0"/>
                </a:solidFill>
                <a:latin typeface="Calibri"/>
              </a:rPr>
              <a:t>    </a:t>
            </a:r>
            <a:r>
              <a:rPr b="1" lang="ru-RU" sz="3000" spc="-1" strike="noStrike">
                <a:solidFill>
                  <a:srgbClr val="00b0f0"/>
                </a:solidFill>
                <a:latin typeface="Calibri"/>
              </a:rPr>
              <a:t>Годунов мог бы заслужить славу одного из лучших правителей мира, если бы родился на троне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b0f0"/>
                </a:solidFill>
                <a:latin typeface="Calibri"/>
              </a:rPr>
              <a:t>Н.М.Карамзин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Calibri"/>
              </a:rPr>
              <a:t>Лукавый раб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Calibri"/>
              </a:rPr>
              <a:t>Летописец 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 XVII</a:t>
            </a:r>
            <a:r>
              <a:rPr b="1" lang="ru-RU" sz="3000" spc="-1" strike="noStrike">
                <a:solidFill>
                  <a:srgbClr val="ff0000"/>
                </a:solidFill>
                <a:latin typeface="Calibri"/>
              </a:rPr>
              <a:t> в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504d"/>
                </a:solidFill>
                <a:latin typeface="Calibri"/>
              </a:rPr>
              <a:t>2. Внутренняя политика. Патриаршество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5" descr="rus1571"/>
          <p:cNvPicPr/>
          <p:nvPr/>
        </p:nvPicPr>
        <p:blipFill>
          <a:blip r:embed="rId1"/>
          <a:stretch/>
        </p:blipFill>
        <p:spPr>
          <a:xfrm>
            <a:off x="250920" y="1916280"/>
            <a:ext cx="6192720" cy="46782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Семиверхая угловая башня Белого города А_Васнецов"/>
          <p:cNvPicPr/>
          <p:nvPr/>
        </p:nvPicPr>
        <p:blipFill>
          <a:blip r:embed="rId2"/>
          <a:stretch/>
        </p:blipFill>
        <p:spPr>
          <a:xfrm>
            <a:off x="6516720" y="4143240"/>
            <a:ext cx="2394000" cy="1987560"/>
          </a:xfrm>
          <a:prstGeom prst="rect">
            <a:avLst/>
          </a:prstGeom>
          <a:ln w="57240">
            <a:solidFill>
              <a:srgbClr val="009900"/>
            </a:solidFill>
            <a:miter/>
          </a:ln>
        </p:spPr>
      </p:pic>
      <p:pic>
        <p:nvPicPr>
          <p:cNvPr id="64" name="Picture 4" descr="Ивангород-1"/>
          <p:cNvPicPr/>
          <p:nvPr/>
        </p:nvPicPr>
        <p:blipFill>
          <a:blip r:embed="rId3"/>
          <a:stretch/>
        </p:blipFill>
        <p:spPr>
          <a:xfrm>
            <a:off x="7213680" y="1557360"/>
            <a:ext cx="1701720" cy="2433600"/>
          </a:xfrm>
          <a:prstGeom prst="rect">
            <a:avLst/>
          </a:prstGeom>
          <a:ln w="57240">
            <a:solidFill>
              <a:srgbClr val="00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504d"/>
                </a:solidFill>
                <a:latin typeface="Arial"/>
              </a:rPr>
              <a:t>Учреждение патриаршеств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4000" y="21337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504d"/>
                </a:solidFill>
                <a:latin typeface="Arial"/>
              </a:rPr>
              <a:t>Патриарх И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51280" y="1600200"/>
            <a:ext cx="483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589г. – учрежден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атриаршество церковное управление во главе с патриархо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ервым русским патриархом был избран И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4" descr="Патриарх Иов-1"/>
          <p:cNvPicPr/>
          <p:nvPr/>
        </p:nvPicPr>
        <p:blipFill>
          <a:blip r:embed="rId1"/>
          <a:stretch/>
        </p:blipFill>
        <p:spPr>
          <a:xfrm>
            <a:off x="324000" y="1844640"/>
            <a:ext cx="3016080" cy="4176720"/>
          </a:xfrm>
          <a:prstGeom prst="rect">
            <a:avLst/>
          </a:prstGeom>
          <a:ln w="57240">
            <a:solidFill>
              <a:srgbClr val="00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1T09:26:40Z</dcterms:created>
  <dc:creator>Слушатель</dc:creator>
  <dc:description/>
  <dc:language>en-US</dc:language>
  <cp:lastModifiedBy>1</cp:lastModifiedBy>
  <dcterms:modified xsi:type="dcterms:W3CDTF">2011-09-12T18:00:40Z</dcterms:modified>
  <cp:revision>67</cp:revision>
  <dc:subject/>
  <dc:title>Внешняя и внутренняя политика Бориса Годунова</dc:title>
</cp:coreProperties>
</file>