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F81-E8D3-4D3F-B555-FA5B6D65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E4E-33DD-41F6-B46C-5E07D1ED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F59-A212-4273-BC87-BECCD681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C18-DC7B-4B4C-AEFD-D378EE4F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3BF-EDF3-4C21-878C-AC2FFB8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2B0-F17F-4EA3-A8E2-B6FE1180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502-07C2-4CA1-A5B4-FC64BC0F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AF2-E63B-4A88-9C09-CD69CBC4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A76-EECE-4588-9DB3-822CE977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7C2-7F26-4EEC-8BAF-5746575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CD3-8D60-42A6-8163-CD4071A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B0D-2053-4C83-B9FB-D00969F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96A8-BDD1-4422-84E5-A760D2ABD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Внешняя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и внутренняя политика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Бориса Годуно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9040" y="5857560"/>
            <a:ext cx="5214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Автор Гаврилюк Н .Р., учитель истории и обществознания, г. Кирово- Чепец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Россия в конце </a:t>
            </a: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XVI </a:t>
            </a: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ве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mapa-216.jpg"/>
          <p:cNvPicPr/>
          <p:nvPr/>
        </p:nvPicPr>
        <p:blipFill>
          <a:blip r:embed="rId1"/>
          <a:stretch/>
        </p:blipFill>
        <p:spPr>
          <a:xfrm>
            <a:off x="581040" y="879480"/>
            <a:ext cx="75913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3.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нешняя политика Бориса Году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28800" y="1214280"/>
          <a:ext cx="7929360" cy="4071960"/>
        </p:xfrm>
        <a:graphic>
          <a:graphicData uri="http://schemas.openxmlformats.org/drawingml/2006/table">
            <a:tbl>
              <a:tblPr/>
              <a:tblGrid>
                <a:gridCol w="1822320"/>
                <a:gridCol w="2994120"/>
                <a:gridCol w="3112920"/>
              </a:tblGrid>
              <a:tr h="68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ые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и и послед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ад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0-1593гг – Русско-шведская во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беда России; возвращение территорий, захваченных шведами во время Ливонской войны: Ивангород, Ям, Копорье, Ко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сточ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8 – подавлено сопротивление сибирского х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адная Сибирь вошла в состав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крепление системы обороны на юге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спешное отражение набегов крымских та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6"/>
          <p:cNvSpPr/>
          <p:nvPr/>
        </p:nvSpPr>
        <p:spPr>
          <a:xfrm flipV="1" rot="10800000">
            <a:off x="1143000" y="54093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вод: за время правления Бориса Годунова страна добилась значительных успехов во внешней политике: были восстановлены утраченные позиции на Балтике, присоединена Западная Сибирь и укреплены южные гран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4. Смерть царевича Дмит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вестно, что Сибирь была местом ссылки политических заключенных.Начало ссылки было связано с делом об убийстве последнего сына Ива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царевича Дмитрия. По этому делу в Тобольск был сослан самый первый ссыльный, которому предварительно вырвали язык. Главный обвиняемый по делу царевича жив до сих пор – это – колокол, который возвестил о гибели цареви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же произошло в Угличе? Почему в смерти царевича Дмитрия обвинили  колоко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K:\Гаврилюк Н.Р\N89UCAXAIJB3CAN28Q7ICAZN173QCABPBS9QCAWH1HIOCAR2A9IXCADG0WB0CAJPYVMFCAY7W73BCAPR6ZWDCACW24EVCA7KDNW0CAUH947SCA9A7FAGCA2IB7BICA06OD8XCA4JL4I2CAK199ATCAOOLYKN.jpg"/>
          <p:cNvPicPr/>
          <p:nvPr/>
        </p:nvPicPr>
        <p:blipFill>
          <a:blip r:embed="rId1"/>
          <a:stretch/>
        </p:blipFill>
        <p:spPr>
          <a:xfrm>
            <a:off x="36360" y="1386000"/>
            <a:ext cx="44974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5. Царь Бори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 каких обстоятельствах Борис Годунов был избран цар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ово было отношение москвичей к избранному на царство Борису Годун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далее 3"/>
          <p:cNvSpPr/>
          <p:nvPr/>
        </p:nvSpPr>
        <p:spPr>
          <a:xfrm>
            <a:off x="8072280" y="60721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блемный вопро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равление Бориса Годунова по-разному оценивают историки, современники, поэты: одни восхищаются, другие негод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1.Как вы думаете, под впечатлением каких оценок родилось стихотворение Бальмо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2.Можно ли согласиться с мнением поэта?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Выскажите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Тест</a:t>
            </a:r>
            <a:r>
              <a:rPr b="1" lang="ru-RU" sz="4400" spc="-1" strike="noStrike">
                <a:solidFill>
                  <a:srgbClr val="c0504d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 внешняя и внутренняя политика Бориса Году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было основным направлением деятельности Бориса Годун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) преодоление последствий опричн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) ликвидация крепостни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) создание правового государ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В результате внешнеполитической деятельности Бориса Годунова Ро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присоединила территории Причерномо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освободилась от золотоордынской зависи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вернула территории, захваченные шведами во время Ливонской вой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ажнейшее событие времен царствования Федора Иванов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учреждение патриарш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перенесение столицы в Мос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озыв Стоглавого со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Укажите последствия введения «урочных л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развитие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укрепление феодального землевла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уменьшение преступности в ст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результате пресечения династии Рюриковичей произош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избрание Бориса Годунова на ц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разделение страны на земщину и опричн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озыв первого Земского со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Чему я могу научиться сегодня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на уроке?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Составлять таблицу «Внешняя политика Бориса Годунова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шать проблемно-познавательные задач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Формулировать, высказывать и аргументировать свою точку з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читать параграф №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сьменно ответить на проблемный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сообщение на тему «Борис Годунов. Исторический портрет» по алгорит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обрать синонимы к слову «сму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images.jpg"/>
          <p:cNvPicPr/>
          <p:nvPr/>
        </p:nvPicPr>
        <p:blipFill>
          <a:blip r:embed="rId1"/>
          <a:stretch/>
        </p:blipFill>
        <p:spPr>
          <a:xfrm>
            <a:off x="214200" y="571680"/>
            <a:ext cx="473400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928760" y="9288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лухие дни Бориса  Годун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о мгле Российской пасмурной стра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олпы людей скиталися без кров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А по ночам всходило две л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 улицах иссохшие скел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Щипали жадно чахлую траву, как скот - озверены и неодеты, и сны осуществили наяв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Гроба, отяжелевшие от гни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Живым давали смрадный адский хлеб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о рту у мертвых сено находи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 каждый дом был сумрачный вертеп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реди людей блуждали смерть и злоба, узрев комету, дрогнул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 в эти дни Димитрий встал из гроб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Отрепьева свой дух перес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Проблемный вопро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равление Бориса Годунова по-разному оценивают историки, современники, поэты: одни восхищаются, другие негод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1.Как вы думаете, под впечатлением каких оценок родилось стихотворение Бальмо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2.Можно ли согласиться с мнением поэта?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ргументируйте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</a:rPr>
              <a:t>План изучения нового материал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Борис Годунов в оценках современников, историков и класс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Внутренняя политика. Патриарше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Внешняя политика Бориса Году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Смерть царевича Дмитрия (1591г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Царь Борис Годунов (1598-1605гг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van_IV.jpg"/>
          <p:cNvPicPr/>
          <p:nvPr/>
        </p:nvPicPr>
        <p:blipFill>
          <a:blip r:embed="rId1"/>
          <a:stretch/>
        </p:blipFill>
        <p:spPr>
          <a:xfrm>
            <a:off x="0" y="0"/>
            <a:ext cx="2857680" cy="4010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U0HYCAM89H5YCAP72LC2CA2V7SCBCAJ0KU7QCAADXVBYCA8UEP9QCA3J10LXCAYN66N4CAMHOGQ4CAII6HMICAYCN4PRCAEH88S6CAQIXEHCCAIE4XR8CAS6XS9VCAFJ7GKOCAC1YLDBCAQP00RICA0OQNBD.jpg"/>
          <p:cNvPicPr/>
          <p:nvPr/>
        </p:nvPicPr>
        <p:blipFill>
          <a:blip r:embed="rId2"/>
          <a:stretch/>
        </p:blipFill>
        <p:spPr>
          <a:xfrm>
            <a:off x="3071880" y="1857240"/>
            <a:ext cx="2924280" cy="40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Student\Documents\Гаврилюк Н.Р\images.jpg"/>
          <p:cNvPicPr/>
          <p:nvPr/>
        </p:nvPicPr>
        <p:blipFill>
          <a:blip r:embed="rId3"/>
          <a:stretch/>
        </p:blipFill>
        <p:spPr>
          <a:xfrm>
            <a:off x="6235560" y="0"/>
            <a:ext cx="2908440" cy="3929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57120" y="45720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30-1584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214800" y="6072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о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84-1589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715080" y="42861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рис Год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89-1605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. Борис Годунов в оценках современников, историков и класс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Вчерашний раб, татарин, зять Малю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А.С.Пушк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9646"/>
                </a:solidFill>
                <a:latin typeface="Calibri"/>
              </a:rPr>
              <a:t>Любимый куз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9646"/>
                </a:solidFill>
                <a:latin typeface="Calibri"/>
              </a:rPr>
              <a:t>Королева Елизав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Годунов мог бы заслужить славу одного из лучших правителей мира, если бы родился на трон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Н.М.Карамз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Лукавый ра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Летописец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XVII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</a:rPr>
              <a:t>2. Внутренняя политика. Патриаршеств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rus1571"/>
          <p:cNvPicPr/>
          <p:nvPr/>
        </p:nvPicPr>
        <p:blipFill>
          <a:blip r:embed="rId1"/>
          <a:stretch/>
        </p:blipFill>
        <p:spPr>
          <a:xfrm>
            <a:off x="250920" y="1916280"/>
            <a:ext cx="6192720" cy="467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Семиверхая угловая башня Белого города А_Васнецов"/>
          <p:cNvPicPr/>
          <p:nvPr/>
        </p:nvPicPr>
        <p:blipFill>
          <a:blip r:embed="rId2"/>
          <a:stretch/>
        </p:blipFill>
        <p:spPr>
          <a:xfrm>
            <a:off x="6516720" y="4143240"/>
            <a:ext cx="2394000" cy="1987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64" name="Picture 4" descr="Ивангород-1"/>
          <p:cNvPicPr/>
          <p:nvPr/>
        </p:nvPicPr>
        <p:blipFill>
          <a:blip r:embed="rId3"/>
          <a:stretch/>
        </p:blipFill>
        <p:spPr>
          <a:xfrm>
            <a:off x="7213680" y="1557360"/>
            <a:ext cx="1701720" cy="24336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Arial"/>
              </a:rPr>
              <a:t>Учреждение патриарше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Патриарх И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89г. – учрежд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риаршество церковное управление во главе с патриарх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м русским патриархом был избран И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Патриарх Иов-1"/>
          <p:cNvPicPr/>
          <p:nvPr/>
        </p:nvPicPr>
        <p:blipFill>
          <a:blip r:embed="rId1"/>
          <a:stretch/>
        </p:blipFill>
        <p:spPr>
          <a:xfrm>
            <a:off x="324000" y="1844640"/>
            <a:ext cx="3016080" cy="41767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9:26:40Z</dcterms:created>
  <dc:creator>Слушатель</dc:creator>
  <dc:description/>
  <dc:language>en-US</dc:language>
  <cp:lastModifiedBy>1</cp:lastModifiedBy>
  <dcterms:modified xsi:type="dcterms:W3CDTF">2011-09-12T18:00:40Z</dcterms:modified>
  <cp:revision>67</cp:revision>
  <dc:subject/>
  <dc:title>Внешняя и внутренняя политика Бориса Годунова</dc:title>
</cp:coreProperties>
</file>