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7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5.gif" ContentType="image/gif"/>
  <Override PartName="/ppt/media/image28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14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954-5DCD-4C23-84FB-1DF790831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5394-635A-47E3-821B-8A9C01E53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0B5-5192-4EB2-8631-FFAAAE2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98E-DD5F-417E-A448-644BD70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1B4-2D48-48C7-A8EF-7AAC920B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FE4-045E-4C5B-A4F0-3445FBFA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1FA-6A40-4343-B64F-401F2B05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ABE-B38F-469E-913D-D88C711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471-DF59-40BF-92FD-E9E5E7A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77F4-461E-412D-821D-B79D7D8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FFDE-8BEA-44C2-9B0B-522C7E6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BD2-80E6-442C-8793-FDA6863F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009-BC39-4B65-945D-6CA0FDC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F41-F10A-4488-A86F-B93BA462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D16-3233-4FBE-B7A8-AB975D2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ACF-34B9-4798-8825-1BD3629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6F1F-14F4-452E-ADDC-BE1A998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662-FF9E-4880-AEAA-F34712FA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2EF-ACEE-4543-825F-E76A9EB1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A850-E924-4654-AABC-EC892C08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E7A9-CFE4-41EB-ACAE-7990F8E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BF11-B02B-46EA-B922-6587901A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24B6-B7A4-41D8-B72F-14091E6D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C5E3-E84D-496D-9F22-630485D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2EC-5F87-4337-9D0B-3E45C57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8F64-5593-43E4-B01D-206821B3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D535-DD3B-4CA5-B5F9-0815FF0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C1A1-991C-4892-A243-CED189C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18A9-E67D-44FD-8C2A-56A9872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729E-7646-4384-98C4-1661640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2B04-1DA7-4F0A-94AF-EFCF3DF4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8258-835D-4680-9473-D7884070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EDD2-E617-4894-8B2D-7DD33273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275E-ECD2-4DE1-9F8D-0E308E6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1D24-E713-407C-9D82-9D84F2A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77D-4E6E-4DA6-AF26-275826DB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C35D-4A72-45EA-9A3E-57F4500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CA41-D323-488B-9FCB-355D17B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1B13-DF6B-46F9-B190-6A4FF55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3381-ECDC-4483-8D12-E43F689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F581-0396-4AFC-94F5-0797EB8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0012-85E2-4A50-9BD5-7A5BE2D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2233-4A2A-441A-B93E-DB1C57D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45E4-DE75-4CA5-BA50-839BAC79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7DBE-C092-4778-9908-D6574BFB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4A8D-46DB-4F8F-BC56-F4230324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D0D-3698-4D4F-8E7B-80169C4C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95CA-349C-4590-A8FE-ABE9271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5ECE9-BC95-4217-8D71-2B0533F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34D7-6301-463E-BF88-EC1A77C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677FC-4D86-417A-AD7B-3160371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7EB85-A906-4F18-9D0B-865B533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34C5-8C85-46E5-9599-6EF6D38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CB07-63E8-4533-858E-C4ADDA5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3496-F9E8-4B5C-8E89-D0F7EB5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97A5-7E0D-49EC-AC69-344408D7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6D1E-7271-41D0-ACF0-D19807D9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2C0-9119-4016-86B9-CAD840D7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44AD-68E0-4512-A1C0-D986BE3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F77-2BEF-4E9C-BBE5-E97E98A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D40-BFFE-4F40-83E2-79675F3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E92-37D0-44A0-9527-D366D25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C11-5337-41F1-9C23-DDA883F771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2719-227F-41FC-A464-771ADC9D33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773-7105-4E99-BA3B-0832008E84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009-57A2-4B12-905E-0CA8D06AF8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1A3-C2F6-4D28-8C39-CFC24785AE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image" Target="../media/image8.png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11.xml"/><Relationship Id="rId13" Type="http://schemas.openxmlformats.org/officeDocument/2006/relationships/image" Target="../media/image8.png"/><Relationship Id="rId14" Type="http://schemas.openxmlformats.org/officeDocument/2006/relationships/slide" Target="slide12.xml"/><Relationship Id="rId15" Type="http://schemas.openxmlformats.org/officeDocument/2006/relationships/image" Target="../media/image8.png"/><Relationship Id="rId16" Type="http://schemas.openxmlformats.org/officeDocument/2006/relationships/slide" Target="slide14.xml"/><Relationship Id="rId17" Type="http://schemas.openxmlformats.org/officeDocument/2006/relationships/image" Target="../media/image8.png"/><Relationship Id="rId18" Type="http://schemas.openxmlformats.org/officeDocument/2006/relationships/slide" Target="slide15.xml"/><Relationship Id="rId19" Type="http://schemas.openxmlformats.org/officeDocument/2006/relationships/slide" Target="slide15.xml"/><Relationship Id="rId20" Type="http://schemas.openxmlformats.org/officeDocument/2006/relationships/image" Target="../media/image8.png"/><Relationship Id="rId21" Type="http://schemas.openxmlformats.org/officeDocument/2006/relationships/slide" Target="slide16.xml"/><Relationship Id="rId22" Type="http://schemas.openxmlformats.org/officeDocument/2006/relationships/image" Target="../media/image8.png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image" Target="../media/image9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3.xml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3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одзаголовок 2" descr=""/>
          <p:cNvPicPr/>
          <p:nvPr/>
        </p:nvPicPr>
        <p:blipFill>
          <a:blip r:embed="rId1"/>
          <a:stretch/>
        </p:blipFill>
        <p:spPr>
          <a:xfrm>
            <a:off x="1195560" y="3084480"/>
            <a:ext cx="7027560" cy="21463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249200" y="1219320"/>
            <a:ext cx="6462720" cy="18777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152640" y="5153760"/>
            <a:ext cx="208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выполни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класса «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ОШ №1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рина Ма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7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ата 6"/>
          <p:cNvSpPr/>
          <p:nvPr/>
        </p:nvSpPr>
        <p:spPr>
          <a:xfrm>
            <a:off x="7786800" y="142920"/>
            <a:ext cx="104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AC9-1509-445E-86FA-36D5F847329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Mini_Estrik\Desktop\PottingSoilWithSeedling.jpg"/>
          <p:cNvPicPr/>
          <p:nvPr/>
        </p:nvPicPr>
        <p:blipFill>
          <a:blip r:embed="rId1"/>
          <a:stretch/>
        </p:blipFill>
        <p:spPr>
          <a:xfrm>
            <a:off x="555480" y="625320"/>
            <a:ext cx="2476800" cy="164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3"/>
          <p:cNvSpPr/>
          <p:nvPr/>
        </p:nvSpPr>
        <p:spPr>
          <a:xfrm>
            <a:off x="3254400" y="39528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будители столбняка, ботулизма, газовой гангрены, некоторых грибковых заболе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рганизм человека могут попасть при повреждении кожных покровов, с немытыми продуктами питания, при нарушении правил гигие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758880" y="2529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рязненные источники воды стали причиной эпидемий холеры, брюшного тифа, дизенте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4211640" y="4341960"/>
            <a:ext cx="441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ражение происходит через дыхательные пути при вдыхании воздуха. Болезни: грипп, коклюш, свинка, дифтерия, корь и другие. Возбудители болезней попадаю в воздух при кашле, чихании и даже при разговоре больных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Прямая соединительная линия 6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1400760" y="4046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10"/>
          <p:cNvSpPr/>
          <p:nvPr/>
        </p:nvSpPr>
        <p:spPr>
          <a:xfrm>
            <a:off x="5842800" y="209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ы: реки, озера, пру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11"/>
          <p:cNvSpPr/>
          <p:nvPr/>
        </p:nvSpPr>
        <p:spPr>
          <a:xfrm>
            <a:off x="311760" y="443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3" descr="C:\Users\Mini_Estrik\Desktop\6a00d8341c858253ef00e5504bb45b8834-640wi.jpg"/>
          <p:cNvPicPr/>
          <p:nvPr/>
        </p:nvPicPr>
        <p:blipFill>
          <a:blip r:embed="rId2"/>
          <a:stretch/>
        </p:blipFill>
        <p:spPr>
          <a:xfrm>
            <a:off x="5791320" y="2395440"/>
            <a:ext cx="271944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Users\Mini_Estrik\Desktop\ecology2a.JPG"/>
          <p:cNvPicPr/>
          <p:nvPr/>
        </p:nvPicPr>
        <p:blipFill>
          <a:blip r:embed="rId3"/>
          <a:srcRect l="1820" t="-774" r="52109" b="15924"/>
          <a:stretch/>
        </p:blipFill>
        <p:spPr>
          <a:xfrm>
            <a:off x="1547640" y="4000680"/>
            <a:ext cx="2303640" cy="23493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ая соединительная линия 13"/>
          <p:cNvSpPr/>
          <p:nvPr/>
        </p:nvSpPr>
        <p:spPr>
          <a:xfrm>
            <a:off x="108000" y="2401920"/>
            <a:ext cx="554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15"/>
          <p:cNvSpPr/>
          <p:nvPr/>
        </p:nvSpPr>
        <p:spPr>
          <a:xfrm flipV="1">
            <a:off x="5651640" y="2090880"/>
            <a:ext cx="0" cy="31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7"/>
          <p:cNvSpPr/>
          <p:nvPr/>
        </p:nvSpPr>
        <p:spPr>
          <a:xfrm>
            <a:off x="5651640" y="2090880"/>
            <a:ext cx="3384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19"/>
          <p:cNvSpPr/>
          <p:nvPr/>
        </p:nvSpPr>
        <p:spPr>
          <a:xfrm>
            <a:off x="108000" y="3860640"/>
            <a:ext cx="424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21"/>
          <p:cNvSpPr/>
          <p:nvPr/>
        </p:nvSpPr>
        <p:spPr>
          <a:xfrm>
            <a:off x="4356000" y="3860640"/>
            <a:ext cx="0" cy="47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ая соединительная линия 23"/>
          <p:cNvSpPr/>
          <p:nvPr/>
        </p:nvSpPr>
        <p:spPr>
          <a:xfrm>
            <a:off x="4356000" y="4335480"/>
            <a:ext cx="4680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Управляющая кнопка: в начало 26">
            <a:hlinkClick r:id="rId4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Mini_Estrik\Desktop\13.gif"/>
          <p:cNvPicPr/>
          <p:nvPr/>
        </p:nvPicPr>
        <p:blipFill>
          <a:blip r:embed="rId1"/>
          <a:stretch/>
        </p:blipFill>
        <p:spPr>
          <a:xfrm>
            <a:off x="87480" y="1211400"/>
            <a:ext cx="8928000" cy="31716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456760" y="6404040"/>
            <a:ext cx="309240" cy="333360"/>
          </a:xfrm>
          <a:custGeom>
            <a:avLst/>
            <a:gdLst>
              <a:gd name="textAreaLeft" fmla="*/ 19800 w 309240"/>
              <a:gd name="textAreaRight" fmla="*/ 289440 w 30924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83">
                <a:moveTo>
                  <a:pt x="0" y="0"/>
                </a:moveTo>
                <a:lnTo>
                  <a:pt x="21600" y="0"/>
                </a:lnTo>
                <a:lnTo>
                  <a:pt x="21600" y="23283"/>
                </a:lnTo>
                <a:lnTo>
                  <a:pt x="0" y="23283"/>
                </a:lnTo>
                <a:close/>
              </a:path>
              <a:path fill="lightenLess" w="21600" h="23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3">
                <a:moveTo>
                  <a:pt x="21600" y="0"/>
                </a:moveTo>
                <a:lnTo>
                  <a:pt x="21600" y="23283"/>
                </a:lnTo>
                <a:lnTo>
                  <a:pt x="20200" y="21883"/>
                </a:lnTo>
                <a:lnTo>
                  <a:pt x="20200" y="1400"/>
                </a:lnTo>
                <a:close/>
              </a:path>
              <a:path fill="darkenLess" w="21600" h="23283">
                <a:moveTo>
                  <a:pt x="21600" y="23283"/>
                </a:moveTo>
                <a:lnTo>
                  <a:pt x="0" y="23283"/>
                </a:lnTo>
                <a:lnTo>
                  <a:pt x="1400" y="21883"/>
                </a:lnTo>
                <a:lnTo>
                  <a:pt x="20200" y="21883"/>
                </a:lnTo>
                <a:close/>
              </a:path>
              <a:path fill="lighten" w="21600" h="23283">
                <a:moveTo>
                  <a:pt x="0" y="23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3"/>
                </a:lnTo>
                <a:close/>
              </a:path>
              <a:path fill="darken" w="21600" h="23283">
                <a:moveTo>
                  <a:pt x="3794" y="11641"/>
                </a:moveTo>
                <a:lnTo>
                  <a:pt x="17806" y="4635"/>
                </a:lnTo>
                <a:lnTo>
                  <a:pt x="17806" y="1864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2568600" y="25560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звуков на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1692360" y="104760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у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механические колебания внешней среды, которые воспринимаются слуховым аппаратом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т 16 до 20 000 колебаний в секунду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громкие звуки, слившиеся в нестройное звуч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Прямоугольник 8"/>
          <p:cNvGrpSpPr/>
          <p:nvPr/>
        </p:nvGrpSpPr>
        <p:grpSpPr>
          <a:xfrm>
            <a:off x="6388200" y="1523880"/>
            <a:ext cx="2517840" cy="1597320"/>
            <a:chOff x="6388200" y="1523880"/>
            <a:chExt cx="2517840" cy="1597320"/>
          </a:xfrm>
        </p:grpSpPr>
        <p:pic>
          <p:nvPicPr>
            <p:cNvPr id="35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6388200" y="1523880"/>
              <a:ext cx="2517840" cy="15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443640" y="1571760"/>
              <a:ext cx="2405160" cy="14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лебания большей частоты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льтразвук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еньшей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развук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8" name=""/>
          <p:cNvGraphicFramePr/>
          <p:nvPr/>
        </p:nvGraphicFramePr>
        <p:xfrm>
          <a:off x="2720880" y="3789360"/>
          <a:ext cx="6096240" cy="2122560"/>
        </p:xfrm>
        <a:graphic>
          <a:graphicData uri="http://schemas.openxmlformats.org/drawingml/2006/table">
            <a:tbl>
              <a:tblPr/>
              <a:tblGrid>
                <a:gridCol w="1679760"/>
                <a:gridCol w="441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шума Д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и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 безвреден для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ая гра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у  человека болевое ощу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ится для него непереноси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grpSp>
        <p:nvGrpSpPr>
          <p:cNvPr id="359" name="Загнутый угол 1"/>
          <p:cNvGrpSpPr/>
          <p:nvPr/>
        </p:nvGrpSpPr>
        <p:grpSpPr>
          <a:xfrm>
            <a:off x="480960" y="4614840"/>
            <a:ext cx="2176560" cy="1614600"/>
            <a:chOff x="480960" y="4614840"/>
            <a:chExt cx="2176560" cy="1614600"/>
          </a:xfrm>
        </p:grpSpPr>
        <p:pic>
          <p:nvPicPr>
            <p:cNvPr id="360" name="Загнутый угол 1" descr=""/>
            <p:cNvPicPr/>
            <p:nvPr/>
          </p:nvPicPr>
          <p:blipFill>
            <a:blip r:embed="rId3"/>
            <a:stretch/>
          </p:blipFill>
          <p:spPr>
            <a:xfrm>
              <a:off x="480960" y="4614840"/>
              <a:ext cx="217656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38200" y="4711680"/>
              <a:ext cx="20160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чень шумная современная музыка притупляет слух, вызывает нервные заболевания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Picture 5" descr="C:\Users\Mini_Estrik\AppData\Local\Microsoft\Windows\Temporary Internet Files\Content.IE5\M0BTELDS\MC900299325[1].wmf"/>
          <p:cNvPicPr/>
          <p:nvPr/>
        </p:nvPicPr>
        <p:blipFill>
          <a:blip r:embed="rId4"/>
          <a:stretch/>
        </p:blipFill>
        <p:spPr>
          <a:xfrm>
            <a:off x="87480" y="3933720"/>
            <a:ext cx="90324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1667520" y="189000"/>
            <a:ext cx="58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ода и самочувствие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1"/>
          <p:cNvSpPr/>
          <p:nvPr/>
        </p:nvSpPr>
        <p:spPr>
          <a:xfrm>
            <a:off x="430200" y="1460520"/>
            <a:ext cx="58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орит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множество ритмических процессов в организме (ритмы работы сердца, дыхания, биоэлектрической активности мозг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2403720" y="8222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очные ритмы и биорит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312840" y="2571840"/>
            <a:ext cx="2663640" cy="131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изменений в суточных ритмах позволяет выявить возникновение некоторых заболеваний на самых ранних стад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C:\Users\Mini_Estrik\Desktop\document_1567_tree.jpg"/>
          <p:cNvPicPr/>
          <p:nvPr/>
        </p:nvPicPr>
        <p:blipFill>
          <a:blip r:embed="rId1"/>
          <a:stretch/>
        </p:blipFill>
        <p:spPr>
          <a:xfrm>
            <a:off x="6294600" y="1514520"/>
            <a:ext cx="23716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8"/>
          <p:cNvSpPr/>
          <p:nvPr/>
        </p:nvSpPr>
        <p:spPr>
          <a:xfrm>
            <a:off x="3255840" y="382752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т и здоро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10"/>
          <p:cNvSpPr/>
          <p:nvPr/>
        </p:nvSpPr>
        <p:spPr>
          <a:xfrm>
            <a:off x="108000" y="394812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ая соединительная линия 12"/>
          <p:cNvSpPr/>
          <p:nvPr/>
        </p:nvSpPr>
        <p:spPr>
          <a:xfrm flipV="1">
            <a:off x="3132000" y="3629160"/>
            <a:ext cx="0" cy="318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14"/>
          <p:cNvSpPr/>
          <p:nvPr/>
        </p:nvSpPr>
        <p:spPr>
          <a:xfrm>
            <a:off x="3132000" y="3629160"/>
            <a:ext cx="2880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16"/>
          <p:cNvSpPr/>
          <p:nvPr/>
        </p:nvSpPr>
        <p:spPr>
          <a:xfrm>
            <a:off x="6012000" y="3629160"/>
            <a:ext cx="0" cy="1602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18"/>
          <p:cNvSpPr/>
          <p:nvPr/>
        </p:nvSpPr>
        <p:spPr>
          <a:xfrm>
            <a:off x="6012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19"/>
          <p:cNvSpPr/>
          <p:nvPr/>
        </p:nvSpPr>
        <p:spPr>
          <a:xfrm>
            <a:off x="2976480" y="4597560"/>
            <a:ext cx="55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зародились основы научного направления в медицине о влиянии климатических факторов на здоровье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20"/>
          <p:cNvSpPr/>
          <p:nvPr/>
        </p:nvSpPr>
        <p:spPr>
          <a:xfrm>
            <a:off x="464760" y="5856120"/>
            <a:ext cx="85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725 год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изучения влияния климата, сезонов и погоды на человека в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3" descr="C:\Users\Mini_Estrik\Desktop\56158420_146269m.jpg"/>
          <p:cNvPicPr/>
          <p:nvPr/>
        </p:nvPicPr>
        <p:blipFill>
          <a:blip r:embed="rId2"/>
          <a:stretch/>
        </p:blipFill>
        <p:spPr>
          <a:xfrm>
            <a:off x="320760" y="4260960"/>
            <a:ext cx="241308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3060000" y="2541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ИЯНИЕ ПО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Прямая со стрелкой 10"/>
          <p:cNvCxnSpPr>
            <a:stCxn id="382" idx="1"/>
          </p:cNvCxnSpPr>
          <p:nvPr/>
        </p:nvCxnSpPr>
        <p:spPr>
          <a:xfrm flipH="1">
            <a:off x="2423880" y="437760"/>
            <a:ext cx="635760" cy="392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84" name="Прямая со стрелкой 12"/>
          <p:cNvCxnSpPr>
            <a:stCxn id="382" idx="3"/>
          </p:cNvCxnSpPr>
          <p:nvPr/>
        </p:nvCxnSpPr>
        <p:spPr>
          <a:xfrm>
            <a:off x="5375160" y="438120"/>
            <a:ext cx="635760" cy="4118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85" name="TextBox 15"/>
          <p:cNvSpPr/>
          <p:nvPr/>
        </p:nvSpPr>
        <p:spPr>
          <a:xfrm>
            <a:off x="1537560" y="84924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6014520" y="8492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с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Прямая соединительная линия 25"/>
          <p:cNvSpPr/>
          <p:nvPr/>
        </p:nvSpPr>
        <p:spPr>
          <a:xfrm>
            <a:off x="4427640" y="976320"/>
            <a:ext cx="0" cy="58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ая соединительная линия 26"/>
          <p:cNvSpPr/>
          <p:nvPr/>
        </p:nvSpPr>
        <p:spPr>
          <a:xfrm>
            <a:off x="4427640" y="1706400"/>
            <a:ext cx="0" cy="57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4427640" y="2492280"/>
            <a:ext cx="0" cy="58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Прямоугольник 31"/>
          <p:cNvSpPr/>
          <p:nvPr/>
        </p:nvSpPr>
        <p:spPr>
          <a:xfrm>
            <a:off x="324000" y="145080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азывает влияние на кровоснабжение кожных покровов, дыхательну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дечно - сосудистую систему и потооделительную сист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Прямоугольник 32"/>
          <p:cNvSpPr/>
          <p:nvPr/>
        </p:nvSpPr>
        <p:spPr>
          <a:xfrm>
            <a:off x="5103720" y="1463760"/>
            <a:ext cx="333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азывает влияние на выживаемость и жизненный цикл возбудителей и переносчиков инфекционных и паразитарных заболева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2" descr="C:\Users\Mini_Estrik\Desktop\62925.jpg"/>
          <p:cNvPicPr/>
          <p:nvPr/>
        </p:nvPicPr>
        <p:blipFill>
          <a:blip r:embed="rId1"/>
          <a:srcRect l="21251" t="5725" r="20495" b="5636"/>
          <a:stretch/>
        </p:blipFill>
        <p:spPr>
          <a:xfrm>
            <a:off x="6924600" y="3860640"/>
            <a:ext cx="1892520" cy="186552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34"/>
          <p:cNvSpPr/>
          <p:nvPr/>
        </p:nvSpPr>
        <p:spPr>
          <a:xfrm>
            <a:off x="773280" y="3944880"/>
            <a:ext cx="523692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дольше организм изолирован от внешних климатических факторов и находится в комфортных ли субкомфортных условиях микроклимата помещения, тем больше снижаются его приспособительные реакции к постоянно изменяющимся погодным параметр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Управляющая кнопка: в начало 35"/>
          <p:cNvSpPr/>
          <p:nvPr/>
        </p:nvSpPr>
        <p:spPr>
          <a:xfrm>
            <a:off x="807228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7301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5456" y="4571"/>
                </a:lnTo>
                <a:lnTo>
                  <a:pt x="5456" y="18584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3"/>
          <p:cNvSpPr/>
          <p:nvPr/>
        </p:nvSpPr>
        <p:spPr>
          <a:xfrm>
            <a:off x="2263680" y="40788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та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Прямая соединительная линия 4"/>
          <p:cNvSpPr/>
          <p:nvPr/>
        </p:nvSpPr>
        <p:spPr>
          <a:xfrm>
            <a:off x="108000" y="638172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556480" y="6404040"/>
            <a:ext cx="311400" cy="3315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1560"/>
              <a:gd name="textAreaBottom" fmla="*/ 311400 h 331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3794" y="11498"/>
                </a:moveTo>
                <a:lnTo>
                  <a:pt x="17806" y="4492"/>
                </a:lnTo>
                <a:lnTo>
                  <a:pt x="17806" y="185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" descr="C:\Users\Mini_Estrik\Pictures\Анимашки!!!)))\ЧеЛоВеЧеСкИе!!!)))\МуЖсКиЕ!!!)))\Doc_writinginchart.gif"/>
          <p:cNvPicPr/>
          <p:nvPr/>
        </p:nvPicPr>
        <p:blipFill>
          <a:blip r:embed="rId1"/>
          <a:stretch/>
        </p:blipFill>
        <p:spPr>
          <a:xfrm>
            <a:off x="328680" y="407880"/>
            <a:ext cx="1233360" cy="16956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7"/>
          <p:cNvSpPr/>
          <p:nvPr/>
        </p:nvSpPr>
        <p:spPr>
          <a:xfrm>
            <a:off x="2214720" y="1125360"/>
            <a:ext cx="492120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и утверждают, чт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ценное рациональное пит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ажное условие сохранения здоровья и высокой работоспособности взрослых, а для детей еще и необходимое условие роста и разви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4" descr="C:\Users\Mini_Estrik\AppData\Local\Microsoft\Windows\Temporary Internet Files\Content.IE5\M0BTELDS\MC900282176[1].wmf"/>
          <p:cNvPicPr/>
          <p:nvPr/>
        </p:nvPicPr>
        <p:blipFill>
          <a:blip r:embed="rId2"/>
          <a:stretch/>
        </p:blipFill>
        <p:spPr>
          <a:xfrm>
            <a:off x="7711920" y="500040"/>
            <a:ext cx="9018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401" name="Прямоугольник 8"/>
          <p:cNvGrpSpPr/>
          <p:nvPr/>
        </p:nvGrpSpPr>
        <p:grpSpPr>
          <a:xfrm>
            <a:off x="201600" y="2835360"/>
            <a:ext cx="3700440" cy="1346040"/>
            <a:chOff x="201600" y="2835360"/>
            <a:chExt cx="3700440" cy="1346040"/>
          </a:xfrm>
        </p:grpSpPr>
        <p:pic>
          <p:nvPicPr>
            <p:cNvPr id="40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201600" y="2835360"/>
              <a:ext cx="3700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16000" y="2846520"/>
              <a:ext cx="367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ля нормального роста, развития и поддержания жизнедеятельности организму необходимы белки, жиры, углеводы, витамины и минеральные соли в нужном ему количестве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Прямоугольник 9"/>
          <p:cNvGrpSpPr/>
          <p:nvPr/>
        </p:nvGrpSpPr>
        <p:grpSpPr>
          <a:xfrm>
            <a:off x="4857840" y="2835360"/>
            <a:ext cx="3987720" cy="1346040"/>
            <a:chOff x="4857840" y="2835360"/>
            <a:chExt cx="3987720" cy="1346040"/>
          </a:xfrm>
        </p:grpSpPr>
        <p:pic>
          <p:nvPicPr>
            <p:cNvPr id="405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857840" y="2835360"/>
              <a:ext cx="398772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873680" y="2846520"/>
              <a:ext cx="3962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егулярное переедание, потребление избыточного количества углеводов и жиров - причина развития таких болезней обмена веществ, как ожирение и сахарный диабет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6" descr="C:\Users\Mini_Estrik\Desktop\eda1.jpg"/>
          <p:cNvPicPr/>
          <p:nvPr/>
        </p:nvPicPr>
        <p:blipFill>
          <a:blip r:embed="rId5"/>
          <a:srcRect l="0" t="15919" r="0" b="15218"/>
          <a:stretch/>
        </p:blipFill>
        <p:spPr>
          <a:xfrm>
            <a:off x="138240" y="4454640"/>
            <a:ext cx="3827160" cy="1881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10"/>
          <p:cNvSpPr/>
          <p:nvPr/>
        </p:nvSpPr>
        <p:spPr>
          <a:xfrm>
            <a:off x="4295880" y="4808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ие продукты питания оказывают бактерицидные действия, подавляя рост и развитие различных микроорганиз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2948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6"/>
          <p:cNvSpPr/>
          <p:nvPr/>
        </p:nvSpPr>
        <p:spPr>
          <a:xfrm>
            <a:off x="1546200" y="112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ающий ландшафт может оказывать различное воздействие на психоэмоциональное состоя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817560" y="31428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 как фактор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рямоугольник 1"/>
          <p:cNvSpPr/>
          <p:nvPr/>
        </p:nvSpPr>
        <p:spPr>
          <a:xfrm>
            <a:off x="4624560" y="302580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рода повышает жизненный тонус, успокаивает нервы. Одним из сильных воздействий на здоровье обладает лес, особенно лесной возду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Прямоугольник 2"/>
          <p:cNvGrpSpPr/>
          <p:nvPr/>
        </p:nvGrpSpPr>
        <p:grpSpPr>
          <a:xfrm>
            <a:off x="549360" y="4602240"/>
            <a:ext cx="4430520" cy="1609560"/>
            <a:chOff x="549360" y="4602240"/>
            <a:chExt cx="4430520" cy="1609560"/>
          </a:xfrm>
        </p:grpSpPr>
        <p:pic>
          <p:nvPicPr>
            <p:cNvPr id="415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49360" y="4602240"/>
              <a:ext cx="44305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3360" y="4653000"/>
              <a:ext cx="43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ых на природе полезен, городским жителям в связи с напряженным ритмом жизни и загрязненным воздухом, в том числе и шумовое загрязнение и в целом окружающей среды городо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7" name="Picture 2" descr="C:\Users\Mini_Estrik\Desktop\1162542551_obl.jpg"/>
          <p:cNvPicPr/>
          <p:nvPr/>
        </p:nvPicPr>
        <p:blipFill>
          <a:blip r:embed="rId2"/>
          <a:srcRect l="0" t="3845" r="0" b="3467"/>
          <a:stretch/>
        </p:blipFill>
        <p:spPr>
          <a:xfrm>
            <a:off x="6383160" y="220680"/>
            <a:ext cx="2487960" cy="273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Users\Mini_Estrik\Desktop\house.jpg"/>
          <p:cNvPicPr/>
          <p:nvPr/>
        </p:nvPicPr>
        <p:blipFill>
          <a:blip r:embed="rId3"/>
          <a:stretch/>
        </p:blipFill>
        <p:spPr>
          <a:xfrm>
            <a:off x="5073480" y="4653000"/>
            <a:ext cx="3881520" cy="1449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:\Users\Mini_Estrik\Desktop\080319_zhig_gory_002.jpg"/>
          <p:cNvPicPr/>
          <p:nvPr/>
        </p:nvPicPr>
        <p:blipFill>
          <a:blip r:embed="rId4"/>
          <a:srcRect l="0" t="9203" r="0" b="11771"/>
          <a:stretch/>
        </p:blipFill>
        <p:spPr>
          <a:xfrm>
            <a:off x="468360" y="2252520"/>
            <a:ext cx="3822480" cy="154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Users\Mini_Estrik\AppData\Local\Microsoft\Windows\Temporary Internet Files\Content.IE5\M0BTELDS\MC900299325[1].wmf"/>
          <p:cNvPicPr/>
          <p:nvPr/>
        </p:nvPicPr>
        <p:blipFill>
          <a:blip r:embed="rId5"/>
          <a:stretch/>
        </p:blipFill>
        <p:spPr>
          <a:xfrm>
            <a:off x="152280" y="3933720"/>
            <a:ext cx="9032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727280" y="26028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ы адаптации человека к окружающе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Загнутый угол 8"/>
          <p:cNvGrpSpPr/>
          <p:nvPr/>
        </p:nvGrpSpPr>
        <p:grpSpPr>
          <a:xfrm>
            <a:off x="5541840" y="1749600"/>
            <a:ext cx="3224160" cy="1523880"/>
            <a:chOff x="5541840" y="1749600"/>
            <a:chExt cx="3224160" cy="1523880"/>
          </a:xfrm>
        </p:grpSpPr>
        <p:pic>
          <p:nvPicPr>
            <p:cNvPr id="424" name="Загнутый угол 8" descr=""/>
            <p:cNvPicPr/>
            <p:nvPr/>
          </p:nvPicPr>
          <p:blipFill>
            <a:blip r:embed="rId1"/>
            <a:stretch/>
          </p:blipFill>
          <p:spPr>
            <a:xfrm>
              <a:off x="5541840" y="1749600"/>
              <a:ext cx="3224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599080" y="1782720"/>
              <a:ext cx="30812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пряжение - мобилизация всех механизмов, обеспечивающих определенную деятельность организма человека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Picture 5" descr="C:\Users\Mini_Estrik\AppData\Local\Microsoft\Windows\Temporary Internet Files\Content.IE5\M0BTELDS\MC900299325[1].wmf"/>
          <p:cNvPicPr/>
          <p:nvPr/>
        </p:nvPicPr>
        <p:blipFill>
          <a:blip r:embed="rId2"/>
          <a:stretch/>
        </p:blipFill>
        <p:spPr>
          <a:xfrm>
            <a:off x="8070840" y="1052640"/>
            <a:ext cx="903240" cy="9000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9"/>
          <p:cNvSpPr/>
          <p:nvPr/>
        </p:nvSpPr>
        <p:spPr>
          <a:xfrm>
            <a:off x="594720" y="3211560"/>
            <a:ext cx="30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ы адаптации человек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прин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й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3489480" y="3651120"/>
            <a:ext cx="519084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ая устойчивость к воздействию кратковременных экстремальных факторов и плохая переносимость длительных нагруз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 12"/>
          <p:cNvSpPr/>
          <p:nvPr/>
        </p:nvSpPr>
        <p:spPr>
          <a:xfrm>
            <a:off x="719280" y="4800600"/>
            <a:ext cx="38448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тный тип (в северных регионах страны среди населения преобладают люди типа «стайер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Прямая со стрелкой 14"/>
          <p:cNvCxnSpPr/>
          <p:nvPr/>
        </p:nvCxnSpPr>
        <p:spPr>
          <a:xfrm>
            <a:off x="2282400" y="3997080"/>
            <a:ext cx="994680" cy="10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1" name="Прямая со стрелкой 20"/>
          <p:cNvCxnSpPr/>
          <p:nvPr/>
        </p:nvCxnSpPr>
        <p:spPr>
          <a:xfrm>
            <a:off x="1908000" y="4411800"/>
            <a:ext cx="216720" cy="241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432" name="Прямоугольник 23"/>
          <p:cNvSpPr/>
          <p:nvPr/>
        </p:nvSpPr>
        <p:spPr>
          <a:xfrm>
            <a:off x="298440" y="15559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динамический процесс, благодаря которому подвижные системы живых организмов, несмотря на изменчивость условий, поддерживают устойчивость, необходимую для существования, развития и продолжения 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Управляющая кнопка: назад 29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298440" y="692280"/>
            <a:ext cx="253692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спосабливаясь к неблагоприятным экологическим условиям, организм человека испытывает состояние напряжения, утом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Управляющая кнопка: в начало 4"/>
          <p:cNvSpPr/>
          <p:nvPr/>
        </p:nvSpPr>
        <p:spPr>
          <a:xfrm>
            <a:off x="8072280" y="638172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7301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5456" y="4571"/>
                </a:lnTo>
                <a:lnTo>
                  <a:pt x="5456" y="18584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Прямая соединительная линия 5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3186000" y="3549600"/>
            <a:ext cx="594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ое нарушение сбалансированности “человек-среда” является источником тревоги. Тревога, обозначаемая ка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щущение неопределенной угроз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вство диффузного опасения и тревожного ожид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пределенное беспокойств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яет из себя наиболее сильно действующий механизм психического стрес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C:\Users\Mini_Estrik\Desktop\18336537_7135_1.jpg"/>
          <p:cNvPicPr/>
          <p:nvPr/>
        </p:nvPicPr>
        <p:blipFill>
          <a:blip r:embed="rId1"/>
          <a:stretch/>
        </p:blipFill>
        <p:spPr>
          <a:xfrm>
            <a:off x="171360" y="3451320"/>
            <a:ext cx="2664000" cy="266220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8"/>
          <p:cNvSpPr/>
          <p:nvPr/>
        </p:nvSpPr>
        <p:spPr>
          <a:xfrm>
            <a:off x="3022560" y="311040"/>
            <a:ext cx="5999040" cy="31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черты психического стре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стресс - состояние организма, его возникновение предполагает взаимодействие между организмом и средо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тресс - более напряженное состояние, чем обычное мотивационное; оно требует для своего возникновения восприятия угроз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явления стресса имеют место тогда, когда нормальная адаптивная реакция недостаточ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3"/>
          <p:cNvSpPr/>
          <p:nvPr/>
        </p:nvSpPr>
        <p:spPr>
          <a:xfrm>
            <a:off x="2713680" y="47160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Прямая соединительная линия 4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459640" y="6394320"/>
            <a:ext cx="311400" cy="33192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22">
                <a:moveTo>
                  <a:pt x="0" y="0"/>
                </a:moveTo>
                <a:lnTo>
                  <a:pt x="21600" y="0"/>
                </a:lnTo>
                <a:lnTo>
                  <a:pt x="21600" y="23022"/>
                </a:lnTo>
                <a:lnTo>
                  <a:pt x="0" y="23022"/>
                </a:lnTo>
                <a:close/>
              </a:path>
              <a:path fill="lightenLess" w="21600" h="23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22">
                <a:moveTo>
                  <a:pt x="21600" y="0"/>
                </a:moveTo>
                <a:lnTo>
                  <a:pt x="21600" y="23022"/>
                </a:lnTo>
                <a:lnTo>
                  <a:pt x="20200" y="21622"/>
                </a:lnTo>
                <a:lnTo>
                  <a:pt x="20200" y="1400"/>
                </a:lnTo>
                <a:close/>
              </a:path>
              <a:path fill="darkenLess" w="21600" h="23022">
                <a:moveTo>
                  <a:pt x="21600" y="23022"/>
                </a:moveTo>
                <a:lnTo>
                  <a:pt x="0" y="23022"/>
                </a:lnTo>
                <a:lnTo>
                  <a:pt x="1400" y="21622"/>
                </a:lnTo>
                <a:lnTo>
                  <a:pt x="20200" y="21622"/>
                </a:lnTo>
                <a:close/>
              </a:path>
              <a:path fill="lighten" w="21600" h="23022">
                <a:moveTo>
                  <a:pt x="0" y="23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22"/>
                </a:lnTo>
                <a:close/>
              </a:path>
              <a:path fill="darken" w="21600" h="23022">
                <a:moveTo>
                  <a:pt x="3794" y="11511"/>
                </a:moveTo>
                <a:lnTo>
                  <a:pt x="17806" y="4504"/>
                </a:lnTo>
                <a:lnTo>
                  <a:pt x="17806" y="185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992880" y="1687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u.wikipedia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986400" y="20541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5ka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995040" y="24354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evolution.allbes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989640" y="28036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logyplanet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989640" y="3173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systema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989280" y="354348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chromdet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Прямоугольник 13"/>
          <p:cNvSpPr/>
          <p:nvPr/>
        </p:nvSpPr>
        <p:spPr>
          <a:xfrm>
            <a:off x="5382360" y="28116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otvety.mail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995400" y="39290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base.safework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 15"/>
          <p:cNvSpPr/>
          <p:nvPr/>
        </p:nvSpPr>
        <p:spPr>
          <a:xfrm>
            <a:off x="5387040" y="39290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standard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16"/>
          <p:cNvSpPr/>
          <p:nvPr/>
        </p:nvSpPr>
        <p:spPr>
          <a:xfrm>
            <a:off x="988920" y="429912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chempor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17"/>
          <p:cNvSpPr/>
          <p:nvPr/>
        </p:nvSpPr>
        <p:spPr>
          <a:xfrm>
            <a:off x="5380920" y="42991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medkursor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18"/>
          <p:cNvSpPr/>
          <p:nvPr/>
        </p:nvSpPr>
        <p:spPr>
          <a:xfrm>
            <a:off x="5384160" y="354168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rian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19"/>
          <p:cNvSpPr/>
          <p:nvPr/>
        </p:nvSpPr>
        <p:spPr>
          <a:xfrm>
            <a:off x="5393520" y="31798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otherreferats.allbes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0"/>
          <p:cNvSpPr/>
          <p:nvPr/>
        </p:nvSpPr>
        <p:spPr>
          <a:xfrm>
            <a:off x="5384160" y="16876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100let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1"/>
          <p:cNvSpPr/>
          <p:nvPr/>
        </p:nvSpPr>
        <p:spPr>
          <a:xfrm>
            <a:off x="5386320" y="20494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biogweb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2"/>
          <p:cNvSpPr/>
          <p:nvPr/>
        </p:nvSpPr>
        <p:spPr>
          <a:xfrm>
            <a:off x="5384880" y="243540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psylive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865080" y="162864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я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ка о взаимоотношении человека со средой обитания в различных аспектах (экономическом, техническом, физико-техническом, социально-психологическом) и призвана определить оптимальные условия существования человека, включая допустимые пределы его воздействия на окружающую сре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328680" y="4035600"/>
            <a:ext cx="2930400" cy="1779480"/>
          </a:xfrm>
          <a:prstGeom prst="rect">
            <a:avLst/>
          </a:prstGeom>
          <a:solidFill>
            <a:srgbClr val="fad9c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отношения со средой человека, как организма, изуча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утэк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экологию сообществ людей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нэк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8" descr="C:\Program Files\Microsoft Office\CLIPART\PUB60COR\J0182689.JPG"/>
          <p:cNvPicPr/>
          <p:nvPr/>
        </p:nvPicPr>
        <p:blipFill>
          <a:blip r:embed="rId1"/>
          <a:stretch/>
        </p:blipFill>
        <p:spPr>
          <a:xfrm>
            <a:off x="6076800" y="4048200"/>
            <a:ext cx="2908440" cy="193824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" descr=""/>
          <p:cNvPicPr/>
          <p:nvPr/>
        </p:nvPicPr>
        <p:blipFill>
          <a:blip r:embed="rId2"/>
          <a:stretch/>
        </p:blipFill>
        <p:spPr>
          <a:xfrm>
            <a:off x="347760" y="85680"/>
            <a:ext cx="8454960" cy="603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6946920" y="74772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. Бэк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Управляющая кнопка: назад 14">
            <a:hlinkClick r:id="" action="ppaction://hlinkshowjump?jump=previousslide"/>
          </p:cNvPr>
          <p:cNvSpPr/>
          <p:nvPr/>
        </p:nvSpPr>
        <p:spPr>
          <a:xfrm>
            <a:off x="8028000" y="6404040"/>
            <a:ext cx="311040" cy="33336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48">
                <a:moveTo>
                  <a:pt x="0" y="0"/>
                </a:moveTo>
                <a:lnTo>
                  <a:pt x="21600" y="0"/>
                </a:lnTo>
                <a:lnTo>
                  <a:pt x="21600" y="23148"/>
                </a:lnTo>
                <a:lnTo>
                  <a:pt x="0" y="23148"/>
                </a:lnTo>
                <a:close/>
              </a:path>
              <a:path fill="lightenLess" w="21600" h="23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8">
                <a:moveTo>
                  <a:pt x="21600" y="0"/>
                </a:moveTo>
                <a:lnTo>
                  <a:pt x="21600" y="23148"/>
                </a:lnTo>
                <a:lnTo>
                  <a:pt x="20200" y="21748"/>
                </a:lnTo>
                <a:lnTo>
                  <a:pt x="20200" y="1400"/>
                </a:lnTo>
                <a:close/>
              </a:path>
              <a:path fill="darkenLess" w="21600" h="23148">
                <a:moveTo>
                  <a:pt x="21600" y="23148"/>
                </a:moveTo>
                <a:lnTo>
                  <a:pt x="0" y="23148"/>
                </a:lnTo>
                <a:lnTo>
                  <a:pt x="1400" y="21748"/>
                </a:lnTo>
                <a:lnTo>
                  <a:pt x="20200" y="21748"/>
                </a:lnTo>
                <a:close/>
              </a:path>
              <a:path fill="lighten" w="21600" h="23148">
                <a:moveTo>
                  <a:pt x="0" y="23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8"/>
                </a:lnTo>
                <a:close/>
              </a:path>
              <a:path fill="darken" w="21600" h="23148">
                <a:moveTo>
                  <a:pt x="3794" y="11574"/>
                </a:moveTo>
                <a:lnTo>
                  <a:pt x="17806" y="4568"/>
                </a:lnTo>
                <a:lnTo>
                  <a:pt x="17806" y="185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4" descr=""/>
          <p:cNvPicPr/>
          <p:nvPr/>
        </p:nvPicPr>
        <p:blipFill>
          <a:blip r:embed="rId1"/>
          <a:stretch/>
        </p:blipFill>
        <p:spPr>
          <a:xfrm>
            <a:off x="2414520" y="30240"/>
            <a:ext cx="4303800" cy="106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423720" y="154764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химические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загрязнения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тмосф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доровь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423720" y="2452680"/>
            <a:ext cx="82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9" action="ppaction://hlinksldjump"/>
              </a:rPr>
              <a:t>биологические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0" action="ppaction://hlinksldjump"/>
              </a:rPr>
              <a:t>загрязнения и болезни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430920" y="2976480"/>
            <a:ext cx="49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2" action="ppaction://hlinksldjump"/>
              </a:rPr>
              <a:t>влияние звуков на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438480" y="355428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4" action="ppaction://hlinksldjump"/>
              </a:rPr>
              <a:t>погода и самочувстви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446400" y="407844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6" action="ppaction://hlinksldjump"/>
              </a:rPr>
              <a:t>питание и здоровь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442080" y="4643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8" action="ppaction://hlinksldjump"/>
              </a:rPr>
              <a:t>ландшафт как фактор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9" action="ppaction://hlinksldjump"/>
              </a:rPr>
              <a:t>здоровь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423720" y="5199120"/>
            <a:ext cx="86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1" action="ppaction://hlinksldjump"/>
              </a:rPr>
              <a:t>проблемы адаптации человека к окружающей сред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435960" y="5773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3" action="ppaction://hlinksldjump"/>
              </a:rPr>
              <a:t>с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4" action="ppaction://hlinksldjump"/>
              </a:rPr>
              <a:t>писок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5" action="ppaction://hlinksldjump"/>
              </a:rPr>
              <a:t>литер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C:\Users\Mini_Estrik\Pictures\Анимашки!!!)))\ПрИрОдНыЕ!!!)))\5.gif"/>
          <p:cNvPicPr/>
          <p:nvPr/>
        </p:nvPicPr>
        <p:blipFill>
          <a:blip r:embed="rId26"/>
          <a:stretch/>
        </p:blipFill>
        <p:spPr>
          <a:xfrm>
            <a:off x="6513480" y="69840"/>
            <a:ext cx="252252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Управляющая кнопка: назад 5">
            <a:hlinkClick r:id="rId1" action="ppaction://hlinksldjump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2316600" y="31608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имические  загрязнения атмосф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Прямая со стрелкой 6"/>
          <p:cNvCxnSpPr/>
          <p:nvPr/>
        </p:nvCxnSpPr>
        <p:spPr>
          <a:xfrm flipH="1">
            <a:off x="2303280" y="701640"/>
            <a:ext cx="413280" cy="567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6" name="Прямая со стрелкой 8"/>
          <p:cNvCxnSpPr/>
          <p:nvPr/>
        </p:nvCxnSpPr>
        <p:spPr>
          <a:xfrm flipH="1">
            <a:off x="4571280" y="811080"/>
            <a:ext cx="1080" cy="4341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7" name="Прямая со стрелкой 10"/>
          <p:cNvCxnSpPr/>
          <p:nvPr/>
        </p:nvCxnSpPr>
        <p:spPr>
          <a:xfrm>
            <a:off x="6248160" y="701640"/>
            <a:ext cx="484920" cy="567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8" name="TextBox 11"/>
          <p:cNvSpPr/>
          <p:nvPr/>
        </p:nvSpPr>
        <p:spPr>
          <a:xfrm>
            <a:off x="997560" y="12682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12"/>
          <p:cNvSpPr/>
          <p:nvPr/>
        </p:nvSpPr>
        <p:spPr>
          <a:xfrm>
            <a:off x="3516120" y="12682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ытовые ко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253920" y="126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22"/>
          <p:cNvSpPr/>
          <p:nvPr/>
        </p:nvSpPr>
        <p:spPr>
          <a:xfrm>
            <a:off x="468360" y="2176560"/>
            <a:ext cx="590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 источник пирогенного загрязнени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ловые электростанц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ургические и химические предпри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ельные установ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Прямоугольник 24"/>
          <p:cNvGrpSpPr/>
          <p:nvPr/>
        </p:nvGrpSpPr>
        <p:grpSpPr>
          <a:xfrm>
            <a:off x="6602400" y="2146320"/>
            <a:ext cx="2322360" cy="1407960"/>
            <a:chOff x="6602400" y="2146320"/>
            <a:chExt cx="2322360" cy="1407960"/>
          </a:xfrm>
        </p:grpSpPr>
        <p:pic>
          <p:nvPicPr>
            <p:cNvPr id="273" name="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602400" y="2146320"/>
              <a:ext cx="23223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656400" y="2176560"/>
              <a:ext cx="21607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(потребляющие более 70% ежегодно добываемого твердого и жидкого топлива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Прямоугольник 25"/>
          <p:cNvSpPr/>
          <p:nvPr/>
        </p:nvSpPr>
        <p:spPr>
          <a:xfrm>
            <a:off x="468360" y="3933720"/>
            <a:ext cx="7126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е вредные примеси пирогенного происхож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3" action="ppaction://hlinksldjump"/>
              </a:rPr>
              <a:t>оксид углер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4" action="ppaction://hlinksldjump"/>
              </a:rPr>
              <a:t>сернистый и серный ангид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5" action="ppaction://hlinksldjump"/>
              </a:rPr>
              <a:t>окислы аз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6" action="ppaction://hlinksldjump"/>
              </a:rPr>
              <a:t>сероводород </a:t>
            </a: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7" action="ppaction://hlinksldjump"/>
              </a:rPr>
              <a:t>и сероугле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8" action="ppaction://hlinksldjump"/>
              </a:rPr>
              <a:t>соединения ф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9" action="ppaction://hlinksldjump"/>
              </a:rPr>
              <a:t>соединения хл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Управляющая кнопка: в начало 14">
            <a:hlinkClick r:id="rId10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5" descr="C:\Users\Mini_Estrik\AppData\Local\Microsoft\Windows\Temporary Internet Files\Content.IE5\M0BTELDS\MC900299325[1].wmf"/>
          <p:cNvPicPr/>
          <p:nvPr/>
        </p:nvPicPr>
        <p:blipFill>
          <a:blip r:embed="rId11"/>
          <a:stretch/>
        </p:blipFill>
        <p:spPr>
          <a:xfrm>
            <a:off x="8091360" y="328464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79280" y="981000"/>
          <a:ext cx="8785440" cy="468000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5722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г/м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и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 от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цветовой  и  световой чувствительности глаз, снижение точности зрительного восприятия   пространства   и   ночного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скорости зрительного восприятия, ухудшение выполнения психологических и психомоторных тестов, координации мелких точных движений и аналитического мыш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5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ьная    головная   боль,   слабость, головокружение,  туман перед глазами, тошнота и рвота, коллапс. Головная    боль,    общая    мышечная слабость,  тошн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 сознания, коллап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вная боль, головокружение, рвота, потеря со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ый   пульс,   замедление  и  остановка дыхания. 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 сознания, рвота, 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79" name="Прямая соединительная линия 2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Управляющая кнопка: назад 5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599840" y="2206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оксида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Управляющая кнопка: в начало 6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08680" y="21096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ернистого и серного ангидр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552600" y="981000"/>
            <a:ext cx="5314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мптомы отра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морк, кашель, охриплость, першение в горле. При вдыхании  высокой концентрации — удушье, расстройство речи, затруднение глотания, рвота, возможен острый отёк лёгк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Управляющая кнопка: назад 9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ая соединительная линия 19"/>
          <p:cNvSpPr/>
          <p:nvPr/>
        </p:nvSpPr>
        <p:spPr>
          <a:xfrm>
            <a:off x="108000" y="2852640"/>
            <a:ext cx="266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ая соединительная линия 24"/>
          <p:cNvSpPr/>
          <p:nvPr/>
        </p:nvSpPr>
        <p:spPr>
          <a:xfrm>
            <a:off x="6372360" y="3192480"/>
            <a:ext cx="266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ая соединительная линия 27"/>
          <p:cNvSpPr/>
          <p:nvPr/>
        </p:nvSpPr>
        <p:spPr>
          <a:xfrm>
            <a:off x="2771640" y="2852640"/>
            <a:ext cx="3600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ая соединительная линия 34"/>
          <p:cNvSpPr/>
          <p:nvPr/>
        </p:nvSpPr>
        <p:spPr>
          <a:xfrm>
            <a:off x="6372360" y="28335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C:\Users\Mini_Estrik\Desktop\200px-Sulfur-dioxide-3D-vdW.png"/>
          <p:cNvPicPr/>
          <p:nvPr/>
        </p:nvPicPr>
        <p:blipFill>
          <a:blip r:embed="rId2"/>
          <a:stretch/>
        </p:blipFill>
        <p:spPr>
          <a:xfrm>
            <a:off x="6627960" y="671400"/>
            <a:ext cx="1904760" cy="152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Users\Mini_Estrik\Desktop\200px-Sulfur-dioxide-2D.svg.png"/>
          <p:cNvPicPr/>
          <p:nvPr/>
        </p:nvPicPr>
        <p:blipFill>
          <a:blip r:embed="rId3"/>
          <a:stretch/>
        </p:blipFill>
        <p:spPr>
          <a:xfrm>
            <a:off x="6627960" y="2111400"/>
            <a:ext cx="1904760" cy="9144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3"/>
          <p:cNvSpPr/>
          <p:nvPr/>
        </p:nvSpPr>
        <p:spPr>
          <a:xfrm>
            <a:off x="639720" y="319248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окислы аз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Прямоугольник 45"/>
          <p:cNvGrpSpPr/>
          <p:nvPr/>
        </p:nvGrpSpPr>
        <p:grpSpPr>
          <a:xfrm>
            <a:off x="6114960" y="4334040"/>
            <a:ext cx="2784600" cy="1334880"/>
            <a:chOff x="6114960" y="4334040"/>
            <a:chExt cx="2784600" cy="1334880"/>
          </a:xfrm>
        </p:grpSpPr>
        <p:pic>
          <p:nvPicPr>
            <p:cNvPr id="295" name="Прямоугольник 45" descr=""/>
            <p:cNvPicPr/>
            <p:nvPr/>
          </p:nvPicPr>
          <p:blipFill>
            <a:blip r:embed="rId4"/>
            <a:stretch/>
          </p:blipFill>
          <p:spPr>
            <a:xfrm>
              <a:off x="6114960" y="4334040"/>
              <a:ext cx="2784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78680" y="4365720"/>
              <a:ext cx="266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аз  в смеси с кислородом применяют для наркоз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зывают веселящим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7" name=""/>
          <p:cNvGraphicFramePr/>
          <p:nvPr/>
        </p:nvGraphicFramePr>
        <p:xfrm>
          <a:off x="476280" y="3965400"/>
          <a:ext cx="4859280" cy="2022480"/>
        </p:xfrm>
        <a:graphic>
          <a:graphicData uri="http://schemas.openxmlformats.org/drawingml/2006/table">
            <a:tbl>
              <a:tblPr/>
              <a:tblGrid>
                <a:gridCol w="2141640"/>
                <a:gridCol w="27176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кол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тупление  болевой чув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е кол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 опья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ыхание чистого г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наркотическое состояние и удуш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98" name="Управляющая кнопка: в начало 14">
            <a:hlinkClick r:id="rId5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5" descr="C:\Users\Mini_Estrik\AppData\Local\Microsoft\Windows\Temporary Internet Files\Content.IE5\M0BTELDS\MC900299325[1].wmf"/>
          <p:cNvPicPr/>
          <p:nvPr/>
        </p:nvPicPr>
        <p:blipFill>
          <a:blip r:embed="rId6"/>
          <a:stretch/>
        </p:blipFill>
        <p:spPr>
          <a:xfrm>
            <a:off x="8080200" y="3654360"/>
            <a:ext cx="905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08000" y="1268280"/>
          <a:ext cx="8875800" cy="4114800"/>
        </p:xfrm>
        <a:graphic>
          <a:graphicData uri="http://schemas.openxmlformats.org/drawingml/2006/table">
            <a:tbl>
              <a:tblPr/>
              <a:tblGrid>
                <a:gridCol w="1662120"/>
                <a:gridCol w="1452600"/>
                <a:gridCol w="576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г/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 от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вная боль, слезотечение, светобоязнь, насморк, боли в глазах, снижение воздушной и костной звукопроводим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-0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жение в глазах, светобоязнь, слезотечение, полнокровие конъюнктивы, раздражение в носу, металлический вкус во рту, усталость, головные боли, стеснение в груди, тошн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енное раздражение конъюнктивы, насморк, тошнота, рвота, холодный пот, колики, иногда понос, боли при мочеиспускании, одышку, кашель, боли в груди, сердцебиение, головную боль, ощущение сжимания головы, слабость, головокружение, иногда обморочное состояние или возбуждение с помрачением созна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 и вы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ороги и потеря сознания оканчиваются быстрой смертью от остановки дыхания, а иногда и от паралича сердц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4"/>
          <p:cNvSpPr/>
          <p:nvPr/>
        </p:nvSpPr>
        <p:spPr>
          <a:xfrm>
            <a:off x="903240" y="322200"/>
            <a:ext cx="76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ероводорода и серо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5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Управляющая кнопка: назад 6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Управляющая кнопка: в начало 7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9640" y="3284640"/>
          <a:ext cx="8148600" cy="2743200"/>
        </p:xfrm>
        <a:graphic>
          <a:graphicData uri="http://schemas.openxmlformats.org/drawingml/2006/table">
            <a:tbl>
              <a:tblPr/>
              <a:tblGrid>
                <a:gridCol w="1573200"/>
                <a:gridCol w="6575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1224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временная остановка дыхания, затем дыхание восстанавливается поверхностное, судорожное. Человек теряет сознание. Смерть наступает в течение 5-25 мин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1224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1224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solidFill>
                      <a:srgbClr val="d3481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торная остановка дыхания непродолжительна, жжение и резь в глазах, слезотечение, боль за грудиной, приступы мучительного сухого кашля, через 2-4 часа развивается токсический отек легк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1224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solidFill>
                      <a:srgbClr val="d34817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раздражения верхних дыхательных путей, которые сохраняются в течение нескольких су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Box 3"/>
          <p:cNvSpPr/>
          <p:nvPr/>
        </p:nvSpPr>
        <p:spPr>
          <a:xfrm>
            <a:off x="1428120" y="10620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оединений ф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4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Управляющая кнопка: назад 5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1106640" y="765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одит к развитию хронического отравления (флюороз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мптом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худание, анемия, слабость, тугоподвижность суставов, ломкость костей, изменение ц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496160" y="248112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оединений хл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8"/>
          <p:cNvSpPr/>
          <p:nvPr/>
        </p:nvSpPr>
        <p:spPr>
          <a:xfrm>
            <a:off x="112680" y="23493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4844880" y="1844640"/>
            <a:ext cx="34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ологическое загрязнение сре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грязнение ее болезнетворными организм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345120" y="3684600"/>
            <a:ext cx="2948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источ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4075920" y="47480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очные в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1835280" y="538164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ышленного 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3834720" y="56577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льского хозя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6229440" y="5381640"/>
            <a:ext cx="269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ального хозяйства городов и посел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539640" y="45766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ытовые и промышленные свал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6852600" y="4576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ладбищ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10"/>
          <p:cNvSpPr/>
          <p:nvPr/>
        </p:nvSpPr>
        <p:spPr>
          <a:xfrm>
            <a:off x="2168640" y="18900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логические загрязнения и болезн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Прямая со стрелкой 12"/>
          <p:cNvCxnSpPr/>
          <p:nvPr/>
        </p:nvCxnSpPr>
        <p:spPr>
          <a:xfrm flipH="1">
            <a:off x="2828520" y="4144680"/>
            <a:ext cx="50544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3" name="Прямая со стрелкой 14"/>
          <p:cNvCxnSpPr/>
          <p:nvPr/>
        </p:nvCxnSpPr>
        <p:spPr>
          <a:xfrm>
            <a:off x="4819320" y="4145040"/>
            <a:ext cx="1080" cy="589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4" name="Прямая со стрелкой 16"/>
          <p:cNvCxnSpPr/>
          <p:nvPr/>
        </p:nvCxnSpPr>
        <p:spPr>
          <a:xfrm>
            <a:off x="6305400" y="4144680"/>
            <a:ext cx="55800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5" name="Прямая со стрелкой 19"/>
          <p:cNvCxnSpPr/>
          <p:nvPr/>
        </p:nvCxnSpPr>
        <p:spPr>
          <a:xfrm flipH="1">
            <a:off x="3399840" y="5087880"/>
            <a:ext cx="648360" cy="294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6" name="Прямая со стрелкой 21"/>
          <p:cNvCxnSpPr/>
          <p:nvPr/>
        </p:nvCxnSpPr>
        <p:spPr>
          <a:xfrm flipH="1">
            <a:off x="4844160" y="5073480"/>
            <a:ext cx="1080" cy="480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7" name="Прямая со стрелкой 23"/>
          <p:cNvCxnSpPr/>
          <p:nvPr/>
        </p:nvCxnSpPr>
        <p:spPr>
          <a:xfrm>
            <a:off x="5594400" y="5099040"/>
            <a:ext cx="637200" cy="2721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28" name="Прямая соединительная линия 28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Управляющая кнопка: назад 30">
            <a:hlinkClick r:id="" action="ppaction://hlinkshowjump?jump=previousslide"/>
          </p:cNvPr>
          <p:cNvSpPr/>
          <p:nvPr/>
        </p:nvSpPr>
        <p:spPr>
          <a:xfrm>
            <a:off x="8028000" y="6404040"/>
            <a:ext cx="311040" cy="33336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48">
                <a:moveTo>
                  <a:pt x="0" y="0"/>
                </a:moveTo>
                <a:lnTo>
                  <a:pt x="21600" y="0"/>
                </a:lnTo>
                <a:lnTo>
                  <a:pt x="21600" y="23148"/>
                </a:lnTo>
                <a:lnTo>
                  <a:pt x="0" y="23148"/>
                </a:lnTo>
                <a:close/>
              </a:path>
              <a:path fill="lightenLess" w="21600" h="23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8">
                <a:moveTo>
                  <a:pt x="21600" y="0"/>
                </a:moveTo>
                <a:lnTo>
                  <a:pt x="21600" y="23148"/>
                </a:lnTo>
                <a:lnTo>
                  <a:pt x="20200" y="21748"/>
                </a:lnTo>
                <a:lnTo>
                  <a:pt x="20200" y="1400"/>
                </a:lnTo>
                <a:close/>
              </a:path>
              <a:path fill="darkenLess" w="21600" h="23148">
                <a:moveTo>
                  <a:pt x="21600" y="23148"/>
                </a:moveTo>
                <a:lnTo>
                  <a:pt x="0" y="23148"/>
                </a:lnTo>
                <a:lnTo>
                  <a:pt x="1400" y="21748"/>
                </a:lnTo>
                <a:lnTo>
                  <a:pt x="20200" y="21748"/>
                </a:lnTo>
                <a:close/>
              </a:path>
              <a:path fill="lighten" w="21600" h="23148">
                <a:moveTo>
                  <a:pt x="0" y="23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8"/>
                </a:lnTo>
                <a:close/>
              </a:path>
              <a:path fill="darken" w="21600" h="23148">
                <a:moveTo>
                  <a:pt x="3794" y="11574"/>
                </a:moveTo>
                <a:lnTo>
                  <a:pt x="17806" y="4568"/>
                </a:lnTo>
                <a:lnTo>
                  <a:pt x="17806" y="185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C:\Users\Mini_Estrik\Desktop\big_pic_256917.thumbnail.jpg"/>
          <p:cNvPicPr/>
          <p:nvPr/>
        </p:nvPicPr>
        <p:blipFill>
          <a:blip r:embed="rId1"/>
          <a:stretch/>
        </p:blipFill>
        <p:spPr>
          <a:xfrm>
            <a:off x="341280" y="1212840"/>
            <a:ext cx="4133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08:45Z</dcterms:created>
  <dc:creator>Mini_Estrik</dc:creator>
  <dc:description/>
  <dc:language>en-US</dc:language>
  <cp:lastModifiedBy>КОТЁНОК</cp:lastModifiedBy>
  <dcterms:modified xsi:type="dcterms:W3CDTF">2010-07-20T20:26:51Z</dcterms:modified>
  <cp:revision>59</cp:revision>
  <dc:subject/>
  <dc:title>Презентация PowerPoint</dc:title>
</cp:coreProperties>
</file>