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-360" y="-11717280"/>
            <a:ext cx="360" cy="248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6DE-0AFA-4232-AA22-E4B5CBD6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16A-8677-4791-A103-7189F30B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66D-CA52-49BC-BCD6-4DC3D9EA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613-20DC-4968-94F6-07031C23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2CA7-27F2-4C5D-B60E-C21B8205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5BE0-8378-4086-89E6-3B82A3BD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00AE-8382-4DB0-824B-FE0FE9F0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346F-8EF8-42BF-82E9-C1CE5416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9735-3EC0-4264-8797-3954A1D1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7ACB-20EF-4473-B6D2-AF99BDCF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C986-AD04-4D71-B630-E076C12B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F5A-1597-418E-8348-A2C965F8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1780-8D3C-40AB-8BBD-FD31640E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01B1-1DE3-45A2-A492-FA4AC9E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F04A-17D2-409E-8D81-5C9CA1E3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285-9EC6-485D-AAC7-F99CFB42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3264-B37D-4F00-829C-4AAA3354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614F-1170-4009-AD95-9F59353F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C013-A39F-469A-8875-70F9E753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9D0A-29DB-4D73-A49B-09F38958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3336-7765-4613-8638-89A35F4E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CFB0-89D9-4252-9A94-C6181877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29F-541A-4E65-A571-95CA1355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498DC-DDA6-4341-822F-F290E6E0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0714-745C-4023-9257-D5E8E178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8B01-CC75-4919-856E-CC9719D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F4E0-640B-4F47-9266-5BC155BB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D180A-34BE-4824-BF4E-3ED28B86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2FD9-2E3D-4AEE-A3FC-B385A42F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9861-3564-4CFF-A183-88A82E0A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E22B-C612-49AE-80DB-2AE1B10A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FAC4-697E-460F-B270-19A223F5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0504-DD4A-4945-A48F-3F6FBF91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DBA-CC1C-422A-85F0-CC9FC67D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287AC-A229-448A-B170-6FF863F6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1828-F7EE-407F-B8C8-7D14AF12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81AAE-70B4-465A-BD29-3B21DDCB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A2105-A81A-4F53-9E19-3BE0A314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4E4A-A58B-4ECE-9BFA-8545C00C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4A467-DC6B-4EDA-B0C1-57BC8BC7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D8DF5-51C9-4DA9-AAC4-5A9CBA9D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5336-0049-46BC-A9CB-2D89709B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6F278-ACE8-43AA-9402-74ADFAEE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760D-58E1-45F1-8AAB-7C9573EB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368-4FED-4EEE-B3AE-91411EC9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70684-445E-47C1-AA56-69040B5B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2CAA-B62E-4F93-9D5E-245D205B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FE06F-F13A-4AB5-83B0-C1C2EA0C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CF283-EBDC-45BA-AD20-B826D465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BE2E3-2BEC-4328-9F98-28B8E57E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5E191-061A-48DF-A82E-B4E06BFA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19F2B-FB32-4F44-94D8-196DD9D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F28B-8E2C-409F-A779-F893E18A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0655-BCE6-482B-9353-B65EF1D4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395A5-4EC4-4FBA-BCB6-D5A0430C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5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B3C-AC6C-42C1-B295-6E279375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8744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73560" y="16765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0132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18744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73560" y="3984120"/>
            <a:ext cx="274824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DDD3-691C-41C2-8E23-5E89096F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70E7-5505-4051-BF28-639E3EF5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5320" y="39841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42D-8742-42FD-907D-66CAAE97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5320" y="1676520"/>
            <a:ext cx="416520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1320" y="3984120"/>
            <a:ext cx="8535960" cy="21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6E9-9F2B-4F15-8A09-500E5BA5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75665-D62C-4B2A-8613-104C1F6BF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Unicode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476FD0-9066-4273-8DE4-C0A04EA3F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5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5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304920" y="6245280"/>
            <a:ext cx="228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2813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7B9A5-D47D-4A28-916F-8D037116B8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7677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304920" y="6245280"/>
            <a:ext cx="228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2813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A12AF-F362-4254-B965-43EBDF61DE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1743B2-1E95-4FCB-A3AC-6328BA293A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92200" y="549360"/>
            <a:ext cx="340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Unicode MS"/>
              </a:rPr>
              <a:t>«</a:t>
            </a: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Что за прелесть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эти сказки!»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Unicode MS"/>
              </a:rPr>
              <a:t>А.С.Пушкин.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8" name=""/>
          <p:cNvSpPr/>
          <p:nvPr/>
        </p:nvSpPr>
        <p:spPr>
          <a:xfrm>
            <a:off x="484200" y="3429000"/>
            <a:ext cx="86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 Unicode MS"/>
              </a:rPr>
              <a:t>ПУТЕШЕСТВИЕ</a:t>
            </a:r>
            <a:r>
              <a:rPr b="1" i="1" lang="en-GB" sz="3200" spc="-1" strike="noStrike">
                <a:solidFill>
                  <a:srgbClr val="ffffff"/>
                </a:solidFill>
                <a:latin typeface="Arial Unicode MS"/>
              </a:rPr>
              <a:t> ПО СКАЗКАМ ПУШКИНА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9" name=""/>
          <p:cNvSpPr/>
          <p:nvPr/>
        </p:nvSpPr>
        <p:spPr>
          <a:xfrm>
            <a:off x="4883760" y="4076640"/>
            <a:ext cx="2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076720" y="-892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25560" y="404640"/>
            <a:ext cx="82184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4400"/>
            </a:b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r>
              <a:rPr b="0" i="1" lang="en-US" sz="4400" spc="-1" strike="noStrike">
                <a:solidFill>
                  <a:srgbClr val="feec94"/>
                </a:solidFill>
                <a:latin typeface="Times New Roman"/>
              </a:rPr>
              <a:t>‏</a:t>
            </a:r>
            <a:endParaRPr b="0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2565360"/>
            <a:ext cx="5832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Александр Сергеевич Пушкин - известнейший русский поэт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ушкин написал много стихотворений, поэм, повестей и рассказов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реди его детских сказок наиболее известны “Руслан и Людмила”, “Сказка о попе и о его работнике Балде”, “Сказка о рыбаке и рыбке”, “Сказка о царе Салтане” и другие.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2512800" cy="28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987640" y="314280"/>
            <a:ext cx="2952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Мы знаем, вы любите игры,</a:t>
            </a:r>
            <a:br>
              <a:rPr sz="1600"/>
            </a:b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Песни, загадки и пляски,  </a:t>
            </a:r>
            <a:br>
              <a:rPr sz="1600"/>
            </a:b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Но нет ничего интересней,</a:t>
            </a:r>
            <a:br>
              <a:rPr sz="1600"/>
            </a:br>
            <a:r>
              <a:rPr b="0" i="1" lang="en-US" sz="1600" spc="-1" strike="noStrike">
                <a:solidFill>
                  <a:srgbClr val="feec94"/>
                </a:solidFill>
                <a:latin typeface="Times New Roman"/>
              </a:rPr>
              <a:t>Чем наши волшебные сказки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48428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Мы с вами отправляемся в волшебный мир сказок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Александра Сергеевича Пушкина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За каждый правильный ответ вы будете получать нарисованный предмет из сказок Пушкина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3141720"/>
            <a:ext cx="72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ВОПРОСЫ: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Что кричал Петушок, сидя на спице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Что пообещал царь Дадон мудрецу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Расплачиваясь с Балдой, поп подставлял лоб. Что же           приговаривал Балда с укоризной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Unicode MS"/>
              </a:rPr>
              <a:t>Какими словами заканчивается «Сказка о золотом  петушке»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5560" y="114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87280" y="1557360"/>
            <a:ext cx="520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Какими словами начинается «Сказка о рыбаке и рыбке»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С какими словами обращался старик к золотой рыбке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280099"/>
                </a:solidFill>
                <a:latin typeface="Arial Unicode MS"/>
              </a:rPr>
              <a:t>Перечислите по порядку, в кого хотела превратиться сварливая баба?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24000" y="2712960"/>
            <a:ext cx="133200" cy="76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476360" y="1989000"/>
            <a:ext cx="644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ae00"/>
                </a:solidFill>
                <a:latin typeface="Arial Unicode MS"/>
              </a:rPr>
              <a:t>С </a:t>
            </a: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какими словами обращалась царица к волшебному зеркальцу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Что ответило зеркальце злой мачехе в конце сказки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ae00"/>
                </a:solidFill>
                <a:latin typeface="Arial Unicode MS"/>
              </a:rPr>
              <a:t>Какими словами заканчивается «Сказка о царе Салтане» и «Сказка о мертвой царевне и о семи богатырях»?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2" name=""/>
          <p:cNvSpPr/>
          <p:nvPr/>
        </p:nvSpPr>
        <p:spPr>
          <a:xfrm>
            <a:off x="2031840" y="1868400"/>
            <a:ext cx="32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46400" y="373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539040" y="3994200"/>
            <a:ext cx="2604960" cy="2863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39640" y="550800"/>
            <a:ext cx="799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Наш</a:t>
            </a: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е</a:t>
            </a: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путешествие</a:t>
            </a: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 по океану сказок  А.С.Пушкина завершается.</a:t>
            </a:r>
            <a:br>
              <a:rPr sz="2400"/>
            </a:b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Давайте подведем итог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Посчитайте  предметы из сказок, которые вы получили за правильные ответы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У кого наибольшее количество предметов, тот и стал победителем </a:t>
            </a: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b7e7ff"/>
                </a:solidFill>
                <a:latin typeface="Comic Sans MS"/>
              </a:rPr>
              <a:t> среди болельщик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b7e7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рчакова Н И </cp:lastModifiedBy>
  <dcterms:modified xsi:type="dcterms:W3CDTF">2009-11-13T16:27:22Z</dcterms:modified>
  <cp:revision>2</cp:revision>
  <dc:subject/>
  <dc:title>Слайд 1</dc:title>
</cp:coreProperties>
</file>