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360" y="-11717280"/>
            <a:ext cx="360" cy="248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70F-C005-4BC2-8F56-BAB846BC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9FE-A355-4CE2-912B-E0FFD7F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A88-683A-4CB1-9984-6AA0F849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3AA-F223-4163-A6A7-2086C169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3C32-299F-4BF3-A370-89A6182D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F596-8ED9-41DD-B7E2-39BE4753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DFB-65DC-4B58-9B74-2397ADC5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DD4-E306-4E5F-8D62-4453E6E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AD8A-97C8-4DD9-81CB-D7C1F1F3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4D1-0236-4F4F-94CB-39BFFBC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95D5-F471-4DB2-8156-4CB1000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3DB-4567-47A3-8808-2E161A0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BBD1-1413-4638-B8D8-9EAF6B0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140-ADFA-4DA7-928F-DF175C1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5289-7F6B-4DE3-BD26-A79A37B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DEAD-01C3-4FBA-8B2E-7E1A41A5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C86-8133-4216-8515-E3A5F26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E90A-ED8F-43E7-ADC2-E216258B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E56B-7C5F-4617-8194-4592E17C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C27B-6B09-454F-9407-BD05755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7350-6E64-473F-AA46-E8E9DC1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E0CA-07BB-4BB0-B023-7A23DB0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5D9-48AB-4CAC-9FBD-BE7C1E7E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D7F7-0ED9-466F-B134-8482BBA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8CBB-3F98-4058-89E1-54A8D09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90EC-D8C4-4D7E-B60A-4F78FD7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D891-5341-42F7-A231-33C3510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92E8-963E-48D0-84CD-37FEEC91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D661-C6AC-45DC-8399-7E9A35E3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F09B-2C86-468D-A513-69950893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E02E-D574-4491-AE66-4FBF000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DF9A-B462-4279-A99A-8C02829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FE69-E863-4F73-9B4C-8DEFE54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E62-9994-4555-8976-4D4180F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83A7-B8AE-4D57-993D-7B41C502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3296-B601-4999-9FEB-99AC2C6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5A99-26D9-4A5A-8B1C-EC3D2A8C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9AF3-16AA-4159-8C2A-93B06F6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931D-5247-403A-A94A-8209387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5CFA-AA1B-4503-A683-831E33E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DD97-1524-4607-8F47-9370CBE3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6C62-F965-445A-B78E-D984E51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1F4A-8A3E-495B-AFC9-717415F2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60B9-D632-4C9F-9AC9-D2FE76D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FC6-68E2-4A77-B9F5-27C0A97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3ECF-9367-488F-BD34-5278089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C829-A62D-418C-90D1-D3758B8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D398-F9E1-4EC7-9DB5-854CE51C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C5C9-65BF-4E8D-AA4D-B170F5E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546A-DCE8-426A-818B-30B0627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83C4-77AC-4049-BED7-57CF16B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8301A-D1B1-455B-84A6-ED86977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6E29-6E07-4827-8C24-228322B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2892-F44A-498E-A549-8A58B02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6B92-C8AB-4F24-A6BF-9790B548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4A7-9D8A-4B66-BA98-1CC4AF07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4D04C-0470-4B4F-8F6F-C4C372AB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440-2183-48D6-85E0-2CD48A0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09F-5B05-4080-B333-A8EDB9D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C45-23E1-4476-9BF4-7C5867D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11A50-0CE1-4EF2-A61C-221C1848C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A7C0DE-C55C-49C0-8528-4C4A1282A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D6F6F-4C4A-4C14-A231-89625D263D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7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08DF-B21B-4D43-A638-9D44F0A9C7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2A3AFA-82D8-4FA4-A441-E5E7BC9526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92200" y="549360"/>
            <a:ext cx="340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Unicode MS"/>
              </a:rPr>
              <a:t>«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Что за прелесть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эти сказки!»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А.С.Пушкин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"/>
          <p:cNvSpPr/>
          <p:nvPr/>
        </p:nvSpPr>
        <p:spPr>
          <a:xfrm>
            <a:off x="484200" y="3429000"/>
            <a:ext cx="86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Unicode MS"/>
              </a:rPr>
              <a:t>ПУТЕШЕСТВИЕ</a:t>
            </a:r>
            <a:r>
              <a:rPr b="1" i="1" lang="en-GB" sz="3200" spc="-1" strike="noStrike">
                <a:solidFill>
                  <a:srgbClr val="ffffff"/>
                </a:solidFill>
                <a:latin typeface="Arial Unicode MS"/>
              </a:rPr>
              <a:t> ПО СКАЗКАМ ПУШКИНА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4883760" y="407664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76720" y="-892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25560" y="404640"/>
            <a:ext cx="8218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4400"/>
            </a:b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2565360"/>
            <a:ext cx="5832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 - известнейший русский поэт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шкин написал много стихотворений, поэм, повестей и рассказов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реди его детских сказок наиболее известны “Руслан и Людмила”, “Сказка о попе и о его работнике Балде”, “Сказка о рыбаке и рыбке”, “Сказка о царе Салтане” и другие.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51280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987640" y="314280"/>
            <a:ext cx="295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Мы знаем, вы любите игры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Песни, загадки и пляски,  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Но нет ничего интересней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Чем наши волшебные сказ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48428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Мы с вами отправляемся в волшебный мир сказок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Александра Сергеевича Пушкина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За каждый правильный ответ вы будете получать нарисованный предмет из сказок Пушкина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14172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ПРОСЫ: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кричал Петушок, сидя на спиц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пообещал царь Дадон мудрецу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Расплачиваясь с Балдой, поп подставлял лоб. Что же           приговаривал Балда с укоризной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Какими словами заканчивается «Сказка о золотом  петуш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560" y="114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1557360"/>
            <a:ext cx="520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Какими словами начинается «Сказка о рыбаке и рыб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С какими словами обращался старик к золотой рыбк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Перечислите по порядку, в кого хотела превратиться сварливая баба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2712960"/>
            <a:ext cx="133200" cy="76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76360" y="1989000"/>
            <a:ext cx="644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Arial Unicode MS"/>
              </a:rPr>
              <a:t>С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обращалась царица к волшебному зеркальцу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Что ответило зеркальце злой мачехе в конце сказки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заканчивается «Сказка о царе Салтане» и «Сказка о мертвой царевне и о семи богатырях»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2031840" y="186840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46400" y="373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539040" y="3994200"/>
            <a:ext cx="2604960" cy="2863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9640" y="550800"/>
            <a:ext cx="799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Наш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путешестви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по океану сказок  А.С.Пушкина завершается.</a:t>
            </a: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Давайте подведем итог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Посчитайте  предметы из сказок, которые вы получили за правильные ответы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У кого наибольшее количество предметов, тот и стал победителем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среди болельщи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рчакова Н И </cp:lastModifiedBy>
  <dcterms:modified xsi:type="dcterms:W3CDTF">2009-11-13T16:27:22Z</dcterms:modified>
  <cp:revision>2</cp:revision>
  <dc:subject/>
  <dc:title>Слайд 1</dc:title>
</cp:coreProperties>
</file>