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-360" y="-11717280"/>
            <a:ext cx="360" cy="2482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17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499F8-4CA8-4E4E-956E-D3DFAFBFC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320" y="174600"/>
            <a:ext cx="85057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01320" y="1676520"/>
            <a:ext cx="853596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01320" y="3984120"/>
            <a:ext cx="853596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59A02-DAF8-486D-8A37-8559E623D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320" y="174600"/>
            <a:ext cx="85057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320" y="1676520"/>
            <a:ext cx="41652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5320" y="1676520"/>
            <a:ext cx="41652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301320" y="3984120"/>
            <a:ext cx="41652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5320" y="3984120"/>
            <a:ext cx="41652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19F2D-7B87-46C4-B2FF-DD3CFE48B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174600"/>
            <a:ext cx="85057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676520"/>
            <a:ext cx="274824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187440" y="1676520"/>
            <a:ext cx="274824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73560" y="1676520"/>
            <a:ext cx="274824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301320" y="3984120"/>
            <a:ext cx="274824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187440" y="3984120"/>
            <a:ext cx="274824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73560" y="3984120"/>
            <a:ext cx="274824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4C898-7F0D-4274-9225-563D6D84A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0352A-7AEE-4354-B238-E642EB5B8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1320" y="174600"/>
            <a:ext cx="85057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301320" y="1676520"/>
            <a:ext cx="8535960" cy="441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BDE7A-3E07-4EB2-B71C-1B10C1835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174600"/>
            <a:ext cx="85057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676520"/>
            <a:ext cx="8535960" cy="44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B08D9-87E3-489A-88FC-147D42605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320" y="174600"/>
            <a:ext cx="85057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1320" y="1676520"/>
            <a:ext cx="4165200" cy="44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5320" y="1676520"/>
            <a:ext cx="4165200" cy="44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526E6-D136-4C4B-B2FC-E6981C61C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320" y="174600"/>
            <a:ext cx="85057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B870B-76FC-49AE-A39E-2795C1ACD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301320" y="174600"/>
            <a:ext cx="85057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1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BC9D8-E90B-45B5-8D86-34AA1C5E2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320" y="174600"/>
            <a:ext cx="85057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1320" y="1676520"/>
            <a:ext cx="41652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5320" y="1676520"/>
            <a:ext cx="4165200" cy="44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1320" y="3984120"/>
            <a:ext cx="41652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83A60-3BB1-47EC-A4F8-891677BCB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1320" y="174600"/>
            <a:ext cx="85057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301320" y="1676520"/>
            <a:ext cx="8535960" cy="441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D0C30-DCBD-4129-A52A-B824CF080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320" y="174600"/>
            <a:ext cx="85057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1320" y="1676520"/>
            <a:ext cx="4165200" cy="44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5320" y="1676520"/>
            <a:ext cx="41652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5320" y="3984120"/>
            <a:ext cx="41652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611BF-B3D1-4CEE-8CCA-9D9986069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1320" y="174600"/>
            <a:ext cx="85057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1320" y="1676520"/>
            <a:ext cx="41652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5320" y="1676520"/>
            <a:ext cx="41652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301320" y="3984120"/>
            <a:ext cx="853596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8A9FD-A150-4B08-88EB-19B396DBA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1320" y="174600"/>
            <a:ext cx="85057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1320" y="1676520"/>
            <a:ext cx="853596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01320" y="3984120"/>
            <a:ext cx="853596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12C04-9A04-4F9D-A2D7-B2ED8E22F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1320" y="174600"/>
            <a:ext cx="85057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1320" y="1676520"/>
            <a:ext cx="41652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5320" y="1676520"/>
            <a:ext cx="41652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301320" y="3984120"/>
            <a:ext cx="41652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5320" y="3984120"/>
            <a:ext cx="41652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39724-E0CA-484B-AC71-F03205C34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174600"/>
            <a:ext cx="85057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676520"/>
            <a:ext cx="274824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187440" y="1676520"/>
            <a:ext cx="274824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73560" y="1676520"/>
            <a:ext cx="274824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301320" y="3984120"/>
            <a:ext cx="274824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187440" y="3984120"/>
            <a:ext cx="274824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73560" y="3984120"/>
            <a:ext cx="274824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CFD69-F8A2-427D-8E0E-B40CF1C7C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F3EDB9-BC4F-48F7-91CB-984614E93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1320" y="174600"/>
            <a:ext cx="85057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301320" y="1676520"/>
            <a:ext cx="8535960" cy="441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BCD8F8-739F-49F9-8267-AEA4C3009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1320" y="174600"/>
            <a:ext cx="85057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1320" y="1676520"/>
            <a:ext cx="8535960" cy="44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9E22A1-A8AF-43B1-8B77-56CCB3309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174600"/>
            <a:ext cx="85057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676520"/>
            <a:ext cx="4165200" cy="44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5320" y="1676520"/>
            <a:ext cx="4165200" cy="44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AEF9F8-CEBC-4ED1-B198-6405A3C07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174600"/>
            <a:ext cx="85057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9B4C5D-BD99-4678-88F0-4C4992CCA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320" y="174600"/>
            <a:ext cx="85057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320" y="1676520"/>
            <a:ext cx="8535960" cy="44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2ABC1-4649-4D91-A567-D96A2BA60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301320" y="174600"/>
            <a:ext cx="85057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1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1460D5-4BC8-47C7-93CC-D6F19460F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01320" y="174600"/>
            <a:ext cx="85057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1320" y="1676520"/>
            <a:ext cx="41652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5320" y="1676520"/>
            <a:ext cx="4165200" cy="44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301320" y="3984120"/>
            <a:ext cx="41652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F0C4ED-794F-4D64-96FA-C434ED7F4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1320" y="174600"/>
            <a:ext cx="85057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1320" y="1676520"/>
            <a:ext cx="4165200" cy="44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5320" y="1676520"/>
            <a:ext cx="41652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5320" y="3984120"/>
            <a:ext cx="41652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B7CAE9-3E3A-4C27-9CDE-68F198538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1320" y="174600"/>
            <a:ext cx="85057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1320" y="1676520"/>
            <a:ext cx="41652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5320" y="1676520"/>
            <a:ext cx="41652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301320" y="3984120"/>
            <a:ext cx="853596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5AF6B7-5A80-4C33-8027-E8056A887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1320" y="174600"/>
            <a:ext cx="85057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1320" y="1676520"/>
            <a:ext cx="853596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01320" y="3984120"/>
            <a:ext cx="853596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9C15D2-1010-4565-8B7A-E282BA4A8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01320" y="174600"/>
            <a:ext cx="85057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1320" y="1676520"/>
            <a:ext cx="41652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5320" y="1676520"/>
            <a:ext cx="41652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301320" y="3984120"/>
            <a:ext cx="41652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5320" y="3984120"/>
            <a:ext cx="41652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A22BD4-32A5-4304-A498-567120988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1320" y="174600"/>
            <a:ext cx="85057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1320" y="1676520"/>
            <a:ext cx="274824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187440" y="1676520"/>
            <a:ext cx="274824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73560" y="1676520"/>
            <a:ext cx="274824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301320" y="3984120"/>
            <a:ext cx="274824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187440" y="3984120"/>
            <a:ext cx="274824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73560" y="3984120"/>
            <a:ext cx="274824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BC7F8D-05A2-400D-8EE7-B99E3BB7E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C235DA-6978-43D4-B314-8AA30985F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01320" y="174600"/>
            <a:ext cx="85057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301320" y="1676520"/>
            <a:ext cx="8535960" cy="441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742FD2-9114-4C21-8337-D4DF9D678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174600"/>
            <a:ext cx="85057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01320" y="1676520"/>
            <a:ext cx="8535960" cy="44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852181-7D85-4417-A563-9CE465EA0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1320" y="174600"/>
            <a:ext cx="85057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01320" y="1676520"/>
            <a:ext cx="4165200" cy="44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5320" y="1676520"/>
            <a:ext cx="4165200" cy="44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09EAF-7F69-49A2-ACB2-BAB47A0B2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174600"/>
            <a:ext cx="85057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676520"/>
            <a:ext cx="4165200" cy="44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5320" y="1676520"/>
            <a:ext cx="4165200" cy="44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FB11D5-F069-4EA1-BCFF-B343DDA3A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01320" y="174600"/>
            <a:ext cx="85057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E680F8-CDFC-49D3-82B1-A431B03B4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301320" y="174600"/>
            <a:ext cx="85057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1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3C53DD-B5E3-4E01-9F9A-CA638B491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174600"/>
            <a:ext cx="85057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320" y="1676520"/>
            <a:ext cx="41652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5320" y="1676520"/>
            <a:ext cx="4165200" cy="44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320" y="3984120"/>
            <a:ext cx="41652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667CC6-7128-4E9F-AB2F-D37106723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320" y="174600"/>
            <a:ext cx="85057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320" y="1676520"/>
            <a:ext cx="4165200" cy="44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5320" y="1676520"/>
            <a:ext cx="41652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675320" y="3984120"/>
            <a:ext cx="41652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954954-960D-4D50-889B-642BA3B43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1320" y="174600"/>
            <a:ext cx="85057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1320" y="1676520"/>
            <a:ext cx="41652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5320" y="1676520"/>
            <a:ext cx="41652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301320" y="3984120"/>
            <a:ext cx="853596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F34AD6-D1BE-4888-ADAF-AD10816B5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320" y="174600"/>
            <a:ext cx="85057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320" y="1676520"/>
            <a:ext cx="853596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01320" y="3984120"/>
            <a:ext cx="853596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189F54-4871-4AA6-AF77-6F642BF44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174600"/>
            <a:ext cx="85057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676520"/>
            <a:ext cx="41652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5320" y="1676520"/>
            <a:ext cx="41652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301320" y="3984120"/>
            <a:ext cx="41652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675320" y="3984120"/>
            <a:ext cx="41652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EEECD2-7C60-4074-8CFC-F1F999DEA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174600"/>
            <a:ext cx="85057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676520"/>
            <a:ext cx="274824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187440" y="1676520"/>
            <a:ext cx="274824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73560" y="1676520"/>
            <a:ext cx="274824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301320" y="3984120"/>
            <a:ext cx="274824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3187440" y="3984120"/>
            <a:ext cx="274824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6073560" y="3984120"/>
            <a:ext cx="274824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DAD5F6-6301-4798-99CA-D64192395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5DC846-24EF-4A9D-A571-1D6E668A9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174600"/>
            <a:ext cx="85057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2CF76-A9B3-488C-8F25-EAA0B1A65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174600"/>
            <a:ext cx="85057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301320" y="1676520"/>
            <a:ext cx="8535960" cy="441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AA28F3-BA23-4236-9C0A-081AED56F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01320" y="174600"/>
            <a:ext cx="85057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01320" y="1676520"/>
            <a:ext cx="8535960" cy="44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F5DDD8-EA23-4E1B-BCAF-5FA31396F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1320" y="174600"/>
            <a:ext cx="85057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1320" y="1676520"/>
            <a:ext cx="4165200" cy="44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5320" y="1676520"/>
            <a:ext cx="4165200" cy="44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CC89C0-639E-49CC-9C7B-512D1EA2F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174600"/>
            <a:ext cx="85057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6DBC17-FB7B-43F7-9B31-1F8DA95BC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301320" y="174600"/>
            <a:ext cx="85057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1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ABF3BE-EBC8-4E3B-A71A-F51D10304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1320" y="174600"/>
            <a:ext cx="85057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01320" y="1676520"/>
            <a:ext cx="41652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5320" y="1676520"/>
            <a:ext cx="4165200" cy="44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301320" y="3984120"/>
            <a:ext cx="41652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B75EDB-451B-46B0-AFF0-636A2695F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01320" y="174600"/>
            <a:ext cx="85057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01320" y="1676520"/>
            <a:ext cx="4165200" cy="44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5320" y="1676520"/>
            <a:ext cx="41652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675320" y="3984120"/>
            <a:ext cx="41652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7DB0AA-449C-4A3A-A851-80499A253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01320" y="174600"/>
            <a:ext cx="85057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01320" y="1676520"/>
            <a:ext cx="41652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5320" y="1676520"/>
            <a:ext cx="41652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301320" y="3984120"/>
            <a:ext cx="853596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D472C6-613F-4CA1-85A5-3D5BF6959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174600"/>
            <a:ext cx="85057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676520"/>
            <a:ext cx="853596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01320" y="3984120"/>
            <a:ext cx="853596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55F98D-9EDB-4F62-8D91-B0B62CAA4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01320" y="174600"/>
            <a:ext cx="85057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01320" y="1676520"/>
            <a:ext cx="41652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5320" y="1676520"/>
            <a:ext cx="41652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301320" y="3984120"/>
            <a:ext cx="41652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675320" y="3984120"/>
            <a:ext cx="41652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49BE9C-1E71-4DFA-BA5F-D9D25262C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301320" y="174600"/>
            <a:ext cx="85057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1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9F13D-1412-4D0B-BD1F-4D2E1AF61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174600"/>
            <a:ext cx="85057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676520"/>
            <a:ext cx="274824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187440" y="1676520"/>
            <a:ext cx="274824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73560" y="1676520"/>
            <a:ext cx="274824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301320" y="3984120"/>
            <a:ext cx="274824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3187440" y="3984120"/>
            <a:ext cx="274824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6073560" y="3984120"/>
            <a:ext cx="274824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5010E2-4A91-4613-B84A-65771A7F7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1320" y="174600"/>
            <a:ext cx="85057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1320" y="1676520"/>
            <a:ext cx="41652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5320" y="1676520"/>
            <a:ext cx="4165200" cy="44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1320" y="3984120"/>
            <a:ext cx="41652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498A6-79DC-4CB8-8F32-7910AB752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01320" y="174600"/>
            <a:ext cx="85057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01320" y="1676520"/>
            <a:ext cx="4165200" cy="44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5320" y="1676520"/>
            <a:ext cx="41652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5320" y="3984120"/>
            <a:ext cx="41652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ABA3B-0BE1-47AB-9FA3-9F9DC8940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320" y="174600"/>
            <a:ext cx="85057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01320" y="1676520"/>
            <a:ext cx="41652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5320" y="1676520"/>
            <a:ext cx="41652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301320" y="3984120"/>
            <a:ext cx="853596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DE9B5-FADA-4EA0-B9FA-6B877B522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932160"/>
            <a:chOff x="0" y="0"/>
            <a:chExt cx="9142560" cy="6932160"/>
          </a:xfrm>
        </p:grpSpPr>
        <p:sp>
          <p:nvSpPr>
            <p:cNvPr id="1" name=""/>
            <p:cNvSpPr/>
            <p:nvPr/>
          </p:nvSpPr>
          <p:spPr>
            <a:xfrm>
              <a:off x="0" y="3504240"/>
              <a:ext cx="3991680" cy="312624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1440"/>
              <a:ext cx="3351960" cy="254556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0280" y="5131080"/>
              <a:ext cx="5821920" cy="149616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600"/>
              <a:ext cx="1544400" cy="189612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59800" y="1080"/>
              <a:ext cx="4079160" cy="359640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4760" y="1080"/>
              <a:ext cx="3468240" cy="239328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29960"/>
              <a:ext cx="1294920" cy="127908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1960"/>
              <a:ext cx="1209240" cy="16956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2720" y="5445360"/>
              <a:ext cx="5050440" cy="118224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560" y="201240"/>
              <a:ext cx="1080" cy="108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720" bIns="-45720" anchor="ctr">
              <a:no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3640" y="207720"/>
              <a:ext cx="1080" cy="108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720" bIns="-45720" anchor="ctr">
              <a:no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399000"/>
              <a:ext cx="9142560" cy="45684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399000"/>
              <a:ext cx="9142560" cy="53316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2560" cy="45684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7840" y="363240"/>
              <a:ext cx="5059800" cy="321192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360" y="464760"/>
              <a:ext cx="3402720" cy="283572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3360" y="2742480"/>
              <a:ext cx="4488840" cy="375480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5520" y="2951640"/>
              <a:ext cx="3431520" cy="306900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49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86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8360" indent="-281160">
              <a:lnSpc>
                <a:spcPct val="86000"/>
              </a:lnSpc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86000"/>
              </a:lnSpc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86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86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86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86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2868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080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212904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592327-BABB-4C21-8B68-E923C89CF3E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2560" cy="6932160"/>
            <a:chOff x="0" y="0"/>
            <a:chExt cx="9142560" cy="6932160"/>
          </a:xfrm>
        </p:grpSpPr>
        <p:sp>
          <p:nvSpPr>
            <p:cNvPr id="61" name=""/>
            <p:cNvSpPr/>
            <p:nvPr/>
          </p:nvSpPr>
          <p:spPr>
            <a:xfrm>
              <a:off x="0" y="3504240"/>
              <a:ext cx="3991680" cy="312624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1440"/>
              <a:ext cx="3351960" cy="254556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0280" y="5131080"/>
              <a:ext cx="5821920" cy="149616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600"/>
              <a:ext cx="1544400" cy="189612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59800" y="1080"/>
              <a:ext cx="4079160" cy="359640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4760" y="1080"/>
              <a:ext cx="3468240" cy="239328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29960"/>
              <a:ext cx="1294920" cy="127908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1960"/>
              <a:ext cx="1209240" cy="16956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2720" y="5445360"/>
              <a:ext cx="5050440" cy="118224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560" y="201240"/>
              <a:ext cx="1080" cy="108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720" bIns="-45720" anchor="ctr">
              <a:no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3640" y="207720"/>
              <a:ext cx="1080" cy="108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720" bIns="-45720" anchor="ctr">
              <a:no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399000"/>
              <a:ext cx="9142560" cy="45684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399000"/>
              <a:ext cx="9142560" cy="53316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2560" cy="45684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7840" y="363240"/>
              <a:ext cx="5059800" cy="321192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360" y="464760"/>
              <a:ext cx="3402720" cy="283572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3360" y="2742480"/>
              <a:ext cx="4488840" cy="375480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5520" y="2951640"/>
              <a:ext cx="3431520" cy="306900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1828440"/>
            <a:ext cx="7767720" cy="17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2868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080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12904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F4DE731A-EDA5-4E68-938D-5C220DF52D1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1320" y="174600"/>
            <a:ext cx="85057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301320" y="1676520"/>
            <a:ext cx="8535960" cy="44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8360" indent="-281160">
              <a:lnSpc>
                <a:spcPct val="81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1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81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81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304920" y="6245280"/>
            <a:ext cx="228096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ftr" idx="8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 Unicode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5280"/>
            <a:ext cx="228132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2BD9B7-9B60-4E72-B7CE-EB975B3C4D0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980720"/>
            <a:ext cx="7767720" cy="15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dt" idx="10"/>
          </p:nvPr>
        </p:nvSpPr>
        <p:spPr>
          <a:xfrm>
            <a:off x="304920" y="6245280"/>
            <a:ext cx="228096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ftr" idx="11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 Unicode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5280"/>
            <a:ext cx="228132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74845D-42FD-4DC1-B9BB-10BA921CC71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8224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dt" idx="13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 type="ftr" idx="14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 Unicode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FBD43D59-4336-4EA8-A97C-0A75034909B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592200" y="549360"/>
            <a:ext cx="3403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 Unicode MS"/>
              </a:rPr>
              <a:t>«</a:t>
            </a:r>
            <a:r>
              <a:rPr b="1" i="1" lang="en-US" sz="3200" spc="-1" strike="noStrike">
                <a:solidFill>
                  <a:srgbClr val="ffffff"/>
                </a:solidFill>
                <a:latin typeface="Arial Unicode MS"/>
              </a:rPr>
              <a:t>Что за прелесть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i="1" lang="en-US" sz="3200" spc="-1" strike="noStrike">
                <a:solidFill>
                  <a:srgbClr val="ffffff"/>
                </a:solidFill>
                <a:latin typeface="Arial Unicode MS"/>
              </a:rPr>
              <a:t>эти сказки!»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 Unicode MS"/>
              </a:rPr>
              <a:t>А.С.Пушкин.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48" name=""/>
          <p:cNvSpPr/>
          <p:nvPr/>
        </p:nvSpPr>
        <p:spPr>
          <a:xfrm>
            <a:off x="484200" y="3429000"/>
            <a:ext cx="865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 Unicode MS"/>
              </a:rPr>
              <a:t>ПУТЕШЕСТВИЕ</a:t>
            </a:r>
            <a:r>
              <a:rPr b="1" i="1" lang="en-GB" sz="3200" spc="-1" strike="noStrike">
                <a:solidFill>
                  <a:srgbClr val="ffffff"/>
                </a:solidFill>
                <a:latin typeface="Arial Unicode MS"/>
              </a:rPr>
              <a:t> ПО СКАЗКАМ ПУШКИНА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49" name=""/>
          <p:cNvSpPr/>
          <p:nvPr/>
        </p:nvSpPr>
        <p:spPr>
          <a:xfrm>
            <a:off x="4883760" y="4076640"/>
            <a:ext cx="246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5076720" y="-89208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925560" y="404640"/>
            <a:ext cx="8218440" cy="19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4400" spc="-1" strike="noStrike">
                <a:solidFill>
                  <a:srgbClr val="feec94"/>
                </a:solidFill>
                <a:latin typeface="Times New Roman"/>
              </a:rPr>
              <a:t>Александр Сергеевич Пушкин</a:t>
            </a:r>
            <a:br>
              <a:rPr sz="4400"/>
            </a:br>
            <a:r>
              <a:rPr b="0" i="1" lang="en-US" sz="4400" spc="-1" strike="noStrike">
                <a:solidFill>
                  <a:srgbClr val="feec94"/>
                </a:solidFill>
                <a:latin typeface="Times New Roman"/>
              </a:rPr>
              <a:t>(1799-1837)</a:t>
            </a:r>
            <a:r>
              <a:rPr b="0" i="1" lang="en-US" sz="4400" spc="-1" strike="noStrike">
                <a:solidFill>
                  <a:srgbClr val="feec94"/>
                </a:solidFill>
                <a:latin typeface="Times New Roman"/>
              </a:rPr>
              <a:t>‏</a:t>
            </a:r>
            <a:endParaRPr b="0" lang="en-US" sz="4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52" name=""/>
          <p:cNvSpPr/>
          <p:nvPr/>
        </p:nvSpPr>
        <p:spPr>
          <a:xfrm>
            <a:off x="2916360" y="2565360"/>
            <a:ext cx="5832360" cy="32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Александр Сергеевич Пушкин - известнейший русский поэт.</a:t>
            </a: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Пушкин написал много стихотворений, поэм, повестей и рассказов.</a:t>
            </a: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Среди его детских сказок наиболее известны “Руслан и Людмила”, “Сказка о попе и о его работнике Балде”, “Сказка о рыбаке и рыбке”, “Сказка о царе Салтане” и другие. </a:t>
            </a: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324000" y="2708280"/>
            <a:ext cx="2512800" cy="28083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50" autoRev="1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3300"/>
                                      </p:to>
                                    </p:animClr>
                                    <p:animClr clrSpc="rgb">
                                      <p:cBhvr>
                                        <p:cTn id="7" dur="250" autoRev="1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3300"/>
                                      </p:to>
                                    </p:animClr>
                                    <p:set>
                                      <p:cBhvr>
                                        <p:cTn id="8" dur="250" autoRev="1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2987640" y="314280"/>
            <a:ext cx="295272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feec94"/>
                </a:solidFill>
                <a:latin typeface="Times New Roman"/>
              </a:rPr>
              <a:t>Мы знаем, вы любите игры,</a:t>
            </a:r>
            <a:br>
              <a:rPr sz="1600"/>
            </a:br>
            <a:r>
              <a:rPr b="0" i="1" lang="en-US" sz="1600" spc="-1" strike="noStrike">
                <a:solidFill>
                  <a:srgbClr val="feec94"/>
                </a:solidFill>
                <a:latin typeface="Times New Roman"/>
              </a:rPr>
              <a:t>Песни, загадки и пляски,  </a:t>
            </a:r>
            <a:br>
              <a:rPr sz="1600"/>
            </a:br>
            <a:r>
              <a:rPr b="0" i="1" lang="en-US" sz="1600" spc="-1" strike="noStrike">
                <a:solidFill>
                  <a:srgbClr val="feec94"/>
                </a:solidFill>
                <a:latin typeface="Times New Roman"/>
              </a:rPr>
              <a:t>Но нет ничего интересней,</a:t>
            </a:r>
            <a:br>
              <a:rPr sz="1600"/>
            </a:br>
            <a:r>
              <a:rPr b="0" i="1" lang="en-US" sz="1600" spc="-1" strike="noStrike">
                <a:solidFill>
                  <a:srgbClr val="feec94"/>
                </a:solidFill>
                <a:latin typeface="Times New Roman"/>
              </a:rPr>
              <a:t>Чем наши волшебные сказки</a:t>
            </a:r>
            <a:br>
              <a:rPr sz="1600"/>
            </a:br>
            <a:br>
              <a:rPr sz="1600"/>
            </a:br>
            <a:br>
              <a:rPr sz="1600"/>
            </a:br>
            <a:br>
              <a:rPr sz="1400"/>
            </a:br>
            <a:endParaRPr b="0" lang="en-US" sz="1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55" name=""/>
          <p:cNvSpPr/>
          <p:nvPr/>
        </p:nvSpPr>
        <p:spPr>
          <a:xfrm>
            <a:off x="324000" y="1484280"/>
            <a:ext cx="8208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 Unicode MS"/>
              </a:rPr>
              <a:t>Мы с вами отправляемся в волшебный мир сказок 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 Unicode MS"/>
              </a:rPr>
              <a:t>Александра Сергеевича Пушкина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 Unicode MS"/>
              </a:rPr>
              <a:t>За каждый правильный ответ вы будете получать нарисованный предмет из сказок Пушкина.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56" name=""/>
          <p:cNvSpPr/>
          <p:nvPr/>
        </p:nvSpPr>
        <p:spPr>
          <a:xfrm>
            <a:off x="971640" y="3141720"/>
            <a:ext cx="7200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Unicode MS"/>
              </a:rPr>
              <a:t>ВОПРОСЫ: 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 Unicode MS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 Unicode MS"/>
              </a:rPr>
              <a:t>Что кричал Петушок, сидя на спице?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 Unicode MS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i="1" lang="en-US" sz="1800" spc="-1" strike="noStrike">
                <a:solidFill>
                  <a:srgbClr val="ffffff"/>
                </a:solidFill>
                <a:latin typeface="Arial Unicode MS"/>
              </a:rPr>
              <a:t>Что пообещал царь Дадон мудрецу?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 Unicode MS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 Unicode MS"/>
              </a:rPr>
              <a:t>Расплачиваясь с Балдой, поп подставлял лоб. Что же           приговаривал Балда с укоризной?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 Unicode MS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 Unicode MS"/>
              </a:rPr>
              <a:t>Какими словами заканчивается «Сказка о золотом  петушке»?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p:transition>
    <p:comb dir="horz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8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8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8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5560" y="1144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1187280" y="1557360"/>
            <a:ext cx="5205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280099"/>
                </a:solidFill>
                <a:latin typeface="Arial Unicode MS"/>
              </a:rPr>
              <a:t>Какими словами начинается «Сказка о рыбаке и рыбке»?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280099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280099"/>
                </a:solidFill>
                <a:latin typeface="Arial Unicode MS"/>
              </a:rPr>
              <a:t>С какими словами обращался старик к золотой рыбке?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280099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280099"/>
                </a:solidFill>
                <a:latin typeface="Arial Unicode MS"/>
              </a:rPr>
              <a:t>Перечислите по порядку, в кого хотела превратиться сварливая баба?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p:transition>
    <p:comb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"/>
          <p:cNvPicPr/>
          <p:nvPr/>
        </p:nvPicPr>
        <p:blipFill>
          <a:blip r:embed="rId2"/>
          <a:stretch/>
        </p:blipFill>
        <p:spPr>
          <a:xfrm>
            <a:off x="324000" y="2712960"/>
            <a:ext cx="133200" cy="7632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/>
          <p:nvPr/>
        </p:nvSpPr>
        <p:spPr>
          <a:xfrm>
            <a:off x="1476360" y="1989000"/>
            <a:ext cx="64404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ae00"/>
                </a:solidFill>
                <a:latin typeface="Arial Unicode MS"/>
              </a:rPr>
              <a:t>С </a:t>
            </a:r>
            <a:r>
              <a:rPr b="0" lang="en-US" sz="2000" spc="-1" strike="noStrike">
                <a:solidFill>
                  <a:srgbClr val="00ae00"/>
                </a:solidFill>
                <a:latin typeface="Arial Unicode MS"/>
              </a:rPr>
              <a:t>какими словами обращалась царица к волшебному зеркальцу?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 Unicode MS"/>
              </a:rPr>
              <a:t> </a:t>
            </a:r>
            <a:r>
              <a:rPr b="0" lang="en-US" sz="2000" spc="-1" strike="noStrike">
                <a:solidFill>
                  <a:srgbClr val="00ae00"/>
                </a:solidFill>
                <a:latin typeface="Arial Unicode MS"/>
              </a:rPr>
              <a:t>Что ответило зеркальце злой мачехе в конце сказки?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 Unicode MS"/>
              </a:rPr>
              <a:t> </a:t>
            </a:r>
            <a:r>
              <a:rPr b="0" lang="en-US" sz="2000" spc="-1" strike="noStrike">
                <a:solidFill>
                  <a:srgbClr val="00ae00"/>
                </a:solidFill>
                <a:latin typeface="Arial Unicode MS"/>
              </a:rPr>
              <a:t>Какими словами заканчивается «Сказка о царе Салтане» и «Сказка о мертвой царевне и о семи богатырях»?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62" name=""/>
          <p:cNvSpPr/>
          <p:nvPr/>
        </p:nvSpPr>
        <p:spPr>
          <a:xfrm>
            <a:off x="2031840" y="1868400"/>
            <a:ext cx="3260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p:transition>
    <p:comb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" descr=""/>
          <p:cNvPicPr/>
          <p:nvPr/>
        </p:nvPicPr>
        <p:blipFill>
          <a:blip r:embed="rId2"/>
          <a:stretch/>
        </p:blipFill>
        <p:spPr>
          <a:xfrm>
            <a:off x="2246400" y="373536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3"/>
          <a:stretch/>
        </p:blipFill>
        <p:spPr>
          <a:xfrm>
            <a:off x="6539040" y="3994200"/>
            <a:ext cx="2604960" cy="28638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539640" y="550800"/>
            <a:ext cx="79916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b7e7ff"/>
                </a:solidFill>
                <a:latin typeface="Comic Sans MS"/>
              </a:rPr>
              <a:t>Наш</a:t>
            </a:r>
            <a:r>
              <a:rPr b="0" lang="ru-RU" sz="2400" spc="-1" strike="noStrike">
                <a:solidFill>
                  <a:srgbClr val="b7e7ff"/>
                </a:solidFill>
                <a:latin typeface="Comic Sans MS"/>
              </a:rPr>
              <a:t>е</a:t>
            </a:r>
            <a:r>
              <a:rPr b="0" lang="en-GB" sz="2400" spc="-1" strike="noStrike">
                <a:solidFill>
                  <a:srgbClr val="b7e7ff"/>
                </a:solidFill>
                <a:latin typeface="Comic Sans MS"/>
              </a:rPr>
              <a:t>  </a:t>
            </a:r>
            <a:r>
              <a:rPr b="0" lang="ru-RU" sz="2400" spc="-1" strike="noStrike">
                <a:solidFill>
                  <a:srgbClr val="b7e7ff"/>
                </a:solidFill>
                <a:latin typeface="Comic Sans MS"/>
              </a:rPr>
              <a:t>путешествие</a:t>
            </a:r>
            <a:r>
              <a:rPr b="0" lang="en-GB" sz="2400" spc="-1" strike="noStrike">
                <a:solidFill>
                  <a:srgbClr val="b7e7ff"/>
                </a:solidFill>
                <a:latin typeface="Comic Sans MS"/>
              </a:rPr>
              <a:t> по океану сказок  А.С.Пушкина завершается.</a:t>
            </a:r>
            <a:br>
              <a:rPr sz="2400"/>
            </a:br>
            <a:r>
              <a:rPr b="0" lang="en-GB" sz="2400" spc="-1" strike="noStrike">
                <a:solidFill>
                  <a:srgbClr val="b7e7ff"/>
                </a:solidFill>
                <a:latin typeface="Comic Sans MS"/>
              </a:rPr>
              <a:t>Давайте подведем итоги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b7e7ff"/>
                </a:solidFill>
                <a:latin typeface="Comic Sans MS"/>
              </a:rPr>
              <a:t>Посчитайте  предметы из сказок, которые вы получили за правильные ответы.</a:t>
            </a:r>
            <a:br>
              <a:rPr sz="2400"/>
            </a:br>
            <a:br>
              <a:rPr sz="2400"/>
            </a:br>
            <a:r>
              <a:rPr b="0" lang="en-GB" sz="2400" spc="-1" strike="noStrike">
                <a:solidFill>
                  <a:srgbClr val="b7e7ff"/>
                </a:solidFill>
                <a:latin typeface="Comic Sans MS"/>
              </a:rPr>
              <a:t>У кого наибольшее количество предметов, тот и стал победителем </a:t>
            </a:r>
            <a:r>
              <a:rPr b="0" lang="ru-RU" sz="2400" spc="-1" strike="noStrike">
                <a:solidFill>
                  <a:srgbClr val="b7e7ff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b7e7ff"/>
                </a:solidFill>
                <a:latin typeface="Comic Sans MS"/>
              </a:rPr>
              <a:t> среди болельщиков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b7e7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p:transition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Горчакова Н И </cp:lastModifiedBy>
  <dcterms:modified xsi:type="dcterms:W3CDTF">2009-11-13T16:27:22Z</dcterms:modified>
  <cp:revision>2</cp:revision>
  <dc:subject/>
  <dc:title>Слайд 1</dc:title>
</cp:coreProperties>
</file>