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CCE-3D56-49B5-B344-58F2E221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9ED-9C84-43B6-912C-92CFB05D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089-9371-4081-AA7F-9DDCFEDF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026-FB58-409E-9445-006F19D2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192-DBF4-44F8-9502-4D0E96AB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29F-985D-42D5-A423-E40CA17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2C0-B165-441D-B792-75B0EF1F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43D-CF93-4DE5-B88E-0BB9EAE0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C40-9B16-47D0-BD91-694B5449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4EB-50BB-4B20-BE96-05EB3FD2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9F4-55E4-47FD-A97B-AE6A37EB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E38-2FBA-4471-92BF-DD59309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B96E-2A90-4B55-AACE-647205B2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2000" cy="12096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ихаил Дудин</a:t>
            </a:r>
            <a:br>
              <a:rPr sz="28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Танцующие журав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2000" cy="502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5c1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к совершенство неба и земли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Весенние танцуют жура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gradFill rotWithShape="0">
            <a:gsLst>
              <a:gs pos="0">
                <a:srgbClr val="d3ebed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Блистательный балет среди болот.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Гармонии и грации пол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719520" cy="4824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743280" cy="4751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Изящества и пластики турнир,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Живого чуда несравнен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8496000" cy="4924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5c1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Тот, кто увидел это чудо мог, Уже не просто человек, а бо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66680"/>
          </a:xfrm>
          <a:prstGeom prst="rect">
            <a:avLst/>
          </a:prstGeom>
          <a:gradFill rotWithShape="0">
            <a:gsLst>
              <a:gs pos="0">
                <a:srgbClr val="afcccd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лучайно в руки получивший нить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ения гармонию хран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73400" cy="302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7450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96072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3429000"/>
            <a:ext cx="40338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60720" cy="612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60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038840" cy="4680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948040" cy="234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32:33Z</dcterms:created>
  <dc:creator>www.PHILka.RU</dc:creator>
  <dc:description/>
  <dc:language>en-US</dc:language>
  <cp:lastModifiedBy>www.PHILka.RU</cp:lastModifiedBy>
  <dcterms:modified xsi:type="dcterms:W3CDTF">2010-09-15T18:34:43Z</dcterms:modified>
  <cp:revision>3</cp:revision>
  <dc:subject/>
  <dc:title>                                                       Михаил Дудин Танцующие журавли</dc:title>
</cp:coreProperties>
</file>