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F8D-D738-4034-AF6C-D8CCE6B0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9E8-4339-4745-BB06-ED5A174F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3E5-BC50-4A9B-A4CF-DB795BD8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530-9AA8-465B-8CFF-AA6D75D2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371-BAF0-4883-9830-F6B4068F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6F1-1604-4ECA-BCA3-3AFF1A9A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844-B4FD-4449-A638-6E4A5EC7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8DD-D397-4087-A907-0B5248E6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F1E-B1E7-49AC-BE7B-0EF50927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A04-0730-4678-B172-D5CFC09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61B-709F-4658-9CE6-59B547F9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BA4-A807-46B6-A158-5BE22F06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2B5E-35C2-44A2-939E-4C53AF060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2000" cy="12096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ихаил Дудин</a:t>
            </a:r>
            <a:br>
              <a:rPr sz="28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Танцующие журав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2000" cy="502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5c1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Как совершенство неба и земли</a:t>
            </a:r>
            <a:br>
              <a:rPr sz="3600"/>
            </a:b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Весенние танцуют журав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gradFill rotWithShape="0">
            <a:gsLst>
              <a:gs pos="0">
                <a:srgbClr val="d3ebed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Блистательный балет среди болот.</a:t>
            </a:r>
            <a:br>
              <a:rPr sz="3600"/>
            </a:b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Гармонии и грации пол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3719520" cy="4824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743280" cy="4751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Изящества и пластики турнир,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Живого чуда несравненны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600200"/>
            <a:ext cx="8496000" cy="4924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5c1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Тот, кто увидел это чудо мог, Уже не просто человек, а бог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066680"/>
          </a:xfrm>
          <a:prstGeom prst="rect">
            <a:avLst/>
          </a:prstGeom>
          <a:gradFill rotWithShape="0">
            <a:gsLst>
              <a:gs pos="0">
                <a:srgbClr val="afcccd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лучайно в руки получивший нить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ения гармонию хран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73400" cy="302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37450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96072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3429000"/>
            <a:ext cx="403380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960720" cy="612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60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038840" cy="4680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2948040" cy="234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32:33Z</dcterms:created>
  <dc:creator>www.PHILka.RU</dc:creator>
  <dc:description/>
  <dc:language>en-US</dc:language>
  <cp:lastModifiedBy>www.PHILka.RU</cp:lastModifiedBy>
  <dcterms:modified xsi:type="dcterms:W3CDTF">2010-09-15T18:34:43Z</dcterms:modified>
  <cp:revision>3</cp:revision>
  <dc:subject/>
  <dc:title>                                                       Михаил Дудин Танцующие журавли</dc:title>
</cp:coreProperties>
</file>