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4A2-EB66-4013-B586-3EAC6390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9C7-17AC-4113-BC02-75A6EED5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DB4-F8EF-486B-95C9-2E83C291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624-CE0C-46CC-8B06-30D90BCD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924-F756-4D47-BC1C-AAFA2ADB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3AB-5E6D-48EC-8DC9-A755158A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462-5590-4BB8-A093-470CF370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948-6887-425E-8B08-4AC5815A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67E-DA76-4388-BDC1-4BB1C079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400D-F472-473E-A327-7F904309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E80-557F-4295-B0EE-43CA98BD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AAB-5A2D-4EE5-A3CA-C759957A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891D-71A6-48E5-8A53-BE16808FB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2000" cy="12096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ихаил Дудин</a:t>
            </a:r>
            <a:br>
              <a:rPr sz="28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Танцующие журав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2000" cy="502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5c1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Как совершенство неба и земли</a:t>
            </a:r>
            <a:br>
              <a:rPr sz="3600"/>
            </a:b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Весенние танцуют журав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gradFill rotWithShape="0">
            <a:gsLst>
              <a:gs pos="0">
                <a:srgbClr val="d3ebed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Блистательный балет среди болот.</a:t>
            </a:r>
            <a:br>
              <a:rPr sz="3600"/>
            </a:b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Гармонии и грации пол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3719520" cy="4824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743280" cy="4751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Изящества и пластики турнир,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Живого чуда несравненный м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600200"/>
            <a:ext cx="8496000" cy="4924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5c1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Тот, кто увидел это чудо мог, Уже не просто человек, а бог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066680"/>
          </a:xfrm>
          <a:prstGeom prst="rect">
            <a:avLst/>
          </a:prstGeom>
          <a:gradFill rotWithShape="0">
            <a:gsLst>
              <a:gs pos="0">
                <a:srgbClr val="afcccd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Случайно в руки получивший нить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мения гармонию хран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073400" cy="3024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37450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96072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788000" y="3429000"/>
            <a:ext cx="403380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960720" cy="612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4105080" cy="60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038840" cy="4680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2948040" cy="234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32:33Z</dcterms:created>
  <dc:creator>www.PHILka.RU</dc:creator>
  <dc:description/>
  <dc:language>en-US</dc:language>
  <cp:lastModifiedBy>www.PHILka.RU</cp:lastModifiedBy>
  <dcterms:modified xsi:type="dcterms:W3CDTF">2010-09-15T18:34:43Z</dcterms:modified>
  <cp:revision>3</cp:revision>
  <dc:subject/>
  <dc:title>                                                       Михаил Дудин Танцующие журавли</dc:title>
</cp:coreProperties>
</file>