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39C-BBC7-4854-8884-B54A36C9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10B-417E-446E-BE9C-430BB88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853-550B-4C92-91E5-2BBE3E8B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CA2-715B-4D80-AEC9-69CCE778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03E6-D7D5-4533-89C8-B8D40A08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2014-B272-4AE2-886A-712B17B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36CC-D07E-456B-BA25-A4B29BE0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F85B-49F1-4CC3-933C-33FC4CB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B449-10A0-40D8-A118-DC3D6FC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C00E-00BF-4EF8-ABFF-3425B395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A58C-78C8-4172-896C-8660D7F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638-2562-4FF6-81A3-6C6F2888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B92C-75D3-4090-84AB-85E007F3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27C-E18F-42CB-AE8A-225E2B1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BAA0-C03E-4E6B-AAD3-75A4AF2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C385-602E-4D3E-9407-9AA8885E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EC6-569C-42BD-B902-B18073EC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088-E4FC-413B-A03C-D50BE602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4C3-CDBB-4C69-AF51-EFEA6E9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545-1E5D-4564-965E-DF5A84C0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0CF-BA66-4B0C-B77B-17F38D36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18D-31EB-4C4A-8C7B-33A6802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85D-25A2-445F-AED9-A67DAE7D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679-8BFB-4A1E-93CC-2E0B6CF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47C-B16B-46AF-9072-86141C57E1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A5E-F607-4AD5-B7AD-785FCA16013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Разнообразие растений на Земл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28600" y="5157720"/>
            <a:ext cx="407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ружающий м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розова Марина Александр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СОШ с. Теликов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8" descr="кадр_3_новый размер"/>
          <p:cNvPicPr/>
          <p:nvPr/>
        </p:nvPicPr>
        <p:blipFill>
          <a:blip r:embed="rId1"/>
          <a:stretch/>
        </p:blipFill>
        <p:spPr>
          <a:xfrm>
            <a:off x="611280" y="3357720"/>
            <a:ext cx="3600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степ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268360" y="2565360"/>
            <a:ext cx="52930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пустын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268360" y="2492280"/>
            <a:ext cx="5364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города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365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дом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365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ы для самостоятельного изучения матери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росли – стр. 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хи – стр.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поротники – стр. 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войные растения – стр. 42-4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2920" y="979920"/>
            <a:ext cx="8569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Как сохранить это разнообразие?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429440" y="26359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9" descr="кадр_3_новый размер"/>
          <p:cNvPicPr/>
          <p:nvPr/>
        </p:nvPicPr>
        <p:blipFill>
          <a:blip r:embed="rId1"/>
          <a:stretch/>
        </p:blipFill>
        <p:spPr>
          <a:xfrm rot="20473200">
            <a:off x="755640" y="27082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кадр_3_новый размер"/>
          <p:cNvPicPr/>
          <p:nvPr/>
        </p:nvPicPr>
        <p:blipFill>
          <a:blip r:embed="rId2"/>
          <a:stretch/>
        </p:blipFill>
        <p:spPr>
          <a:xfrm rot="981000">
            <a:off x="6443280" y="2708280"/>
            <a:ext cx="231444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адр_3_новый размер"/>
          <p:cNvPicPr/>
          <p:nvPr/>
        </p:nvPicPr>
        <p:blipFill>
          <a:blip r:embed="rId3"/>
          <a:stretch/>
        </p:blipFill>
        <p:spPr>
          <a:xfrm>
            <a:off x="2771640" y="3933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кадр_3_новый размер"/>
          <p:cNvPicPr/>
          <p:nvPr/>
        </p:nvPicPr>
        <p:blipFill>
          <a:blip r:embed="rId4"/>
          <a:stretch/>
        </p:blipFill>
        <p:spPr>
          <a:xfrm>
            <a:off x="5148360" y="3933720"/>
            <a:ext cx="194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ределение темы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новка целей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комство со схемой «Разнообразие растений на Земле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учение свойств группы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ое изучение свойств одной из группы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крепление новых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ведение итог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а урока: «Разнообразие растений на Земл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азать разнообразие растительного мира на Зем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ть характеристику разным группам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ширить знания учащихся о растен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ть навык самостоятельного изучения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спитывать в детях бережное отношение к природ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азнообразие растений на Земл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044000" y="429156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мх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516360" y="42915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одоросл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203640" y="42915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520" y="62776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цветков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78520" y="62776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хвойн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14" descr="кадр_3_новый размер"/>
          <p:cNvPicPr/>
          <p:nvPr/>
        </p:nvPicPr>
        <p:blipFill>
          <a:blip r:embed="rId1"/>
          <a:stretch/>
        </p:blipFill>
        <p:spPr>
          <a:xfrm>
            <a:off x="539640" y="2421000"/>
            <a:ext cx="2160720" cy="19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кадр_3_новый размер"/>
          <p:cNvPicPr/>
          <p:nvPr/>
        </p:nvPicPr>
        <p:blipFill>
          <a:blip r:embed="rId2"/>
          <a:stretch/>
        </p:blipFill>
        <p:spPr>
          <a:xfrm>
            <a:off x="3276720" y="24210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кадр_3_новый размер"/>
          <p:cNvPicPr/>
          <p:nvPr/>
        </p:nvPicPr>
        <p:blipFill>
          <a:blip r:embed="rId3"/>
          <a:stretch/>
        </p:blipFill>
        <p:spPr>
          <a:xfrm>
            <a:off x="6372360" y="2421000"/>
            <a:ext cx="2400120" cy="190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кадр_3_новый размер"/>
          <p:cNvPicPr/>
          <p:nvPr/>
        </p:nvPicPr>
        <p:blipFill>
          <a:blip r:embed="rId4"/>
          <a:stretch/>
        </p:blipFill>
        <p:spPr>
          <a:xfrm>
            <a:off x="2195640" y="480996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кадр_3_новый размер"/>
          <p:cNvPicPr/>
          <p:nvPr/>
        </p:nvPicPr>
        <p:blipFill>
          <a:blip r:embed="rId5"/>
          <a:stretch/>
        </p:blipFill>
        <p:spPr>
          <a:xfrm>
            <a:off x="5148360" y="4797360"/>
            <a:ext cx="2182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ветковые рас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йчас на Земле господствуют цветковые растения. Их так называют потому, что они имеют цветки, из которых образуются плоды с семен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ветковые растения – самая многочисленная и распространенная на Земле группа растений. На Земле распространено 350 тыс. видов расте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 2004 году ученым удалось классифицировать 287 655 видов, среди них 238 650 цветковых, 16 000 мхов, 11000 папоротников, 8 000 зеленых водоросл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тения встречаются повсю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6" descr="кадр_3_новый размер"/>
          <p:cNvPicPr/>
          <p:nvPr/>
        </p:nvPicPr>
        <p:blipFill>
          <a:blip r:embed="rId1"/>
          <a:stretch/>
        </p:blipFill>
        <p:spPr>
          <a:xfrm>
            <a:off x="7308720" y="260280"/>
            <a:ext cx="1565280" cy="15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др_3_новый размер"/>
          <p:cNvPicPr/>
          <p:nvPr/>
        </p:nvPicPr>
        <p:blipFill>
          <a:blip r:embed="rId2"/>
          <a:stretch/>
        </p:blipFill>
        <p:spPr>
          <a:xfrm>
            <a:off x="7380360" y="5589720"/>
            <a:ext cx="1495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В лесу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400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На лугу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340000" y="2492280"/>
            <a:ext cx="5192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водоём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1763640" y="2492280"/>
            <a:ext cx="58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гора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1908000" y="2565360"/>
            <a:ext cx="569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7:48:30Z</dcterms:created>
  <dc:creator>Хромова Татьяна Николаевна</dc:creator>
  <dc:description/>
  <dc:language>en-US</dc:language>
  <cp:lastModifiedBy>Home</cp:lastModifiedBy>
  <dcterms:modified xsi:type="dcterms:W3CDTF">2011-01-30T10:10:47Z</dcterms:modified>
  <cp:revision>4</cp:revision>
  <dc:subject/>
  <dc:title>Слайд 1</dc:title>
</cp:coreProperties>
</file>