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F19-1D1A-4C82-924B-05E710D6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556-CEAF-417B-996B-544B4B0A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E19-EE13-4907-B6CE-2DC2868B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A90-A093-47D3-B998-7581DA90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35FB-D184-408D-9672-BCA6A251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0658-AC48-4311-A78E-4BC5F25E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F276-654E-4853-8386-6039C951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9956-B257-4577-A8CC-689017FE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E1A4-822A-419A-BF03-EBFC0773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C2D4-F30F-4397-9304-EE4186CC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719D-719B-4A52-96C2-0BF869DE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E3B-952E-42BB-9137-94149D10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2D8E-D9EB-4B13-B1A3-3A7918DE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3F38-8B29-4E0A-B076-CFCDC9A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E213-569C-4200-9D76-F598858D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8D99-0F96-4E1E-91E8-06708A72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B345-0694-4D07-A369-1239F029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B6C-67B1-4529-A139-00238C35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581-6F8A-417A-83F3-66C05B91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D5B-5D56-45FC-8E3D-DAFB2064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635-93C8-4FDE-82E1-B8BE9306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781-74FC-4AA9-8C39-D53C1E65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7F5-FF80-4F68-9CFD-4A2083E2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5C3-ED16-4219-87EA-C626BBD0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14D5-BA6C-41F5-B14A-8E6559D45C0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721C-3899-40AE-B5A8-9CFBFBA1525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Разнообразие растений на Земле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728600" y="5157720"/>
            <a:ext cx="407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кружающий ми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 клас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розова Марина Александро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СОШ с. Теликов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8" descr="кадр_3_новый размер"/>
          <p:cNvPicPr/>
          <p:nvPr/>
        </p:nvPicPr>
        <p:blipFill>
          <a:blip r:embed="rId1"/>
          <a:stretch/>
        </p:blipFill>
        <p:spPr>
          <a:xfrm>
            <a:off x="611280" y="3357720"/>
            <a:ext cx="36003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степ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268360" y="2565360"/>
            <a:ext cx="52930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пустын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268360" y="2492280"/>
            <a:ext cx="53643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городах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195640" y="2492280"/>
            <a:ext cx="53658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дом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195640" y="2492280"/>
            <a:ext cx="53658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мы для самостоятельного изучения материал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доросли – стр. 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хи – стр. 4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поротники – стр. 4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войные растения – стр. 42-4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2920" y="979920"/>
            <a:ext cx="8569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Как сохранить это разнообразие?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429440" y="263592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9" descr="кадр_3_новый размер"/>
          <p:cNvPicPr/>
          <p:nvPr/>
        </p:nvPicPr>
        <p:blipFill>
          <a:blip r:embed="rId1"/>
          <a:stretch/>
        </p:blipFill>
        <p:spPr>
          <a:xfrm rot="20473200">
            <a:off x="755640" y="27082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кадр_3_новый размер"/>
          <p:cNvPicPr/>
          <p:nvPr/>
        </p:nvPicPr>
        <p:blipFill>
          <a:blip r:embed="rId2"/>
          <a:stretch/>
        </p:blipFill>
        <p:spPr>
          <a:xfrm rot="981000">
            <a:off x="6443280" y="2708280"/>
            <a:ext cx="2314440" cy="1714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кадр_3_новый размер"/>
          <p:cNvPicPr/>
          <p:nvPr/>
        </p:nvPicPr>
        <p:blipFill>
          <a:blip r:embed="rId3"/>
          <a:stretch/>
        </p:blipFill>
        <p:spPr>
          <a:xfrm>
            <a:off x="2771640" y="393372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кадр_3_новый размер"/>
          <p:cNvPicPr/>
          <p:nvPr/>
        </p:nvPicPr>
        <p:blipFill>
          <a:blip r:embed="rId4"/>
          <a:stretch/>
        </p:blipFill>
        <p:spPr>
          <a:xfrm>
            <a:off x="5148360" y="3933720"/>
            <a:ext cx="1944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7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ределение темы уро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ановка целей уро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комство со схемой «Разнообразие растений на Земле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учение свойств группы раст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стоятельное изучение свойств одной из группы раст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крепление новых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дведение итог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ма урока: «Разнообразие растений на Земле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азать разнообразие растительного мира на Земл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ть характеристику разным группам раст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ширить знания учащихся о растен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рмировать навык самостоятельного изучения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спитывать в детях бережное отношение к природ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2764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Разнообразие растений на Земл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044000" y="429156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мх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516360" y="429156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водоросл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203640" y="42915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520" y="6277680"/>
            <a:ext cx="25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цветковы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878520" y="62776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хвойны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14" descr="кадр_3_новый размер"/>
          <p:cNvPicPr/>
          <p:nvPr/>
        </p:nvPicPr>
        <p:blipFill>
          <a:blip r:embed="rId1"/>
          <a:stretch/>
        </p:blipFill>
        <p:spPr>
          <a:xfrm>
            <a:off x="539640" y="2421000"/>
            <a:ext cx="2160720" cy="19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кадр_3_новый размер"/>
          <p:cNvPicPr/>
          <p:nvPr/>
        </p:nvPicPr>
        <p:blipFill>
          <a:blip r:embed="rId2"/>
          <a:stretch/>
        </p:blipFill>
        <p:spPr>
          <a:xfrm>
            <a:off x="3276720" y="2421000"/>
            <a:ext cx="2543040" cy="190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кадр_3_новый размер"/>
          <p:cNvPicPr/>
          <p:nvPr/>
        </p:nvPicPr>
        <p:blipFill>
          <a:blip r:embed="rId3"/>
          <a:stretch/>
        </p:blipFill>
        <p:spPr>
          <a:xfrm>
            <a:off x="6372360" y="2421000"/>
            <a:ext cx="2400120" cy="1904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кадр_3_новый размер"/>
          <p:cNvPicPr/>
          <p:nvPr/>
        </p:nvPicPr>
        <p:blipFill>
          <a:blip r:embed="rId4"/>
          <a:stretch/>
        </p:blipFill>
        <p:spPr>
          <a:xfrm>
            <a:off x="2195640" y="4809960"/>
            <a:ext cx="2089080" cy="1671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кадр_3_новый размер"/>
          <p:cNvPicPr/>
          <p:nvPr/>
        </p:nvPicPr>
        <p:blipFill>
          <a:blip r:embed="rId5"/>
          <a:stretch/>
        </p:blipFill>
        <p:spPr>
          <a:xfrm>
            <a:off x="5148360" y="4797360"/>
            <a:ext cx="21826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ветковые раст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йчас на Земле господствуют цветковые растения. Их так называют потому, что они имеют цветки, из которых образуются плоды с семен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ветковые растения – самая многочисленная и распространенная на Земле группа растений. На Земле распространено 350 тыс. видов растен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 2004 году ученым удалось классифицировать 287 655 видов, среди них 238 650 цветковых, 16 000 мхов, 11000 папоротников, 8 000 зеленых водоросл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тения встречаются повсю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6" descr="кадр_3_новый размер"/>
          <p:cNvPicPr/>
          <p:nvPr/>
        </p:nvPicPr>
        <p:blipFill>
          <a:blip r:embed="rId1"/>
          <a:stretch/>
        </p:blipFill>
        <p:spPr>
          <a:xfrm>
            <a:off x="7308720" y="260280"/>
            <a:ext cx="1565280" cy="154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адр_3_новый размер"/>
          <p:cNvPicPr/>
          <p:nvPr/>
        </p:nvPicPr>
        <p:blipFill>
          <a:blip r:embed="rId2"/>
          <a:stretch/>
        </p:blipFill>
        <p:spPr>
          <a:xfrm>
            <a:off x="7380360" y="5589720"/>
            <a:ext cx="1495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В лесу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195640" y="2492280"/>
            <a:ext cx="54007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На лугу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340000" y="2492280"/>
            <a:ext cx="51926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водоём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1763640" y="2492280"/>
            <a:ext cx="58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горах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1908000" y="2565360"/>
            <a:ext cx="569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7:48:30Z</dcterms:created>
  <dc:creator>Хромова Татьяна Николаевна</dc:creator>
  <dc:description/>
  <dc:language>en-US</dc:language>
  <cp:lastModifiedBy>Home</cp:lastModifiedBy>
  <dcterms:modified xsi:type="dcterms:W3CDTF">2011-01-30T10:10:47Z</dcterms:modified>
  <cp:revision>4</cp:revision>
  <dc:subject/>
  <dc:title>Слайд 1</dc:title>
</cp:coreProperties>
</file>