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393-515E-4551-9ABF-A46D4660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6BC-3C9E-4BC9-BD38-D5A85D2C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83E-4FD5-4E08-B077-D9779F46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1A9-17A5-4D93-AC8F-9ED59601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9E9D-68F1-45C1-B416-C17A1C35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D836-EE17-4CD7-8383-DA089BB0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31A2-31F9-484C-9219-DCD08773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15CB-D083-4CE2-A065-6C5E3F06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1700-3BCC-46EA-B373-B054F52D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FF1E-890E-49D3-82F4-184ABC7D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387A-D5F9-4508-AB5B-3BD9EF05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BFB-A3E0-4016-9854-53354722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1662-76E8-458A-B526-1891DD0B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1600-67CA-43F9-AD78-23D606C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37DF-85B1-4282-82B2-A271D9C2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8787-6DFA-481E-973F-B975F48D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FE7A-635A-4F4F-A6A1-497DE62D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665-1911-4623-BF60-0EAC79AB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2A8-427C-4B78-82E0-0D82613B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D65-E115-4296-A0FF-7D883D2F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A4B-0C41-4E28-8AF1-9EC7AF18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668-8CB8-4D09-B255-071DA9C0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02E-7B01-435F-BEC2-BEB8C9E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1D6-C146-4019-9A9E-DC052930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05F1-C737-4E84-8388-F748BFFD0FC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924D-E1F7-41E3-9524-00608F525D1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Разнообразие растений на Земле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728600" y="5157720"/>
            <a:ext cx="407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ружающий ми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 клас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розова Марина Александро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СОШ с. Теликов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8" descr="кадр_3_новый размер"/>
          <p:cNvPicPr/>
          <p:nvPr/>
        </p:nvPicPr>
        <p:blipFill>
          <a:blip r:embed="rId1"/>
          <a:stretch/>
        </p:blipFill>
        <p:spPr>
          <a:xfrm>
            <a:off x="611280" y="3357720"/>
            <a:ext cx="3600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степ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268360" y="2565360"/>
            <a:ext cx="52930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пустын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268360" y="2492280"/>
            <a:ext cx="5364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городах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195640" y="2492280"/>
            <a:ext cx="5365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дом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195640" y="2492280"/>
            <a:ext cx="5365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мы для самостоятельного изучения материал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оросли – стр. 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хи – стр. 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поротники – стр. 4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войные растения – стр. 42-4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2920" y="979920"/>
            <a:ext cx="8569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Как сохранить это разнообразие?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429440" y="263592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9" descr="кадр_3_новый размер"/>
          <p:cNvPicPr/>
          <p:nvPr/>
        </p:nvPicPr>
        <p:blipFill>
          <a:blip r:embed="rId1"/>
          <a:stretch/>
        </p:blipFill>
        <p:spPr>
          <a:xfrm rot="20473200">
            <a:off x="755640" y="27082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кадр_3_новый размер"/>
          <p:cNvPicPr/>
          <p:nvPr/>
        </p:nvPicPr>
        <p:blipFill>
          <a:blip r:embed="rId2"/>
          <a:stretch/>
        </p:blipFill>
        <p:spPr>
          <a:xfrm rot="981000">
            <a:off x="6443280" y="2708280"/>
            <a:ext cx="2314440" cy="1714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адр_3_новый размер"/>
          <p:cNvPicPr/>
          <p:nvPr/>
        </p:nvPicPr>
        <p:blipFill>
          <a:blip r:embed="rId3"/>
          <a:stretch/>
        </p:blipFill>
        <p:spPr>
          <a:xfrm>
            <a:off x="2771640" y="3933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кадр_3_новый размер"/>
          <p:cNvPicPr/>
          <p:nvPr/>
        </p:nvPicPr>
        <p:blipFill>
          <a:blip r:embed="rId4"/>
          <a:stretch/>
        </p:blipFill>
        <p:spPr>
          <a:xfrm>
            <a:off x="5148360" y="3933720"/>
            <a:ext cx="1944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лан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ределение темы уро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ановка целей уро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комство со схемой «Разнообразие растений на Земле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учение свойств группы рас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ое изучение свойств одной из группы рас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крепление новых зн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дведение итог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ма урока: «Разнообразие растений на Земле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азать разнообразие растительного мира на Земл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ть характеристику разным группам раст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ширить знания учащихся о растения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рмировать навык самостоятельного изучения материал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спитывать в детях бережное отношение к природ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764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Разнообразие растений на Земл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044000" y="429156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мх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516360" y="42915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водоросл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203640" y="42915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520" y="6277680"/>
            <a:ext cx="25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цветков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878520" y="62776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хвойны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14" descr="кадр_3_новый размер"/>
          <p:cNvPicPr/>
          <p:nvPr/>
        </p:nvPicPr>
        <p:blipFill>
          <a:blip r:embed="rId1"/>
          <a:stretch/>
        </p:blipFill>
        <p:spPr>
          <a:xfrm>
            <a:off x="539640" y="2421000"/>
            <a:ext cx="2160720" cy="19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кадр_3_новый размер"/>
          <p:cNvPicPr/>
          <p:nvPr/>
        </p:nvPicPr>
        <p:blipFill>
          <a:blip r:embed="rId2"/>
          <a:stretch/>
        </p:blipFill>
        <p:spPr>
          <a:xfrm>
            <a:off x="3276720" y="2421000"/>
            <a:ext cx="2543040" cy="1904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кадр_3_новый размер"/>
          <p:cNvPicPr/>
          <p:nvPr/>
        </p:nvPicPr>
        <p:blipFill>
          <a:blip r:embed="rId3"/>
          <a:stretch/>
        </p:blipFill>
        <p:spPr>
          <a:xfrm>
            <a:off x="6372360" y="2421000"/>
            <a:ext cx="2400120" cy="190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кадр_3_новый размер"/>
          <p:cNvPicPr/>
          <p:nvPr/>
        </p:nvPicPr>
        <p:blipFill>
          <a:blip r:embed="rId4"/>
          <a:stretch/>
        </p:blipFill>
        <p:spPr>
          <a:xfrm>
            <a:off x="2195640" y="4809960"/>
            <a:ext cx="2089080" cy="167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кадр_3_новый размер"/>
          <p:cNvPicPr/>
          <p:nvPr/>
        </p:nvPicPr>
        <p:blipFill>
          <a:blip r:embed="rId5"/>
          <a:stretch/>
        </p:blipFill>
        <p:spPr>
          <a:xfrm>
            <a:off x="5148360" y="4797360"/>
            <a:ext cx="21826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ветковые раст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йчас на Земле господствуют цветковые растения. Их так называют потому, что они имеют цветки, из которых образуются плоды с семен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ветковые растения – самая многочисленная и распространенная на Земле группа растений. На Земле распространено 350 тыс. видов растен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 2004 году ученым удалось классифицировать 287 655 видов, среди них 238 650 цветковых, 16 000 мхов, 11000 папоротников, 8 000 зеленых водоросл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тения встречаются повсю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6" descr="кадр_3_новый размер"/>
          <p:cNvPicPr/>
          <p:nvPr/>
        </p:nvPicPr>
        <p:blipFill>
          <a:blip r:embed="rId1"/>
          <a:stretch/>
        </p:blipFill>
        <p:spPr>
          <a:xfrm>
            <a:off x="7308720" y="260280"/>
            <a:ext cx="1565280" cy="15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кадр_3_новый размер"/>
          <p:cNvPicPr/>
          <p:nvPr/>
        </p:nvPicPr>
        <p:blipFill>
          <a:blip r:embed="rId2"/>
          <a:stretch/>
        </p:blipFill>
        <p:spPr>
          <a:xfrm>
            <a:off x="7380360" y="5589720"/>
            <a:ext cx="14954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В лесу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195640" y="2492280"/>
            <a:ext cx="54007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На лугу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2340000" y="2492280"/>
            <a:ext cx="5192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водоём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1763640" y="2492280"/>
            <a:ext cx="58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В горах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5" descr="кадр_3_новый размер"/>
          <p:cNvPicPr/>
          <p:nvPr/>
        </p:nvPicPr>
        <p:blipFill>
          <a:blip r:embed="rId1"/>
          <a:stretch/>
        </p:blipFill>
        <p:spPr>
          <a:xfrm>
            <a:off x="1908000" y="2565360"/>
            <a:ext cx="5696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7:48:30Z</dcterms:created>
  <dc:creator>Хромова Татьяна Николаевна</dc:creator>
  <dc:description/>
  <dc:language>en-US</dc:language>
  <cp:lastModifiedBy>Home</cp:lastModifiedBy>
  <dcterms:modified xsi:type="dcterms:W3CDTF">2011-01-30T10:10:47Z</dcterms:modified>
  <cp:revision>4</cp:revision>
  <dc:subject/>
  <dc:title>Слайд 1</dc:title>
</cp:coreProperties>
</file>