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ECE-5B56-4938-B7CB-AC1801A4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F29-AC9D-46B5-BF9F-94D1A3FC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F1BD-9525-4030-9D44-997C5408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7AE-319D-4675-9D3E-9567EEBB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22E-1895-470F-8231-D907646F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EBB-ADD7-4B42-8E06-51733DE6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3C2-FAB9-485B-A08C-605A1FC9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999-9980-480A-8712-2842BE7D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100-0E3C-4A58-A135-1F6F6917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8C1-152A-461A-900C-38EE9102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CCC-B892-4204-9FA3-31A03733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F4D-FCDD-47F4-B909-150C6A67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9FA6-E073-4656-B865-966B4A9CDE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следование проблемы убор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3240" y="4500720"/>
            <a:ext cx="4415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ы социологического опроса «Бытовой мусор. Кто виноват? Что делать?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уда вы выбрасываете мусо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4" descr=""/>
          <p:cNvPicPr/>
          <p:nvPr/>
        </p:nvPicPr>
        <p:blipFill>
          <a:blip r:embed="rId1"/>
          <a:stretch/>
        </p:blipFill>
        <p:spPr>
          <a:xfrm>
            <a:off x="500040" y="1859040"/>
            <a:ext cx="839952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В каком состоянии находится место сбора мусо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"/>
          <p:cNvPicPr/>
          <p:nvPr/>
        </p:nvPicPr>
        <p:blipFill>
          <a:blip r:embed="rId1"/>
          <a:stretch/>
        </p:blipFill>
        <p:spPr>
          <a:xfrm>
            <a:off x="573120" y="1603440"/>
            <a:ext cx="83581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Всегда ли Вы бросаете мусор в урну, находясь в школ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Всегда ли Вы бросаете мусор в урну, находясь на улиц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Убираете ли вы за собой мусор. Когда проводите время на природ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Как вы думаете, кто виноват в разбросанном мусоре нашего посёл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"/>
          <p:cNvPicPr/>
          <p:nvPr/>
        </p:nvPicPr>
        <p:blipFill>
          <a:blip r:embed="rId1"/>
          <a:stretch/>
        </p:blipFill>
        <p:spPr>
          <a:xfrm>
            <a:off x="457200" y="2000160"/>
            <a:ext cx="82296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Что нужно делать, чтобы в посёлке стало чищ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ртировка мусора в странах мир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ртировка мусор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ранц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ши дальнейшие пла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должение исследования проблем сбора и уборки мусора на улицах посёл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ение проблем загрязнения набережн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паганда уважения к окружающей сред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во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или и оценили масштабы накопленного бытового мусор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ли социологический опро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нимали участие в акциях по охране приро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ь. Изучить масштабы загрязнения мусором территорий и предложить варианты рационального сбо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278568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ценить масштабы накопления бытового домашнего мусор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числить масштабы накопления мусора в школ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следовать организацию сбора мусора на улицах посёл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ить организацию сбора мусора в различных странах мир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тасов А.П. Здесь наши корни: Очерки по истории Духовницкого района Саратовской области. – Саратов: Регион. Приволж. Изд – во «Детская книга» 1998, 240 с.: 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исание исследов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ортировали домашний мусор на виды (пищевые отходы, бумага, пластик, стекло, метал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вешивали выбрасываемый мусор(отдельно по видам) каждый день в течении нед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читали средний результ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мус 5.jpg"/>
          <p:cNvPicPr/>
          <p:nvPr/>
        </p:nvPicPr>
        <p:blipFill>
          <a:blip r:embed="rId1"/>
          <a:stretch/>
        </p:blipFill>
        <p:spPr>
          <a:xfrm>
            <a:off x="6715080" y="4357800"/>
            <a:ext cx="21430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 эксперимен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ее тяжёлыми являются пищевые отх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ее объёмными являются бумажные и пластиковые отх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которые дни в составе мусора совершенно отсутствуют изделия из металла и стек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выходные количество и вес мусора больше, чем в буд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став домашнего мусор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в среднем за неделю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4200" y="1600200"/>
          <a:ext cx="8472600" cy="5043600"/>
        </p:xfrm>
        <a:graphic>
          <a:graphicData uri="http://schemas.openxmlformats.org/drawingml/2006/table">
            <a:tbl>
              <a:tblPr/>
              <a:tblGrid>
                <a:gridCol w="1714680"/>
                <a:gridCol w="1214280"/>
                <a:gridCol w="1000080"/>
                <a:gridCol w="1071720"/>
                <a:gridCol w="1050840"/>
                <a:gridCol w="1211400"/>
                <a:gridCol w="120960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ищевые от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ума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ек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т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еде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ве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кресен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 за нед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кольный мусо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ичество выбрасываемого мусора в кабинете в среднем составляет около 1 кг. в су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ая часть по объёму составляет бума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ая часть по массе составляют пищевые отходы (огрызки яблок, кожура бананов, апельсинов, семеч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щая масса мусора в школе (коридоры) за су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900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нь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сса мусора, к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еде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ве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борка мусора на берегу посёлка Духовницко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8" descr="2259.jpg"/>
          <p:cNvPicPr/>
          <p:nvPr/>
        </p:nvPicPr>
        <p:blipFill>
          <a:blip r:embed="rId1"/>
          <a:stretch/>
        </p:blipFill>
        <p:spPr>
          <a:xfrm>
            <a:off x="928800" y="1928880"/>
            <a:ext cx="70246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Собираем и выгружаем». Школьники и педагоги  принимают  участия в акциях по охране природы в посёлке Духовницко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2258.jpg"/>
          <p:cNvPicPr/>
          <p:nvPr/>
        </p:nvPicPr>
        <p:blipFill>
          <a:blip r:embed="rId1"/>
          <a:stretch/>
        </p:blipFill>
        <p:spPr>
          <a:xfrm>
            <a:off x="285840" y="2571840"/>
            <a:ext cx="4143240" cy="3500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2260.jpg"/>
          <p:cNvPicPr/>
          <p:nvPr/>
        </p:nvPicPr>
        <p:blipFill>
          <a:blip r:embed="rId2"/>
          <a:stretch/>
        </p:blipFill>
        <p:spPr>
          <a:xfrm>
            <a:off x="4500720" y="3143160"/>
            <a:ext cx="4357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1:02:27Z</dcterms:created>
  <dc:creator>User</dc:creator>
  <dc:description/>
  <dc:language>en-US</dc:language>
  <cp:lastModifiedBy>Пользователь</cp:lastModifiedBy>
  <dcterms:modified xsi:type="dcterms:W3CDTF">2014-01-17T17:51:43Z</dcterms:modified>
  <cp:revision>16</cp:revision>
  <dc:subject/>
  <dc:title>Борьба с мусором.</dc:title>
</cp:coreProperties>
</file>