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B60-4552-4E31-9BD5-7DEBB405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11D-3E86-4262-BA3F-33D81C07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AC8-B00B-4A78-9D7E-D9D8163B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6A4-BF44-46A7-BD37-14F7FCB9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4FE-A3B9-4045-A53A-A94B661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389-669E-4E35-A54D-93DBC088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035-1FAC-426C-BCA5-09DE8C7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A53-C739-4CA1-8A49-F9E9AAFC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0DF-0F65-427D-B8B7-780A0B5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045-2670-4EE3-B447-5AA15B5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053-5DEE-45B6-9F9E-24FDE50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FE3-0EB5-4E1E-89E1-9C9B018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27C-E95F-42AC-A2B9-995D65AA7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ние проблемы убор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3240" y="4500720"/>
            <a:ext cx="4415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социологического опроса «Бытовой мусор. Кто виноват? Что делать?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уда вы выбрасываете мус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"/>
          <p:cNvPicPr/>
          <p:nvPr/>
        </p:nvPicPr>
        <p:blipFill>
          <a:blip r:embed="rId1"/>
          <a:stretch/>
        </p:blipFill>
        <p:spPr>
          <a:xfrm>
            <a:off x="500040" y="1859040"/>
            <a:ext cx="839952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В каком состоянии находится место сбора мусо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573120" y="1603440"/>
            <a:ext cx="83581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Всегда ли Вы бросаете мусор в урну, находясь в школ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Всегда ли Вы бросаете мусор в урну, находясь на улиц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Убираете ли вы за собой мусор. Когда проводите время на природ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 Как вы думаете, кто виноват в разбросанном мусоре нашего посёл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. Что нужно делать, чтобы в посёлке стало чищ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тировка мусора в странах ми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тировка мусо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ран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ши дальнейшие пла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должение исследования проблем сбора и уборки мусора на улицах посёл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проблем загрязнения набережн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паганда уважения к окружающей сре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или и оценили масштабы накопленного бытового мус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ли социологический опро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нимали участие в акциях по охране приро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. Изучить масштабы загрязнения мусором территорий и предложить варианты рационального сбо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278568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ить масштабы накопления бытового домашнего мус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числить масштабы накопления мусора в школ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следовать организацию сбора мусора на улицах посёл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ить организацию сбора мусора в различных странах ми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тасов А.П. Здесь наши корни: Очерки по истории Духовницкого района Саратовской области. – Саратов: Регион. Приволж. Изд – во «Детская книга» 1998, 240 с.: 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исание исследов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ортировали домашний мусор на виды (пищевые отходы, бумага, пластик, стекло, метал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ли выбрасываемый мусор(отдельно по видам) каждый день в течении не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читали средний результ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мус 5.jpg"/>
          <p:cNvPicPr/>
          <p:nvPr/>
        </p:nvPicPr>
        <p:blipFill>
          <a:blip r:embed="rId1"/>
          <a:stretch/>
        </p:blipFill>
        <p:spPr>
          <a:xfrm>
            <a:off x="6715080" y="4357800"/>
            <a:ext cx="2143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эксперимен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тяжёлыми являются пищевые отх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объёмными являются бумажные и пластиковые отх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е дни в составе мусора совершенно отсутствуют изделия из металла и стек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ыходные количество и вес мусора больше, чем в буд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 домашнего мусор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в среднем за неделю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1600200"/>
          <a:ext cx="8472600" cy="5043600"/>
        </p:xfrm>
        <a:graphic>
          <a:graphicData uri="http://schemas.openxmlformats.org/drawingml/2006/table">
            <a:tbl>
              <a:tblPr/>
              <a:tblGrid>
                <a:gridCol w="1714680"/>
                <a:gridCol w="1214280"/>
                <a:gridCol w="1000080"/>
                <a:gridCol w="1071720"/>
                <a:gridCol w="1050840"/>
                <a:gridCol w="1211400"/>
                <a:gridCol w="120960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ище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к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 за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ьный мусо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выбрасываемого мусора в кабинете в среднем составляет около 1 кг. в с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часть по объёму составляет бума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часть по массе составляют пищевые отходы (огрызки яблок, кожура бананов, апельсинов, семеч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ая масса мусора в школе (коридоры) за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а мусора,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борка мусора на берегу посёлка Духовницк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8" descr="2259.jpg"/>
          <p:cNvPicPr/>
          <p:nvPr/>
        </p:nvPicPr>
        <p:blipFill>
          <a:blip r:embed="rId1"/>
          <a:stretch/>
        </p:blipFill>
        <p:spPr>
          <a:xfrm>
            <a:off x="928800" y="1928880"/>
            <a:ext cx="70246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обираем и выгружаем». Школьники и педагоги  принимают  участия в акциях по охране природы в посёлке Духовницк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2258.jpg"/>
          <p:cNvPicPr/>
          <p:nvPr/>
        </p:nvPicPr>
        <p:blipFill>
          <a:blip r:embed="rId1"/>
          <a:stretch/>
        </p:blipFill>
        <p:spPr>
          <a:xfrm>
            <a:off x="285840" y="2571840"/>
            <a:ext cx="414324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2260.jpg"/>
          <p:cNvPicPr/>
          <p:nvPr/>
        </p:nvPicPr>
        <p:blipFill>
          <a:blip r:embed="rId2"/>
          <a:stretch/>
        </p:blipFill>
        <p:spPr>
          <a:xfrm>
            <a:off x="4500720" y="3143160"/>
            <a:ext cx="435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1:02:27Z</dcterms:created>
  <dc:creator>User</dc:creator>
  <dc:description/>
  <dc:language>en-US</dc:language>
  <cp:lastModifiedBy>Пользователь</cp:lastModifiedBy>
  <dcterms:modified xsi:type="dcterms:W3CDTF">2014-01-17T17:51:43Z</dcterms:modified>
  <cp:revision>16</cp:revision>
  <dc:subject/>
  <dc:title>Борьба с мусором.</dc:title>
</cp:coreProperties>
</file>