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32CB-CE3E-4C32-AE78-A8FAACC1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E27E-3029-4758-A3CC-80A8FEDC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E52D-DFF0-494E-89B5-82D7EE79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40AD-A437-403A-B953-132A1F58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43A1-9219-49EB-86F4-75F36412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7883-1894-4759-ABED-4B83098F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FA45-0026-45C2-9ABC-9C3C1800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9E2E-D1A4-4B01-8DE9-08BB50AD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EA81-5D6B-4BD5-A10D-4181410D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37CA-A2EE-4DB3-82DF-A6331733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3561-E1A3-4852-82A0-88D4B87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0E10-2784-4619-9D93-397E6F8C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3021-D0EB-438F-85A3-0F65DF14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67A5-4889-4C1D-8AF4-197441A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81CA-F154-4BF9-82BC-02C6BF5D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6321-614C-4AD3-97D3-86E23C26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0ADC-1B6D-411E-A19D-38BFC39E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2132-E76B-4DCB-A835-412B0446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EAC7-6584-4D9B-A457-5F65BA2C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2679-7248-42E6-9C97-46FFEEF3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FD665-6F7F-4CC7-A961-4030F178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3886-C5F8-4021-AFDB-56B92330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CED2-E881-4CCE-BCFB-C319148A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DA96-2FB3-45C1-AE2D-41AB624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E521-2E84-4E7E-BA91-485365741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65A4-358F-40E9-A318-67EFD5302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ст по физике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Импульс. Закон сохранения импульс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9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Тележка массой 2 кг, движущаяся со скоростью 3 м/с, сталкивается с неподвижной тележкой массой 4 кг и сцепляется с ней. Чему равна скорость обоих тележек после взаимодейств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00720" y="476280"/>
            <a:ext cx="403848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Тележка массой 3 кг, движущаяся со скоростью 4 м/с, сталкивается с неподвижной тележкой той же массы и сцепляется с ней. Чему равна скорость обоих тележек после взаимодейств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971640" y="2708280"/>
                <a:ext cx="1728720" cy="27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,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1,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89680" y="2708280"/>
                <a:ext cx="1555560" cy="27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При выстреле из пистолета вылетает пуля массой     со скоростью   . Какую по модулю скорость приобретает после выстрела пистолет, если его масса в 100 раз больше массы пу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Орудие, не имеющее противооткатного устройства, стреляет снарядом под углом      к горизонту. Масса снаряда      , его начальная скорость относительно Земли    .Какова скорость отката орудия, если его масса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971640" y="2781360"/>
                <a:ext cx="93636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48360" y="3213000"/>
                <a:ext cx="158436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763640" y="1052640"/>
                <a:ext cx="338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635280" y="105264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24720" y="1341360"/>
                <a:ext cx="311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244000" y="1484280"/>
                <a:ext cx="388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67640" y="2133720"/>
                <a:ext cx="2350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885080" y="2637000"/>
                <a:ext cx="417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ари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Каким выражением определяют импульс т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ему равен импульс тела массой 2 кг, движущегося со скоростью 3 м/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55640" y="2421000"/>
                <a:ext cx="115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92280" y="2227320"/>
                <a:ext cx="14223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m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435640" y="2565360"/>
                <a:ext cx="24606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,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508720" y="3933720"/>
                <a:ext cx="23828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9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В каких единицах измеряется импульс в Международной систе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907920"/>
            <a:ext cx="4038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Каково наименование единицы импульса , выраженное через основные единицы Международной 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1280" y="321300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Н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84360" y="3141720"/>
                <a:ext cx="1366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148360" y="3357720"/>
                <a:ext cx="144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948360" y="3068640"/>
                <a:ext cx="150192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Чему равно изменение импульса тела, если на него подействовала сила 15 Н в течении 5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аким выражением определяют импульс т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2000" y="2781360"/>
                <a:ext cx="115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451640" y="2637000"/>
                <a:ext cx="14223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m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4360" y="3284640"/>
                <a:ext cx="165564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56000" y="3284640"/>
                <a:ext cx="182700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Тело массой       движется со скоростью  . После взаимодействия со стенкой тело стало двигаться в противоположном направлении с той же по модулю скоростью. Чему равен модуль изменения импульса те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Тело массой 2 кг движется со скоростью 3 м/с. После взаимодействия со стенкой, тело стало двигаться в противоположном направлении со скоростью 2м/с. Чему равен модуль изменения импульса те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00360" y="476280"/>
                <a:ext cx="4428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11280" y="692280"/>
                <a:ext cx="306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85880" y="3429000"/>
                <a:ext cx="987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56000" y="3429000"/>
                <a:ext cx="11570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859280" y="2681280"/>
                <a:ext cx="1657440" cy="25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880320" y="2637000"/>
                <a:ext cx="1795320" cy="25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885080" y="981000"/>
                <a:ext cx="30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Два автомобиля с одинаковыми массами    движутся со скоростями    и     в одном направлении относительно Земли. Чему равен импульс второго автомобиля относительно перв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388360" y="836640"/>
                <a:ext cx="503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812000" y="765000"/>
                <a:ext cx="3780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24000" y="549360"/>
            <a:ext cx="4038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Два автомобиля с одинаковыми массами    движутся со скоростями    и     в противоположном направлении относительно Земли. Чему равен импульс второго автомобиля относительно перв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95280" y="3141720"/>
                <a:ext cx="13683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359080" y="3141720"/>
                <a:ext cx="1328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03640" y="3068640"/>
                <a:ext cx="1368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77080" y="2997360"/>
                <a:ext cx="1328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Чему равно изменение скорости тела массой 2 кг за 4 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475920"/>
            <a:ext cx="40384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Чему равно изменение скорости тела массой 2 кг за 3 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99520" y="2174400"/>
            <a:ext cx="2058480" cy="1257120"/>
            <a:chOff x="1199520" y="2174400"/>
            <a:chExt cx="2058480" cy="1257120"/>
          </a:xfrm>
        </p:grpSpPr>
        <p:sp>
          <p:nvSpPr>
            <p:cNvPr id="147" name=""/>
            <p:cNvSpPr/>
            <p:nvPr/>
          </p:nvSpPr>
          <p:spPr>
            <a:xfrm flipV="1">
              <a:off x="1771200" y="2403360"/>
              <a:ext cx="7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1200" y="3088800"/>
              <a:ext cx="10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28760" y="3204000"/>
              <a:ext cx="22896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28840" y="2517480"/>
              <a:ext cx="2282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99520" y="2174400"/>
              <a:ext cx="457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,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6320" y="3204000"/>
              <a:ext cx="57168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,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771200" y="2746080"/>
              <a:ext cx="45756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1200" y="274608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28760" y="27460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520600" y="2030040"/>
            <a:ext cx="2058480" cy="1372320"/>
            <a:chOff x="5520600" y="2030040"/>
            <a:chExt cx="2058480" cy="1372320"/>
          </a:xfrm>
        </p:grpSpPr>
        <p:sp>
          <p:nvSpPr>
            <p:cNvPr id="157" name=""/>
            <p:cNvSpPr/>
            <p:nvPr/>
          </p:nvSpPr>
          <p:spPr>
            <a:xfrm flipV="1">
              <a:off x="6092280" y="2259000"/>
              <a:ext cx="7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2280" y="2944440"/>
              <a:ext cx="10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9840" y="3059640"/>
              <a:ext cx="2289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20600" y="2373120"/>
              <a:ext cx="45756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20600" y="2030040"/>
              <a:ext cx="457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,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07400" y="3059640"/>
              <a:ext cx="57168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,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92280" y="2601720"/>
              <a:ext cx="45756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2280" y="2601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49840" y="26017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11280" y="4149720"/>
                <a:ext cx="129672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8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438280" y="4149720"/>
                <a:ext cx="134172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580000" y="4076640"/>
                <a:ext cx="150012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9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380360" y="4005360"/>
                <a:ext cx="1341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из выражений соответствует закону сохранения импульса для случая взаимодействия двух т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42920" y="1844640"/>
                <a:ext cx="6842160" cy="44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н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н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Δ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Вагон массой     , движущийся со скоростью    сталкивается с неподвижным вагоном массой    и сцепляется с ним. Каким суммарным импульсом обладают два вагона после стол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Вагон массой 3 кг  , движущийся со скоростью 4 м/с   сталкивается с неподвижным вагоном этой же массы и сцепляется с ним. Каким суммарным импульсом обладают два вагона после стол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627280" y="549360"/>
                <a:ext cx="3603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68360" y="765000"/>
                <a:ext cx="249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140360" y="907920"/>
                <a:ext cx="527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55640" y="2852640"/>
                <a:ext cx="2521080" cy="26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364000" y="2852640"/>
                <a:ext cx="2808360" cy="26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3:04:57Z</dcterms:created>
  <dc:creator>Admin</dc:creator>
  <dc:description/>
  <dc:language>en-US</dc:language>
  <cp:lastModifiedBy>Admin</cp:lastModifiedBy>
  <dcterms:modified xsi:type="dcterms:W3CDTF">2010-12-17T15:13:27Z</dcterms:modified>
  <cp:revision>2</cp:revision>
  <dc:subject/>
  <dc:title>Слайд 1</dc:title>
</cp:coreProperties>
</file>