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B46C-1040-461D-B509-DDB605F0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7AFD-CDA0-499A-A9E1-7ABECBF5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A03F-4292-4CDD-BCF1-83AE0593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FF8E-5974-4C6C-B236-FB0E188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66FB-5BA2-422E-9F99-9A91FA0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453A-353E-4499-A8B8-EBF95AE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2185-8094-4A7E-8506-6B42FA27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740B-CE7D-437A-B137-3F2FABF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2DFD-4B03-413D-B0D6-FF628EE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3F37-C39F-49DE-A8EC-F40C1ADA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4B89-EA0B-469C-BC96-9BFB894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7D7B-5B83-4FAA-9935-DDFB4B40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A046-DE90-4DDB-9BCC-9AFC3E5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D881-9D60-4C3E-9BBA-5D984847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BBE5-A673-4146-9E16-575E2D9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E0D8-BDCE-4BEB-A909-010FA29C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295D-3975-46E9-8893-44FCE3CF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B165E-AE65-48D9-8466-A7C62E84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7C20-996C-4BCF-9E27-93EAD60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4F26-82F6-453E-B1C8-2B17591D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8888-43DC-4395-9214-19CC2A82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8DCD-8177-4FC7-ABC1-F7DBFB3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8BBF-8542-4313-AA92-BF13526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10417-64D7-4065-BE3B-123C845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8C21-6C9D-4D50-B0AF-135B71138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C16A-0EF7-4729-BBBC-CFA1B427B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ст по физике.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Импульс. Закон сохранения импульс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9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2 кг, движущаяся со скоростью 3 м/с, сталкивается с неподвижной тележкой массой 4 кг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00720" y="476280"/>
            <a:ext cx="403848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Тележка массой 3 кг, движущаяся со скоростью 4 м/с, сталкивается с неподвижной тележкой той же массы и сцепляется с ней. Чему равна скорость обоих тележек после взаимодейств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971640" y="2708280"/>
                <a:ext cx="172872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089680" y="2708280"/>
                <a:ext cx="1555560" cy="27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При выстреле из пистолета вылетает пуля массой     со скоростью   . Какую по модулю скорость приобретает после выстрела пистолет, если его масса в 100 раз больше массы пу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476280"/>
            <a:ext cx="4038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Орудие, не имеющее противооткатного устройства, стреляет снарядом под углом      к горизонту. Масса снаряда      , его начальная скорость относительно Земли    .Какова скорость отката орудия, если его масса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71640" y="2781360"/>
                <a:ext cx="93636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148360" y="3213000"/>
                <a:ext cx="158436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763640" y="1052640"/>
                <a:ext cx="338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35280" y="1052640"/>
                <a:ext cx="23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524720" y="1341360"/>
                <a:ext cx="311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44000" y="1484280"/>
                <a:ext cx="388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667640" y="2133720"/>
                <a:ext cx="2350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885080" y="2637000"/>
                <a:ext cx="417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Каким выражением определяют импульс т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му равен импульс тела массой 2 кг, движущегося со скоростью 3 м/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55640" y="242100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92280" y="222732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35640" y="2565360"/>
                <a:ext cx="24606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,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508720" y="3933720"/>
                <a:ext cx="238284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В каких единицах измеряется импульс в Международной систем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907920"/>
            <a:ext cx="40384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ово наименование единицы импульса , выраженное через основные единицы Международной 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1280" y="321300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484360" y="3141720"/>
                <a:ext cx="1366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148360" y="3357720"/>
                <a:ext cx="144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948360" y="3068640"/>
                <a:ext cx="150192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Чему равно изменение импульса тела, если на него подействовала сила 15 Н в течении 5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аким выражением определяют импульс те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2000" y="2781360"/>
                <a:ext cx="1152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451640" y="2637000"/>
                <a:ext cx="1422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m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84360" y="3284640"/>
                <a:ext cx="165564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56000" y="3284640"/>
                <a:ext cx="182700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40384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Тело массой       движется со скоростью  . После взаимодействия со стенкой тело стало двигаться в противоположном направлении с той же по модулю скоростью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Тело массой 2 кг движется со скоростью 3 м/с. После взаимодействия со стенкой, тело стало двигаться в противоположном направлении со скоростью 2м/с. Чему равен модуль изменения импульса те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00360" y="476280"/>
                <a:ext cx="4428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411280" y="692280"/>
                <a:ext cx="306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85880" y="3429000"/>
                <a:ext cx="987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56000" y="3429000"/>
                <a:ext cx="1157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859280" y="2681280"/>
                <a:ext cx="1657440" cy="257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80320" y="2637000"/>
                <a:ext cx="1795320" cy="25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85080" y="981000"/>
                <a:ext cx="301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од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8360" y="836640"/>
                <a:ext cx="503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812000" y="765000"/>
                <a:ext cx="3780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24000" y="549360"/>
            <a:ext cx="4038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Два автомобиля с одинаковыми массами    движутся со скоростями    и     в противоположном направлении относительно Земли. Чему равен импульс второго автомобиля относительно перв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95280" y="3141720"/>
                <a:ext cx="13683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359080" y="314172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03640" y="3068640"/>
                <a:ext cx="1368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877080" y="2997360"/>
                <a:ext cx="13287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4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475920"/>
            <a:ext cx="4038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Чему равно изменение скорости тела массой 2 кг за 3 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99520" y="2174400"/>
            <a:ext cx="2058480" cy="1257120"/>
            <a:chOff x="1199520" y="2174400"/>
            <a:chExt cx="2058480" cy="1257120"/>
          </a:xfrm>
        </p:grpSpPr>
        <p:sp>
          <p:nvSpPr>
            <p:cNvPr id="147" name=""/>
            <p:cNvSpPr/>
            <p:nvPr/>
          </p:nvSpPr>
          <p:spPr>
            <a:xfrm flipV="1">
              <a:off x="1771200" y="240336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1200" y="308880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28760" y="3204000"/>
              <a:ext cx="22896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28840" y="2517480"/>
              <a:ext cx="2282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99520" y="217440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6320" y="320400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771200" y="274608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1200" y="274608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28760" y="2746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520600" y="2030040"/>
            <a:ext cx="2058480" cy="1372320"/>
            <a:chOff x="5520600" y="2030040"/>
            <a:chExt cx="2058480" cy="1372320"/>
          </a:xfrm>
        </p:grpSpPr>
        <p:sp>
          <p:nvSpPr>
            <p:cNvPr id="157" name=""/>
            <p:cNvSpPr/>
            <p:nvPr/>
          </p:nvSpPr>
          <p:spPr>
            <a:xfrm flipV="1">
              <a:off x="6092280" y="2259000"/>
              <a:ext cx="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2280" y="294444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49840" y="3059640"/>
              <a:ext cx="2289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20600" y="2373120"/>
              <a:ext cx="45756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20600" y="2030040"/>
              <a:ext cx="457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07400" y="3059640"/>
              <a:ext cx="571680" cy="22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,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92280" y="2601720"/>
              <a:ext cx="4575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2280" y="2601720"/>
              <a:ext cx="457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49840" y="26017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11280" y="4149720"/>
                <a:ext cx="12967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38280" y="4149720"/>
                <a:ext cx="13417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0000" y="4076640"/>
                <a:ext cx="150012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9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380360" y="4005360"/>
                <a:ext cx="1341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из выражений соответствует закону сохранения импульса для случая взаимодействия двух т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42920" y="1844640"/>
                <a:ext cx="684216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m</m:t>
                                    </m:r>
                                    <m:s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    , движущийся со скоростью    сталкивается с неподвижным вагоном массой   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Вагон массой 3 кг  , движущийся со скоростью 4 м/с   сталкивается с неподвижным вагоном этой же массы и сцепляется с ним. Каким суммарным импульсом обладают два вагона после стол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27280" y="549360"/>
                <a:ext cx="3603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268360" y="765000"/>
                <a:ext cx="24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140360" y="907920"/>
                <a:ext cx="527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55640" y="2852640"/>
                <a:ext cx="252108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364000" y="2852640"/>
                <a:ext cx="2808360" cy="26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3:04:57Z</dcterms:created>
  <dc:creator>Admin</dc:creator>
  <dc:description/>
  <dc:language>en-US</dc:language>
  <cp:lastModifiedBy>Admin</cp:lastModifiedBy>
  <dcterms:modified xsi:type="dcterms:W3CDTF">2010-12-17T15:13:27Z</dcterms:modified>
  <cp:revision>2</cp:revision>
  <dc:subject/>
  <dc:title>Слайд 1</dc:title>
</cp:coreProperties>
</file>