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A566-8142-4D3B-823B-18F4C90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F402-1174-497D-9982-140F4C12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F716-0B1C-4FB0-90AC-468B650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8B7-9128-449D-980B-25228856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666B-87E9-41CD-9C43-ABB46025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F45-B352-47CE-AF9B-B0FD6502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8310-4466-4B22-B929-F00EB5F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F2A-3FE6-4826-A589-DF33DB9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12A1-C42A-4D50-8640-649B6C6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B54A-A4FF-448F-A134-F83D444F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4C29-FB86-452F-A1F1-D890905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F7C7-41A8-4219-A529-27DDEF72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335D-F7A4-47F2-BADE-78E5B2A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9A1-77CD-4CC7-B53A-01B487E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8188-D695-4B74-9E93-BC880CF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3AB-7321-4487-854F-2FE0636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A78A-E0AF-4B11-BBD6-D25F76BD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BA0F-B501-4C7A-833C-6F02CA8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B606-7257-4014-9429-4B9D8BD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7D93-031E-4684-B929-7E60BB1A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525F-BDDE-4E15-B2EC-B79D1B3A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2462-1BF3-48E7-8762-FC2DF91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D343-038B-412F-BC90-A36479C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A86D-FDE6-489E-8722-E9E6A521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2310-97C6-4554-8EC4-95099CC96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6C54-1B72-4F60-88AF-EAC712727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ст по физике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Импульс. Закон сохранения импульс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2 кг, движущаяся со скоростью 3 м/с, сталкивается с неподвижной тележкой массой 4 кг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00720" y="476280"/>
            <a:ext cx="40384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3 кг, движущаяся со скоростью 4 м/с, сталкивается с неподвижной тележкой той же массы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71640" y="2708280"/>
                <a:ext cx="172872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89680" y="2708280"/>
                <a:ext cx="155556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При выстреле из пистолета вылетает пуля массой     со скоростью   . Какую по модулю скорость приобретает после выстрела пистолет, если его масса в 100 раз больше массы пу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Орудие, не имеющее противооткатного устройства, стреляет снарядом под углом      к горизонту. Масса снаряда      , его начальная скорость относительно Земли    .Какова скорость отката орудия, если его масса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71640" y="2781360"/>
                <a:ext cx="93636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48360" y="3213000"/>
                <a:ext cx="158436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1052640"/>
                <a:ext cx="338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35280" y="1052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24720" y="1341360"/>
                <a:ext cx="311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44000" y="1484280"/>
                <a:ext cx="388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67640" y="2133720"/>
                <a:ext cx="2350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885080" y="2637000"/>
                <a:ext cx="417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Каким выражением определяют импульс т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му равен импульс тела массой 2 кг, движущегося со скоростью 3 м/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5640" y="242100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92280" y="222732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35640" y="2565360"/>
                <a:ext cx="2460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08720" y="3933720"/>
                <a:ext cx="23828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 каких единицах измеряется импульс в Международной сис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90792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ово наименование единицы импульса , выраженное через основные единицы Международной 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1280" y="321300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3141720"/>
                <a:ext cx="1366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48360" y="3357720"/>
                <a:ext cx="144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48360" y="3068640"/>
                <a:ext cx="150192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Чему равно изменение импульса тела, если на него подействовала сила 15 Н в течении 5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аким выражением определяют импульс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2000" y="278136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451640" y="263700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4360" y="3284640"/>
                <a:ext cx="165564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56000" y="3284640"/>
                <a:ext cx="18270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Тело массой       движется со скоростью  . После взаимодействия со стенкой тело стало двигаться в противоположном направлении с той же по модулю скоростью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Тело массой 2 кг движется со скоростью 3 м/с. После взаимодействия со стенкой, тело стало двигаться в противоположном направлении со скоростью 2м/с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476280"/>
                <a:ext cx="4428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692280"/>
                <a:ext cx="306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85880" y="3429000"/>
                <a:ext cx="987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56000" y="3429000"/>
                <a:ext cx="1157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859280" y="2681280"/>
                <a:ext cx="1657440" cy="25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80320" y="2637000"/>
                <a:ext cx="1795320" cy="25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85080" y="981000"/>
                <a:ext cx="30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од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8360" y="836640"/>
                <a:ext cx="503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812000" y="765000"/>
                <a:ext cx="3780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24000" y="549360"/>
            <a:ext cx="4038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противополож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5280" y="3141720"/>
                <a:ext cx="13683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359080" y="314172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03640" y="3068640"/>
                <a:ext cx="1368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77080" y="299736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4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475920"/>
            <a:ext cx="4038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3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99520" y="2174400"/>
            <a:ext cx="2058480" cy="1257120"/>
            <a:chOff x="1199520" y="2174400"/>
            <a:chExt cx="2058480" cy="1257120"/>
          </a:xfrm>
        </p:grpSpPr>
        <p:sp>
          <p:nvSpPr>
            <p:cNvPr id="147" name=""/>
            <p:cNvSpPr/>
            <p:nvPr/>
          </p:nvSpPr>
          <p:spPr>
            <a:xfrm flipV="1">
              <a:off x="1771200" y="240336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1200" y="308880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8760" y="3204000"/>
              <a:ext cx="22896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8840" y="2517480"/>
              <a:ext cx="2282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99520" y="217440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6320" y="320400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771200" y="274608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1200" y="27460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8760" y="2746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520600" y="2030040"/>
            <a:ext cx="2058480" cy="1372320"/>
            <a:chOff x="5520600" y="2030040"/>
            <a:chExt cx="2058480" cy="1372320"/>
          </a:xfrm>
        </p:grpSpPr>
        <p:sp>
          <p:nvSpPr>
            <p:cNvPr id="157" name=""/>
            <p:cNvSpPr/>
            <p:nvPr/>
          </p:nvSpPr>
          <p:spPr>
            <a:xfrm flipV="1">
              <a:off x="6092280" y="225900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2280" y="294444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9840" y="3059640"/>
              <a:ext cx="2289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20600" y="2373120"/>
              <a:ext cx="45756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20600" y="203004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7400" y="305964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92280" y="260172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2280" y="2601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49840" y="26017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1280" y="4149720"/>
                <a:ext cx="12967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38280" y="4149720"/>
                <a:ext cx="13417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0000" y="4076640"/>
                <a:ext cx="15001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380360" y="4005360"/>
                <a:ext cx="1341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из выражений соответствует закону сохранения импульса для случая взаимодействия двух т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42920" y="1844640"/>
                <a:ext cx="684216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    , движущийся со скоростью    сталкивается с неподвижным вагоном массой   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3 кг  , движущийся со скоростью 4 м/с   сталкивается с неподвижным вагоном этой же массы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27280" y="549360"/>
                <a:ext cx="3603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68360" y="765000"/>
                <a:ext cx="24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40360" y="907920"/>
                <a:ext cx="527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2852640"/>
                <a:ext cx="252108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64000" y="2852640"/>
                <a:ext cx="280836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3:04:57Z</dcterms:created>
  <dc:creator>Admin</dc:creator>
  <dc:description/>
  <dc:language>en-US</dc:language>
  <cp:lastModifiedBy>Admin</cp:lastModifiedBy>
  <dcterms:modified xsi:type="dcterms:W3CDTF">2010-12-17T15:13:27Z</dcterms:modified>
  <cp:revision>2</cp:revision>
  <dc:subject/>
  <dc:title>Слайд 1</dc:title>
</cp:coreProperties>
</file>