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9.jpeg" ContentType="image/jpe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C0D-BB01-457E-85CE-F12FF6B1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01C-ABF4-45D1-923F-1F6ECC8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023-2DCD-4AC0-91FE-6794C147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E1D-ED7C-4B35-B32C-64552F43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C70-4C84-4515-B2E1-9BD8CEEB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118E-766E-4024-A50E-613333B6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3E03-A274-42FC-9578-988AA45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77F9-2E6A-48A7-906C-FDB54B4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0FCC-5379-41C4-AF1F-14BBF780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DD6F-4E8C-413E-9438-27BF8D3E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57EB-6248-40F2-8109-446F1CD5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BFB-2466-425C-8633-A1E8E6E6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EB1-2F1F-4369-913A-3A4F780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AD64-4788-44B4-A76B-A9E6413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102F-2583-480D-9D12-8C285135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F6C-8363-4007-9BF1-99479681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28AF-C603-4403-922C-BACC0A80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5514-D5EB-4672-8992-086C8A62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9DEF-AD40-4E5F-8FCA-1402F06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A5AD-5463-4967-B4B6-94C38952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6749-9788-4D01-8463-662DDBC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C12A-9887-47EF-97F2-917BF33B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A28-E753-481D-ACC6-95AA96DD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D481-37FB-4F07-B3A9-581B996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3860-34EE-478D-B73E-1278424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76D0-26A4-4557-8BDC-59F874A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8C18-7CCC-4F2C-A9A6-978A237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02CE-79BF-4252-9911-AD9E5A88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78F9-4C43-4441-9DC6-11A8B381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7084-F7FA-424F-944E-C3F0D594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7E7B-3A84-4209-A94B-93C88EDC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2097-6954-4D9F-B2EE-E5A46D2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E653-C73F-432B-9D64-CB729FC8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1AF-4059-479E-9DEB-ED2B2BAB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9B7A-5E04-4CB1-94AF-52C6C509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BDC9-8B76-488A-8281-DEBD9EEA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8DDC-D0D9-4644-B568-B0A23D97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6940-D9F6-42C6-BB92-10D2F2B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6E6C-A0D5-4BCF-92F5-E16F34A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002A-E604-473C-8F39-0647AEF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3576-1497-4091-8352-FD10891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7010-F00C-4D13-9B2E-A4ADC72C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FBE7-143C-4AE9-A9EF-E9615B43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1D56-FB9D-4835-857E-E5631B9C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D84-F6E7-4303-962D-DFC7E83E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0FC7-CBFC-4128-92E8-2CB2D864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D4B14-CD62-4209-82FB-A11F136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B60A-707E-42CD-9A81-07FFCFF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AB85A-FB98-4BB1-9676-19D9761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A535-2F96-4268-B56F-C505F2A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2488-BE76-475F-9C6C-955A0596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3E1C-9420-4954-87CC-0562FC2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4D964-42E6-4095-B512-71329D3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43E1-D7CF-4628-8231-240D2253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B4D29-AE69-4E78-85E1-23178EE9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409-1DD7-4517-AB0D-40E568E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5342-E4AB-47B1-A705-83E3F56E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B594-584C-4248-BA6E-59160F6A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5280-ADF9-4440-85FA-53C20B28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C8564-B0EB-442D-821B-F7075EE4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D8579-51DA-45E2-804B-E7ED7E1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90D7-E18C-4689-98E2-5740868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DBD48-6CA9-4176-B8F1-B9068C8F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B395-B2AE-45F2-9B26-32D927C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202F-839B-4FAC-8F91-BF0AFAEA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FB00-E679-4AE8-A3FE-4447F9B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362-F8E7-4BF0-9E04-96F00BA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817B-C416-4258-8DA2-1BB7681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0BD2-95A6-4194-9201-C43AE2DA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942A-073B-4A7E-9C2B-D84F0EEC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E3003-CEE8-4EC8-AF2F-508F9ECA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2EED0-0072-4C00-B989-AEDDE98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D5325-1821-4D1E-83F8-891EE7F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E5E1B-3939-4496-9C37-AECFD0CB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49A6-2D58-47C9-AD90-5A173EB7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BB55A-06EA-4F8F-BAA9-09D3C58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5DA3-4624-4399-BE5A-D7B4B9D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CE8-61B0-4FE9-B4BE-4BC1D39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485A-0AC1-41E5-B9ED-CEA3C6C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5AABE-978A-4C9E-9637-6A4AE38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727D7-DA6B-45BF-84E2-E0AD3D7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ED0E-0A04-4727-BE97-77F494BE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080F3-00FB-42BC-AE07-EB233F31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044-0FF8-4A22-A210-7A2B162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58CC-DEC9-4994-A5F8-9BFFB5F9FE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4F5-ABC8-4D40-8645-BF520AB0E1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070-A201-4D7F-9DC6-57EEA4F086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C41D-9219-4BEF-BB80-B4BEDD85D1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CF42-97E1-4FA1-A705-10715791AF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56F-FB60-4055-8AAF-DD6E00825A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7707-6255-42CB-A4C9-670372E9E0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tp://xleba.ru/d/40082/d/image_2..jpeg" TargetMode="External"/><Relationship Id="rId4" Type="http://schemas.openxmlformats.org/officeDocument/2006/relationships/hyperlink" Target="http://www.3dchem.com/files/page0-1026-full.jpg" TargetMode="External"/><Relationship Id="rId5" Type="http://schemas.openxmlformats.org/officeDocument/2006/relationships/hyperlink" Target="http://static2.aif.ru/pictures/201102/veget_08.jpg" TargetMode="External"/><Relationship Id="rId6" Type="http://schemas.openxmlformats.org/officeDocument/2006/relationships/hyperlink" Target="http://0.tqn.com/d/chemistry/1/0/u/d/brownsugarcrystals.jpg" TargetMode="External"/><Relationship Id="rId7" Type="http://schemas.openxmlformats.org/officeDocument/2006/relationships/hyperlink" Target="http://m001.bcm.ru/2025/b451e42c-3f7d-47bb-9427-0c26f119fe1c.jpg" TargetMode="External"/><Relationship Id="rId8" Type="http://schemas.openxmlformats.org/officeDocument/2006/relationships/hyperlink" Target="http://cor.edu.27.ru/dlrstore/af34cf52-3dd3-cdcf-6700-397af208dc33/75.gif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ФБОУ- Раздольненская средняя общеобразовательная школа №19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Новосибирского района Новосибирской области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Прямоугольник 3" descr=""/>
          <p:cNvPicPr/>
          <p:nvPr/>
        </p:nvPicPr>
        <p:blipFill>
          <a:blip r:embed="rId1"/>
          <a:stretch/>
        </p:blipFill>
        <p:spPr>
          <a:xfrm>
            <a:off x="378000" y="914400"/>
            <a:ext cx="8388000" cy="31813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3398760" y="62434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. Раздольное  - 2011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000040" y="4687920"/>
            <a:ext cx="40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ыполнила: учитель хими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встегнеева Алевтина Васильевн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2"/>
          <a:stretch/>
        </p:blipFill>
        <p:spPr>
          <a:xfrm>
            <a:off x="652320" y="3743280"/>
            <a:ext cx="30117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6" descr=""/>
          <p:cNvPicPr/>
          <p:nvPr/>
        </p:nvPicPr>
        <p:blipFill>
          <a:blip r:embed="rId1"/>
          <a:stretch/>
        </p:blipFill>
        <p:spPr>
          <a:xfrm>
            <a:off x="122400" y="-4284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7"/>
          <p:cNvSpPr/>
          <p:nvPr/>
        </p:nvSpPr>
        <p:spPr>
          <a:xfrm>
            <a:off x="250920" y="1484280"/>
            <a:ext cx="8642160" cy="393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зьмём щипцами кусочек сахара и подержим его над пламенем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пиртовки: сахар станет коричневым, расплавится, однако не загоритс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 все-таки он горит!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сыплем кусочек сахара табачным пеплом и вновь подержим его над пламенем.  Удивительное явление: теперь сахар горит и сгорает дотла. Мы знаем, что облитые керосином дрова лучше горят, но трудно объяснить, почему табачный пепел  оказывает такое же действие на сахар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Это происходит потому, что в пепле содержатся различные химические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единения, в первую очередь-соль лития, которые служат катализаторами 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ускоряют окисление сахара настолько, что он легко воспламеняется от спичк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2"/>
          <a:stretch/>
        </p:blipFill>
        <p:spPr>
          <a:xfrm>
            <a:off x="3851280" y="4508640"/>
            <a:ext cx="1627200" cy="21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6"/>
          <p:cNvSpPr/>
          <p:nvPr/>
        </p:nvSpPr>
        <p:spPr>
          <a:xfrm>
            <a:off x="230040" y="1197000"/>
            <a:ext cx="86630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Мы говорим о сахаре. Раздроби кусочек сахара и  положим в пробирку, ¾ которые наполнены водой. Теперь закрой пробирку   большим пальцем и встряхни несколько раз. Вскоре сахар растворится, и ты его не увидишь. Только на вкус можно определить, что в воде есть сахар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0" name="Прямоугольник 7" descr=""/>
          <p:cNvPicPr/>
          <p:nvPr/>
        </p:nvPicPr>
        <p:blipFill>
          <a:blip r:embed="rId1"/>
          <a:stretch/>
        </p:blipFill>
        <p:spPr>
          <a:xfrm>
            <a:off x="122400" y="-79200"/>
            <a:ext cx="8899200" cy="15541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" descr=""/>
          <p:cNvPicPr/>
          <p:nvPr/>
        </p:nvPicPr>
        <p:blipFill>
          <a:blip r:embed="rId2"/>
          <a:stretch/>
        </p:blipFill>
        <p:spPr>
          <a:xfrm>
            <a:off x="2082960" y="2637000"/>
            <a:ext cx="495612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237960" y="1413000"/>
            <a:ext cx="820908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ак только сахар превратится в желтоватую жидкость, мы выльем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го маленькими порциями на блюдце или на лист бумаги и попробуем на вкус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н ничуть не отличается от конфет. Вряд ли тебе придется искать желающих снять  с бумаги остальное. Так мы легко можем организовать маленькую конфетную фабрику  для наших друзей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3" name="Прямоугольник 4" descr=""/>
          <p:cNvPicPr/>
          <p:nvPr/>
        </p:nvPicPr>
        <p:blipFill>
          <a:blip r:embed="rId1"/>
          <a:stretch/>
        </p:blipFill>
        <p:spPr>
          <a:xfrm>
            <a:off x="109440" y="-42840"/>
            <a:ext cx="8925120" cy="17254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"/>
          <p:cNvPicPr/>
          <p:nvPr/>
        </p:nvPicPr>
        <p:blipFill>
          <a:blip r:embed="rId2"/>
          <a:stretch/>
        </p:blipFill>
        <p:spPr>
          <a:xfrm>
            <a:off x="2398680" y="3213000"/>
            <a:ext cx="4343400" cy="325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-42840"/>
            <a:ext cx="8925120" cy="17254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351000" y="1341360"/>
            <a:ext cx="84391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. Шкурко, «Забавная химия», Ленинград, «Детская литература», 1976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жейм Верзейм, Крис Окслейд, «Химия. Школьный иллюстрированный справочник», «РОСМЭН», 1995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Г.Е. Рудзитис, «Органическая химия. Учебник для 10 класса общеобразовательных учреждений », М. , «Просвещение», 2001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7" name="Прямоугольник 5" descr=""/>
          <p:cNvPicPr/>
          <p:nvPr/>
        </p:nvPicPr>
        <p:blipFill>
          <a:blip r:embed="rId2"/>
          <a:stretch/>
        </p:blipFill>
        <p:spPr>
          <a:xfrm>
            <a:off x="85680" y="2560680"/>
            <a:ext cx="8918640" cy="17254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6"/>
          <p:cNvSpPr/>
          <p:nvPr/>
        </p:nvSpPr>
        <p:spPr>
          <a:xfrm>
            <a:off x="246240" y="4005360"/>
            <a:ext cx="8439120" cy="282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http://xleba.ru/d/40082/d/image_2..jpe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4"/>
              </a:rPr>
              <a:t>http://www.3dchem.com/files/page0-1026-full.jpg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5"/>
              </a:rPr>
              <a:t>http://static2.aif.ru/pictures/201102/veget_08.jpg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6"/>
              </a:rPr>
              <a:t>http://0.tqn.com/d/chemistry/1/0/u/d/brownsugarcrystals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7"/>
              </a:rPr>
              <a:t>http://m001.bcm.ru/2025/b451e42c-3f7d-47bb-9427-0c26f119fe1c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ff"/>
                </a:solidFill>
                <a:uFillTx/>
                <a:latin typeface="Candara"/>
                <a:hlinkClick r:id="rId8"/>
              </a:rPr>
              <a:t>http://cor.edu.27.ru/dlrstore/af34cf52-3dd3-cdcf-6700-397af208dc33/75.gif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i2.crtcdn1.net/images/asset/895/838/11/XXXKd2wZC_400x300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hnb.com.ua/artimages/vidy_sakhara%202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ftp.photoclub.com.ua/p/f/127602.jpeg?0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www.ukrbiznes.com/ist/?action=3&amp;f=pakuniversal/436_brawaqnzjpolnowcfsnzj.jpg&amp;w=420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img-fotki.yandex.ru/get/5308/81454286.2ea/0_851ed_f6caea03_XL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http://a31.idata.over-blog.com/2/91/41/56/chocolates.jpg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42840"/>
            <a:ext cx="8899200" cy="33717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"/>
          <p:cNvPicPr/>
          <p:nvPr/>
        </p:nvPicPr>
        <p:blipFill>
          <a:blip r:embed="rId2"/>
          <a:stretch/>
        </p:blipFill>
        <p:spPr>
          <a:xfrm>
            <a:off x="2889360" y="3003480"/>
            <a:ext cx="33652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241200" y="1258920"/>
            <a:ext cx="865188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 входит в состав сока сахарной  свеклы (16 -20%) и сахарного тростника        (14 -16 %). В небольших количествах она содержится вместе с  глюкозой  в плодах и листьях многих зеленых растений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2571840" y="2708280"/>
            <a:ext cx="400032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250920" y="1484280"/>
            <a:ext cx="86421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Чистая сахароза – бесцветное кристаллическое вещество сладкого вкуса, хорошо растворимое в вод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7" name="Прямоугольник 3" descr=""/>
          <p:cNvPicPr/>
          <p:nvPr/>
        </p:nvPicPr>
        <p:blipFill>
          <a:blip r:embed="rId2"/>
          <a:stretch/>
        </p:blipFill>
        <p:spPr>
          <a:xfrm>
            <a:off x="96840" y="2041560"/>
            <a:ext cx="8901000" cy="17254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 применяется как продукт питания и в кондитерской промышленност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лучают искусственный  мёд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Рисунок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2880000" cy="192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-278640" y="1557360"/>
            <a:ext cx="9502920" cy="122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 подвергается гидролизу при повышенной температуре и в присутствии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минеральных кислот: 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ndara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ndara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глюкоза              фруктоза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Стрелка вправо с вырезом 5"/>
          <p:cNvSpPr/>
          <p:nvPr/>
        </p:nvSpPr>
        <p:spPr>
          <a:xfrm>
            <a:off x="1452600" y="2276640"/>
            <a:ext cx="433440" cy="45720"/>
          </a:xfrm>
          <a:custGeom>
            <a:avLst/>
            <a:gdLst>
              <a:gd name="textAreaLeft" fmla="*/ 11160 w 433440"/>
              <a:gd name="textAreaRight" fmla="*/ 422280 w 433440"/>
              <a:gd name="textAreaTop" fmla="*/ 11520 h 45720"/>
              <a:gd name="textAreaBottom" fmla="*/ 34560 h 4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453" y="5400"/>
                </a:lnTo>
                <a:lnTo>
                  <a:pt x="20453" y="0"/>
                </a:lnTo>
                <a:lnTo>
                  <a:pt x="21600" y="10800"/>
                </a:lnTo>
                <a:lnTo>
                  <a:pt x="20453" y="21600"/>
                </a:lnTo>
                <a:lnTo>
                  <a:pt x="20453" y="16200"/>
                </a:lnTo>
                <a:lnTo>
                  <a:pt x="0" y="16200"/>
                </a:lnTo>
                <a:lnTo>
                  <a:pt x="5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Рисунок 7" descr=""/>
          <p:cNvPicPr/>
          <p:nvPr/>
        </p:nvPicPr>
        <p:blipFill>
          <a:blip r:embed="rId2"/>
          <a:stretch/>
        </p:blipFill>
        <p:spPr>
          <a:xfrm>
            <a:off x="2322360" y="2901960"/>
            <a:ext cx="44992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2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3"/>
          <p:cNvSpPr/>
          <p:nvPr/>
        </p:nvSpPr>
        <p:spPr>
          <a:xfrm>
            <a:off x="468360" y="1268280"/>
            <a:ext cx="806436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з 100 кг сахарной свеклы с содержанием 19% сахарозы в среднем получают 16.5 кг сахара и 2.2 кг патоки, куда входит 50% сахарозы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насыпать на кусок сахара немного пепла от сигареты и поднести сахар к пламени, то он загорится и будет гореть с потрескиванием синевато-жёлтым пламенем. Здесь пепел служит катализатором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о 1855 г. тростникового сахара производилось больше. Потом производство тростникового и свекловичного сахара сравнялось, а с 1890г. свекловичного сахара добывалось уже больше, чем тростникового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6" name="Рисунок 4" descr=""/>
          <p:cNvPicPr/>
          <p:nvPr/>
        </p:nvPicPr>
        <p:blipFill>
          <a:blip r:embed="rId2"/>
          <a:stretch/>
        </p:blipFill>
        <p:spPr>
          <a:xfrm>
            <a:off x="2657520" y="3962520"/>
            <a:ext cx="38289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Прямоугольник 6" descr=""/>
          <p:cNvPicPr/>
          <p:nvPr/>
        </p:nvPicPr>
        <p:blipFill>
          <a:blip r:embed="rId1"/>
          <a:stretch/>
        </p:blipFill>
        <p:spPr>
          <a:xfrm>
            <a:off x="122400" y="-11592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7"/>
          <p:cNvSpPr/>
          <p:nvPr/>
        </p:nvSpPr>
        <p:spPr>
          <a:xfrm>
            <a:off x="250920" y="1700280"/>
            <a:ext cx="864216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Шоколад – один из источников углеводов для организм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ахароза, распадаясь, дает глюкозу и фруктозу, а при их дальнейшем превращении выделяется энерги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изкое содержание углеводов вызывает недостаток энерги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9" name="Рисунок 1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6576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22400" y="-42840"/>
            <a:ext cx="8899200" cy="1725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9"/>
          <p:cNvSpPr/>
          <p:nvPr/>
        </p:nvSpPr>
        <p:spPr>
          <a:xfrm>
            <a:off x="250920" y="1184400"/>
            <a:ext cx="835344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зьмем два кусочка сахара и, для того чтобы им не было слишком жарко, смочим их несколькими каплями воды так, чтобы сахар стал влажным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Затем положим эти кусочки в фарфоровую чашку и поставим над пламенем спиртовк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Через несколько минут сахар растает и немножко пожелтеет. Нельзя долго держать его  на огне, иначе он станет коричневым и пригорит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2" name="Рисунок 1" descr=""/>
          <p:cNvPicPr/>
          <p:nvPr/>
        </p:nvPicPr>
        <p:blipFill>
          <a:blip r:embed="rId2"/>
          <a:stretch/>
        </p:blipFill>
        <p:spPr>
          <a:xfrm>
            <a:off x="3456000" y="3235320"/>
            <a:ext cx="2232000" cy="327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6"/>
          <p:cNvSpPr/>
          <p:nvPr/>
        </p:nvSpPr>
        <p:spPr>
          <a:xfrm>
            <a:off x="250920" y="1166760"/>
            <a:ext cx="8713800" cy="256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звестно, что вода - самый необходимый напиток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А если в воде растворить кусочек сахара, то она становится вкуснее. Однако на вид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ода от этого не изменится. Если небольшое количество жидкого сахара, оставшегося  в чашке от предыдущего опыта, мы подержим еще немного на огне, пока он не станет   коричневым, а затем дольем в чашку воды, то все это превратится в коричневую жидкость. Немного этой жидкости следует подлить в бесцветную сладкую воду, и   мы получим напиток, похожий по цвету на кока-колу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4" name="Прямоугольник 7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77400" cy="1433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2576520" y="3500280"/>
            <a:ext cx="406404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7:07Z</dcterms:created>
  <dc:creator>Mikhail</dc:creator>
  <dc:description/>
  <dc:language>en-US</dc:language>
  <cp:lastModifiedBy>Mikhail</cp:lastModifiedBy>
  <dcterms:modified xsi:type="dcterms:W3CDTF">2011-12-20T14:10:58Z</dcterms:modified>
  <cp:revision>11</cp:revision>
  <dc:subject/>
  <dc:title>ФБОУ- Раздольненская средняя общеобразовательная школа №19</dc:title>
</cp:coreProperties>
</file>