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9.jpeg" ContentType="image/jpe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9F2-5BF7-4B13-B63B-34259FDF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F26-B32B-450E-A585-C6542070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908-F227-42A6-A625-358DEDF1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D21-5F41-46C0-8D6E-82F45C5E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FEFF-5C74-4ED7-A72B-F028D25E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F3E2-6258-4844-98FC-29227242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F8DC-228C-44C7-8074-000FC854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745D-4CC8-492B-A93C-E8BAEB3F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980C-860A-49C7-A8CF-B75EC4E6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355B-4AB6-4AB5-B239-B7DFFBC5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1418-A571-451B-9105-6472266D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772-3A54-493A-A95B-D5A1F06A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16CD-6755-4B86-AC32-9F91F5CC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6AF6-C005-463B-8840-6EEDEEC2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9DDF-1963-43E8-BF8B-E7963CFB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E1F8-5F05-42B1-B323-C529F1C1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CD90-5DD2-4BC4-BF6E-270805A9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7C545-DA3F-4DB3-82C9-169A4E93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D86E1-0811-4A30-9D1B-A8265EA6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0D2FF-9CA5-4336-84E1-00843C9F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36F68-5A66-45C5-B668-72AE14FB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DC40D-5315-4F8C-AF4F-FA197FA6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E16-5C66-4ABA-9166-346782E5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DA9C-550D-4806-B119-BA001348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0E86-8457-48AB-BB8C-82A69565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E501-E72F-4B17-87B7-32331079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D0DED-B23A-462E-94BD-B74CA747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76699-6F8F-44DD-ADE9-403A414A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F3DD-BA13-4288-B2C8-BC49D7C5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636E4-691F-428E-A33B-9B1EB602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C391A-CFA9-472A-803C-EA19ABA8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BDE02-AAC3-4392-88AD-7FDA19A4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85E20-6CEF-444C-B2D6-FD708E7C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9EE-2C39-4A7B-BDA1-AABBCA29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0350F-BDD5-49F6-946F-61BDF2AD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ED6D4-622D-47CA-9A25-3EE8CB3E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93857-4A1D-4C07-91E5-6CA50D22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91FEE-A0CB-4E51-826B-EF68A646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8F08E-16A5-4124-AD6E-F505047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C3361-1B2C-44DC-AD16-3A21988D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E9C48-B944-45DE-A408-03238B57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02861-CB16-4821-8370-87F02904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3B3FE-DB30-4BDC-A8E2-06A10F6F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FAB29-8440-4369-AFE3-4FB51408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F12-8CFF-472A-A434-3DD37975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3B8FB-F474-404D-AE3E-3F880813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5A8B2-0FA5-4C94-9621-DF6A1A0E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B2A14-B4AD-4EDC-A1E3-BB4D98AD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C5D9B-EC3E-4D96-B379-89DF96C8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B2E66-1669-43A7-9F57-A7683354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AF34A-0DEE-421E-9CB6-2B11D89C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6D367-FA9F-4920-A2CD-412C6421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5E5DD-CA4A-48C5-8437-130CD770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40734-73A2-4B0A-8DC5-669997B2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23F96-A881-4225-96A4-A0EF214C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595-8FEF-4DD1-96C9-5BB48F15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B3829-6563-4B59-A107-9EF034FF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A2280-2FC8-4BCD-8FFC-84711A63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AF4F8-3043-4F62-AE0B-8261AF6C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66732-A197-4D49-B573-D828D098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F3897-E8B6-4951-9FDE-9B708C7D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4E60E-FE46-4D56-B86A-0C0F84C9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2FEA2-4E55-435A-BE0A-1025F0DA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6FB1F-40B5-4FC0-8992-207B6C5B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AA925-9FEA-488D-9C31-3687325C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11034-01AF-4F5B-AF50-644DF46E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670-A4A8-4947-8F3A-008536A3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3A131-531C-4112-88A2-959AD8E8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FF267-9EE1-481B-A9A5-90122F9D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52A51-29C0-4CD9-AE7F-F8A1FE8A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8A38D-1746-4F9C-92C5-A2F664EE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4FE9C-D945-4097-A67E-43BF0988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A2B87-1024-4391-9EEE-5F95E61D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B6A32-43F9-4616-9FBC-31A208DA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04D4F-229D-4F4F-A674-00EBA860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D21E9-ED02-499D-9F55-189A79FC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E2BA5-64D2-4E70-979D-38728E8B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837-C949-496D-9DFB-26FDFDDB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32ACE-CACD-4BC2-BFFB-A8B018B9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C0C28-A4BE-4725-B884-4E91A8DA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55EE6-12CB-404E-9F0F-EE8F5B87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C02B8-B2C9-4359-A1C1-99175E37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FAA3B-8E77-4F07-8543-CAF9620D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980-B2DF-436E-8D37-0C22520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AF78-F8DA-44BB-81E5-A0F03F54D6A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4874-34A4-4AF4-AF21-A96255AA155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F487-C6F8-4E72-96B8-2637AC3D02C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3E3F-7F31-43BA-9071-5BA4C510342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AD89-2821-4486-8B00-90A910E4285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9BEA-75F4-4DFF-80E5-B68C36C7BDB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0691-E556-4714-A61E-680C063AD2D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hyperlink" Target="http://xleba.ru/d/40082/d/image_2..jpeg" TargetMode="External"/><Relationship Id="rId4" Type="http://schemas.openxmlformats.org/officeDocument/2006/relationships/hyperlink" Target="http://www.3dchem.com/files/page0-1026-full.jpg" TargetMode="External"/><Relationship Id="rId5" Type="http://schemas.openxmlformats.org/officeDocument/2006/relationships/hyperlink" Target="http://static2.aif.ru/pictures/201102/veget_08.jpg" TargetMode="External"/><Relationship Id="rId6" Type="http://schemas.openxmlformats.org/officeDocument/2006/relationships/hyperlink" Target="http://0.tqn.com/d/chemistry/1/0/u/d/brownsugarcrystals.jpg" TargetMode="External"/><Relationship Id="rId7" Type="http://schemas.openxmlformats.org/officeDocument/2006/relationships/hyperlink" Target="http://m001.bcm.ru/2025/b451e42c-3f7d-47bb-9427-0c26f119fe1c.jpg" TargetMode="External"/><Relationship Id="rId8" Type="http://schemas.openxmlformats.org/officeDocument/2006/relationships/hyperlink" Target="http://cor.edu.27.ru/dlrstore/af34cf52-3dd3-cdcf-6700-397af208dc33/75.gif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ФБОУ- Раздольненская средняя общеобразовательная школа №19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Новосибирского района Новосибирской области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6" name="Прямоугольник 3" descr=""/>
          <p:cNvPicPr/>
          <p:nvPr/>
        </p:nvPicPr>
        <p:blipFill>
          <a:blip r:embed="rId1"/>
          <a:stretch/>
        </p:blipFill>
        <p:spPr>
          <a:xfrm>
            <a:off x="378000" y="914400"/>
            <a:ext cx="8388000" cy="31813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4"/>
          <p:cNvSpPr/>
          <p:nvPr/>
        </p:nvSpPr>
        <p:spPr>
          <a:xfrm>
            <a:off x="3398760" y="62434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. Раздольное  - 2011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5000040" y="4687920"/>
            <a:ext cx="40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ыполнила: учитель химии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Евстегнеева Алевтина Васильевн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39" name="Рисунок 2" descr=""/>
          <p:cNvPicPr/>
          <p:nvPr/>
        </p:nvPicPr>
        <p:blipFill>
          <a:blip r:embed="rId2"/>
          <a:stretch/>
        </p:blipFill>
        <p:spPr>
          <a:xfrm>
            <a:off x="652320" y="3743280"/>
            <a:ext cx="30117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Прямоугольник 6" descr=""/>
          <p:cNvPicPr/>
          <p:nvPr/>
        </p:nvPicPr>
        <p:blipFill>
          <a:blip r:embed="rId1"/>
          <a:stretch/>
        </p:blipFill>
        <p:spPr>
          <a:xfrm>
            <a:off x="122400" y="-42840"/>
            <a:ext cx="8899200" cy="172548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7"/>
          <p:cNvSpPr/>
          <p:nvPr/>
        </p:nvSpPr>
        <p:spPr>
          <a:xfrm>
            <a:off x="250920" y="1484280"/>
            <a:ext cx="8642160" cy="393444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озьмём щипцами кусочек сахара и подержим его над пламенем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пиртовки: сахар станет коричневым, расплавится, однако не загорится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И все-таки он горит!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осыплем кусочек сахара табачным пеплом и вновь подержим его над пламенем.  Удивительное явление: теперь сахар горит и сгорает дотла. Мы знаем, что облитые керосином дрова лучше горят, но трудно объяснить, почему табачный пепел  оказывает такое же действие на сахар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Это происходит потому, что в пепле содержатся различные химические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оединения, в первую очередь-соль лития, которые служат катализаторами и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ускоряют окисление сахара настолько, что он легко воспламеняется от спички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8" name="Рисунок 1" descr=""/>
          <p:cNvPicPr/>
          <p:nvPr/>
        </p:nvPicPr>
        <p:blipFill>
          <a:blip r:embed="rId2"/>
          <a:stretch/>
        </p:blipFill>
        <p:spPr>
          <a:xfrm>
            <a:off x="3851280" y="4508640"/>
            <a:ext cx="1627200" cy="21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 6"/>
          <p:cNvSpPr/>
          <p:nvPr/>
        </p:nvSpPr>
        <p:spPr>
          <a:xfrm>
            <a:off x="230040" y="1197000"/>
            <a:ext cx="86630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Мы говорим о сахаре. Раздроби кусочек сахара и  положим в пробирку, ¾ которые наполнены водой. Теперь закрой пробирку   большим пальцем и встряхни несколько раз. Вскоре сахар растворится, и ты его не увидишь. Только на вкус можно определить, что в воде есть сахар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0" name="Прямоугольник 7" descr=""/>
          <p:cNvPicPr/>
          <p:nvPr/>
        </p:nvPicPr>
        <p:blipFill>
          <a:blip r:embed="rId1"/>
          <a:stretch/>
        </p:blipFill>
        <p:spPr>
          <a:xfrm>
            <a:off x="122400" y="-79200"/>
            <a:ext cx="8899200" cy="155412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1" descr=""/>
          <p:cNvPicPr/>
          <p:nvPr/>
        </p:nvPicPr>
        <p:blipFill>
          <a:blip r:embed="rId2"/>
          <a:stretch/>
        </p:blipFill>
        <p:spPr>
          <a:xfrm>
            <a:off x="2082960" y="2637000"/>
            <a:ext cx="4956120" cy="371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237960" y="1413000"/>
            <a:ext cx="820908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Как только сахар превратится в желтоватую жидкость, мы выльем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его маленькими порциями на блюдце или на лист бумаги и попробуем на вкус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Он ничуть не отличается от конфет. Вряд ли тебе придется искать желающих снять  с бумаги остальное. Так мы легко можем организовать маленькую конфетную фабрику  для наших друзей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3" name="Прямоугольник 4" descr=""/>
          <p:cNvPicPr/>
          <p:nvPr/>
        </p:nvPicPr>
        <p:blipFill>
          <a:blip r:embed="rId1"/>
          <a:stretch/>
        </p:blipFill>
        <p:spPr>
          <a:xfrm>
            <a:off x="109440" y="-42840"/>
            <a:ext cx="8925120" cy="172548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2" descr=""/>
          <p:cNvPicPr/>
          <p:nvPr/>
        </p:nvPicPr>
        <p:blipFill>
          <a:blip r:embed="rId2"/>
          <a:stretch/>
        </p:blipFill>
        <p:spPr>
          <a:xfrm>
            <a:off x="2398680" y="3213000"/>
            <a:ext cx="4343400" cy="325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-42840"/>
            <a:ext cx="8925120" cy="17254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351000" y="1341360"/>
            <a:ext cx="84391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Д. Шкурко, «Забавная химия», Ленинград, «Детская литература», 1976 г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Джейм Верзейм, Крис Окслейд, «Химия. Школьный иллюстрированный справочник», «РОСМЭН», 1995 г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Г.Е. Рудзитис, «Органическая химия. Учебник для 10 класса общеобразовательных учреждений », М. , «Просвещение», 2001 г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7" name="Прямоугольник 5" descr=""/>
          <p:cNvPicPr/>
          <p:nvPr/>
        </p:nvPicPr>
        <p:blipFill>
          <a:blip r:embed="rId2"/>
          <a:stretch/>
        </p:blipFill>
        <p:spPr>
          <a:xfrm>
            <a:off x="85680" y="2560680"/>
            <a:ext cx="8918640" cy="1725480"/>
          </a:xfrm>
          <a:prstGeom prst="rect">
            <a:avLst/>
          </a:prstGeom>
          <a:ln w="0">
            <a:noFill/>
          </a:ln>
        </p:spPr>
      </p:pic>
      <p:sp>
        <p:nvSpPr>
          <p:cNvPr id="378" name="TextBox 6"/>
          <p:cNvSpPr/>
          <p:nvPr/>
        </p:nvSpPr>
        <p:spPr>
          <a:xfrm>
            <a:off x="246240" y="4005360"/>
            <a:ext cx="8439120" cy="282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ff"/>
                </a:solidFill>
                <a:uFillTx/>
                <a:latin typeface="Candara"/>
                <a:hlinkClick r:id="rId3"/>
              </a:rPr>
              <a:t>http://xleba.ru/d/40082/d/image_2..jpeg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ff"/>
                </a:solidFill>
                <a:uFillTx/>
                <a:latin typeface="Candara"/>
                <a:hlinkClick r:id="rId4"/>
              </a:rPr>
              <a:t>http://www.3dchem.com/files/page0-1026-full.jpg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ff"/>
                </a:solidFill>
                <a:uFillTx/>
                <a:latin typeface="Candara"/>
                <a:hlinkClick r:id="rId5"/>
              </a:rPr>
              <a:t>http://static2.aif.ru/pictures/201102/veget_08.jpg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ff"/>
                </a:solidFill>
                <a:uFillTx/>
                <a:latin typeface="Candara"/>
                <a:hlinkClick r:id="rId6"/>
              </a:rPr>
              <a:t>http://0.tqn.com/d/chemistry/1/0/u/d/brownsugarcrystals.jpg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ff"/>
                </a:solidFill>
                <a:uFillTx/>
                <a:latin typeface="Candara"/>
                <a:hlinkClick r:id="rId7"/>
              </a:rPr>
              <a:t>http://m001.bcm.ru/2025/b451e42c-3f7d-47bb-9427-0c26f119fe1c.jpg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ff"/>
                </a:solidFill>
                <a:uFillTx/>
                <a:latin typeface="Candara"/>
                <a:hlinkClick r:id="rId8"/>
              </a:rPr>
              <a:t>http://cor.edu.27.ru/dlrstore/af34cf52-3dd3-cdcf-6700-397af208dc33/75.gif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http://i2.crtcdn1.net/images/asset/895/838/11/XXXKd2wZC_400x300.jpg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http://hnb.com.ua/artimages/vidy_sakhara%202.jpg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http://ftp.photoclub.com.ua/p/f/127602.jpeg?0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http://www.ukrbiznes.com/ist/?action=3&amp;f=pakuniversal/436_brawaqnzjpolnowcfsnzj.jpg&amp;w=420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http://img-fotki.yandex.ru/get/5308/81454286.2ea/0_851ed_f6caea03_XL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http://a31.idata.over-blog.com/2/91/41/56/chocolates.jpg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-42840"/>
            <a:ext cx="8899200" cy="337176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2" descr=""/>
          <p:cNvPicPr/>
          <p:nvPr/>
        </p:nvPicPr>
        <p:blipFill>
          <a:blip r:embed="rId2"/>
          <a:stretch/>
        </p:blipFill>
        <p:spPr>
          <a:xfrm>
            <a:off x="2889360" y="3003480"/>
            <a:ext cx="336528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-115920"/>
            <a:ext cx="8899200" cy="17254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3"/>
          <p:cNvSpPr/>
          <p:nvPr/>
        </p:nvSpPr>
        <p:spPr>
          <a:xfrm>
            <a:off x="241200" y="1258920"/>
            <a:ext cx="865188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ахароза входит в состав сока сахарной  свеклы (16 -20%) и сахарного тростника        (14 -16 %). В небольших количествах она содержится вместе с  глюкозой  в плодах и листьях многих зеленых растений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4" name="Рисунок 2" descr=""/>
          <p:cNvPicPr/>
          <p:nvPr/>
        </p:nvPicPr>
        <p:blipFill>
          <a:blip r:embed="rId2"/>
          <a:stretch/>
        </p:blipFill>
        <p:spPr>
          <a:xfrm>
            <a:off x="2571840" y="2708280"/>
            <a:ext cx="400032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-115920"/>
            <a:ext cx="8899200" cy="172548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250920" y="1484280"/>
            <a:ext cx="864216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Чистая сахароза – бесцветное кристаллическое вещество сладкого вкуса, хорошо растворимое в воде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7" name="Прямоугольник 3" descr=""/>
          <p:cNvPicPr/>
          <p:nvPr/>
        </p:nvPicPr>
        <p:blipFill>
          <a:blip r:embed="rId2"/>
          <a:stretch/>
        </p:blipFill>
        <p:spPr>
          <a:xfrm>
            <a:off x="96840" y="2041560"/>
            <a:ext cx="8901000" cy="17254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"/>
          <p:cNvSpPr/>
          <p:nvPr/>
        </p:nvSpPr>
        <p:spPr>
          <a:xfrm>
            <a:off x="250920" y="3789360"/>
            <a:ext cx="864216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ахароза применяется как продукт питания и в кондитерской промышленности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олучают искусственный  мёд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9" name="Рисунок 7" descr=""/>
          <p:cNvPicPr/>
          <p:nvPr/>
        </p:nvPicPr>
        <p:blipFill>
          <a:blip r:embed="rId3"/>
          <a:stretch/>
        </p:blipFill>
        <p:spPr>
          <a:xfrm>
            <a:off x="3132000" y="4581360"/>
            <a:ext cx="2880000" cy="192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-115920"/>
            <a:ext cx="8899200" cy="17254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"/>
          <p:cNvSpPr/>
          <p:nvPr/>
        </p:nvSpPr>
        <p:spPr>
          <a:xfrm>
            <a:off x="-278640" y="1557360"/>
            <a:ext cx="9502920" cy="122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ахароза подвергается гидролизу при повышенной температуре и в присутствии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минеральных кислот: 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           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ndara"/>
              </a:rPr>
              <a:t>6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</a:rPr>
              <a:t>6 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ndara"/>
              </a:rPr>
              <a:t>6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глюкоза              фруктоза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2" name="Стрелка вправо с вырезом 5"/>
          <p:cNvSpPr/>
          <p:nvPr/>
        </p:nvSpPr>
        <p:spPr>
          <a:xfrm>
            <a:off x="1452600" y="2276640"/>
            <a:ext cx="433440" cy="45720"/>
          </a:xfrm>
          <a:custGeom>
            <a:avLst/>
            <a:gdLst>
              <a:gd name="textAreaLeft" fmla="*/ 11160 w 433440"/>
              <a:gd name="textAreaRight" fmla="*/ 422280 w 433440"/>
              <a:gd name="textAreaTop" fmla="*/ 11520 h 45720"/>
              <a:gd name="textAreaBottom" fmla="*/ 34560 h 45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453" y="5400"/>
                </a:lnTo>
                <a:lnTo>
                  <a:pt x="20453" y="0"/>
                </a:lnTo>
                <a:lnTo>
                  <a:pt x="21600" y="10800"/>
                </a:lnTo>
                <a:lnTo>
                  <a:pt x="20453" y="21600"/>
                </a:lnTo>
                <a:lnTo>
                  <a:pt x="20453" y="16200"/>
                </a:lnTo>
                <a:lnTo>
                  <a:pt x="0" y="16200"/>
                </a:lnTo>
                <a:lnTo>
                  <a:pt x="5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1b6fd"/>
          </a:solidFill>
          <a:ln w="381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3" name="Рисунок 7" descr=""/>
          <p:cNvPicPr/>
          <p:nvPr/>
        </p:nvPicPr>
        <p:blipFill>
          <a:blip r:embed="rId2"/>
          <a:stretch/>
        </p:blipFill>
        <p:spPr>
          <a:xfrm>
            <a:off x="2322360" y="2901960"/>
            <a:ext cx="44992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Прямоугольник 2" descr=""/>
          <p:cNvPicPr/>
          <p:nvPr/>
        </p:nvPicPr>
        <p:blipFill>
          <a:blip r:embed="rId1"/>
          <a:stretch/>
        </p:blipFill>
        <p:spPr>
          <a:xfrm>
            <a:off x="122400" y="-115920"/>
            <a:ext cx="8899200" cy="17254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3"/>
          <p:cNvSpPr/>
          <p:nvPr/>
        </p:nvSpPr>
        <p:spPr>
          <a:xfrm>
            <a:off x="468360" y="1268280"/>
            <a:ext cx="806436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Из 100 кг сахарной свеклы с содержанием 19% сахарозы в среднем получают 16.5 кг сахара и 2.2 кг патоки, куда входит 50% сахарозы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Если насыпать на кусок сахара немного пепла от сигареты и поднести сахар к пламени, то он загорится и будет гореть с потрескиванием синевато-жёлтым пламенем. Здесь пепел служит катализатором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До 1855 г. тростникового сахара производилось больше. Потом производство тростникового и свекловичного сахара сравнялось, а с 1890г. свекловичного сахара добывалось уже больше, чем тростникового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6" name="Рисунок 4" descr=""/>
          <p:cNvPicPr/>
          <p:nvPr/>
        </p:nvPicPr>
        <p:blipFill>
          <a:blip r:embed="rId2"/>
          <a:stretch/>
        </p:blipFill>
        <p:spPr>
          <a:xfrm>
            <a:off x="2657520" y="3962520"/>
            <a:ext cx="382896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Прямоугольник 6" descr=""/>
          <p:cNvPicPr/>
          <p:nvPr/>
        </p:nvPicPr>
        <p:blipFill>
          <a:blip r:embed="rId1"/>
          <a:stretch/>
        </p:blipFill>
        <p:spPr>
          <a:xfrm>
            <a:off x="122400" y="-115920"/>
            <a:ext cx="8899200" cy="1725480"/>
          </a:xfrm>
          <a:prstGeom prst="rect">
            <a:avLst/>
          </a:prstGeom>
          <a:ln w="0">
            <a:noFill/>
          </a:ln>
        </p:spPr>
      </p:pic>
      <p:sp>
        <p:nvSpPr>
          <p:cNvPr id="358" name="TextBox 7"/>
          <p:cNvSpPr/>
          <p:nvPr/>
        </p:nvSpPr>
        <p:spPr>
          <a:xfrm>
            <a:off x="250920" y="1700280"/>
            <a:ext cx="864216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Шоколад – один из источников углеводов для организма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ахароза, распадаясь, дает глюкозу и фруктозу, а при их дальнейшем превращении выделяется энергия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Низкое содержание углеводов вызывает недостаток энергии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9" name="Рисунок 1" descr=""/>
          <p:cNvPicPr/>
          <p:nvPr/>
        </p:nvPicPr>
        <p:blipFill>
          <a:blip r:embed="rId2"/>
          <a:stretch/>
        </p:blipFill>
        <p:spPr>
          <a:xfrm>
            <a:off x="2700360" y="3716280"/>
            <a:ext cx="365760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Прямоугольник 7" descr=""/>
          <p:cNvPicPr/>
          <p:nvPr/>
        </p:nvPicPr>
        <p:blipFill>
          <a:blip r:embed="rId1"/>
          <a:stretch/>
        </p:blipFill>
        <p:spPr>
          <a:xfrm>
            <a:off x="122400" y="-42840"/>
            <a:ext cx="8899200" cy="17254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9"/>
          <p:cNvSpPr/>
          <p:nvPr/>
        </p:nvSpPr>
        <p:spPr>
          <a:xfrm>
            <a:off x="250920" y="1184400"/>
            <a:ext cx="8353440" cy="201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озьмем два кусочка сахара и, для того чтобы им не было слишком жарко, смочим их несколькими каплями воды так, чтобы сахар стал влажным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Затем положим эти кусочки в фарфоровую чашку и поставим над пламенем спиртовки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Через несколько минут сахар растает и немножко пожелтеет. Нельзя долго держать его  на огне, иначе он станет коричневым и пригорит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2" name="Рисунок 1" descr=""/>
          <p:cNvPicPr/>
          <p:nvPr/>
        </p:nvPicPr>
        <p:blipFill>
          <a:blip r:embed="rId2"/>
          <a:stretch/>
        </p:blipFill>
        <p:spPr>
          <a:xfrm>
            <a:off x="3456000" y="3235320"/>
            <a:ext cx="2232000" cy="327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6"/>
          <p:cNvSpPr/>
          <p:nvPr/>
        </p:nvSpPr>
        <p:spPr>
          <a:xfrm>
            <a:off x="250920" y="1166760"/>
            <a:ext cx="8713800" cy="256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Известно, что вода - самый необходимый напиток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А если в воде растворить кусочек сахара, то она становится вкуснее. Однако на вид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ода от этого не изменится. Если небольшое количество жидкого сахара, оставшегося  в чашке от предыдущего опыта, мы подержим еще немного на огне, пока он не станет   коричневым, а затем дольем в чашку воды, то все это превратится в коричневую жидкость. Немного этой жидкости следует подлить в бесцветную сладкую воду, и   мы получим напиток, похожий по цвету на кока-колу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4" name="Прямоугольник 7" descr=""/>
          <p:cNvPicPr/>
          <p:nvPr/>
        </p:nvPicPr>
        <p:blipFill>
          <a:blip r:embed="rId1"/>
          <a:stretch/>
        </p:blipFill>
        <p:spPr>
          <a:xfrm>
            <a:off x="30240" y="-6480"/>
            <a:ext cx="9077400" cy="14335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1" descr=""/>
          <p:cNvPicPr/>
          <p:nvPr/>
        </p:nvPicPr>
        <p:blipFill>
          <a:blip r:embed="rId2"/>
          <a:stretch/>
        </p:blipFill>
        <p:spPr>
          <a:xfrm>
            <a:off x="2576520" y="3500280"/>
            <a:ext cx="406404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4:37:07Z</dcterms:created>
  <dc:creator>Mikhail</dc:creator>
  <dc:description/>
  <dc:language>en-US</dc:language>
  <cp:lastModifiedBy>Mikhail</cp:lastModifiedBy>
  <dcterms:modified xsi:type="dcterms:W3CDTF">2011-12-20T14:10:58Z</dcterms:modified>
  <cp:revision>11</cp:revision>
  <dc:subject/>
  <dc:title>ФБОУ- Раздольненская средняя общеобразовательная школа №19</dc:title>
</cp:coreProperties>
</file>