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6.gif" ContentType="image/gif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4.wmf" ContentType="image/x-wmf"/>
  <Override PartName="/ppt/media/image3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8.png" ContentType="image/pn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B38-3AFE-4389-99A9-CFC7830E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61C-E163-4FD1-AA1A-B7BE0774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AF82-3F95-482A-8489-89C48624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E6F-F6C8-440B-83AE-822BE396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417-7C60-467B-8CFC-53EBCC99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4F1-0A93-44F3-97B6-A2988143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C9A-1EBF-4F37-A7E3-E4463BCD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F33-2D5E-4345-8D9F-831EF5A9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ACEB-E7A0-4117-A197-39FEEDAA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A42-A16B-48B8-B735-A67B25F1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FF27-09E6-46E7-8F55-F36F10CD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E0BC-3D83-46BA-BA4E-9A89E909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8393-D4E5-4160-91DE-1DEE1F4FB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80880"/>
            <a:ext cx="6858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Законч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стихотвор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2532240" cy="4419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05320" cy="280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66680" y="533520"/>
            <a:ext cx="1108080" cy="960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391520" y="685800"/>
            <a:ext cx="1181160" cy="944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112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68360" y="1125360"/>
            <a:ext cx="4824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цея №1589 г.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арова Гали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199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-43920"/>
            <a:ext cx="8424720" cy="50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2520" rIns="825120" tIns="539640" bIns="22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кромный серый колоб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линный тонкий провод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Ну а на коробке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или три кноп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оопарке есть зайчиш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 компьютера есть 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  <a:ea typeface="Times New Roman"/>
              </a:rPr>
              <a:t>...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8200" y="5310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8200" y="74314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54165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476280"/>
            <a:ext cx="7667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но смелый капита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на нем - горит эк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ркой радугой он дыши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на нем компьютер пиш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рисует без запин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евозможные картин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верху машины вс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мещ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4019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00000" y="692280"/>
          <a:ext cx="7632720" cy="324036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2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теперь, друзья, загадка!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то такое; рукоятк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нопки две, курок и хвостик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у конечно, это ...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160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765000"/>
            <a:ext cx="88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коло дисплея - главный бло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ам бежит электро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самым важным микросхем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т блок зовут ……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11640" y="333360"/>
            <a:ext cx="35146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333360"/>
            <a:ext cx="813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клавишам прыг да скок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-ре-ги но-го-т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-два и готово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стукали сло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 где пальцам физкуль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вот - ...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66661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9640" y="549360"/>
          <a:ext cx="7777080" cy="460800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46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чего же этот ящик?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н в себя бумагу тащит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сейчас же буквы, точки, Запятые - строчка к строчке -Напечатает картинку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вкий мастер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от ….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08360" y="692280"/>
            <a:ext cx="4672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549000"/>
            <a:ext cx="763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на как новая ком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нам в жизнь стремительно лети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имя просто ей -………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информацию хран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ней записаны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для мамы, и для пап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упаковке, как конфе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ыстро верти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56000" y="765000"/>
            <a:ext cx="549108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7560" y="475920"/>
            <a:ext cx="6860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компьютеры пор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ворят между собо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 для этого од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 штуковина нуж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телефону подключ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общение получил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ещь, известная не всем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зыв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63104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6:26:31Z</dcterms:created>
  <dc:creator>1</dc:creator>
  <dc:description/>
  <dc:language>en-US</dc:language>
  <cp:lastModifiedBy>Мама</cp:lastModifiedBy>
  <dcterms:modified xsi:type="dcterms:W3CDTF">2010-10-08T11:11:01Z</dcterms:modified>
  <cp:revision>24</cp:revision>
  <dc:subject/>
  <dc:title>Слайд 1</dc:title>
</cp:coreProperties>
</file>