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948-486D-4F2D-AE8C-B4BD402B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7697-9346-444F-8739-780B1289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411-BA99-4825-B811-29A8AC5D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E6F-05DF-4286-98BE-BF49BA9B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23BF-2BA6-48A3-AE62-64E7F20A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333A-1388-4E4A-BA45-B642A1AA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0748-CBEC-4CE0-A611-BEE31EE4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6D77-CD8A-4911-BC69-0F80A39B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E403-324B-4EF7-B197-CEBA0564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D547-5CCC-4B40-94E5-876F0B50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A603-F4C0-48C2-A7BC-1356D6A7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C74-FA55-4983-9CBF-BE6ACCD3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7028-2D18-4D12-A49C-B4EF9F0F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2D3D-32C9-4EA1-9BDC-F8E158B4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A9EF-C978-4DA2-B509-03414C58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FCC5-6939-4E71-BB9B-E13F8B36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647E-E6D6-4594-A124-DA5EAD12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CBC-5FCA-462A-872E-A42451E0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58E-7B35-4434-905B-E026F8FC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BD7-8C9A-4FFD-A6A6-F132DB77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A42-5B92-4EE4-8D81-04A17660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3B1-7D53-439D-BBAF-AFEB0460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B60-79A8-4244-9330-B584E356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05E-6019-45A4-80DA-6EB85CB3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957F-D987-4F71-B5F3-9A5C85585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353C-99A0-42B4-8342-82CFB501B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95280" y="333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Arial"/>
              </a:rPr>
              <a:t>Ханты-Мансийский автономный округ – Югра</a:t>
            </a:r>
            <a:br>
              <a:rPr sz="1800"/>
            </a:br>
            <a:r>
              <a:rPr b="0" lang="en-US" sz="1800" spc="-1" strike="noStrike">
                <a:solidFill>
                  <a:srgbClr val="feec94"/>
                </a:solidFill>
                <a:latin typeface="Arial"/>
              </a:rPr>
              <a:t>Нижневартовский район</a:t>
            </a:r>
            <a:br>
              <a:rPr sz="1800"/>
            </a:br>
            <a:r>
              <a:rPr b="0" lang="en-US" sz="1800" spc="-1" strike="noStrike">
                <a:solidFill>
                  <a:srgbClr val="feec94"/>
                </a:solidFill>
                <a:latin typeface="Arial"/>
              </a:rPr>
              <a:t>МОУ «Новоаганская общеобразовательная основ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63640" y="1268280"/>
            <a:ext cx="58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ферат   на   тем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 Глухарь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16000" y="3500280"/>
          <a:ext cx="7777080" cy="297324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29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олнила ученица 4а к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 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ремеева Кс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итель  Рогова  Т.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-2008 уч.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26049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16000" y="199440"/>
            <a:ext cx="71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Глухарка  в два раза меньше петуха. Оперение её рыжевато – бурое с крупными чёрными и белыми пестринами.  Глухарки  встречаются тёмные и более светлые – белесые. Над глазами у них, так же как и у петуха, имеются красные бровки. Оперение  на ногах до плюсны грязное – серое. Пальцы серого рогового цвета. Длина тела самки 72–78см, размах крыльев 108–112см, длина крыла 35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сканирование0004" descr=""/>
          <p:cNvPicPr/>
          <p:nvPr/>
        </p:nvPicPr>
        <p:blipFill>
          <a:blip r:embed="rId1"/>
          <a:stretch/>
        </p:blipFill>
        <p:spPr>
          <a:xfrm>
            <a:off x="1332000" y="3573360"/>
            <a:ext cx="6697440" cy="328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4620600" y="4894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-35640"/>
            <a:ext cx="82090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Самец глухаря – красавец! Он носит яркий наряд: верх и бока серо–сизые, шея чёрная, зоб с зелёным металлическим блеском, брюшко тёмное с белыми пятнышками, маховые перья крыла буровато-коричневые, рулевые хвоста – чёрные с белыми пятнами. Над глазами у глухаря голое неоперенное пятно красного цвета. Удлинённые чёрные перья на горле образуют «бороду». Длина тела глухаря 90 - 112см,  размах крыльев 120–144см, длина крыла 40–45см, длина хвоста 34–36с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2695680" y="145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сканирование0002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561440" cy="4176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0920" y="46882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 – след глухаря, Б– когти ног с роговыми «гребешками» ( зимой ), В -без роговых «гребешков»  ( летом 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 – определение возраста глухаря по размеру хвоста: а – однолетний, б – трёхлетний, в – пятилет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06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4630680" y="262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1334880"/>
            <a:ext cx="8642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а обитания – сухие и заболоченные лиственничные леса с кедровым стлаником,  берёзой Миддендорфа, рябиной бузинолистной, багульником крупнолистным, а  также окраины елово– пихтовых и смешанных лесов и зарастающие гари и вырубки. Токование в апреле. Гнёзда помещаются на земле среди травянистых  и кустарниковых растений. В кладке до 8 яиц. Откладка яиц в мае, насиживание в июне. Выводки наблюдались в первой половине июля. Пища глухарей – вегетативные и генеративные органы растений, плоды брусники, рябины, голубики, семена травянистых растений. Наибольшая плотность населения глухаря – в южной зоне тайги. Жизнь  глухаря тесно связана с сосной. Однако в ряде мест он круглый год может жить в кедровых и даже в еловых лесах с примесью сосны. Глухарь оседлая птица, совершающая сезонные кочевки на небольшие расстояния, лишь на Южном Урале происходят регулярные сезонные перелёты глухарей с горных хвойных лесов в широколиственные дубравы, где они токуют и выводят птенц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03280" y="333360"/>
            <a:ext cx="59724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есто   обитания   и   условия 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ществов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918000"/>
            <a:ext cx="8642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енью и зимой глухарь кормится хвоей сосны (в основном), лиственницы, кедра и ели. В конце сентября совершают вылеты на старые осины и охотно щиплют пожелтевший лист. В Кировской области осенью вылетают на хлебные поля. Летом поедают листья и соцветия, ягоды, семена; глухарята склёвывают также различных насекомых, которые играют особо важную роль в первые недели их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619560"/>
            <a:ext cx="78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водят птенцов глухари, в конце мая - начале июня. Яйца откладывают на земле, в ямке, куда приносят мох, мелкие ветки и перья. Высиживают яйца, как куры, 3 недели. Малыши, едва обсохнув, ходят за родителями и вскоре начинают сами кормиться мухами, муравьями, ягодами. Водит птенцов только мать. Она же учит их добывать корм и «хорониться» в траве в минуту опас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-42240240" y="987480"/>
            <a:ext cx="6048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ЩЕВЫЕ   ОТНОШЕНИЯ   С   ДРУГИМИ   ОРГАНИЗМАМИ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1" name="сканирование0005" descr=""/>
          <p:cNvPicPr/>
          <p:nvPr/>
        </p:nvPicPr>
        <p:blipFill>
          <a:blip r:embed="rId1"/>
          <a:stretch/>
        </p:blipFill>
        <p:spPr>
          <a:xfrm>
            <a:off x="-42240240" y="2395440"/>
            <a:ext cx="6058080" cy="2562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-42240240" y="9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42499800" y="1708560"/>
            <a:ext cx="83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В рацион питания входят и животные корма; моллюски, муравьи, жуки, гусеницы, бабочки и другие  насекомы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13419360" y="4911840"/>
            <a:ext cx="35982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дним из важнейших пищевых отношений с организмами является отношение с человеком, но пищей является сам глухарь. Глухариная охота во время тока очень популярна, производит незабываемое впечатление. Однако поголовье глухаря постоянно уменьшается. Поэтому отстрел глухарей довольно ограничен, а глухарок запрещен в течение круглого года.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42240240" y="987480"/>
            <a:ext cx="6048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ЩЕВЫЕ   ОТНОШЕНИЯ   С   ДРУГИМИ   ОРГАНИЗМАМИ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6" name="сканирование0005" descr=""/>
          <p:cNvPicPr/>
          <p:nvPr/>
        </p:nvPicPr>
        <p:blipFill>
          <a:blip r:embed="rId2"/>
          <a:stretch/>
        </p:blipFill>
        <p:spPr>
          <a:xfrm>
            <a:off x="-42240240" y="2395440"/>
            <a:ext cx="6058080" cy="2562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-42240240" y="9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42499800" y="1708560"/>
            <a:ext cx="83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В рацион питания входят и животные корма; моллюски, муравьи, жуки, гусеницы, бабочки и другие  насекомы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13419360" y="4911840"/>
            <a:ext cx="35982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дним из важнейших пищевых отношений с организмами является отношение с человеком, но пищей является сам глухарь. Глухариная охота во время тока очень популярна, производит незабываемое впечатление. Однако поголовье глухаря постоянно уменьшается. Поэтому отстрел глухарей довольно ограничен, а глухарок запрещен в течение круглого года.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476360" y="620640"/>
            <a:ext cx="6048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ЩЕВЫЕ   ОТНОШЕНИЯ   С   ДРУГИМИ   ОРГАНИЗМАМИ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1" name="сканирование0005" descr=""/>
          <p:cNvPicPr/>
          <p:nvPr/>
        </p:nvPicPr>
        <p:blipFill>
          <a:blip r:embed="rId3"/>
          <a:stretch/>
        </p:blipFill>
        <p:spPr>
          <a:xfrm>
            <a:off x="468360" y="2852640"/>
            <a:ext cx="8207280" cy="3672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144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1147680"/>
            <a:ext cx="77058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 рацион питания входят и животные корма; моллюски, муравьи, жуки, гусеницы, бабочки и другие  насеком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4360" y="702000"/>
            <a:ext cx="7632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дним из важнейших пищевых отношений с организмами является отношение с человеком, но пищей является сам глухарь. Глухариная охота во время тока очень популярна, производит незабываемое впечатление. Однако поголовье глухаря постоянно уменьшается.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этому отстрел глухарей довольно ограничен, а глухарок запрещен в течение круглого года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.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11640" y="457920"/>
            <a:ext cx="30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835280" y="189000"/>
            <a:ext cx="5933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  л  у  х  а  р  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/>
          <p:nvPr/>
        </p:nvSpPr>
        <p:spPr>
          <a:xfrm>
            <a:off x="1509840" y="1205640"/>
            <a:ext cx="612612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алиновые  брови  глухар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расила  весёлая  зар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  ночь  глухая  глухарю  д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Два  сильных,  крепк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ороных   кры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  чтоб  легко  в  полё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ело  нёс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аёжный  ветер  д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Красивый  хво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  старый  кедр,  иголками  гор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ветствует  красавца  глухар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  он  росу  серебряную  пьё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  он  бруснику  спелую  клюёт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,  счастлив  от  раздолья  и  простор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еребряную  песню  дарит  бо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А. Тарханов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916360" y="404640"/>
            <a:ext cx="35272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ведение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очему я взялась за эту работу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Это интересно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Это познавательно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Это увлекательно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Это развивает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843280" y="836640"/>
            <a:ext cx="3124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Ы В О Д</a:t>
            </a:r>
            <a:endParaRPr b="0" lang="en-US" sz="1800" spc="1" strike="noStrike">
              <a:ln w="19080">
                <a:solidFill>
                  <a:srgbClr val="8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1280" y="1700280"/>
            <a:ext cx="30193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  л  у  х  а  р  ь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4346280" y="2579400"/>
            <a:ext cx="16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4932360" y="353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215388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рупная  птица  размером  с  курицу, эта  боровая  птица  когда-то  населяла  огромную  территорию  лесной  зоны  России. Теперь  глухари  уже  почти  совсем  исчезли  из  многих  густонаселённых  стран  и  из  ряда  центральных  областей  нашей  стран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39640" y="2680560"/>
            <a:ext cx="792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Видеть эту  чрезвычайно  осторожную  птицу  удаётся  очень  редко.  Это красивейшая птица – берегите её!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1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Копия сканирование0004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403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3049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163728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.Э. Сидорова, А.Ю. Бирюкова, М.В. Гагарина, Л.А. Рогова «РОСМЭН» ЛР №071924 от 02.07.99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И. Никишов, И.Х. Шар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Н62      Биология: Животные: Учеб. Для 7 – 8 кл. общеобразоват. Учреждений. – М.: Просвещение, 1995. – 257.: ил.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SB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5-09-007325-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619280" y="260280"/>
            <a:ext cx="54388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нформационные   ресур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 rot="21048600">
            <a:off x="686880" y="955800"/>
            <a:ext cx="73375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95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П А С И Б О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95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95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95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  внимание 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95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83720" y="157392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56000" y="549360"/>
            <a:ext cx="3886200" cy="22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главл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1631160"/>
            <a:ext cx="705636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1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 глухаря в системе животного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исхождение глухар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иды и распростра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Характеристика и анкетные данны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 обитания и условия существова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ищевые отношения с другими организма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7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тихотворение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Тарханова «Глухарь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8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бобщение, выв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9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нформационные рес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1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03280" y="692280"/>
            <a:ext cx="588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СТО  ГЛУХАРЯ В  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СТЕМЕ ЖИВОТНОГО МИ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2339640"/>
            <a:ext cx="6222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Царство - живот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Тип - хорд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Отряд - курообраз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Семейство – тетеревид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Род – крупные пт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ид – межня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-324000" y="54936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03280" y="189000"/>
            <a:ext cx="58104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ИСХОЖДЕНИЕ    ГЛУХАР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Копия сканирование0004" descr=""/>
          <p:cNvPicPr/>
          <p:nvPr/>
        </p:nvPicPr>
        <p:blipFill>
          <a:blip r:embed="rId3"/>
          <a:stretch/>
        </p:blipFill>
        <p:spPr>
          <a:xfrm>
            <a:off x="395280" y="1844640"/>
            <a:ext cx="2971800" cy="2381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-5130720" y="11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417708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У учёны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уществует множество гипотез о предках глухаря. Но чаще встречается то, что дикие были основоположниками, как домашних птиц, так и глухарей. По предложениям многие из древних кур перешли в места обитания человека и стали адаптироваться в хозяйственном промысле, а те которые остались на воле со временем приспособились к полету, увеличились в размере в целях самообороны и выживания  в неблагоприятны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2193840"/>
            <a:ext cx="5040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лухарь – одна из древнейших лесных птиц.  Этот вид  был неоднократно истреблен во многих местах обитания. В основном истреблениям служили две причины: охота и лесные пожары. Туда, где глухари переставали существовать, их завозили из Швейцарии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55640" y="47628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ДЫ      И      РАСПРОСТРАНЕНИЕ  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Копия (2) сканирование0004" descr=""/>
          <p:cNvPicPr/>
          <p:nvPr/>
        </p:nvPicPr>
        <p:blipFill>
          <a:blip r:embed="rId1"/>
          <a:stretch/>
        </p:blipFill>
        <p:spPr>
          <a:xfrm>
            <a:off x="0" y="2852640"/>
            <a:ext cx="3025800" cy="3097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498320" y="925920"/>
            <a:ext cx="69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1345320"/>
            <a:ext cx="792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81900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лухарь относится к семейству Тетереви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81900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тряд Курообраз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900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1902600"/>
            <a:ext cx="58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елая куропатка изучена 17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ундряная  куропатка изучена 17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етерев изучен 17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лухарь изучен 17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менный глухарь изучен 185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ябчик изучен 17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324360"/>
            <a:ext cx="8351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нездовой ареал – Сахалин. На Курильских островах глухарь не регистрировался. На Сахалине в 30 – 40-е годы этот вид был распространен в северных и центральных районах, не южнее г. Красногорска – на западном побережье и г. Макарова – на восточном.  В настоящее время южная граница ареала проходит, вероятно, на Поронайской равнине, севернее озера Невск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ухарь обыкновенный распространен у нас очень  широко. Область его обитания захватывает с запада на восток всю лесотаежную зону европейской и азиатской частей Советского Союза от Кольского полуострова до западного побережья Лены и Байк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768600"/>
            <a:ext cx="8135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Изредка в природе встречаются помеси глухарей с тетеревами. Такие промежуточные особи называются « межниками», причём отклонение в преобладании того или иного признака бывает и в сторону глухаря и в сторону тетере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Межняк обычно имеет более длинный, чем у тетерева, хвост, причём последний без лиры, а цвет оперения более тёмный с синеватым оттенком,  напоминающим оперение тетерева сам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Межняки весной способны токовать, но приплода они не дают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-462924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63640" y="692280"/>
            <a:ext cx="6010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и анкетные данны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1314000"/>
            <a:ext cx="748836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Телосложение глухаря плотное. У него короткие широкие крылья. Ноги сильные, приспособленные для быстрого бега, пальцев четыре, клюв короткий, тёмный, немного замкнутый. Летает неплохо, но чаще спасается от врага бегством. Крупнее глухаря нет птицы в наших лесах. Вес его достигает 5-6к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4:02:43Z</dcterms:created>
  <dc:creator>User</dc:creator>
  <dc:description/>
  <dc:language>en-US</dc:language>
  <cp:lastModifiedBy>User</cp:lastModifiedBy>
  <dcterms:modified xsi:type="dcterms:W3CDTF">2008-01-29T16:14:13Z</dcterms:modified>
  <cp:revision>26</cp:revision>
  <dc:subject/>
  <dc:title>Ханты-Мансийский автономный округ – Югра Нижневартовский район МОУ «Новоаганская общеобразовательная основная школа»</dc:title>
</cp:coreProperties>
</file>